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658A-E36E-440E-B5AF-C457D271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D4B0-A08B-4C63-A831-5F9C7708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BD3E-7C63-4EEA-BDE8-1BEBDD32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1E97-D1B4-47CC-B5DB-9F80AD04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D276-F858-48B5-83EE-AAF7F17A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BCE-8CDE-4E1B-8F55-4F38F3B0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24D2-ACAE-4D8B-8E1B-F8F2C7EE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8EDE-F9FF-4E24-BFD1-A7D89426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B256-78C1-41D8-8EB1-20E84596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89E6-0DF7-4174-9905-D92BE705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A3CB-E501-44C9-AB43-5DFED1CC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DDA4-92DF-4DDE-8629-C753B5BA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7AD1-597D-4765-8469-D61DBA836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RESTAURATION </a:t>
            </a:r>
            <a:br>
              <a:rPr sz="5400"/>
            </a:b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par électroly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Times New Roman"/>
              </a:rPr>
              <a:t>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f5f5f"/>
                </a:solidFill>
                <a:latin typeface="Times New Roman"/>
              </a:rPr>
              <a:t>Ne manipulez pas les objets tant qu’ils sont alimentés par votre  générateur car il y a des risques d’électroc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f5f5f"/>
                </a:solidFill>
                <a:latin typeface="Times New Roman"/>
              </a:rPr>
              <a:t>Lavez vous les mains après chaque manipulation, portez des gants et des         lunettes de protectio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f5f5f"/>
                </a:solidFill>
                <a:latin typeface="Times New Roman"/>
              </a:rPr>
              <a:t>Ne fumez pas pendant l’électrolyse                 car il y a un dégagement d’hydrogè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2160" y="1523880"/>
            <a:ext cx="2199960" cy="875880"/>
            <a:chOff x="-2160" y="1523880"/>
            <a:chExt cx="2199960" cy="875880"/>
          </a:xfrm>
        </p:grpSpPr>
        <p:sp>
          <p:nvSpPr>
            <p:cNvPr id="45" name=""/>
            <p:cNvSpPr/>
            <p:nvPr/>
          </p:nvSpPr>
          <p:spPr>
            <a:xfrm>
              <a:off x="-2160" y="1523880"/>
              <a:ext cx="219996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Il y a réduction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H</a:t>
              </a:r>
              <a:r>
                <a:rPr b="0" lang="fr-FR" sz="2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+ 2e</a:t>
              </a:r>
              <a:r>
                <a:rPr b="0" lang="fr-FR" sz="2400" spc="-1" strike="noStrike" baseline="30000">
                  <a:solidFill>
                    <a:srgbClr val="000000"/>
                  </a:solidFill>
                  <a:latin typeface="Times New Roman"/>
                </a:rPr>
                <a:t>-          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2133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 flipV="1">
            <a:off x="7696080" y="2895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’est qu’une restauration par électroly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1600200"/>
            <a:ext cx="2286000" cy="24382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013" stAng="10800000" swAng="5400000"/>
                <a:lnTo>
                  <a:pt x="20205" y="5147"/>
                </a:lnTo>
                <a:lnTo>
                  <a:pt x="20205" y="0"/>
                </a:lnTo>
                <a:lnTo>
                  <a:pt x="21600" y="6079"/>
                </a:lnTo>
                <a:lnTo>
                  <a:pt x="20205" y="12158"/>
                </a:lnTo>
                <a:lnTo>
                  <a:pt x="20205" y="7011"/>
                </a:lnTo>
                <a:lnTo>
                  <a:pt x="12427" y="7011"/>
                </a:lnTo>
                <a:arcTo wR="10563" hR="5149" stAng="16200000" swAng="-5400000"/>
                <a:lnTo>
                  <a:pt x="1864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2520" y="1676520"/>
            <a:ext cx="2133360" cy="1904760"/>
          </a:xfrm>
          <a:custGeom>
            <a:avLst/>
            <a:gdLst>
              <a:gd name="textAreaLeft" fmla="*/ 360 w 2133360"/>
              <a:gd name="textAreaRight" fmla="*/ 2134080 w 213336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010" stAng="10800000" swAng="5400000"/>
                <a:lnTo>
                  <a:pt x="14979" y="5150"/>
                </a:lnTo>
                <a:lnTo>
                  <a:pt x="14979" y="0"/>
                </a:lnTo>
                <a:lnTo>
                  <a:pt x="21600" y="6079"/>
                </a:lnTo>
                <a:lnTo>
                  <a:pt x="14979" y="12158"/>
                </a:lnTo>
                <a:lnTo>
                  <a:pt x="14979" y="7008"/>
                </a:lnTo>
                <a:lnTo>
                  <a:pt x="12427" y="7008"/>
                </a:lnTo>
                <a:arcTo wR="10569" hR="5152" stAng="16200000" swAng="-5400000"/>
                <a:lnTo>
                  <a:pt x="1858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175248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6872" stAng="10800000" swAng="5400000"/>
                <a:lnTo>
                  <a:pt x="14663" y="5288"/>
                </a:lnTo>
                <a:lnTo>
                  <a:pt x="14663" y="0"/>
                </a:lnTo>
                <a:lnTo>
                  <a:pt x="21600" y="6079"/>
                </a:lnTo>
                <a:lnTo>
                  <a:pt x="14663" y="12158"/>
                </a:lnTo>
                <a:lnTo>
                  <a:pt x="14663" y="6870"/>
                </a:lnTo>
                <a:lnTo>
                  <a:pt x="12427" y="6870"/>
                </a:lnTo>
                <a:arcTo wR="10845" hR="5290" stAng="16200000" swAng="-5400000"/>
                <a:lnTo>
                  <a:pt x="1582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5334000">
            <a:off x="2552400" y="2857320"/>
            <a:ext cx="457200" cy="2666880"/>
          </a:xfrm>
          <a:custGeom>
            <a:avLst/>
            <a:gdLst>
              <a:gd name="textAreaLeft" fmla="*/ 100440 w 457200"/>
              <a:gd name="textAreaRight" fmla="*/ 356760 w 457200"/>
              <a:gd name="textAreaTop" fmla="*/ 586440 h 2666880"/>
              <a:gd name="textAreaBottom" fmla="*/ 208044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733920" y="1600200"/>
            <a:ext cx="1599840" cy="990360"/>
            <a:chOff x="3733920" y="1600200"/>
            <a:chExt cx="1599840" cy="990360"/>
          </a:xfrm>
        </p:grpSpPr>
        <p:sp>
          <p:nvSpPr>
            <p:cNvPr id="54" name=""/>
            <p:cNvSpPr/>
            <p:nvPr/>
          </p:nvSpPr>
          <p:spPr>
            <a:xfrm>
              <a:off x="3733920" y="1600200"/>
              <a:ext cx="1599840" cy="990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33920" y="1698840"/>
              <a:ext cx="658800" cy="69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75320" y="1698840"/>
              <a:ext cx="658440" cy="69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75320" y="1996200"/>
              <a:ext cx="658440" cy="99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5400000">
              <a:off x="4657320" y="1998720"/>
              <a:ext cx="693720" cy="93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33920" y="1996200"/>
              <a:ext cx="658800" cy="9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 rot="5400000">
            <a:off x="5791320" y="19051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6872" stAng="10800000" swAng="5400000"/>
                <a:lnTo>
                  <a:pt x="15113" y="5288"/>
                </a:lnTo>
                <a:lnTo>
                  <a:pt x="15113" y="0"/>
                </a:lnTo>
                <a:lnTo>
                  <a:pt x="21600" y="6079"/>
                </a:lnTo>
                <a:lnTo>
                  <a:pt x="15113" y="12158"/>
                </a:lnTo>
                <a:lnTo>
                  <a:pt x="15113" y="6870"/>
                </a:lnTo>
                <a:lnTo>
                  <a:pt x="12427" y="6870"/>
                </a:lnTo>
                <a:arcTo wR="10845" hR="5290" stAng="16200000" swAng="-5400000"/>
                <a:lnTo>
                  <a:pt x="1582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1828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1371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2362320"/>
            <a:ext cx="152280" cy="1066680"/>
          </a:xfrm>
          <a:prstGeom prst="upArrow">
            <a:avLst>
              <a:gd name="adj1" fmla="val 50000"/>
              <a:gd name="adj2" fmla="val 1751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29718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99"/>
                </a:solidFill>
                <a:latin typeface="Times New Roman"/>
              </a:rPr>
              <a:t>e</a:t>
            </a:r>
            <a:r>
              <a:rPr b="0" lang="en-US" sz="4800" spc="-1" strike="noStrike" baseline="30000">
                <a:solidFill>
                  <a:srgbClr val="00cc99"/>
                </a:solidFill>
                <a:latin typeface="Times New Roman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236232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99"/>
                </a:solidFill>
                <a:latin typeface="Times New Roman"/>
              </a:rPr>
              <a:t>e</a:t>
            </a:r>
            <a:r>
              <a:rPr b="0" lang="en-US" sz="4800" spc="-1" strike="noStrike" baseline="30000">
                <a:solidFill>
                  <a:srgbClr val="00cc99"/>
                </a:solidFill>
                <a:latin typeface="Times New Roman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3505320"/>
            <a:ext cx="1143000" cy="160020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3048120"/>
            <a:ext cx="1981080" cy="457200"/>
          </a:xfrm>
          <a:prstGeom prst="wedgeRectCallout">
            <a:avLst>
              <a:gd name="adj1" fmla="val -89902"/>
              <a:gd name="adj2" fmla="val 27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28954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53341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5715000"/>
            <a:ext cx="2743200" cy="838080"/>
          </a:xfrm>
          <a:prstGeom prst="wedgeRectCallout">
            <a:avLst>
              <a:gd name="adj1" fmla="val 9722"/>
              <a:gd name="adj2" fmla="val -164773"/>
            </a:avLst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e solution électroly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373392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743200" y="2818800"/>
            <a:ext cx="152280" cy="1066680"/>
          </a:xfrm>
          <a:prstGeom prst="upArrow">
            <a:avLst>
              <a:gd name="adj1" fmla="val 50000"/>
              <a:gd name="adj2" fmla="val 1751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2666880"/>
            <a:ext cx="1981080" cy="457200"/>
          </a:xfrm>
          <a:prstGeom prst="wedgeRectCallout">
            <a:avLst>
              <a:gd name="adj1" fmla="val 53365"/>
              <a:gd name="adj2" fmla="val 27083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TH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67080" y="2610000"/>
            <a:ext cx="6098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4724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9760" y="396252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 ca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3733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e gr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77720" y="3962520"/>
            <a:ext cx="236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coura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880" y="4876920"/>
            <a:ext cx="23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Déplacement 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ions en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4120" y="251460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 génér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743560" y="4419720"/>
            <a:ext cx="2260440" cy="669240"/>
            <a:chOff x="2743560" y="4419720"/>
            <a:chExt cx="2260440" cy="669240"/>
          </a:xfrm>
        </p:grpSpPr>
        <p:sp>
          <p:nvSpPr>
            <p:cNvPr id="82" name=""/>
            <p:cNvSpPr/>
            <p:nvPr/>
          </p:nvSpPr>
          <p:spPr>
            <a:xfrm>
              <a:off x="3582720" y="4419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66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49400" y="4419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66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77800" y="46101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906720" y="4457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2743560" y="4478400"/>
              <a:ext cx="2218680" cy="553320"/>
              <a:chOff x="2743560" y="4478400"/>
              <a:chExt cx="2218680" cy="5533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3353040" y="4478400"/>
                <a:ext cx="542160" cy="324000"/>
                <a:chOff x="3353040" y="4478400"/>
                <a:chExt cx="542160" cy="324000"/>
              </a:xfrm>
            </p:grpSpPr>
            <p:sp>
              <p:nvSpPr>
                <p:cNvPr id="88" name=""/>
                <p:cNvSpPr/>
                <p:nvPr/>
              </p:nvSpPr>
              <p:spPr>
                <a:xfrm rot="15977400">
                  <a:off x="3580920" y="4488120"/>
                  <a:ext cx="304920" cy="3045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flipH="1">
                  <a:off x="3353040" y="4645080"/>
                  <a:ext cx="304200" cy="198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3881160" y="4563720"/>
                <a:ext cx="538920" cy="314280"/>
                <a:chOff x="3881160" y="4563720"/>
                <a:chExt cx="538920" cy="314280"/>
              </a:xfrm>
            </p:grpSpPr>
            <p:sp>
              <p:nvSpPr>
                <p:cNvPr id="91" name=""/>
                <p:cNvSpPr/>
                <p:nvPr/>
              </p:nvSpPr>
              <p:spPr>
                <a:xfrm rot="5509800">
                  <a:off x="3886200" y="4568040"/>
                  <a:ext cx="304560" cy="30492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115160" y="4723200"/>
                  <a:ext cx="304920" cy="9720"/>
                </a:xfrm>
                <a:prstGeom prst="line">
                  <a:avLst/>
                </a:prstGeom>
                <a:ln w="38160">
                  <a:solidFill>
                    <a:srgbClr val="33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4414680" y="4716000"/>
                <a:ext cx="537840" cy="314280"/>
                <a:chOff x="4414680" y="4716000"/>
                <a:chExt cx="537840" cy="314280"/>
              </a:xfrm>
            </p:grpSpPr>
            <p:sp>
              <p:nvSpPr>
                <p:cNvPr id="94" name=""/>
                <p:cNvSpPr/>
                <p:nvPr/>
              </p:nvSpPr>
              <p:spPr>
                <a:xfrm rot="5509800">
                  <a:off x="4419360" y="4720680"/>
                  <a:ext cx="304560" cy="3045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647960" y="4875480"/>
                  <a:ext cx="304560" cy="9720"/>
                </a:xfrm>
                <a:prstGeom prst="line">
                  <a:avLst/>
                </a:prstGeom>
                <a:ln w="38160">
                  <a:solidFill>
                    <a:srgbClr val="33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420080" y="4478400"/>
                <a:ext cx="542160" cy="324000"/>
                <a:chOff x="4420080" y="4478400"/>
                <a:chExt cx="542160" cy="324000"/>
              </a:xfrm>
            </p:grpSpPr>
            <p:sp>
              <p:nvSpPr>
                <p:cNvPr id="97" name=""/>
                <p:cNvSpPr/>
                <p:nvPr/>
              </p:nvSpPr>
              <p:spPr>
                <a:xfrm rot="15977400">
                  <a:off x="4647960" y="4488120"/>
                  <a:ext cx="304920" cy="3045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>
                  <a:off x="4420080" y="4645080"/>
                  <a:ext cx="304200" cy="198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2743560" y="4707000"/>
                <a:ext cx="539640" cy="247680"/>
                <a:chOff x="2743560" y="4707000"/>
                <a:chExt cx="539640" cy="247680"/>
              </a:xfrm>
            </p:grpSpPr>
            <p:sp>
              <p:nvSpPr>
                <p:cNvPr id="100" name=""/>
                <p:cNvSpPr/>
                <p:nvPr/>
              </p:nvSpPr>
              <p:spPr>
                <a:xfrm rot="15977400">
                  <a:off x="3009600" y="4678200"/>
                  <a:ext cx="228600" cy="3045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>
                  <a:off x="2743560" y="4835520"/>
                  <a:ext cx="304200" cy="198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" name=""/>
              <p:cNvSpPr/>
              <p:nvPr/>
            </p:nvSpPr>
            <p:spPr>
              <a:xfrm>
                <a:off x="2996640" y="4572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66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3271680" y="4716000"/>
                <a:ext cx="537840" cy="314280"/>
                <a:chOff x="3271680" y="4716000"/>
                <a:chExt cx="537840" cy="314280"/>
              </a:xfrm>
            </p:grpSpPr>
            <p:sp>
              <p:nvSpPr>
                <p:cNvPr id="104" name=""/>
                <p:cNvSpPr/>
                <p:nvPr/>
              </p:nvSpPr>
              <p:spPr>
                <a:xfrm rot="5509800">
                  <a:off x="3276360" y="4720680"/>
                  <a:ext cx="304560" cy="3045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504960" y="4875480"/>
                  <a:ext cx="304560" cy="9720"/>
                </a:xfrm>
                <a:prstGeom prst="line">
                  <a:avLst/>
                </a:prstGeom>
                <a:ln w="38160">
                  <a:solidFill>
                    <a:srgbClr val="33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6" name=""/>
            <p:cNvSpPr/>
            <p:nvPr/>
          </p:nvSpPr>
          <p:spPr>
            <a:xfrm>
              <a:off x="4439880" y="4629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495680" y="289548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533520"/>
            <a:ext cx="380880" cy="5857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85720"/>
              <a:gd name="textAreaBottom" fmla="*/ 561240 h 585720"/>
            </a:gdLst>
            <a:ahLst/>
            <a:rect l="textAreaLeft" t="textAreaTop" r="textAreaRight" b="textAreaBottom"/>
            <a:pathLst>
              <a:path w="21600" h="33206">
                <a:moveTo>
                  <a:pt x="0" y="0"/>
                </a:moveTo>
                <a:lnTo>
                  <a:pt x="21600" y="0"/>
                </a:lnTo>
                <a:lnTo>
                  <a:pt x="21600" y="33206"/>
                </a:lnTo>
                <a:lnTo>
                  <a:pt x="0" y="33206"/>
                </a:lnTo>
                <a:close/>
              </a:path>
              <a:path fill="lightenLess" w="21600" h="332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206">
                <a:moveTo>
                  <a:pt x="21600" y="0"/>
                </a:moveTo>
                <a:lnTo>
                  <a:pt x="21600" y="33206"/>
                </a:lnTo>
                <a:lnTo>
                  <a:pt x="20200" y="31806"/>
                </a:lnTo>
                <a:lnTo>
                  <a:pt x="20200" y="1400"/>
                </a:lnTo>
                <a:close/>
              </a:path>
              <a:path fill="darkenLess" w="21600" h="33206">
                <a:moveTo>
                  <a:pt x="21600" y="33206"/>
                </a:moveTo>
                <a:lnTo>
                  <a:pt x="0" y="33206"/>
                </a:lnTo>
                <a:lnTo>
                  <a:pt x="1400" y="31806"/>
                </a:lnTo>
                <a:lnTo>
                  <a:pt x="20200" y="31806"/>
                </a:lnTo>
                <a:close/>
              </a:path>
              <a:path fill="lighten" w="21600" h="33206">
                <a:moveTo>
                  <a:pt x="0" y="33206"/>
                </a:moveTo>
                <a:lnTo>
                  <a:pt x="0" y="0"/>
                </a:lnTo>
                <a:lnTo>
                  <a:pt x="1400" y="1400"/>
                </a:lnTo>
                <a:lnTo>
                  <a:pt x="1400" y="31806"/>
                </a:lnTo>
                <a:close/>
              </a:path>
              <a:path fill="darkenLess" w="21600" h="33206">
                <a:moveTo>
                  <a:pt x="5273" y="9788"/>
                </a:moveTo>
                <a:lnTo>
                  <a:pt x="12271" y="9788"/>
                </a:lnTo>
                <a:lnTo>
                  <a:pt x="16327" y="13287"/>
                </a:lnTo>
                <a:lnTo>
                  <a:pt x="16327" y="23418"/>
                </a:lnTo>
                <a:lnTo>
                  <a:pt x="5273" y="23418"/>
                </a:lnTo>
                <a:close/>
              </a:path>
              <a:path fill="darken" w="21600" h="33206">
                <a:moveTo>
                  <a:pt x="12271" y="9788"/>
                </a:moveTo>
                <a:lnTo>
                  <a:pt x="16327" y="13287"/>
                </a:lnTo>
                <a:lnTo>
                  <a:pt x="12271" y="13287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7880" y="5715000"/>
            <a:ext cx="37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La production de dihydrogè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à la cathode favorise le déganguage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18:25:54Z</dcterms:created>
  <dc:creator>Fabie</dc:creator>
  <dc:description/>
  <dc:language>en-US</dc:language>
  <cp:lastModifiedBy>Fabie</cp:lastModifiedBy>
  <dcterms:modified xsi:type="dcterms:W3CDTF">2004-11-03T20:33:46Z</dcterms:modified>
  <cp:revision>8</cp:revision>
  <dc:subject/>
  <dc:title>Aucun titre de diapositive</dc:title>
</cp:coreProperties>
</file>