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258-E76D-4F5C-B5F6-C4D29242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CF5-8C88-43C9-BC51-C04D40FE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95A-FCB7-4B59-85B7-3B1583E8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9BE-9A2B-4CEA-9904-1FAD00C3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054-4CC5-45AB-A0A0-680B0E40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DC5-7052-4CB9-8AFD-A39F064A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2AF-EB61-4C72-9685-1B57E245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D86-EC0E-45D1-9862-504CBB7B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96A-A723-42F2-8055-D2E25ED2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366B-F5C9-4677-B440-E8800B9F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D25-BCB1-4C1F-8FCD-6DD29320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A01-B48C-4643-9548-E5307387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A12F-72F7-4D6E-A675-5E825DB59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%20Lapérouse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716360" cy="63244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apérouse%202" descr=""/>
          <p:cNvPicPr/>
          <p:nvPr/>
        </p:nvPicPr>
        <p:blipFill>
          <a:blip r:embed="rId1"/>
          <a:stretch/>
        </p:blipFill>
        <p:spPr>
          <a:xfrm>
            <a:off x="-533520" y="228600"/>
            <a:ext cx="10526760" cy="6900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%20Lapérouse1" descr=""/>
          <p:cNvPicPr/>
          <p:nvPr/>
        </p:nvPicPr>
        <p:blipFill>
          <a:blip r:embed="rId1"/>
          <a:stretch/>
        </p:blipFill>
        <p:spPr>
          <a:xfrm>
            <a:off x="2133720" y="0"/>
            <a:ext cx="4706640" cy="6311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%20Lapérouse1" descr=""/>
          <p:cNvPicPr/>
          <p:nvPr/>
        </p:nvPicPr>
        <p:blipFill>
          <a:blip r:embed="rId1"/>
          <a:stretch/>
        </p:blipFill>
        <p:spPr>
          <a:xfrm>
            <a:off x="2133720" y="0"/>
            <a:ext cx="4706640" cy="6311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E%20tre%20bis" descr=""/>
          <p:cNvPicPr/>
          <p:nvPr/>
        </p:nvPicPr>
        <p:blipFill>
          <a:blip r:embed="rId1"/>
          <a:stretch/>
        </p:blipFill>
        <p:spPr>
          <a:xfrm>
            <a:off x="198108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1" descr=""/>
          <p:cNvPicPr/>
          <p:nvPr/>
        </p:nvPicPr>
        <p:blipFill>
          <a:blip r:embed="rId1"/>
          <a:stretch/>
        </p:blipFill>
        <p:spPr>
          <a:xfrm>
            <a:off x="2133720" y="546120"/>
            <a:ext cx="4706640" cy="6311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1" descr=""/>
          <p:cNvPicPr/>
          <p:nvPr/>
        </p:nvPicPr>
        <p:blipFill>
          <a:blip r:embed="rId1"/>
          <a:stretch/>
        </p:blipFill>
        <p:spPr>
          <a:xfrm>
            <a:off x="2209680" y="546120"/>
            <a:ext cx="4707000" cy="6311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U1" descr=""/>
          <p:cNvPicPr/>
          <p:nvPr/>
        </p:nvPicPr>
        <p:blipFill>
          <a:blip r:embed="rId1"/>
          <a:stretch/>
        </p:blipFill>
        <p:spPr>
          <a:xfrm>
            <a:off x="1981080" y="546120"/>
            <a:ext cx="4707000" cy="6311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1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707000" cy="6311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1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707000" cy="6311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07:22Z</dcterms:created>
  <dc:creator>Lucille</dc:creator>
  <dc:description/>
  <dc:language>en-US</dc:language>
  <cp:lastModifiedBy>Fabie</cp:lastModifiedBy>
  <dcterms:modified xsi:type="dcterms:W3CDTF">2004-10-26T20:22:56Z</dcterms:modified>
  <cp:revision>11</cp:revision>
  <dc:subject/>
  <dc:title>Aucun titre de diapositive</dc:title>
</cp:coreProperties>
</file>