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39B-8FC4-4720-899F-36CDD855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6F7-DF9B-4213-8B16-16EC8EA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CCB-2AB2-430D-94A2-AC35C9C6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13D-9A24-44AB-B5B5-D445E35B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43A-F2DB-4C73-ABAA-AFFCF8FE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5719-249A-40DA-8D26-1448F72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4885-05E2-46AE-9F45-42E5EC5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1DC-1E9B-42FB-8421-EFB2DC7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35B-0912-4EAB-B181-A00A569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1701-B3A3-4913-9331-CBC97212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304-DC2B-4A86-9E2D-EF3C0A8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FCD-36CF-4610-A02A-851E37CD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639-22D0-47BC-96BE-FAA0D3B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0CD-39BC-405B-8F7F-630359E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787F-43DC-4345-A96E-0A02F7BF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86C-1F54-4A4B-A18D-1FA14059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6AA-2873-4094-98D3-D0A624A3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8F3-E705-41B9-8D34-4412117C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3C1-532E-40C6-A931-C3068048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2C6-58B8-4822-AB85-1791E260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456-5D71-453A-B690-B87C9E7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039-817B-438A-B129-76D1B620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D1B-759B-4574-8C0D-B185715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770-4EF9-45C0-A925-7FF9CB8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B18-8540-403B-967B-7B9B3969AA4D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FE8-C9A1-4330-9521-482D1023F1CE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4720" y="364500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64500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s de 1 par la fonction f définie par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27640" y="3213000"/>
          <a:ext cx="38844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13000"/>
                    <a:ext cx="388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ress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 – 1)(x + 1) + (x + 2)(x – 1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-elle une somme ou un produit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alors le nombre de termes ou de fac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 l’express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x² – (x + 1)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dans l'équat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+2)² – 1 =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fonction f définie par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(x-1)² - x²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st-elle affine ? 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i oui l’écrire sous forme réduite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mx +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’expression de la fonction affine telle qu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0) = 3  et f( 6) = 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357336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57336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5T21:04:41Z</dcterms:modified>
  <cp:revision>10</cp:revision>
  <dc:subject/>
  <dc:title>Donner l'image de -1 par la fonction f définie par </dc:title>
</cp:coreProperties>
</file>