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AE9-BB24-4B94-85B4-B09E01FF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9B2-44CF-494D-A95B-9F9B33C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7D9-00B4-4D85-AB8D-5CAD0B8D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8E1-B711-49B4-B1DE-2602A21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EC9A-A704-44E9-B592-75B4EE5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11DD-5D42-45CB-B925-346A3C54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417-2B8D-4E8E-B2E1-303262A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F529-7510-4C2E-813E-4E9B9003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7DD-F7C7-491E-B4E4-0FC46A5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B507-FE07-40DE-A38B-7AD03F8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E21-FC87-40B1-AAC4-A03D2BD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3A1-BA84-44E0-8B6D-0D1A970F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3C3-DD11-466A-9ED7-38C4ABCA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840-0D8C-4921-AB03-1B52085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0092-6DF7-43C6-AC7B-C3B40F4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36F-CB55-4C2C-85AC-D81DE34F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B300-43D1-4686-9ACE-BED17E94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3E5-0EEB-448F-965B-8D3DB2E3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51C-5A00-459F-ACC2-2D24473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DBA-7834-471A-B3E0-BE8FCC8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0E6-26AB-4875-94DA-6C1282C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1E3-3231-4CD5-A09D-1C91675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8B4-3E6D-4D36-BBD6-6F1B007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83B-8EC1-4294-81D3-24C989A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D3D-E427-48D6-A1A2-2E5361AB977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7FD-CA42-4688-AFC4-559D8A54C96A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69552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79640" y="285264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843280" y="2852640"/>
            <a:ext cx="93960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1432080" cy="61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1432080" cy="61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8804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2476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88040" y="2952720"/>
            <a:ext cx="93996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547640" y="3068640"/>
            <a:ext cx="1432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3,5) et f(-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2,5) et f(-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4:57Z</dcterms:modified>
  <cp:revision>15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