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298-F312-47BD-92D3-921A1E0C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1F6-90EA-4060-9FC2-A8C7B84D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0AC-A442-4475-9DBD-186B40B9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1B5-80C1-4B5F-93BB-504AA10F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0E0F-D315-4232-992E-CCC59B0D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1C8E-2D4C-4804-B32E-F55D6EF0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0589-A5B0-4943-AB44-246837A9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820-C266-4F05-8214-3389BFE2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4F15-187B-4EF6-972A-2CA95279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BF8-0896-439F-BDBC-D568E69F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03CE-871F-416F-BF38-D6517A09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0A9-746A-4BDC-BC9A-68C7FA6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0709-4DBE-4922-8FDC-BFC0ECEC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8F58-1D17-4109-AAF7-EAFE49FC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921D-E47E-42C5-AB3E-68A93B88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69D-ACF7-4C23-9045-2177BF63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CA0C-9BF4-4505-A4F0-61F854CF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636-D3BD-46FA-8208-5112444E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140-E1B2-4C10-8561-3B15060F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7FC-0F92-46B7-9B83-D730F7BF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3C8-7B79-4328-B4C9-A2CE9D43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D2D-43AC-4AE7-ABAC-8F3541B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5B9-792F-4EEB-9FA5-E6FE3EA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ABA-D76B-420F-990D-01FE30F5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2DAF-80B8-4163-83FE-A0125D8CFDE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771-8730-4D1E-824B-7F813069BED9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s valeurs prises par la fonction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 sur l’intervalle [-4;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s valeurs prises par la fonction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68360" y="2349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 sur l’intervalle [0;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2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2710080" cy="96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548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374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s valeurs qui n’ont pas d’image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image 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254772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717640" cy="96552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images de -4 ; 1; et 3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213372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antécédents de 0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antécédents de 0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143172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images de -4 ; -1; et 5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1432080" cy="6188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2780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-4;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 f(x)=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206064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2;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 f(x)=-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par lecture graphique les valeurs de f(1,5) et f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par lecture graphique les valeurs de f(2) et f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5:54Z</dcterms:modified>
  <cp:revision>17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