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96C-82B6-4CDF-AC68-B35E3241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051-9868-4A3C-8FE1-BCA14366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207-90BC-4C9B-954F-DFABC777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316-CDB1-4B25-9BD4-B5743AD9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0997-ED42-4103-948B-5D831437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C16D-F601-44C3-9B7E-A309CD89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D79F-80B2-4958-B7DE-4C466F51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1C95-C5C6-414C-B93A-A297773E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3705-F6CD-4062-A243-8F8396D9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2EB7-4170-472B-9A66-688411FA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41CE-D25F-45B6-956D-6B0CA60F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CF6-8E6D-4330-B90F-062F74FA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3524-8EA9-4FF9-8A01-66C80F34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4CAE-71DB-421F-B5AF-71B6796E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F14F-E658-459F-9EA3-5B767267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0374-DF2F-45D5-9D8C-29436C0D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3128-46B3-42BE-81AB-70FD682A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35F55-77B3-4A8D-ADFB-D5B1DB5C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7816-D80B-4EE2-84F7-12951A58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DA1DD-3364-418D-BF7D-664DD17E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D9D8F-273B-4C9F-B822-2FB5988A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0673-5694-460D-9B09-88B75155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94F-01A9-4267-AA4F-6B5BA502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F8630-2348-4904-A60C-F144E023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B6A60-9210-4EC6-BB09-A5934758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92349-DA5C-46DA-B307-29EDA473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D759D-DED2-4908-B63C-FE8C06E1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3785-2F78-416C-BE78-1CB938D8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4553C-197F-41C8-81DE-74F947D8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624D2-0827-41F2-BBA7-E775F29D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F28-347F-4448-953C-210C66E5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E19-C5DD-4B9E-AF4F-F1A43872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039-6AB2-464A-BAEB-7902FF03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0DE-14FF-4736-8F5C-84C9B1AA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7C3-1D09-4ACF-AAF5-D203C984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6BA-5241-4695-B1B7-AA944798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D7D6-DF74-49E8-94B2-67FA8E50A8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B97C-BCDC-4693-955D-19E759478D5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B5CE-6817-44A5-8CF8-495BB64FF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306864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40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5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3771720" cy="2127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826920" y="2421000"/>
          <a:ext cx="3210120" cy="5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421000"/>
                    <a:ext cx="32101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859280" y="213372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l est l’ensemble de définition de la fonction f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l est l’ensemble de définition de la fonction f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810240" cy="19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5435640" y="2997360"/>
          <a:ext cx="1892160" cy="13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2997360"/>
                    <a:ext cx="18921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ux plans de l’espace peuvent ê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t …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t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t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e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2) pou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003640" y="2781360"/>
          <a:ext cx="241632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781360"/>
                    <a:ext cx="24163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ux droites de l’espace qui ne sont pas dans le même plan sont dites 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3467160" cy="2466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4360" y="1341360"/>
            <a:ext cx="3527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855720" y="1967040"/>
          <a:ext cx="1004760" cy="76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5720" y="1967040"/>
                    <a:ext cx="10047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604960" y="2011320"/>
          <a:ext cx="9144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04960" y="2011320"/>
                    <a:ext cx="9144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3771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culer les antécédents éventuels de O pour la fonction f définie par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ux plans de l’espace peuvent êt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t 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t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t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95280" y="4005360"/>
          <a:ext cx="380700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05360"/>
                    <a:ext cx="380700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ux droites de l’espace qui ne sont pas dans le même plan sont dites 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003640" y="1989000"/>
          <a:ext cx="3511800" cy="6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989000"/>
                    <a:ext cx="351180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3889440" cy="21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images de -2 ; 2 et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716360" y="3716280"/>
          <a:ext cx="341640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716280"/>
                    <a:ext cx="34164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4643280" y="1916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er l’antécédent de O pour la fonction f définie pa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380988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antécédents de 1 par la fonction 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3810240" cy="19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1403280" y="3500280"/>
          <a:ext cx="2048040" cy="14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3500280"/>
                    <a:ext cx="204804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475200" y="234936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l’é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e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2) p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377208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716360" y="3429000"/>
            <a:ext cx="346716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4957920" y="2543040"/>
          <a:ext cx="1006200" cy="7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7920" y="2543040"/>
                    <a:ext cx="10062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804000" y="2565360"/>
          <a:ext cx="1062000" cy="83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4000" y="2565360"/>
                    <a:ext cx="106200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1042920" y="2708280"/>
          <a:ext cx="2416320" cy="1209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2708280"/>
                    <a:ext cx="24163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antécédents de 1 par la fonction 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images de -2 ; 2 et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810240" cy="1933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809880" cy="19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23:46:44Z</dcterms:created>
  <dc:creator>Mignot Nathalie</dc:creator>
  <dc:description/>
  <dc:language>en-US</dc:language>
  <cp:lastModifiedBy>CLEMENT ODILE</cp:lastModifiedBy>
  <dcterms:modified xsi:type="dcterms:W3CDTF">2008-08-17T19:56:52Z</dcterms:modified>
  <cp:revision>7</cp:revision>
  <dc:subject/>
  <dc:title>Activité mentale</dc:title>
</cp:coreProperties>
</file>