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6A7E-DD08-4FCA-8CDA-DEEF94C4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752-B578-48EB-9E3A-51489FCD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D2A-6E27-46F6-A6EF-099AC182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DFD-288B-40C7-83EB-700431BC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E3EB-4553-4EDD-86F7-0B046EFA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4823-3A16-47A4-8F65-2762848B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4DA5-625F-4708-A42E-667B98B1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FF38-D11E-475D-A9B6-D8D9EB26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5D7E-6652-4E45-B415-8445ABC7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2DA4-1777-4DFA-9000-2BE952E1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78B3-E5B2-4BFC-8619-2BD335FE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3FC-1B22-4672-B51B-74941BE1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B205-A0E8-4E70-8FE5-CB4AFEB8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1480-F021-406A-849C-EB9B58A1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1AFB-0048-4D33-B96C-65B21E05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CE26-8647-4C05-B658-1AB298DD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D6B8-9CE3-4F6C-812E-860107AA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13A-0B76-43C1-971A-E2EACDFD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CB7-3F77-4337-9FDB-E16E1567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866-B5E1-4114-BCE9-08F2103D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10C-5787-41DC-BDBA-59F528DA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A8B-296E-4CD6-8A2C-1D4519C6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9FF-BE16-4DB2-8134-33018492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8BC-47A5-4886-82AF-DD0F0EB0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89A9-5D27-4F05-A137-5E8AA6B00D94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46BC-3F95-45AA-9932-351DD95D0637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EST d’activités mentales n°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z vos NOM, Prénom et Classe sur la fiche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dez brièvement sur la fiche en respectant rigoureusement la numérotation des ques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se possible: « ..est un quadrilatère sans nom particulier 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278136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2852640"/>
            <a:ext cx="4211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t qui se coupent en leurs milieux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3141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s diagonales de mêmes longueur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16360" y="306864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consécutifs perpendiculaire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87640" y="502920"/>
            <a:ext cx="30765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2852640"/>
            <a:ext cx="4211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st un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16360" y="278136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diagonales de mêmes longueurs est un…..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502920"/>
            <a:ext cx="30765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2781000"/>
            <a:ext cx="4211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 mêmes longueurs est un…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278136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t de mêmes longueur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63700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63700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t de mêmes longueur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qui se coupent en leurs milieux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s diagonales de mêmes longueur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t qui se coupent en leurs milieux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 mêmes longueur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de mêmes longueurs et des diagonales de mêmes longueurs,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2920" y="3357360"/>
            <a:ext cx="4211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st un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99736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 mêmes longueur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06864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consécutifs perpendiculaire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292428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diagonales de mêmes longueurs est un…..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58920" y="2565000"/>
            <a:ext cx="3745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côtés opposés de mêmes longueurs et des diagonales de mêmes longueurs, est un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3:12:41Z</dcterms:created>
  <dc:creator>hgc</dc:creator>
  <dc:description/>
  <dc:language>en-US</dc:language>
  <cp:lastModifiedBy>CLEMENT ODILE</cp:lastModifiedBy>
  <dcterms:modified xsi:type="dcterms:W3CDTF">2008-08-17T00:57:33Z</dcterms:modified>
  <cp:revision>14</cp:revision>
  <dc:subject/>
  <dc:title>TEST n°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DAP">
    <vt:lpwstr>[ContentDir]\Student\MS\Templates\Groups and Movements\Groups and Movements.xml</vt:lpwstr>
  </property>
  <property fmtid="{D5CDD505-2E9C-101B-9397-08002B2CF9AE}" pid="3" name="SE DAP Check Values">
    <vt:lpwstr>0</vt:lpwstr>
  </property>
  <property fmtid="{D5CDD505-2E9C-101B-9397-08002B2CF9AE}" pid="4" name="SE DAP Default">
    <vt:lpwstr>NODEFAULTDAP</vt:lpwstr>
  </property>
  <property fmtid="{D5CDD505-2E9C-101B-9397-08002B2CF9AE}" pid="5" name="SE DAP Window Handle">
    <vt:lpwstr>329242</vt:lpwstr>
  </property>
  <property fmtid="{D5CDD505-2E9C-101B-9397-08002B2CF9AE}" pid="6" name="SE Mode">
    <vt:lpwstr>student</vt:lpwstr>
  </property>
  <property fmtid="{D5CDD505-2E9C-101B-9397-08002B2CF9AE}" pid="7" name="Version">
    <vt:r8>5</vt:r8>
  </property>
</Properties>
</file>