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22.png" ContentType="image/png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E579-80DB-4051-8327-B7DE963D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85B2-C0CA-4B01-971F-60D25046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74C1-AAE2-4C04-AB1D-7A20ABDCF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F80B-58DB-48BD-991E-4802CAE4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CBDF-98BF-47A0-8FF4-1E27D35B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DE89-599E-48B1-B242-F9691DF4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B232-2105-4101-8A89-4FF2845A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866C-0D38-4147-8AE6-C678C179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ABF6-7191-4B13-9173-261F5630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2CDD-7221-43C0-ACA9-8A3FCEC2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0783-25E5-4D74-A244-5163A048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01D1-7149-414E-B0F3-4CC756B0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E082-4D2D-4FB4-95F7-2E0CA4C1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5DC4-D1FE-4A44-832E-964F5EC9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24C8-DBB2-469F-B489-A1E7586F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3D0D-7222-4976-8296-7CBEDE70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D143-D3DB-4606-A2F2-75A6AA2F8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D1F9-7B7C-4974-8012-C30AF78F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761D-83F9-4993-9243-5FB51B22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63EA-58B6-480E-9BC1-DDFB1EC5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417A-A3C5-45B3-8702-C7BE55BA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7840-B03F-49FA-B884-5EB0D11B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90DE-B366-4B17-B89B-D0AF55A1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938D-DECE-4B39-9926-7CEA47F9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F4E6-6DB9-4F7A-A021-09D8F013A953}" type="slidenum">
              <a:rPr b="0" lang="fr-FR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C0BE-2A20-41B1-8CDA-6C8D92F21DF0}" type="slidenum">
              <a:rPr b="0" lang="fr-FR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trô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éparez une feuille de répon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tez votre n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érotez dix lignes de 1 à 1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us aurez 40 secondes par ques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339640" y="1628280"/>
            <a:ext cx="63421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BCD est un parallélogramme de centre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954080" y="3716280"/>
          <a:ext cx="6218280" cy="8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4080" y="3716280"/>
                    <a:ext cx="621828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339640" y="1628280"/>
            <a:ext cx="63421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BCD est un parallélogramme de centre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954080" y="3716280"/>
          <a:ext cx="6218280" cy="8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4080" y="3716280"/>
                    <a:ext cx="621828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39640" y="1628280"/>
            <a:ext cx="63421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497400" y="1484280"/>
          <a:ext cx="3612960" cy="8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7400" y="1484280"/>
                    <a:ext cx="36129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843280" y="2708280"/>
            <a:ext cx="442908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79280" y="1268280"/>
            <a:ext cx="663084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elle relation peut-on écri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tre les vecteurs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e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843280" y="3284640"/>
            <a:ext cx="3960720" cy="281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2484360" y="2205000"/>
          <a:ext cx="914400" cy="72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2205000"/>
                    <a:ext cx="9144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788000" y="2205000"/>
          <a:ext cx="868320" cy="768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2205000"/>
                    <a:ext cx="86832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1268280"/>
            <a:ext cx="663084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elle relation peut-on écri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tre les vecteurs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e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843280" y="3284640"/>
            <a:ext cx="3960720" cy="281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2484360" y="2276640"/>
          <a:ext cx="914400" cy="72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2276640"/>
                    <a:ext cx="9144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572000" y="2276640"/>
          <a:ext cx="912960" cy="768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2276640"/>
                    <a:ext cx="91296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68000" y="1371240"/>
            <a:ext cx="63421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elle relation peut-on écri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tre les vecteurs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e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771640" y="2276640"/>
          <a:ext cx="914400" cy="72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276640"/>
                    <a:ext cx="9144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148360" y="2276640"/>
          <a:ext cx="912600" cy="7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2276640"/>
                    <a:ext cx="91260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2195640" y="3213000"/>
            <a:ext cx="54720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68000" y="1371240"/>
            <a:ext cx="63421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492360" y="1484280"/>
          <a:ext cx="351972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484280"/>
                    <a:ext cx="35197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268360" y="2781360"/>
            <a:ext cx="5472360" cy="30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68000" y="1371240"/>
            <a:ext cx="63421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762280" y="1484280"/>
          <a:ext cx="498168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2280" y="1484280"/>
                    <a:ext cx="49816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268360" y="2781360"/>
            <a:ext cx="5472360" cy="30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39640" y="1125000"/>
            <a:ext cx="63421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rimer en fonction des vecteurs      e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50920" y="2492280"/>
            <a:ext cx="4140360" cy="387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5003640" y="1628640"/>
          <a:ext cx="411480" cy="76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3640" y="1628640"/>
                    <a:ext cx="41148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5918040" y="1655640"/>
          <a:ext cx="457200" cy="858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918040" y="1655640"/>
                    <a:ext cx="4572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342120" y="2924280"/>
          <a:ext cx="2103480" cy="858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42120" y="2924280"/>
                    <a:ext cx="21034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7236000" y="3789360"/>
            <a:ext cx="10792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uis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489720" y="5013360"/>
          <a:ext cx="2011320" cy="858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489720" y="5013360"/>
                    <a:ext cx="201132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39640" y="1125000"/>
            <a:ext cx="63421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primer en fonction des vecteurs      e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050920" y="2492280"/>
            <a:ext cx="4140360" cy="387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5003640" y="1628640"/>
          <a:ext cx="411480" cy="76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3640" y="1628640"/>
                    <a:ext cx="41148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443640" y="1700280"/>
          <a:ext cx="457200" cy="858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43640" y="1700280"/>
                    <a:ext cx="45720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342120" y="2924280"/>
          <a:ext cx="2103480" cy="858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42120" y="2924280"/>
                    <a:ext cx="21034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7236000" y="3789360"/>
            <a:ext cx="10792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uis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489720" y="5013360"/>
          <a:ext cx="2011320" cy="858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489720" y="5013360"/>
                    <a:ext cx="201132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39640" y="1628280"/>
            <a:ext cx="63421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BCD est un parallélogramme de centre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348000" y="3716280"/>
          <a:ext cx="3429000" cy="8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3716280"/>
                    <a:ext cx="3429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8-17T19:45:11Z</dcterms:modified>
  <cp:revision>33</cp:revision>
  <dc:subject/>
  <dc:title>Donner l'image de -1 par la fonction f définie par </dc:title>
</cp:coreProperties>
</file>