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AEC-4DAA-4D18-94B3-BA70964B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611-FB85-4FA4-A080-D41CA9F5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B75-6E36-41DC-85A5-0D080733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740-35B7-46D4-BF7B-E5DA24C9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F3BA-2771-4F9C-AB3E-C81923C5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AAD8-C07A-4F83-896B-ECCD9ECD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5437-1C66-48FE-A1A8-730842BF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4F10-CCB3-4AC5-9F37-FD4821CB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A1FF-F834-4537-8759-50B0721A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E137-A2E5-4959-9FAB-6EE97157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D99C-CCE6-4D38-B7F8-1A273C03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EDD-6653-49C2-AE9C-8DE4406D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D922-C7FD-4DAF-B542-89369DC5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70E5-771F-43AC-B99B-538AEF76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0F88-163C-40A5-96A4-0109A2A5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DAF0-E2AB-48A6-B662-728007D6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50EB-245B-458F-AC3B-79BFF798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693-6904-477E-9763-4E7CA166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F83-A43A-4678-875E-A90B4814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18B-827D-401B-A92E-E4A9F4D2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013-8ADE-4CF8-87B6-2D3DAF9A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228-45BF-45CE-B5EB-9CD54B9D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FB8-5FFB-4BA3-ACD9-AE1727A3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B9A-AB79-4122-B07E-919987F7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122E-59D5-4C97-9F68-2B58567A545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BD53-74A1-4F6F-8873-2F6353D31A37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32360" y="2781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63480" y="2060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03640" y="285264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35120" y="2060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74472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e coefficient directeur de la droite (A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59280" y="1916280"/>
            <a:ext cx="3745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e coefficient directeur de la droite (AB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886200" cy="305748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3372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a hauteur à l’origine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0" y="213372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a hauteur à l’origine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3886200" cy="305748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744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716360" y="1916280"/>
            <a:ext cx="3745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916280"/>
            <a:ext cx="3744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88000" y="1916280"/>
            <a:ext cx="3744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56000" y="1916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32360" y="2997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01920" y="1851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32360" y="2997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35120" y="2060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607840" y="198900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6:36Z</dcterms:modified>
  <cp:revision>18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