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DC9-A5C1-4C5B-B48E-0823C102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FDA-5D58-41CE-8D7F-9EBA8FD7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8BD4-83EB-44AE-8A6D-745A5785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DFC-7290-4753-849B-F1FF77FE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2C4-B82D-428B-9228-8C4936F9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552-73B7-4EDF-85B7-A97A9E9B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F82-AE09-4026-9CD9-E46714A4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F02-D9BD-4CDD-945C-D3E537AE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46B-F17A-422B-A9DC-439B5823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44A-AF15-4FF4-9B42-20786E0D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4DC-AD96-41A2-95CF-3314928F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7A6-E0DC-4049-84AF-F94C8AD3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B547-F448-48E0-BEB2-79ED7ACD227F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30 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37840" y="1971720"/>
            <a:ext cx="3827880" cy="1556280"/>
            <a:chOff x="537840" y="1971720"/>
            <a:chExt cx="3827880" cy="1556280"/>
          </a:xfrm>
        </p:grpSpPr>
        <p:sp>
          <p:nvSpPr>
            <p:cNvPr id="199" name=""/>
            <p:cNvSpPr/>
            <p:nvPr/>
          </p:nvSpPr>
          <p:spPr>
            <a:xfrm>
              <a:off x="537840" y="1971720"/>
              <a:ext cx="3827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On donn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 ( 5 ; -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alculer     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1128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8436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1636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8764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84360" y="2133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7280" y="3068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916880" y="1919160"/>
            <a:ext cx="408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(2;3) 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(5 ;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ors : 5AB ( ….;…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878000" y="2060640"/>
            <a:ext cx="3827880" cy="1556280"/>
            <a:chOff x="4878000" y="2060640"/>
            <a:chExt cx="3827880" cy="1556280"/>
          </a:xfrm>
        </p:grpSpPr>
        <p:sp>
          <p:nvSpPr>
            <p:cNvPr id="212" name=""/>
            <p:cNvSpPr/>
            <p:nvPr/>
          </p:nvSpPr>
          <p:spPr>
            <a:xfrm>
              <a:off x="4878000" y="2060640"/>
              <a:ext cx="3827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On donn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 ( 5 ; -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alculer     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5144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2452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5652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2780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24520" y="2222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67440" y="31575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50920" y="1989000"/>
            <a:ext cx="424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(2;3) 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(5 ;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ors : 5AB ( ….;…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0920" y="530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5880" y="1827360"/>
            <a:ext cx="4237560" cy="4237560"/>
            <a:chOff x="335880" y="1827360"/>
            <a:chExt cx="4237560" cy="4237560"/>
          </a:xfrm>
        </p:grpSpPr>
        <p:sp>
          <p:nvSpPr>
            <p:cNvPr id="105" name=""/>
            <p:cNvSpPr/>
            <p:nvPr/>
          </p:nvSpPr>
          <p:spPr>
            <a:xfrm>
              <a:off x="447840" y="1827360"/>
              <a:ext cx="41256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 a pour coordonné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x ; y 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ans le repèr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826920" y="3573360"/>
                  <a:ext cx="18162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O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"/>
            <p:cNvSpPr/>
            <p:nvPr/>
          </p:nvSpPr>
          <p:spPr>
            <a:xfrm>
              <a:off x="335880" y="4508640"/>
              <a:ext cx="3646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ela signifie que 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.= ……………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272920" y="1700280"/>
            <a:ext cx="2885760" cy="4480920"/>
            <a:chOff x="5272920" y="1700280"/>
            <a:chExt cx="2885760" cy="4480920"/>
          </a:xfrm>
        </p:grpSpPr>
        <p:sp>
          <p:nvSpPr>
            <p:cNvPr id="109" name=""/>
            <p:cNvSpPr/>
            <p:nvPr/>
          </p:nvSpPr>
          <p:spPr>
            <a:xfrm>
              <a:off x="5272920" y="1700280"/>
              <a:ext cx="28857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A(1 ; 3) e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( 5 ; 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B  (……;…….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83080" y="4597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68360" y="1844640"/>
            <a:ext cx="3619440" cy="3506040"/>
            <a:chOff x="468360" y="1844640"/>
            <a:chExt cx="3619440" cy="3506040"/>
          </a:xfrm>
        </p:grpSpPr>
        <p:sp>
          <p:nvSpPr>
            <p:cNvPr id="117" name=""/>
            <p:cNvSpPr/>
            <p:nvPr/>
          </p:nvSpPr>
          <p:spPr>
            <a:xfrm>
              <a:off x="468360" y="184464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x, y 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x’, y’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+v ( ….., 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39640" y="1916280"/>
              <a:ext cx="1008000" cy="2952720"/>
              <a:chOff x="539640" y="1916280"/>
              <a:chExt cx="1008000" cy="2952720"/>
            </a:xfrm>
          </p:grpSpPr>
          <p:sp>
            <p:nvSpPr>
              <p:cNvPr id="119" name=""/>
              <p:cNvSpPr/>
              <p:nvPr/>
            </p:nvSpPr>
            <p:spPr>
              <a:xfrm>
                <a:off x="1403280" y="1916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11280" y="2924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9640" y="48690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16000" y="4869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5076720" y="1916280"/>
            <a:ext cx="3619440" cy="3506040"/>
            <a:chOff x="5076720" y="1916280"/>
            <a:chExt cx="3619440" cy="3506040"/>
          </a:xfrm>
        </p:grpSpPr>
        <p:sp>
          <p:nvSpPr>
            <p:cNvPr id="124" name=""/>
            <p:cNvSpPr/>
            <p:nvPr/>
          </p:nvSpPr>
          <p:spPr>
            <a:xfrm>
              <a:off x="5076720" y="191628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3, 5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-1 , 2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- v ( …..;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148000" y="1987920"/>
              <a:ext cx="1008000" cy="2952720"/>
              <a:chOff x="5148000" y="1987920"/>
              <a:chExt cx="1008000" cy="2952720"/>
            </a:xfrm>
          </p:grpSpPr>
          <p:sp>
            <p:nvSpPr>
              <p:cNvPr id="126" name=""/>
              <p:cNvSpPr/>
              <p:nvPr/>
            </p:nvSpPr>
            <p:spPr>
              <a:xfrm>
                <a:off x="6011640" y="19879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219640" y="29959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48000" y="494064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24360" y="494064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3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003640" y="2060640"/>
            <a:ext cx="3619440" cy="3506040"/>
            <a:chOff x="5003640" y="2060640"/>
            <a:chExt cx="3619440" cy="3506040"/>
          </a:xfrm>
        </p:grpSpPr>
        <p:sp>
          <p:nvSpPr>
            <p:cNvPr id="136" name=""/>
            <p:cNvSpPr/>
            <p:nvPr/>
          </p:nvSpPr>
          <p:spPr>
            <a:xfrm>
              <a:off x="5003640" y="206064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x, y 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x’, y’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+v ( ….. , 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074920" y="2132280"/>
              <a:ext cx="1008000" cy="2952720"/>
              <a:chOff x="5074920" y="2132280"/>
              <a:chExt cx="1008000" cy="2952720"/>
            </a:xfrm>
          </p:grpSpPr>
          <p:sp>
            <p:nvSpPr>
              <p:cNvPr id="138" name=""/>
              <p:cNvSpPr/>
              <p:nvPr/>
            </p:nvSpPr>
            <p:spPr>
              <a:xfrm>
                <a:off x="5938560" y="2132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46560" y="3140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74920" y="50850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51280" y="5085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735120" y="17557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24000" y="1844640"/>
            <a:ext cx="3619440" cy="3506040"/>
            <a:chOff x="324000" y="1844640"/>
            <a:chExt cx="3619440" cy="3506040"/>
          </a:xfrm>
        </p:grpSpPr>
        <p:sp>
          <p:nvSpPr>
            <p:cNvPr id="144" name=""/>
            <p:cNvSpPr/>
            <p:nvPr/>
          </p:nvSpPr>
          <p:spPr>
            <a:xfrm>
              <a:off x="324000" y="184464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3, 5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-1 , 2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- v ( …..;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95280" y="1916280"/>
              <a:ext cx="1008000" cy="2952720"/>
              <a:chOff x="395280" y="1916280"/>
              <a:chExt cx="1008000" cy="2952720"/>
            </a:xfrm>
          </p:grpSpPr>
          <p:sp>
            <p:nvSpPr>
              <p:cNvPr id="146" name=""/>
              <p:cNvSpPr/>
              <p:nvPr/>
            </p:nvSpPr>
            <p:spPr>
              <a:xfrm>
                <a:off x="1258920" y="1916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6920" y="2924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5280" y="48690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71640" y="4869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3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656960" y="1916280"/>
            <a:ext cx="4237560" cy="4237560"/>
            <a:chOff x="4656960" y="1916280"/>
            <a:chExt cx="4237560" cy="4237560"/>
          </a:xfrm>
        </p:grpSpPr>
        <p:sp>
          <p:nvSpPr>
            <p:cNvPr id="156" name=""/>
            <p:cNvSpPr/>
            <p:nvPr/>
          </p:nvSpPr>
          <p:spPr>
            <a:xfrm>
              <a:off x="4768920" y="1916280"/>
              <a:ext cx="41256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 a pour coordonné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x ; y 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ans le repèr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5148000" y="3662280"/>
                  <a:ext cx="18162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O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"/>
            <p:cNvSpPr/>
            <p:nvPr/>
          </p:nvSpPr>
          <p:spPr>
            <a:xfrm>
              <a:off x="4656960" y="4597560"/>
              <a:ext cx="3646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ela signifie que 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.= ……………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01120" y="1971720"/>
            <a:ext cx="2885760" cy="4480920"/>
            <a:chOff x="501120" y="1971720"/>
            <a:chExt cx="2885760" cy="4480920"/>
          </a:xfrm>
        </p:grpSpPr>
        <p:sp>
          <p:nvSpPr>
            <p:cNvPr id="160" name=""/>
            <p:cNvSpPr/>
            <p:nvPr/>
          </p:nvSpPr>
          <p:spPr>
            <a:xfrm>
              <a:off x="501120" y="1971720"/>
              <a:ext cx="28857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A(1 ; 3) e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( 5 ; 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B  (……;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1280" y="486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9120" y="1900080"/>
            <a:ext cx="3908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milieu de [AB]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ur coordonné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……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61520" y="1557360"/>
            <a:ext cx="3745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 signifie que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ecteur u ait p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ordonnées 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els (x ; y ) d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repère  (O,i ,j)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800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51640" y="558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12000" y="558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1900080"/>
            <a:ext cx="390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 = ………………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1916280"/>
            <a:ext cx="4051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r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e d’un v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d on conn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 coordonné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1989000"/>
            <a:ext cx="390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 = ………………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6200" y="1827360"/>
            <a:ext cx="405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r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e d’un v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d on conn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 coordonné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2360" y="1773360"/>
            <a:ext cx="3908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milieu de [AB]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ur coordonné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……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3800" y="1557360"/>
            <a:ext cx="3745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 signifie que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ecteur u ait p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ordonnées 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els (x ; y ) d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repère  (O,i ,j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124000" y="2565360"/>
            <a:ext cx="1440000" cy="3025800"/>
            <a:chOff x="2124000" y="2565360"/>
            <a:chExt cx="1440000" cy="3025800"/>
          </a:xfrm>
        </p:grpSpPr>
        <p:sp>
          <p:nvSpPr>
            <p:cNvPr id="190" name=""/>
            <p:cNvSpPr/>
            <p:nvPr/>
          </p:nvSpPr>
          <p:spPr>
            <a:xfrm>
              <a:off x="2124000" y="2565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87640" y="55911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48000" y="55911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06T08:35:47Z</dcterms:modified>
  <cp:revision>27</cp:revision>
  <dc:subject/>
  <dc:title>Donner l'image de -1 par la fonction f définie par </dc:title>
</cp:coreProperties>
</file>