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2A8-63C0-4FBB-8E72-F39FAB5D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EA1-C2BE-472B-9A97-C782202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A38-41ED-4615-A658-9EAD06E0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E69-5B0B-4959-ADED-1DA9957D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3D0E-E06A-45C4-8C16-6A19D864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142-E2DE-4918-8B14-9AC19CBC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A2AF-65D0-4874-8735-3D034A9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5063-A759-4F8B-B85E-3B4A4BD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39A-B0BA-4202-BECC-89DCC9E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F8F7-A840-4F68-BF54-EB5ACFF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171-2098-4D07-B788-A18DA19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FB0-2310-47DE-9597-501285B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9962-4B13-4198-ABB2-F05FB7F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C237-C8AC-450B-A295-77C7930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BFFA-0E90-4666-B6E8-A0CE8B9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CD6C-7878-4C0D-A0A3-1920DA17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0193-9A7F-4A96-9771-42EACAA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A0-C445-4335-BA4D-8226A8C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FDD-0CFD-4E65-8AFF-4C7A392C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3B5-0428-4D11-98BC-4F6BCE6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EC7-8166-4B0A-B1C3-BFE975CB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8F2-0C56-4F2B-999E-CF36C4B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005-EE50-4F66-99C0-397BFFF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5C0-C037-47BD-AEA6-B4C5160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66A-5536-4FD7-968A-75F361F5B08D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5EF-F299-4B4D-8F95-4E330BE29C67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4600"/>
            </a:b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Seconde 8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olutions d’ é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us disposez de  45 secondes par question. Il y a  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ème : 2 points gratuits, deux points par réponse exacte, 0,5 point enlevé par réponse faus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0500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 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6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8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5-19T22:34:08Z</dcterms:modified>
  <cp:revision>6</cp:revision>
  <dc:subject/>
  <dc:title>CR2</dc:title>
</cp:coreProperties>
</file>