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A434-4FF5-4464-B038-117E8B326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A490-8B6F-4FF3-9A97-5EECAF26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5AA7-010D-4AF8-B095-0398B8D06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A3D8-A81C-4119-B82F-AF1D62A88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5A3A-B8F3-4523-8467-6D2008A81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A16B-578D-404E-9957-018F45A2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CAD4-A4C3-419C-AF75-6B311606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9CA1C-1D6E-4907-AFE4-701E8059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15D4-67FB-4D3E-95B4-95388100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92EA-3C35-4818-B9E2-0C8CACB5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0362-C74B-4701-B9AB-159AFA59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64A2-FE69-4141-9231-244D35DB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423F-7C2F-482E-A886-C31E2D4E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D6FF-EF36-4F1D-95D8-0A4A1FFC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BEF8-6706-4B44-9C80-DE407F25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FB4F-D902-46A8-8E25-18C25F73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B8E0-D811-4207-8EA4-AFF563AF9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9EDA-2561-4439-B78B-489E754F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3032-A17C-4468-806E-9FDDB97E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ED6C-3933-4512-8EB8-E0FC6144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C549-55B3-4385-BC87-81F072E3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345F-4092-4846-B423-43FCD15E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E855-4FD4-4908-A8CE-F8F6BA3B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B8B5-B572-4C9B-AE78-48B01B37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1169-1673-439D-8084-59A347BCFB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C231-5895-45C4-B50D-60F94135B6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3     Question 1</a:t>
            </a: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onner sous forme d’intervalle l’ensemble des réels x vérifiant 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x &gt; 3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03280" y="206064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est un réel vérifi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&lt; A &lt;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ner un encadrement du réel :  -5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fr-FR" sz="25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3      Question 2</a:t>
            </a: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25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 et B sont  deux réels vérifia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 &lt; A &lt; 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5 &lt;B&lt;-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ner un encadrement de A-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 et B sont  deux réels vérifi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&lt; A &lt;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5 &lt;B&lt;-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ner un encadrement 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+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88000" y="1844640"/>
            <a:ext cx="0" cy="424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3     Question 3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est un réel vérifiant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&lt; A &lt;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ner un encadrement du réel  -5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ner sous forme d’intervalle l’ensemble des réels x vérifia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&gt;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59280" y="1989000"/>
            <a:ext cx="0" cy="410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onner sous forme d’intervalle l’ensemble des réels x vérifiant 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-5 &lt; x &lt; 1/3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 et B sont  deux réels vérifi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&lt; A &lt;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5 &lt;B&lt;-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ner un encadrement 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-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16360" y="198900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35280" y="907920"/>
            <a:ext cx="63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3      Question 4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3      Question 5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8920" y="19890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Résoudre dans R 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3x+5 &lt;  5x +3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 et B sont  deux réels vérifi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&lt; A &lt;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5 &lt;B&lt;-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ner un encadrement 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+3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56000" y="1844640"/>
            <a:ext cx="0" cy="43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4920" y="2133360"/>
            <a:ext cx="3562200" cy="36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Résoudre dans R l‘inéqua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ésoudre dans 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x+5 &lt;  5x +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90000" y="623880"/>
            <a:ext cx="597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3      Question 6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00720" y="198900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457880" y="2946240"/>
                <a:ext cx="22860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971640" y="3284640"/>
                <a:ext cx="22860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3      Question 7</a:t>
            </a:r>
            <a:br>
              <a:rPr sz="40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 et B sont  deux réels vérifi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&lt; A &lt;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5 &lt;B&lt;-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ner un encadrement 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+3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Le réel x appartient à l’intervalle :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[ 5 ; 7 ]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onner un encadrement de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-3x + 2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32360" y="1844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35622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 et B sont  deux réels vérifi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&lt; A &lt;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5 &lt;B&lt;-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ner un encadrement 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+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ner sous forme d’intervalle l’ensemble des réels x vérifiant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5 &lt; x &lt; 1/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50360" y="839880"/>
            <a:ext cx="59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3     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4720" y="1844640"/>
            <a:ext cx="0" cy="424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Le réel x appartient à l’intervalle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[ 5 ; 7 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Donner un encadrement du réel : -3x+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ésoudre dans R l‘inéqua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03640" y="184464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50360" y="912960"/>
            <a:ext cx="59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3      Question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580000" y="3429000"/>
                <a:ext cx="22860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5-19T23:48:18Z</dcterms:modified>
  <cp:revision>17</cp:revision>
  <dc:subject/>
  <dc:title>Donner l'image de -1 par la fonction f définie par </dc:title>
</cp:coreProperties>
</file>