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34C-410E-42E6-BE63-4727A045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70E-C1D4-498A-AED9-F33F7873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0DB-D414-4F03-9300-36AB0E28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2AE-3217-4AC5-9E80-DDA32A58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5B86-7210-40E9-8BBA-D6AF94AF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3569-94DD-449A-B30A-8307FB88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31D7-CB09-40B1-8FDA-2098593C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C400-A465-4953-9B14-5C4B2F3E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46D3-A0F1-4ECE-9CD6-08EAD64B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A61B-3666-4F61-8CFF-BD4E9E59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B1C8-B665-4020-A226-74A0E448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A33-105E-46B9-8224-3748C66B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252D-BAE4-45A2-BEA7-97E4693B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2E86-31D4-45D9-8B07-C43CF8C0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B0BB-417D-4CB2-93A8-957ECE08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07CA-D544-447B-8932-0BB00F2F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556F-2776-41BC-9160-24DEE052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162-E597-41BF-B613-8508BC53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3D6-BC6B-4A32-9A7C-84405204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6FF-3961-4F72-941D-52583FA9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E4B-2D0D-4FD7-B555-C3CC2D8E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A1C-BBEB-4374-8075-95DA4072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F38-F895-4C8B-B682-C72948BE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84E-4B57-4044-9A39-A58CBFF5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1379-1659-4AA4-B8C4-CD18C4E993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7D53-A79B-4376-993B-987446C335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(s) antécédents éventuels du réel 1 par f lorsque f est définie 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00000" y="306864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76720" y="3357720"/>
          <a:ext cx="388476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3357720"/>
                    <a:ext cx="3884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(s) antécédents éventuels du réel 1 par f lorsque f est définie 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94200" y="28526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3284640"/>
          <a:ext cx="38844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84640"/>
                    <a:ext cx="3884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3068640"/>
            <a:ext cx="42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219640" y="292428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92428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Résoudre dans R l'équat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3320" y="285264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2708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+2)² – 1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9032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29242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9x² – (x + 1)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27813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(x) = (x-1)² - x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33240" y="2303640"/>
            <a:ext cx="356220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Résoudre dans R l'équat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284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+2)² – 1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2960" y="25653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3213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(x) = (x-1)² - x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2492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9x² – (x + 1)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3 par la fonction f définie par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3500280"/>
                <a:ext cx="19051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284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356000" y="407664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407664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3 par la fonction f définie par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350028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00364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580000" y="3068640"/>
                <a:ext cx="19051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9T23:26:19Z</dcterms:modified>
  <cp:revision>16</cp:revision>
  <dc:subject/>
  <dc:title>Donner l'image de -1 par la fonction f définie par </dc:title>
</cp:coreProperties>
</file>