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916-5F7E-49FA-8FB4-73E0A95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ED4-E164-49EB-A986-68E41BA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A32-5636-430D-89D3-4E038311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DE7-2FC8-4E74-8DF2-1D8DA3FD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FC83-36B8-4AD6-B99D-89006D13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50EB-5969-4B25-BD64-3EDACCD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A0B-F009-489F-A175-1512B6A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E148-7282-43E0-93C4-BE10F8C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781-9DA1-47EA-9FA4-F2C9D08B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4CB2-9770-41C2-BB3A-22E14DE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307-3A17-492D-B6EC-7D56D01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787-9812-430C-8175-4EE5F95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E43-0BD7-49D2-A9F9-EDC2F2D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E5D4-8778-4DAA-BABD-B4623FE5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4B48-BCEE-40F8-9C4E-1903EEF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572-5639-44A3-B2E6-5C5BFFB2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75F4-96C0-4BC0-A3D8-03135E0A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325-8874-413F-AB5D-1AAECFF6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1E6-7553-4233-8E88-57AE958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341-7F46-4FB9-A09B-FE5422C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DC5-DA3C-4361-99BE-C2283FE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488-336F-46E8-B5D4-2DF5CB2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86E-832D-489B-9365-BD57D73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B8D-BC74-4BA2-BCD1-EEE00920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4AE-2620-4072-A985-A9D5C3A7BE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277-C2B0-41C7-BB9B-57A6E5879A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utomaths N°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disposez d’une minute pa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quez droite ou gauche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 y a 9 questions ( 2 points gratuits, 2 points par réponse just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préciserez le numéro de la question devant chaque ré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479736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37240" y="3357720"/>
                <a:ext cx="4406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velopp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4869000"/>
                <a:ext cx="32893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l’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4724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5640" y="3716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920" y="3357720"/>
                <a:ext cx="4356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76720" y="465300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0920" y="407664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270828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306864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s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9280" y="3716280"/>
                <a:ext cx="4407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92720" y="2924280"/>
                <a:ext cx="2946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78136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21240" y="422100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6920" y="3068640"/>
                <a:ext cx="2946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2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45080" y="378288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64000" y="2421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4T00:02:36Z</dcterms:modified>
  <cp:revision>20</cp:revision>
  <dc:subject/>
  <dc:title>Donner l'image de -1 par la fonction f définie par </dc:title>
</cp:coreProperties>
</file>