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990A-B454-4119-A22B-55F9A9CF7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C179-3044-4FF8-B7F2-0148C6F5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175F-B010-4039-BA7C-5F586B9EA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F9DA-7178-423D-A7AB-BDFF2474C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3B49-A000-46E7-A8E6-9936E4750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667B-7863-4B26-AFCF-AE408A02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AE35-4FB2-4D64-AB47-3D442365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358C-91D0-4369-A9D7-33BD2B6E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0F99-2D25-41B8-A0D9-6EBE7F7A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E0AF-8A7F-4651-9942-FD050631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761C-6E94-47E6-87AE-124E422F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7F8A-C7B7-45F6-8189-2B747BAF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4EDF-0F60-4F62-9C40-FE3669F1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F226-7E61-4EE4-BAA9-8FCDF2CD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EF48-5938-4BAD-955D-BBBE130D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AED5-18F8-407C-9073-F3A9EEC1B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86D3-1C46-4802-A3E3-CF6FD2CB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FC4E-342B-4B26-8641-83135037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7A12-DF1F-4D9D-8F01-2CB2296F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BA4B-8284-4487-A569-D79CEA72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FB16-81F7-4277-855C-0A042710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64A7-3E4E-482A-8F96-9E8E50B2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6A27-8426-4A80-AE5F-4DCD9959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3B70-5998-404A-B37E-A0B7A392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b4e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b7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62BA-FB81-4E9E-B0BC-B8E25D3E78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b7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4b4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eb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c481c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B7C3-C9C0-4D82-A094-C1D184530285}" type="slidenum">
              <a:rPr b="0" lang="en-US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Automaths 1 (question 1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el est la nature du nombre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onner l’écriture scientifique de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1437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Automaths 1(question 10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elle est la nature du nombre 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/3 - 4/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el est la nature du nombre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Automaths 1(question 2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 ce qu’un rationnel 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iter parmi tous les ensembles de nombres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eux qui contiennent 1/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Automaths 1(question 3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onner l’écriture scientifique de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1437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 quels ensembles de nombres appartient 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084720" y="4437000"/>
            <a:ext cx="1979640" cy="927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Automaths 1(question 4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onner l’écriture scientifique  de 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0,000523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n nombre décimal est-il toujours un rationnel 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Automaths 1(question 5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iter parmi tous les ensembles de nombres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eux qui contiennent 1/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n rationnel est-il toujours un nombre décimal 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470480" y="3206880"/>
                <a:ext cx="20304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Automaths 1(question 6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32000" y="2060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 ce qu’un rationnel 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2060640"/>
            <a:ext cx="367380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n rationnel est-il toujours un décimal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01280" y="4151160"/>
            <a:ext cx="2971800" cy="1981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Automaths 1(question 7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 quels ensembles de nombres appartient 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elle est la nature du nombre 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/3 - 4/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76360" y="4437000"/>
            <a:ext cx="1979640" cy="92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Automaths 1(question 8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82600" y="2805120"/>
            <a:ext cx="3810240" cy="2540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68360" y="2060640"/>
            <a:ext cx="431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iter parmi tous les ensembles de nomb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eux qui contienn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/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onner l’écriture scientifique  de 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0,000523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Automaths 1(question 9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n nombre décimal est– il toujours un rationnel 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iter parmi tous les ensembles de nomb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eux qui contienn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/7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23:50:51Z</dcterms:created>
  <dc:creator>CLEMENT ODILE</dc:creator>
  <dc:description/>
  <dc:language>en-US</dc:language>
  <cp:lastModifiedBy>CLEMENT ODILE</cp:lastModifiedBy>
  <dcterms:modified xsi:type="dcterms:W3CDTF">2008-08-05T00:43:37Z</dcterms:modified>
  <cp:revision>17</cp:revision>
  <dc:subject/>
  <dc:title>Calcul mental 1</dc:title>
</cp:coreProperties>
</file>