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BD4-8B40-4FB8-B2AD-A339EF9C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F71-1103-42ED-BCE8-3B2BDE1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593-F0B2-404F-89B2-1E743883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D44-AD66-4D55-BDEB-EEE4CE11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E128-E4E9-4197-B577-3624F853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1210-4708-40F9-9582-C398D32B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D0F-2CEC-433E-99E8-26DCDFC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77E6-63C3-46C1-95E3-1391644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F6F-61DC-4659-9FB0-0BB9CC5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2305-6EE4-441F-BAC0-D2C77CF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2C3-8BEC-4D8C-B0D0-2A27FB7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203-3964-44FA-9052-AF3897B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A5EA-C90A-49E0-B4C1-FCE2965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8D1-0A03-4339-9398-E76F57D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B919-A4B3-4542-9749-D07E919B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7341-B8AF-417F-9443-74A45AF5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622-337C-47CD-88DD-B08F04B7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707-A23F-4737-831F-762E408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A24-D48D-44D1-BCC3-C0700A8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34E-A602-4F76-BF1D-26926FB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AEF-69D2-4467-8624-DFAE492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4C6-A71F-4337-9E6B-E22134D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5B0-EC54-43C7-BE12-BE7C036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4D5-E0B7-4489-856C-6C225C2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098-E217-4979-8B29-C4584AFE18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3574-FCEC-4525-9CF0-473B641A27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5736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16360" y="2585880"/>
          <a:ext cx="1882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585880"/>
                    <a:ext cx="1882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87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1557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43280" y="2421000"/>
          <a:ext cx="266076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6607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276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é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2268360" y="3213000"/>
          <a:ext cx="36291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3629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cas d’équiprobabilité, comment calculer la probabilité d’un événement 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557360"/>
          <a:ext cx="61819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1819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619280" y="299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357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x² 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48428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considère la droite (d) d’équation :  x + 2y = 16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équ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(x) =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184464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a formule de l’équation d’une tangente à la courbe d’une fonction f au point d’abscisse 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413000"/>
            <a:ext cx="59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re la formule permettant de calculer   t    pour   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+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04:26:59Z</dcterms:created>
  <dc:creator>Mignot Nathalie</dc:creator>
  <dc:description/>
  <dc:language>en-US</dc:language>
  <cp:lastModifiedBy>Mignot Nathalie</cp:lastModifiedBy>
  <dcterms:modified xsi:type="dcterms:W3CDTF">2008-08-24T04:58:14Z</dcterms:modified>
  <cp:revision>5</cp:revision>
  <dc:subject/>
  <dc:title>Activité mentale</dc:title>
</cp:coreProperties>
</file>