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E3F-99DB-4FB6-B587-F9E6EAB3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21D-C1B7-449F-891D-1B66DDE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368-4561-4220-A1FD-A2D6C6A7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FF2-6636-407F-ADAB-2F5AEC72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CF68-3A8B-45B6-A3D1-FFBC3FB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EEF0-796A-49D5-91D4-B8FEA24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A8A-FC8C-4366-B30C-0AF3C3B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28A7-E1A4-4579-8D9A-A6CF9AE0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55B-FE67-4A37-AC50-7778987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E36D-0FAA-44B9-B8AB-762B68B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A99-F75F-426D-BB93-368C14D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44C-83AC-45B3-8C86-03A995E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39E2-F4DA-454C-A68D-BF966BA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373-DC94-49CB-BAF4-171FFD5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7BF-5A26-4C8C-AFCE-0FFBFC4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35BF-696B-4EAD-8623-C8B6131B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909E-D67B-4DC5-8707-735D6123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689-7601-4374-9332-6C327B4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C09-412E-43DF-AA48-FFF0965F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DEA-507E-41F8-938C-B64B298B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925-F081-489E-B0BA-1D24B4F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DF8-8DE7-4E27-8DA5-D9F1589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FAC-E24F-407F-AD7F-7C7A772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204-E982-4CC9-9D57-E957BEE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604-38C3-4469-80C5-BA144C8E85A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4DC-6CE3-4C05-A38F-64352A8ABB3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ous aurez 3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Mignot Nathalie</cp:lastModifiedBy>
  <dcterms:modified xsi:type="dcterms:W3CDTF">2008-08-01T04:28:02Z</dcterms:modified>
  <cp:revision>22</cp:revision>
  <dc:subject/>
  <dc:title>Donner l'image de -1 par la fonction f définie par </dc:title>
</cp:coreProperties>
</file>