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3E1-E988-4BC2-ACFF-BC83F642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E0B-0B01-48E9-9C51-3235BEE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F92-DB8B-4BE7-9E43-8DCDD48F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35E-595A-4069-9372-8635A556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0C5B-C147-4844-A74E-8BAFCFDD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49D9-D7FD-40B0-9A0E-1DF72B8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BB97-8E4A-4131-AC30-892175FC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7860-7E50-49F2-8E9D-6A17DC8B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9CB-7D5A-4A9D-A0A4-6D5C28D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2560-AB78-4F1C-8C57-B89B2AD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5304-ECDE-4CEB-BD11-EDEE229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C29-49E7-4CDC-87F8-747ABA0C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427-48BF-4D55-96E0-EA35079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F6B6-6853-4600-B43A-4ADA3B1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7F0-3456-453E-BE4A-ED0B17A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E14-AF76-4C80-8C66-3E34FA30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B15A-8B4A-4766-A50F-053E61B6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44B-30DF-47F3-9EF0-99FDCA7D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127-3187-4605-923F-BF903E60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BCA-CD29-460B-9D2D-9AB2A26A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251-A7DE-4C4B-8A0A-4E09C71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464-60EE-4AFA-A611-738CD0B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CE5-FBC4-448C-ADED-0E8D89B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195-2671-4F30-9FC1-245F534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FE9-B290-42E4-9ABE-B54C74BEC2C6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D53-01FE-4692-B970-3A7F0A80ACE9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comment obtient –on le point moyen du nu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 , la droite obtenue avec les formules de la calculatrice est la droi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4527720" y="3887640"/>
          <a:ext cx="11682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887640"/>
                    <a:ext cx="1168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695760" y="3989520"/>
          <a:ext cx="283212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989520"/>
                    <a:ext cx="28321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324320" y="3944880"/>
          <a:ext cx="15750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944880"/>
                    <a:ext cx="157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quelle valeur de x,  la tangente est-elle « horizontale 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, l’ensemble des points que l’on place dans un repère s’appelle 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essayer de placer une droite passant le plus près possible des points du nuage revient à réaliser un ajustemen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8:14Z</dcterms:modified>
  <cp:revision>25</cp:revision>
  <dc:subject/>
  <dc:title>Donner l'image de -1 par la fonction f définie par </dc:title>
</cp:coreProperties>
</file>