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8C3-F656-4C6B-99BF-84ADFA46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E00-556F-4390-B713-3297AE26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4F9-5D67-4244-9A51-4DF70B2B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6DF-729C-4E73-9758-1F22D718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5287-C1B6-4CFC-941C-3BE2A040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A23F-2A59-43CC-8959-A7F3F587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38EA-E75B-4BC7-BCBA-7DC1F2D3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4BC1-6BD3-46A5-94F3-0D59B723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CA81-258F-470B-9D58-EF487778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135A-330A-44DF-B147-16E2923F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B37B-446A-4B81-95F3-CCC63D71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7E8-A134-4357-85D0-54B8104C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FF93-D983-4045-BBCC-BDC66CE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4354-F9F8-4D9D-BCA1-9709D198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19BE-777C-42D9-9443-D6080113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B590-CA72-45E8-9CD6-AD92C539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D484-E840-48DB-A02A-D8015E4E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989-D339-4FF0-8936-0BEC94D1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4C6-D361-43CF-AD92-D0644FD1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FD3-D80F-4054-B40E-BC6EAE10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C4E-F2F3-4FA7-A757-42853BCC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150-B41A-41CC-9B78-8483E7C9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CCE-638E-4DA1-A7DA-0E36B1B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569-5DDE-4A96-9E83-153757DC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811D-C489-4C31-8518-5B0187F0A9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7B65-C7F1-4A33-9AB9-59B56EE4E0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068640"/>
            <a:ext cx="755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30 à 45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1413000"/>
            <a:ext cx="626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= x² + 2x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erminer l’équation de la tangente à la courbe de f au point d’abscisse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1557360"/>
            <a:ext cx="612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  f ’(x) = -x²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ens de variation de la fonction f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191120" y="3009960"/>
                <a:ext cx="68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258920" y="1920960"/>
            <a:ext cx="612144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arithm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t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1920960"/>
            <a:ext cx="5310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géométri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t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1413000"/>
            <a:ext cx="554508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arithm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5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…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1341360"/>
            <a:ext cx="648180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géomét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0 000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1,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…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341360"/>
            <a:ext cx="59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capital de 5000 F est placé à intérêt composé à un taux de 3%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e capital obtenu au bout de 10 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170028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= 4x² + 2l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f ’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1557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= ln(2x+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f ’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1628640"/>
            <a:ext cx="509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ésoudre l’iné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(3x-5) 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2:09:42Z</dcterms:created>
  <dc:creator>Mignot Nathalie</dc:creator>
  <dc:description/>
  <dc:language>en-US</dc:language>
  <cp:lastModifiedBy>Mignot Nathalie</cp:lastModifiedBy>
  <dcterms:modified xsi:type="dcterms:W3CDTF">2008-09-08T22:21:26Z</dcterms:modified>
  <cp:revision>2</cp:revision>
  <dc:subject/>
  <dc:title>Activité mentale</dc:title>
</cp:coreProperties>
</file>