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42E-C952-46EC-9950-38DA3FA5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F57-384C-47CF-AC0F-6841A8F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48C-14B8-4784-A638-066B8C80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622-63D3-4DAA-B10C-AF629938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B25-830F-4762-BAB3-4545A41F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62E3-EC70-4C05-A4C7-527FECE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0DB8-EE62-4961-BA60-24AC500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63D-FC11-4A16-ABA5-A4F7FD8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E374-B154-4D3F-BB47-3DD0040F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006-8036-45B6-BCA7-44E44EEC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A743-F92E-498F-A787-31F6E1C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361-D473-4FBC-84E4-12D47B3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9884-17A7-40D9-99C8-71358137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759E-B5EB-495C-A6E4-E3D8ACE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2495-DF46-4816-A9D1-5E119885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B4C3-5690-4F38-8ACE-4005164F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7EB1-C1F1-4229-A1BE-541240C9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879-CE30-436F-A15B-5CF9DB4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09C-504A-4F2C-BB25-52DE2090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BA5-1D9D-4339-93A7-91E0727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E1A-6BC4-4856-8D99-3BEF86D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6E4-EDC2-435A-995F-269547E6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26C-365D-402A-B4EA-CE38556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4F9-F32C-439A-83A0-45FDC3C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2EC-28AA-4A58-89AC-D4676746D6DE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4BA-1B4E-4326-919C-9A973DCEF10B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7:37Z</dcterms:modified>
  <cp:revision>21</cp:revision>
  <dc:subject/>
  <dc:title>Donner l'image de -1 par la fonction f définie par </dc:title>
</cp:coreProperties>
</file>