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D38-4469-4C6C-9A7A-67DDC653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613-9DF5-4DBB-A436-BD495693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22E-A443-4099-B97F-1F075C7B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C64-A58C-488B-8D84-8F8C3B98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977A-134A-40F3-856A-7954FD1A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8CE5-640E-4B79-8988-6B605C6D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6C34-0AFB-4996-A198-9EC905EE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C814-B3AD-4C9D-AA1B-B7E3A48F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70CF-F0F5-4FD9-9E99-0F421928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6C6C-C645-4272-9E9F-72CE3552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4AFC-9FD2-4182-ACCE-21514356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E11-A9BC-459A-B820-4CAA9812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D791-E4A5-40E6-9761-EE086842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3E09-E642-48E5-913E-57D0AB8B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E1CB-1076-44A8-8185-315841B0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F3EC-4518-4832-B0B3-D9FC4D5B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FC3B-81AC-499D-92FD-DFBE6C95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2A7-A56B-44AA-BF42-4748F539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E7D-B557-4404-B2C7-E27DAD4E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E81-E9DC-4B44-8C3A-53A061AE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6E4-920F-4BE3-AF7A-4F6645D9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0E7-E2B4-44E6-9180-B23B5656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EE6-FB39-431F-89B7-83E6D61A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A57-9342-4BF7-99D8-652E7EF4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D6F5-A9FD-4694-9E59-9B07BA1592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DC99-E138-4DE5-A356-131911C7832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2060640"/>
            <a:ext cx="6400800" cy="936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10920" y="3141360"/>
            <a:ext cx="784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us disposez de 45 secondes par qu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considère la droite (d) d’équation :5x + 3y = 150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éterminer les coordonnées des points d’intersection de la droite (d) et des ax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 considère la droite (d) d’équation :  -2x + 3y = 90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éterminer les coordonnées des points d’intersection de la droite (d) et des ax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ln) ‘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1 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e 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ésoudre l’équa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(x) =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ésoudre l’équa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(x) = -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crir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8 + 3ln2 – ln4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fonction de l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(x) = 3x² + 2ln(x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er  f ’ (x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(x) = ln(5x+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er f ‘ (x)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(x) = ln(x²+ 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er f ‘ (x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4:33:42Z</dcterms:created>
  <dc:creator>Mignot Nathalie</dc:creator>
  <dc:description/>
  <dc:language>en-US</dc:language>
  <cp:lastModifiedBy>Mignot Nathalie</cp:lastModifiedBy>
  <dcterms:modified xsi:type="dcterms:W3CDTF">2008-08-01T05:06:19Z</dcterms:modified>
  <cp:revision>3</cp:revision>
  <dc:subject/>
  <dc:title>Activité mentale</dc:title>
</cp:coreProperties>
</file>