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899D-79A9-444D-9C4D-757924D9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43E-BE50-4A0F-9850-3D83B10B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62ED-5C3A-467F-9D28-D34035B5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C5A-61BF-445B-B593-EBD4C1AC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A713-432F-499D-AB20-44796A8D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8E03-16B9-4CB4-8893-C9F6A486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785F-2DD4-4DFD-860B-5DA90B8B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0044-1D59-4131-B0BA-C60B7D7E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5F23-B6E5-4A0D-AAF0-2775404E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F7B1-2EE7-424F-B868-9B7CD9CE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929A-3DEB-4F32-9E4E-651635E1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CFE3-A28C-40AE-861C-7A942296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01EF-BEB7-476C-89AA-AA9DBE42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D19B-435C-48E6-9E9E-E849861D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003A-7346-4B40-8291-876C159C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FB9D-D218-4B08-8AB4-A34999C2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4104-B3C2-439A-978D-E61FA68A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7585-EBCF-4805-BA01-6DEA3C31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3C2-956B-4C5D-BC1C-8E02AEB4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EBF-9A50-4FAF-9B94-7A8CE815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7F1C-CE57-4951-8F97-82F0707C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9BA5-ED54-4E3A-9EFB-76E74972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AB2-1A63-4D9D-81AC-81ED4E2F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DCC-FC47-4883-923E-8EA26BBB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666720"/>
            <a:ext cx="438120" cy="474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1089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15920"/>
            <a:ext cx="56052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13413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DF57-51EC-4000-9BFD-621C137C86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35000" y="404640"/>
            <a:ext cx="9009000" cy="1052640"/>
            <a:chOff x="135000" y="404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425520" y="512640"/>
              <a:ext cx="711360" cy="474840"/>
              <a:chOff x="425520" y="512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25520" y="51264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08560" y="512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49360" y="934920"/>
              <a:ext cx="737640" cy="474840"/>
              <a:chOff x="549360" y="934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549360" y="93492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18000" y="934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35000" y="861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0040" y="40464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51080" y="1226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18EE-2E08-4C27-AC54-50491D1976A4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AM6 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360" y="1268280"/>
            <a:ext cx="7634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Sur la copie, précisez  droite ou gauche suivant votre position dans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Vous disposez de  40 secondes  par questi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Il y a  10 ques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On notera z</a:t>
            </a:r>
            <a:r>
              <a:rPr b="0" i="1" lang="fr-FR" sz="1600" spc="-1" strike="noStrike">
                <a:solidFill>
                  <a:srgbClr val="000000"/>
                </a:solidFill>
                <a:latin typeface="Rockwell Extra Bold"/>
              </a:rPr>
              <a:t>A</a:t>
            </a:r>
            <a:r>
              <a:rPr b="0" i="1" lang="fr-FR" sz="3200" spc="-1" strike="noStrike">
                <a:solidFill>
                  <a:srgbClr val="000000"/>
                </a:solidFill>
                <a:latin typeface="Rockwell Extra Bold"/>
              </a:rPr>
              <a:t> 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l’affixe de A , z</a:t>
            </a:r>
            <a:r>
              <a:rPr b="0" i="1" lang="fr-FR" sz="1600" spc="-1" strike="noStrike">
                <a:solidFill>
                  <a:srgbClr val="000000"/>
                </a:solidFill>
                <a:latin typeface="Rockwell Extra Bold"/>
              </a:rPr>
              <a:t>B</a:t>
            </a: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l’affixe de B , …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= 4+3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’affixe z du point M vérifi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 pouvez vous en déduire pour les points A(2i) , B(-2) et M(z)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4500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435640" y="2852640"/>
                <a:ext cx="24001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38102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affixe z du point M vérifi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pouvez vous en déduire pour les points A(2i) , B(-2) et M(z)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87640" y="1916280"/>
            <a:ext cx="3881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orsque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&lt;0 , écrire les solutions de l’équatio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z²+bz+c = 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 où l’inconnue z est un complexe , a ,b, c réels et a non nu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916280"/>
            <a:ext cx="0" cy="43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87280" y="2781360"/>
                <a:ext cx="24004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43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M(z) et A(2+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er AM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32000" y="198900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en fonction des affixes de A et B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l’affixe du vecteur 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 l’affixe du milieu de [AB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213372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386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utilisant les affix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 points M,N,P Comment calculer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MN , MP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42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422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2133720"/>
            <a:ext cx="35640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M(z) et A(2+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r A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en fonction des affixes des points A et B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l’affixe du vecteur 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 l’affixe du milieu de [AB]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35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plan complexe est rapporté au repère (O,u,v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mment calcul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u , AB ) en utilisant les affixes de A et 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3068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6764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2720" y="479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plan complexe est rapporté au repère (O,u,v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mment calcul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u , AB ) en utilisant les affixes de A et 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utilisant les affix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 points M,N,P Comment calcul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MN , MP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42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414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414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3814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orsque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&lt;0 , écrire les solutions de l’équatio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z²+bz+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 où l’inconnue z est un complexe , a ,b, c réels et a non nu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suppose qu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P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A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peut-on dire du complex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867280" y="4365720"/>
                <a:ext cx="16765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suppose qu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P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A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peut-on dire du complex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1640" y="177336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= 4+3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4365720"/>
                <a:ext cx="16761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+3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+3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+3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7640" y="2017800"/>
            <a:ext cx="416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+3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6-30T07:36:08Z</dcterms:modified>
  <cp:revision>39</cp:revision>
  <dc:subject/>
  <dc:title>CR2</dc:title>
</cp:coreProperties>
</file>