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E896-637C-4DD3-A9A7-E7B698D95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DEA1-8076-459B-AA9D-B48FDDCF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33DE-18F5-48B2-9E37-08FBA0E37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A34F-BE61-4141-B6B5-1DDA56530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84B3-24BA-47A8-83A7-E4D450D2B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F139-8D0D-428C-96E5-A13CFBEE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10DD-6B25-45C9-BB35-EB498DC3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2EBF-27EF-4314-B189-2886A20C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960E-D5CB-41C8-93CC-D8E6CDDD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1058-A9AD-4D35-BE69-C8A3BCA4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8196-DB5A-453D-A462-3FC741B0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76F1-771B-48F4-95D1-F6C61C35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DBBF-E037-4F2F-918E-74765EA2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C357-E7E8-4B45-9522-043F103A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6826-E421-4204-8B95-43ED89AF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051E-6551-48BB-A1EC-5337148EF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40CF-051D-4BA1-ACD5-AA036F059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BEFF-79DD-4D95-AC2C-07DD3839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092F-F807-4E83-B452-FE3EDDCC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17C3-068C-42EC-A571-1DFD362B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8CF9-B24E-478D-89A5-22C8F221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BC9A-9BDA-463D-BC73-ABDCF9A3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F10F-3769-4948-94D7-D84948A6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9B5A-537C-4D70-936D-46086012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b4e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b7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E1E2-7368-4BB5-A2AA-6696FCC12B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b7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eb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c481c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3236-20CE-4B78-A539-230219DCA703}" type="slidenum">
              <a:rPr b="0" lang="en-US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bilités 1. Automath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82706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quez sur votre feuille votre nom e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roi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auc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uivant votre place à la t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us disposerez de 50 secondes par ques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l y a neuf questi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rème : 2 points gratuits et deux points par questions exactes. Il n’est pas tenu compte de la rédaction, seule la réponse m’importe mais des calculs intermédiaires sont parfois nécessa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calculatrice est interdi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(question 9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424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e urne contient 8 boules rouges et deux boules ver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 tire au hasard une boule de l’urne puis une autre sans avoir remis la premiè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: « la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è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oule tirée est verte 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 : « la deuxième boule tirée est rouge »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éterminer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t  P(A   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084720" y="580536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7164360" y="5373720"/>
                <a:ext cx="7621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340000" y="530064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3059280" y="4437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39640" y="3212640"/>
            <a:ext cx="10796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9640" y="3860640"/>
            <a:ext cx="11527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908000" y="2637000"/>
            <a:ext cx="1008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08000" y="3141720"/>
            <a:ext cx="1079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050920" y="3933360"/>
            <a:ext cx="9367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50920" y="429264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92360" y="4076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053880" y="36450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910960" y="24210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982240" y="3068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982240" y="4365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81840" y="40053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50920" y="2492280"/>
            <a:ext cx="6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16400" y="28526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59280" y="3141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5160" y="522936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éterminer P(A      B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00360" y="5300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63640" y="4076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  (question 1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don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(A) = 0,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(B)=0,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(A   B) =0,7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culer : P(A   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probabilité de A sachant que l’événement B est réalisé vaut 0,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P(B) = 0,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 P(A) = 0,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culer P(A   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476360" y="4005360"/>
                <a:ext cx="2667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987640" y="458136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451640" y="544500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 (question 2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438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n donne deux événements A et B indépendants et p(A  B) = 0,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A)= 0,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éterminer P(B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n donne 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A) = 0,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B) = 0,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A  B) = 0,6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s événements A et B sont-ils indépendants 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476360" y="393372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300720" y="407664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 (question 3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381636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éter l’arbre sachant qu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(A ) = 0,4                = 0,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0,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3200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2276640"/>
            <a:ext cx="0" cy="38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619280" y="3645000"/>
            <a:ext cx="8618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19280" y="4221000"/>
            <a:ext cx="9349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771640" y="3213000"/>
            <a:ext cx="11527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71640" y="3716280"/>
            <a:ext cx="1152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843280" y="4437000"/>
            <a:ext cx="1152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43280" y="4797360"/>
            <a:ext cx="1152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48436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67280" y="508464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90240" y="29242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84360" y="458136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11280" y="34290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95640" y="386064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67280" y="386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67280" y="422100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40360" y="5157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268360" y="2421000"/>
                <a:ext cx="7621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826920" y="2997360"/>
                <a:ext cx="762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4572000" y="2205000"/>
            <a:ext cx="4321080" cy="41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nner la formule des probabilités totales permettant de calculer p(B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19640" y="3860280"/>
            <a:ext cx="8622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19640" y="4508640"/>
            <a:ext cx="93492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5157720"/>
            <a:ext cx="9349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372360" y="4724280"/>
            <a:ext cx="1152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516720" y="328428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16720" y="3789360"/>
            <a:ext cx="1152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84720" y="35002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84720" y="48690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49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62240" y="2997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740720" y="386064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90960" y="4365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46240" y="5516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2472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812000" y="386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(question 4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e urne contient 8 boules rouges et deux boules ver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 tire au hasard une boule de l’urne puis une autre sans avoir remis la premiè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: « la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è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oule tirée est verte 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 : « la deuxième boule tirée est rouge »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éterminer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t  P(A   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4500720" y="2276640"/>
            <a:ext cx="0" cy="38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059280" y="5373720"/>
                <a:ext cx="7617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476360" y="5734080"/>
                <a:ext cx="2667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6801120" y="2781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311680" y="2349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65120" y="40053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06560" y="242100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449480" y="42926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651640" y="3068280"/>
            <a:ext cx="1152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3716280"/>
            <a:ext cx="129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7093080" y="2565000"/>
            <a:ext cx="11509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64360" y="2924280"/>
            <a:ext cx="115092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380360" y="3789000"/>
            <a:ext cx="934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08720" y="4149720"/>
            <a:ext cx="1008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P(A    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7524720" y="530064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7885080" y="50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11680" y="2997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8360" y="306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82960" y="3573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11680" y="4292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88360" y="4365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17120" y="393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93080" y="40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(question 5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quels conditions les événements A et B sont-ils indépendants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ner deux défini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470480" y="3206880"/>
                <a:ext cx="20304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n donne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A) = 0,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B)=0,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A   B) =0,7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alculer : P(A   B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300720" y="4292640"/>
                <a:ext cx="2667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8101080" y="494172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(question 6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32000" y="2060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quelles conditions les événements A et B sont-ils indépendants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donnera deux défini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826920" y="2060640"/>
            <a:ext cx="3673800" cy="49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probabilité de A sachant que l’événement B est réalisé vaut : 0,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P(B) = 0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 P(A) = 0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P(A  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601280" y="4151160"/>
            <a:ext cx="2971800" cy="19814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843280" y="479736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(question 7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n donne 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A) = 0,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B) = 0,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A  B) = 0,6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s événements A et B sont-ils indépendants 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59280" y="1989000"/>
            <a:ext cx="428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donne deux événements A et B indépend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 p(A   B) = 0,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A)= 0,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éterminer P(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4716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6372360" y="3357720"/>
                <a:ext cx="31752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692360" y="407664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(question 8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788000" y="2349360"/>
            <a:ext cx="435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éter l’arbre sachant qu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A ) = 0,4                = 0,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,7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182600" y="2805120"/>
            <a:ext cx="3810240" cy="25401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50072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7093080" y="2852640"/>
                <a:ext cx="7617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003640" y="3573360"/>
                <a:ext cx="7621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 flipV="1">
            <a:off x="5219640" y="458136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" y="4221000"/>
            <a:ext cx="1008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588000" y="4149720"/>
            <a:ext cx="1008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88000" y="4437000"/>
            <a:ext cx="1079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6659640" y="5157720"/>
            <a:ext cx="9367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659640" y="5589720"/>
            <a:ext cx="936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224760" y="5229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67640" y="386064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224760" y="4149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62240" y="4941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662240" y="5589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35320" y="4508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7236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812000" y="458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740720" y="566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4000" y="206064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8360" y="2060640"/>
            <a:ext cx="3887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nner la formule des probabil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es permettant de calculer 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55640" y="3645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19640" y="5084640"/>
            <a:ext cx="1008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60760" y="3357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32040" y="4365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59280" y="306864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87640" y="357336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03640" y="407664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03640" y="465300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050920" y="3357720"/>
            <a:ext cx="1008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195640" y="4365720"/>
            <a:ext cx="1008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95640" y="4653000"/>
            <a:ext cx="936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0920" y="3645000"/>
            <a:ext cx="936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59280" y="35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76720" y="4653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908000" y="4365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23:50:51Z</dcterms:created>
  <dc:creator>CLEMENT ODILE</dc:creator>
  <dc:description/>
  <dc:language>en-US</dc:language>
  <cp:lastModifiedBy>CLEMENT ODILE</cp:lastModifiedBy>
  <dcterms:modified xsi:type="dcterms:W3CDTF">2008-07-08T04:03:37Z</dcterms:modified>
  <cp:revision>28</cp:revision>
  <dc:subject/>
  <dc:title>Calcul mental 1</dc:title>
</cp:coreProperties>
</file>