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BAF-860E-4020-A346-62E526AB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799-1E9C-4D48-8A6A-564846F7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9A7-331D-491B-9F0F-96F3CEAC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E66-4B28-4213-8339-32DD4CA0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9558-0D42-4295-8E58-9D6AE604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7A6A-8E83-49B6-8318-46A0EFDB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8921-C40C-4C23-863E-3C667F85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4902-66C9-4C03-832C-238B2DFF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8171-88E5-450D-91F8-A36A3C32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096D-9D06-4114-9539-7EED699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8D9-A984-4B88-A187-47C8A0F6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67B-A2AB-43E8-9266-F7AE0874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3C0F-5E78-47FB-AC0B-B95A9D06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2E60-CDBB-41EF-9865-2D862DD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2B7C-A711-402A-A640-35C91387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E94A-8C47-471B-873F-701097B8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612C-640E-4447-B446-69DA8211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122-AC67-4EBB-896D-6232D6C3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292-F572-4B38-A2A2-EA93C6AD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B94-11F4-4F37-9FA5-0F23FCBA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93B-24B9-4642-8642-AB6CBB37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537-D6F9-4F06-B690-10DD5DF0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AA2-5DA2-402D-9F0C-CDEADE52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F8C-CC37-4863-AD7D-0CC5E84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997A-682F-4A79-92C4-E483881858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470C-E170-41E2-A898-9203A5960A2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3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40000" y="342900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4365720"/>
                <a:ext cx="34419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58800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3716280"/>
                <a:ext cx="3441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8436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350028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59640" y="3500280"/>
                <a:ext cx="111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3500280"/>
                <a:ext cx="1117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73272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46Z</dcterms:modified>
  <cp:revision>17</cp:revision>
  <dc:subject/>
  <dc:title>CR2</dc:title>
</cp:coreProperties>
</file>