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933-9E4B-42B7-B14E-36A7DAE9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692-2B4B-49B5-9EAD-D42B509F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7E5-1280-4951-8E82-B7F6B53E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59B-6FAA-4C74-9D02-192F360B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C143-E730-4342-9CBE-2840C03B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92AC-135E-44EB-A770-FFEDDFAC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2519-3958-4230-A556-D2D8A40E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DBE4-3FE8-4DAF-AA33-7F478BAE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C763-335B-48B0-8F68-CC5B08D6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3219-2971-440B-8044-B90205D7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0476-8A09-4001-9633-1F3D05E6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C2F-1CCC-403F-B5CD-58C61B7D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C7EC-F378-4CB4-9456-085990E9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851E-8CA0-4764-8018-5B0B3074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4C39-BF13-4298-9EDB-E5B3E827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BABA-3AD5-41F3-B7D3-F4BE026B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00DD-B3DA-41F7-A91C-778C61E7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612-2176-4767-B23F-6AA3DC2F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0B0-9B9A-43E2-966E-1B377AE8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C75-57A9-46C2-98E3-E3F5F038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86E-8B51-4C08-AE05-DA6E56DA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FFB-841A-4F0C-AD73-E34D3112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369-BA92-4239-B5BE-A38B9171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4DC-E299-4D32-81B6-EE264698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341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D35F-4B7D-4F9C-87B4-78C669968F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0240-7A2F-43CA-A67D-AB2BA70C3C9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2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773360"/>
            <a:ext cx="7634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mière partie sur 15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,5 point gratuit, 1,5 point par réponse exacte, 0,5 point enlevé par réponse fausse , 0 point pour non réponse. 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uxième partie sur 5 point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rez alors de  5 minu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2017800"/>
            <a:ext cx="445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 le module de z est r et qu’un argument de z est a , préciser alors le module et un argument  du complexe z²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-ce que la forme algébrique d’un complexe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59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Le final sur 5 points et en 5  minutes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nombres complexes z et z’ sont donnés sous forme trigonométri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alors la forme trigonométrique du produit zz’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montrer cette formu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elles sont les formules permettant de passer de la forme algébrique à la forme trigonométriqu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nner une interprétation 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Tahoma"/>
              </a:rPr>
              <a:t>géométrique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du module d’un complex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-ce que la forme algébrique d’un complexe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crire 1/z  en fonction du module de z et de son conjugué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162864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 ce que la forme trigonométrique d’un complexe non nul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elles sont les formules permettant de passer de la forme algébrique à la forme trigonométriqu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onner une interprétation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ahoma"/>
              </a:rPr>
              <a:t>géométrique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 du module d’un complex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armi ces  4 nombres , quels sont les complexes qui ont même module que z ?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z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 conjugué de z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’opposé de z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’inverse de z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57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crire 1/z  en fonction du module de z et de son conjugué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réel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réel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imaginaire pur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imaginaire pur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 ce que la forme trigonométrique d’un complexe non nul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armi ces  4 nombres , quels sont les complexes qui ont même module que 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2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e conjugué de z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’opposé de 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’inverse de z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 le module de z est r et qu’un argument de z est a , préciser alors le module et un argument  du complexe z²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2:21Z</dcterms:modified>
  <cp:revision>14</cp:revision>
  <dc:subject/>
  <dc:title>CR2</dc:title>
</cp:coreProperties>
</file>