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8A7-DDF7-45D0-B3FE-E5C62ACF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1C9-FD94-41EA-8916-B5F1927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679-9B53-44A2-93DD-97CAE481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319-ED39-4710-9F7C-08CD3DE8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002-BB06-44C6-9048-113C6CD0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2E8-4558-4528-A8B4-0121AB8F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C4D-B1F5-48B9-A745-630C3203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0CE-D2B3-44BE-AE22-91D24D40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06C-000C-4994-BAFB-C8576262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44B-4AB8-43C2-9E75-B3C2EEF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B86-9D5F-49A5-BE42-668A6BA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675-BC19-44FF-B0DA-D240CA24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3091-ADD6-4DFC-870D-FB74B140E93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6 - 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16280"/>
            <a:ext cx="442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8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48240" y="1916280"/>
            <a:ext cx="4595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34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5440" y="1755720"/>
            <a:ext cx="4466160" cy="4054680"/>
            <a:chOff x="235440" y="1755720"/>
            <a:chExt cx="4466160" cy="4054680"/>
          </a:xfrm>
        </p:grpSpPr>
        <p:sp>
          <p:nvSpPr>
            <p:cNvPr id="105" name=""/>
            <p:cNvSpPr/>
            <p:nvPr/>
          </p:nvSpPr>
          <p:spPr>
            <a:xfrm>
              <a:off x="235440" y="175572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64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4360" y="458100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000" y="458136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96280" y="177336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0" y="184464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3240" y="177336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47240" y="1916280"/>
            <a:ext cx="4466160" cy="4054680"/>
            <a:chOff x="4647240" y="1916280"/>
            <a:chExt cx="4466160" cy="4054680"/>
          </a:xfrm>
        </p:grpSpPr>
        <p:sp>
          <p:nvSpPr>
            <p:cNvPr id="131" name=""/>
            <p:cNvSpPr/>
            <p:nvPr/>
          </p:nvSpPr>
          <p:spPr>
            <a:xfrm>
              <a:off x="4647240" y="191628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380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44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096160" y="474156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1800" y="474192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56120" y="190008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43080" y="162864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76160" y="1916280"/>
            <a:ext cx="2575440" cy="3506040"/>
            <a:chOff x="776160" y="1916280"/>
            <a:chExt cx="2575440" cy="3506040"/>
          </a:xfrm>
        </p:grpSpPr>
        <p:grpSp>
          <p:nvGrpSpPr>
            <p:cNvPr id="148" name=""/>
            <p:cNvGrpSpPr/>
            <p:nvPr/>
          </p:nvGrpSpPr>
          <p:grpSpPr>
            <a:xfrm>
              <a:off x="798120" y="1916280"/>
              <a:ext cx="2553480" cy="3506040"/>
              <a:chOff x="798120" y="1916280"/>
              <a:chExt cx="2553480" cy="3506040"/>
            </a:xfrm>
          </p:grpSpPr>
          <p:sp>
            <p:nvSpPr>
              <p:cNvPr id="149" name=""/>
              <p:cNvSpPr/>
              <p:nvPr/>
            </p:nvSpPr>
            <p:spPr>
              <a:xfrm>
                <a:off x="798120" y="1916280"/>
                <a:ext cx="2553480" cy="350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On donne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u( 3 ; 1 ; -5 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Et  v(5 ; 3 ; 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Calculer u.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88880" y="4957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47800" y="4957920"/>
                <a:ext cx="28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76160" y="30132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2520" y="402264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833000" y="206064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17400" y="1844640"/>
            <a:ext cx="2553480" cy="3506040"/>
            <a:chOff x="5117400" y="1844640"/>
            <a:chExt cx="2553480" cy="3506040"/>
          </a:xfrm>
        </p:grpSpPr>
        <p:sp>
          <p:nvSpPr>
            <p:cNvPr id="160" name=""/>
            <p:cNvSpPr/>
            <p:nvPr/>
          </p:nvSpPr>
          <p:spPr>
            <a:xfrm>
              <a:off x="5117400" y="1844640"/>
              <a:ext cx="25534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On don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u( 3 ; 1 ; -5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Et  v(5 ; 3 ;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Calculer u.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8520" y="488628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67440" y="4886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48360" y="29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4480" y="197172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70028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14Z</dcterms:modified>
  <cp:revision>28</cp:revision>
  <dc:subject/>
  <dc:title>Donner l'image de -1 par la fonction f définie par </dc:title>
</cp:coreProperties>
</file>