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011-00CC-4A9F-AB88-D1D5DFD9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430-BEBA-4A96-BB7B-33863589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735-1762-4CDB-B166-34CE874D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693-EC8B-436B-9454-65113FC4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FC02-07A8-478D-8A67-A00C9343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91BF-D1D9-44EF-AED2-11175CBD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78C1-DFEF-48F6-B6F8-5F5AB0B4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FA05-FC80-49A2-A95C-8A9E2FA7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664B-E838-49AB-9D9A-BB2FE344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6EA3-FE2C-4B4B-B62E-E6C19C4D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9695-4B71-4C33-960E-6AD0F867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F52-35AF-4EDF-BD77-FA04D385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3121-EFDE-4421-A157-111E132C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7378-AF68-4B79-9C01-041DE5E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76A7-5B56-49A0-8F80-05F818CB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AB09-E24A-4DED-8215-67794774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DFA0-0715-470C-897E-0DB7CFEB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01E-66BF-4678-8D11-141D5993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FC7-CD7C-4334-8718-09704825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FC7-C787-4611-87CD-AB2FF636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980-7654-451A-9443-3F52E742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FA1-1361-46F1-B885-E168BAB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588-ACAD-4ABB-AA4D-68334F6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F37-179F-4747-A791-B4F523A2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72CF-8A59-47BE-9229-54F63D61C8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1875-F205-49B3-9A01-9497207AA24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4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03280" y="299736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51640" y="45086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24360" y="5516640"/>
                <a:ext cx="2159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, 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76720" y="4724280"/>
                <a:ext cx="3492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6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 ,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3645000"/>
                <a:ext cx="3492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4149720"/>
                <a:ext cx="17524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12000" y="306864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32000" y="2852640"/>
                <a:ext cx="1307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35640" y="422100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1200" y="38768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55640" y="4941720"/>
                <a:ext cx="2158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4076640"/>
                <a:ext cx="17524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4360" y="393372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88000" y="2708280"/>
                <a:ext cx="130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5:05Z</dcterms:modified>
  <cp:revision>25</cp:revision>
  <dc:subject/>
  <dc:title>CR2</dc:title>
</cp:coreProperties>
</file>