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5CDB-34A6-415E-86F5-A69F3D3B8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E9C1-E250-44A9-9004-AA68C9DC3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D0B2-3E17-44B3-845E-8C4F42036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B899-9734-4376-9F72-BF68F7BFB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090EE-AF3B-4C53-8C0D-4AAA86379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F0A20-7536-4228-9B0C-C8CF6363B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4D1AF-07E3-4FA4-B6BD-D42006513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07A40-FFA9-40AA-B6B7-6F076C7F5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C3E8D-C6FC-4A51-BC43-02FB349DB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9A7D0-6AE3-484A-9AF2-3F8276B42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87199-C120-4E99-BABE-072CDB2C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55EF-B939-4FDA-8E1B-C7F1F7E8A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0E60A-A8A2-43C8-8CB5-95BFEE50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5BEED-3ACA-4471-B91A-BFBE61F4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64415-4C23-4D4D-8A66-88EBE343B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A994F-54D3-4D42-A188-999820BF6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0F4B4-B27E-46A6-9CE6-952178C5A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2E28-DC83-4FB7-9D5D-E4A23B7C7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F437-BE20-4E36-B7AA-B6B7323EF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3292-77B1-47BC-BC65-071F0D60B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67FC-9CC2-4FF8-939A-CB4011107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DFF5-D3CE-4D4B-8E0A-6B967EBE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DBBD-9604-4455-95D3-F50505B3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7C02-49A0-4B23-8FA4-78B8D410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ece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cea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91afb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86E71-5117-41F7-BA52-03C1565141C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836640"/>
            <a:ext cx="9009000" cy="1052640"/>
            <a:chOff x="0" y="83664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944640"/>
              <a:ext cx="711360" cy="474840"/>
              <a:chOff x="290520" y="94464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944640"/>
                <a:ext cx="437400" cy="474840"/>
              </a:xfrm>
              <a:prstGeom prst="rect">
                <a:avLst/>
              </a:prstGeom>
              <a:solidFill>
                <a:srgbClr val="ecea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94464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cea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1366920"/>
              <a:ext cx="737640" cy="474840"/>
              <a:chOff x="414360" y="136692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1366920"/>
                <a:ext cx="421560" cy="474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136692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129384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91afb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83664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165888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CF5B4-6B5D-4A93-B2B5-95FD9DA4EEC1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515f7b"/>
                </a:solidFill>
                <a:latin typeface="Tahoma"/>
              </a:rPr>
              <a:t>AM5  term .S</a:t>
            </a:r>
            <a:br>
              <a:rPr sz="4000"/>
            </a:b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26560" y="1483920"/>
            <a:ext cx="7634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ur 10 point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ur la copie, précisez  droite ou gauche suivant votre position dans la ta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ous disposez de  40 secondes  par ques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l y a  10 question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rème : 1 point par réponse exacte, pas de point enlevé par réponse fauss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elevez le numéro de la question et donner la répon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40000">
    <p:cover dir="r"/>
    <p:sndAc>
      <p:stSnd>
        <p:snd r:embed="rId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9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ner les solutions de l’équation différentielle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y+y’=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2920" y="206064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éterminer les limites de la fonct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(x) = ln(x)/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 0 et en +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4284720" y="1989000"/>
            <a:ext cx="7920" cy="432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cover dir="r"/>
    <p:sndAc>
      <p:stSnd>
        <p:snd r:embed="rId1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10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ombien y a-t’il de fonctions f  solutions de :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825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y’+4y=5 et f(0)=1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2920" y="206064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Déterminer le signe de ln(x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4427640" y="184464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cover dir="r"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1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8920" y="2017800"/>
            <a:ext cx="453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ner les solutions de l’équation différentielle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’ = ay +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932360" y="2276640"/>
            <a:ext cx="0" cy="374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1989000"/>
            <a:ext cx="4105080" cy="41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éterminer le signe de ln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cover dir="r"/>
    <p:sndAc>
      <p:stSnd>
        <p:snd r:embed="rId1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2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5280" y="2017800"/>
            <a:ext cx="41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er f’(x) lorsque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58920" y="19890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er g’(x) lorsque 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 (x) = x² +  ln(x²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464328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84360" y="3789360"/>
                <a:ext cx="2832120" cy="13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advTm="40000">
    <p:cover dir="r"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3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4390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ner les solutions de l’équation différentielle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’ = ay +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76640" y="1989000"/>
            <a:ext cx="355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ner les solutions de l’équation différentielle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y+y’=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cover dir="r"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4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4313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er g’(x) lorsque 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 (x) = x² +  ln(x²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03280" y="19890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er f’(x) lors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4788000" y="177336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580000" y="3213000"/>
                <a:ext cx="2832120" cy="13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advTm="40000">
    <p:cover dir="r"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5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onner les limites en + </a:t>
            </a:r>
            <a:r>
              <a:rPr b="0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et en 0 d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F(x) = xln(x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ésoudre dans R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471636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796000" y="2781360"/>
                <a:ext cx="16383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  <p:transition advTm="40000">
    <p:cover dir="r"/>
    <p:sndAc>
      <p:stSnd>
        <p:snd r:embed="rId1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6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21337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ésoudre dans R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58920" y="206064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ésoudre dans R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166760" y="2852640"/>
                <a:ext cx="16383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364000" y="2852640"/>
                <a:ext cx="228600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  <p:transition advTm="40000">
    <p:cover dir="r"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7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453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ésoudre dans R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58920" y="206064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onner les limites en + </a:t>
            </a:r>
            <a:r>
              <a:rPr b="0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et en 0 d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F(x) = xln(x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4788000" y="206064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843120" y="2833560"/>
                <a:ext cx="228600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  <p:transition advTm="40000">
    <p:cover dir="r"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8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403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éterminer les limites de la fonct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(x) = ln(x)/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 0 et en +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1989000"/>
            <a:ext cx="7920" cy="432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ombien y a-t’il de fonctions f  solutions de :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825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y’+4y=5 et f(0)=1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40000">
    <p:cover dir="r"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2:53:26Z</dcterms:created>
  <dc:creator>CLEMENT ODILE</dc:creator>
  <dc:description/>
  <dc:language>en-US</dc:language>
  <cp:lastModifiedBy>CLEMENT ODILE</cp:lastModifiedBy>
  <dcterms:modified xsi:type="dcterms:W3CDTF">2008-07-08T04:07:43Z</dcterms:modified>
  <cp:revision>38</cp:revision>
  <dc:subject/>
  <dc:title>CR2</dc:title>
</cp:coreProperties>
</file>