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3EB-9463-4E3C-AE7B-FD7DAE07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BB45-A941-41F6-AB76-75FD04BD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692-1FA6-4371-AD47-FAF66169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70C-9FA6-42F5-811D-32DD76FD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1F9C-BBA2-497A-BF47-4CE94996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F831-F10B-4F34-8CAB-C8918C63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AF4E-98C9-4A39-86FE-45541E75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1BD4-3FA9-4C74-93C8-5AA06F24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0DDB-93EC-4802-B3B7-843F9115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7EE6-5424-42DD-AAC0-11082355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580A-474C-4F34-B447-43C8D066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AA0-1424-48AF-BC9D-6AE747F7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9259-E096-49A4-8AC6-A09C7497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753B-0E88-475C-8844-774C350B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8FE8-1726-45EE-BD80-7CF29AE4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81E5-A798-4B32-9083-9A15D721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B64F-4ECF-4037-BDF7-F389022C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C7E-8062-4E29-B124-0F44E08B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7C7-06A0-45C2-AFA0-BE570B28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6D8-9E41-4AD3-9419-2069809C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261-C3CA-48BF-975D-9B57A694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DB2-BECE-4915-9E8F-BA927D5C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BA2-12BE-48A2-98AE-800CF7CB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002-4CA9-4AA1-B65B-1B23FB53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01F4-EA99-4627-9D41-F247481D8B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90AB-0278-4981-A792-B5CC65DE0CF9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Devoir N°3( une heure )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 devoir est en deux parties sur 10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première partie est une série de 10 questions notées 1 point chacune ; vous disposez de 50 secondes par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cette première partie, la calculatrice est interd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quez sur votre feuille :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ivant votre position dans votre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deuxième partie, vous disposerez de la calculatrice et du temps re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9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On donne la variance d’une série : V = 0,36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La fonction f est donnée sur [0 ; 5]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a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 est ……. sur [0 ; 5]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084720" y="2852640"/>
                <a:ext cx="22482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0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centage de la population dont les modalités sont  comprises entre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remier décile et le neuvième décil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fonction f est donnée sur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[1 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 :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 est ……. sur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[1 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012000" y="2852640"/>
                <a:ext cx="2519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1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4032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nnaitre les deux fo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e  et Ble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63640" y="2060280"/>
            <a:ext cx="3591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3616560" cy="424800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67360" y="2852640"/>
            <a:ext cx="407664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17160" y="5157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68120" y="35733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70036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00360" y="393372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4508640"/>
            <a:ext cx="28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4508640"/>
            <a:ext cx="0" cy="86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537372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2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nnaitre les deux fo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e :…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eu : ……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2648160" cy="3241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2924280"/>
            <a:ext cx="4076640" cy="1447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19640" y="580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91080" y="58770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58920" y="573408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573408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3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Que représentent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=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- a=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03480" y="445140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859280" y="2997360"/>
            <a:ext cx="4076640" cy="1447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2708280"/>
            <a:ext cx="40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4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n donne le diagramme en boît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Comment calculer l’intervalle interquartile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nnaitre les deux fo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ge :…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eu : ……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2648160" cy="3241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4076640" cy="1447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093080" y="551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0160" y="55166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659640" y="544500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7235640" y="544500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5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donne le diagramme en  boî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représ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a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235640" y="1700280"/>
            <a:ext cx="17190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nnaitre les deux fonc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ge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e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198900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67280" y="2133720"/>
            <a:ext cx="3616200" cy="424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2881440"/>
            <a:ext cx="3995640" cy="1419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292720" y="4221000"/>
            <a:ext cx="287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4221000"/>
            <a:ext cx="0" cy="86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508464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76480" y="38606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53880" y="486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;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579640" y="4149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580000" y="508428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6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a fonction f est donnée sur [0 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 est ……. sur [0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63640" y="2924280"/>
                <a:ext cx="2247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a fonction f est donnée sur [1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En utilisant des fonctions connues , donner le sens de variation de f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 est ……. sur [1; 5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donne la variance d’une série : V = 0,3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 vaut son écart type ?Donner sa valeur déci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692360" y="2852640"/>
                <a:ext cx="2519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voir 3       Question 8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a formule permettant de calculer la variance d’une série statistiq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 pourcentage de la population dont les modalités sont  comprises entre le premier décile et le neuvième déci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03T06:52:16Z</dcterms:modified>
  <cp:revision>31</cp:revision>
  <dc:subject/>
  <dc:title>Donner l'image de -1 par la fonction f définie par </dc:title>
</cp:coreProperties>
</file>