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B84-6339-4D4D-85E0-7466831D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AF0-5841-4A7E-AAA3-85708122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EBB-64F7-4150-91CD-7F40595F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DF9-2810-4284-B855-711BFBC7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6366-C619-4366-B3ED-9B28F320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768-FB22-42B6-82C9-552209A4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9E98-9470-4989-8605-855D9C90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FDC4-2DAC-44DF-A43F-7B793A8E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6F3-5E14-42CC-AE8A-FB96675D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2B12-9A40-47BF-A3EC-C4FA219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8AC5-7943-4548-B996-01AA18C9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7D6-5C9D-4B15-99DF-AC27697B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29C1-B415-46C5-8E68-A2AA393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E0CD-A756-424A-B900-9463C52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35E6-0584-4D98-A96F-9685827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AC39-374B-465A-AD8A-143E0DD6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2A09-82F8-45D3-948E-5714A1F5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884-41BF-4983-861A-C8709D9B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E5C-3405-43CB-9770-970C6ED3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323-D291-4942-ADBD-73F562AD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666-126C-4915-940A-8F96896D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DDC-418B-4F68-9BA1-5F94FD2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AA69-D1C0-40E7-AA9A-352CD1B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2F9-C9A8-47C9-B261-7717954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ADD4-FFF5-4851-9AA0-8A1C4CAEDD8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752E-2FDE-47E5-BABD-51C065BDDD5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r la  dérivée de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84600" y="3913200"/>
                <a:ext cx="105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08T04:15:21Z</dcterms:modified>
  <cp:revision>23</cp:revision>
  <dc:subject/>
  <dc:title>Donner l'image de -1 par la fonction f définie par </dc:title>
</cp:coreProperties>
</file>