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D77-59D9-46F6-8FE3-30E6B0E2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982-CD90-4C9C-90DF-D2C2FC4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6B6-9AAA-41AF-8F96-D8E5677A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462-E05C-4F43-A07E-F9A5BF79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0B20-07BD-4EAD-B9C4-3A2FB1A7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BBCC-7CD3-40DF-B49E-17EA636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BBC-4030-43AE-BAF8-494211E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71DA-C21A-42E6-BC10-5DE4E71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C4C0-F654-49FA-B7E1-7F8E1B5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30F5-87FA-4340-9B07-4FCDBEB4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49B-7E3A-4846-8098-B65C81F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385-E11E-4A88-9D3E-6893955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032A-423C-4C87-84A1-CA17C53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BAF5-84D3-4BB1-8CF7-91995651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2A1-053B-4BF9-BD92-8F1753FF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B845-9713-4567-A8C0-835B63B7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B8C-EB41-41E2-AF40-87E878D7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587-CA9F-4719-952C-A33CD677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BC8-2A88-4813-9E97-EF570EB5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EFC-4F4E-4856-A0CF-A865F3AC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320-57A7-4B0F-A6E8-EEAAEC77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39A-2A80-48B7-BAFA-C5BD7BC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075-6637-4C8A-B4C4-623DE09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AE2-08A5-45EC-A228-75042F3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0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00E5-E299-4D6A-9058-D61AE0E83B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06FD-BCB8-473C-9A0F-15A08662EC7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15f7b"/>
                </a:solidFill>
                <a:latin typeface="Tahoma"/>
              </a:rPr>
              <a:t>AM  N°4- second degré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4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5329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866920" y="2017800"/>
            <a:ext cx="308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La parabole d’équation 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184464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225720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 trinôm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²- 5x +7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-t-il des racines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i oui, combien ?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calcule –t-on le discriminant d’un trinôm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l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quelles sont les solutions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0 , quelles sont les solutions de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 bx +c =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&lt; 0 , 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0" lang="fr-FR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&gt; 0 , quel est le signe du trinôme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ax²+bx +c  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resser le tableau de signes d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x² + bx + 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2360" y="2017800"/>
            <a:ext cx="402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trinôme ax²+bx+c est positif ou nul su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3,4 ] et négatif strictement partout ailleurs. Que peut on dire du sig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 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4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parabole d’équ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-x² + 2x -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pe l’axe des abscisses e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int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cun poi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51280" y="1844640"/>
            <a:ext cx="52927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ourbe tracée a pour équation y = ax²+bx+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terminer le signe de a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35640" y="3213000"/>
            <a:ext cx="2257560" cy="311472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23T22:21:57Z</dcterms:modified>
  <cp:revision>39</cp:revision>
  <dc:subject/>
  <dc:title>Donner l'image de -1 par la fonction f définie par </dc:title>
</cp:coreProperties>
</file>