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16E-B6F7-47B3-B7F7-9223331F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777-064C-4064-B33E-A7A54E8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58A-1733-4051-9E47-39C26870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B4E-1656-4501-8E54-B1910AA1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E684-E6DA-47D7-A165-8FCF5D2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B9B9-460A-4A75-87D6-D65C1F5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C94-86A0-49DF-96F3-7B80657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BA0-E273-4FDA-BFF8-8B34603C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E9EE-403A-4872-9806-2C4F0A1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2C6-BD61-4675-9C61-6E9A97BF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EFA0-7175-44B8-9D68-B876947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890-A8CB-4304-9525-DF97C2C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89D0-D3E4-4CBF-9A87-044F678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0B3E-8913-4041-B21E-EEF643D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A186-E96E-4B01-9BAF-6A6058D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FB8F-44C1-4393-94D5-8897701F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BF3-B01E-43F9-A090-B366CCFC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E2E-3465-42E7-80EB-89AB3BD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6F2-CA62-424A-A094-45DF1EF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3CB-7E98-42C8-BD47-BE35BC6F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FC2-ABFE-493A-8971-95F6204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C83-DED8-4D9C-9707-8EEAA70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36F-46C1-430F-8ED3-570BD74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ADD-6B31-4468-81CD-386D72D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EAA-6B72-4002-A619-FAF4C022665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67B8-6B03-4EE4-939F-15877575B94A}" type="slidenum">
              <a:rPr b="0" lang="fr-FR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4076"/>
                </a:solidFill>
                <a:latin typeface="Tahoma"/>
              </a:rPr>
              <a:t>CR1 : Question N° 1 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60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 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6360" y="1916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45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et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396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% des sourds sont mue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il y a dans une population 1300 sourds , combien sont sourds mu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35280" y="177336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5% des élèves d’un lycée pratiquent le foot et parmi eux , 30% le pratiquent plus de 6 heures par sema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élèves du lycée qui jouent au foot plus de 6 heures par semain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axe sur les services est de 5,5%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 prix du menu , taxes comprises , est de 2553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rix du menu hors tax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120% revient à multiplier par ……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20% puis l’augmenter de 20% revient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 rien changer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er de 2%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4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de 2%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iminue un prix de 20%, puis de 1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 quel pourcentage le prix a-t-il diminué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pourcentage des femmes dans la population suivante 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mmes : 1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mes : 18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inuer un prix de 3,5% revient à le multiplier par : ……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1640" y="2017800"/>
            <a:ext cx="43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capital de 100 000F a été placé au taux annuel de 4,6 %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 est le nouveau capital acquis au bout de 6 a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1628640"/>
            <a:ext cx="0" cy="460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0:22:12Z</dcterms:created>
  <dc:creator>CLEMENT ODILE</dc:creator>
  <dc:description/>
  <dc:language>en-US</dc:language>
  <cp:lastModifiedBy>CLEMENT ODILE</cp:lastModifiedBy>
  <dcterms:modified xsi:type="dcterms:W3CDTF">2008-03-11T06:54:29Z</dcterms:modified>
  <cp:revision>19</cp:revision>
  <dc:subject/>
  <dc:title>Question N° 1 </dc:title>
</cp:coreProperties>
</file>