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990-6124-4934-AE0A-F2391912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7D5-6888-405E-AFDE-63695DDA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1CB-469D-4B26-B3E5-819BC1F4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F5F-4E34-4601-B946-46D9663D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9B24-7B65-482D-BFE4-8675E230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1DEC-1E2D-4FB1-9F55-EB4E4278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E10B-7A6A-40F2-BAB3-D445E2D3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48B2-D7D4-4E9F-8FD6-141483B8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AAA0-390D-4F7C-9F4E-88496F42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FC85-FE52-4482-9A11-2B523BFB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D177-2C8A-4D8D-A201-8A9BC211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CB7-0B89-4467-BF46-32C4783F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5741-1FA9-48B1-9C9C-CEFA92CA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F088-DC5D-48A2-938F-9BA5C21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6BDC-5DF5-4E0D-A94E-0F533030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FC70-D124-4521-B09C-23503439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D11-E915-4F7A-9ADD-BF612E29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67D-B924-49FD-A040-13FD23F1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755-3CD4-4B51-B109-6B68CFCF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A9A-2EFB-434C-B4AA-71BA4692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835-1180-4B8C-A983-24424540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1AB-8ADC-4B66-A1DA-F09FD47A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32F-B0A8-462A-A7FE-007ECC3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B5DA-6E0F-468C-91A5-A567D02F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E7B1-7082-4AAB-A736-602496F21D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46AB-7762-449A-B509-A45F91676AF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IE N°3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devoir est sur 10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’ est une série de 10 questions notées 1 point chacune ; vous disposez de 50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On donne la variance d’une série : V = 0,64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-il possible que la variance d’une série soit un nombre négatif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centage de la population dont les modalités sont  comprises entre l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quartile et le troisième quart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formule permettant de calculer la moyenne d’une série dont les modalités xi sont affectées des effectifs ni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ciser la différence entre une série qualitative et une série quant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67360" y="285264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formule permettant de calculer la moyenne d’une série dont les modalités xi sont affectées des effectifs ni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40766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 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- a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4076640" cy="144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ciser la différence entre une série qualitative et une série quantitat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a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367380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’est-ce que le mode d’une série statistiqu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881440"/>
            <a:ext cx="399564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-il possible que la variance d’une série soit un nombre négatif ? Pourquoi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-ce que le mode d’une série statistique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onne la variance d’une séri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 = 0,6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3640" y="2017800"/>
            <a:ext cx="39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pourcentage de la population dont les modalités sont  comprises entre l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quartile et le troisième quart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13T23:08:56Z</dcterms:modified>
  <cp:revision>33</cp:revision>
  <dc:subject/>
  <dc:title>Donner l'image de -1 par la fonction f définie par </dc:title>
</cp:coreProperties>
</file>