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F1B-D197-4344-A19A-E3E3B507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01D-BF90-4C63-8E63-6827D693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CA9-40BB-4B10-A1AB-9623284D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312-53DD-4850-96E7-9D29AF47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A08-02F2-4D97-B655-E7AE0A1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21A-4AC7-41A0-9668-4082ABE7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603-155D-4726-9769-2FB80DA2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8E1-BAFC-42C5-950E-518167D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4D7-A7BE-4754-A6A8-A135C57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7B1-7ADC-41FF-ACB9-43C6F66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6AB-105F-4389-9322-F296811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99B-7F80-40F6-8385-73D5610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B47A-E839-48BB-BABF-20240FF370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40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80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2" name=""/>
          <p:cNvGrpSpPr/>
          <p:nvPr/>
        </p:nvGrpSpPr>
        <p:grpSpPr>
          <a:xfrm>
            <a:off x="5580000" y="2133720"/>
            <a:ext cx="2881440" cy="2595600"/>
            <a:chOff x="5580000" y="2133720"/>
            <a:chExt cx="2881440" cy="2595600"/>
          </a:xfrm>
        </p:grpSpPr>
        <p:sp>
          <p:nvSpPr>
            <p:cNvPr id="183" name=""/>
            <p:cNvSpPr/>
            <p:nvPr/>
          </p:nvSpPr>
          <p:spPr>
            <a:xfrm>
              <a:off x="558000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81508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89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u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5219640" y="2060640"/>
            <a:ext cx="3156120" cy="2782440"/>
            <a:chOff x="5219640" y="2060640"/>
            <a:chExt cx="3156120" cy="2782440"/>
          </a:xfrm>
        </p:grpSpPr>
        <p:sp>
          <p:nvSpPr>
            <p:cNvPr id="192" name=""/>
            <p:cNvSpPr/>
            <p:nvPr/>
          </p:nvSpPr>
          <p:spPr>
            <a:xfrm>
              <a:off x="521964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311800" y="356076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3480" y="1857240"/>
            <a:ext cx="3156120" cy="2783160"/>
            <a:chOff x="663480" y="1857240"/>
            <a:chExt cx="3156120" cy="2783160"/>
          </a:xfrm>
        </p:grpSpPr>
        <p:sp>
          <p:nvSpPr>
            <p:cNvPr id="105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55640" y="3357720"/>
                  <a:ext cx="27687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4932360" y="2060640"/>
            <a:ext cx="3378240" cy="2433600"/>
            <a:chOff x="4932360" y="2060640"/>
            <a:chExt cx="3378240" cy="2433600"/>
          </a:xfrm>
        </p:grpSpPr>
        <p:sp>
          <p:nvSpPr>
            <p:cNvPr id="108" name=""/>
            <p:cNvSpPr/>
            <p:nvPr/>
          </p:nvSpPr>
          <p:spPr>
            <a:xfrm>
              <a:off x="5145120" y="20606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932360" y="39103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31640" y="1857240"/>
            <a:ext cx="3416400" cy="2471760"/>
            <a:chOff x="431640" y="1857240"/>
            <a:chExt cx="3416400" cy="2471760"/>
          </a:xfrm>
        </p:grpSpPr>
        <p:sp>
          <p:nvSpPr>
            <p:cNvPr id="116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31640" y="3668760"/>
                  <a:ext cx="3416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5003640" y="1989000"/>
            <a:ext cx="3454200" cy="2465640"/>
            <a:chOff x="5003640" y="1989000"/>
            <a:chExt cx="3454200" cy="2465640"/>
          </a:xfrm>
        </p:grpSpPr>
        <p:sp>
          <p:nvSpPr>
            <p:cNvPr id="119" name=""/>
            <p:cNvSpPr/>
            <p:nvPr/>
          </p:nvSpPr>
          <p:spPr>
            <a:xfrm>
              <a:off x="5254200" y="198900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003640" y="380700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00560" y="200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48360" y="2060640"/>
            <a:ext cx="3416040" cy="2471760"/>
            <a:chOff x="5148360" y="2060640"/>
            <a:chExt cx="3416040" cy="2471760"/>
          </a:xfrm>
        </p:grpSpPr>
        <p:sp>
          <p:nvSpPr>
            <p:cNvPr id="128" name=""/>
            <p:cNvSpPr/>
            <p:nvPr/>
          </p:nvSpPr>
          <p:spPr>
            <a:xfrm>
              <a:off x="5379840" y="2060640"/>
              <a:ext cx="31557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148360" y="3872160"/>
                  <a:ext cx="341604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808200" y="236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2920" y="1857240"/>
            <a:ext cx="3454200" cy="2465640"/>
            <a:chOff x="412920" y="1857240"/>
            <a:chExt cx="3454200" cy="2465640"/>
          </a:xfrm>
        </p:grpSpPr>
        <p:sp>
          <p:nvSpPr>
            <p:cNvPr id="132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2920" y="3675240"/>
                  <a:ext cx="3454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148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2720" y="1916280"/>
            <a:ext cx="3156120" cy="2782440"/>
            <a:chOff x="5292720" y="1916280"/>
            <a:chExt cx="3156120" cy="2782440"/>
          </a:xfrm>
        </p:grpSpPr>
        <p:sp>
          <p:nvSpPr>
            <p:cNvPr id="141" name=""/>
            <p:cNvSpPr/>
            <p:nvPr/>
          </p:nvSpPr>
          <p:spPr>
            <a:xfrm>
              <a:off x="5292720" y="191628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84880" y="3416400"/>
                  <a:ext cx="2768760" cy="12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3" name=""/>
          <p:cNvGrpSpPr/>
          <p:nvPr/>
        </p:nvGrpSpPr>
        <p:grpSpPr>
          <a:xfrm>
            <a:off x="450720" y="1857240"/>
            <a:ext cx="3378240" cy="2433600"/>
            <a:chOff x="450720" y="1857240"/>
            <a:chExt cx="3378240" cy="2433600"/>
          </a:xfrm>
        </p:grpSpPr>
        <p:sp>
          <p:nvSpPr>
            <p:cNvPr id="144" name=""/>
            <p:cNvSpPr/>
            <p:nvPr/>
          </p:nvSpPr>
          <p:spPr>
            <a:xfrm>
              <a:off x="663480" y="1857240"/>
              <a:ext cx="31561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ahoma"/>
                </a:rPr>
                <a:t>f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’(x) lorsque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0720" y="3706920"/>
                  <a:ext cx="337824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213372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34936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2205000"/>
            <a:ext cx="33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19640" y="2133720"/>
            <a:ext cx="2881440" cy="2595600"/>
            <a:chOff x="5219640" y="2133720"/>
            <a:chExt cx="2881440" cy="2595600"/>
          </a:xfrm>
        </p:grpSpPr>
        <p:sp>
          <p:nvSpPr>
            <p:cNvPr id="158" name=""/>
            <p:cNvSpPr/>
            <p:nvPr/>
          </p:nvSpPr>
          <p:spPr>
            <a:xfrm>
              <a:off x="5219640" y="213372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454720" y="326880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133720"/>
            <a:ext cx="24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u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)’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1989000"/>
            <a:ext cx="2881440" cy="2595600"/>
            <a:chOff x="826920" y="1989000"/>
            <a:chExt cx="2881440" cy="2595600"/>
          </a:xfrm>
        </p:grpSpPr>
        <p:sp>
          <p:nvSpPr>
            <p:cNvPr id="166" name=""/>
            <p:cNvSpPr/>
            <p:nvPr/>
          </p:nvSpPr>
          <p:spPr>
            <a:xfrm>
              <a:off x="826920" y="1989000"/>
              <a:ext cx="2881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mpléte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062000" y="3124080"/>
                  <a:ext cx="143496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u</m:t>
                                  </m:r>
                                </m:num>
                                <m:den>
                                  <m:r>
                                    <m:t xml:space="preserve">v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2720" y="1773360"/>
            <a:ext cx="331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e est la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calculer la déri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la somm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ux fonc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8760" y="2349360"/>
            <a:ext cx="435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ment calcule-t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dérivée de k.u lor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 est une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 u une fonc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7-29T01:18:17Z</dcterms:modified>
  <cp:revision>27</cp:revision>
  <dc:subject/>
  <dc:title>Donner l'image de -1 par la fonction f définie par </dc:title>
</cp:coreProperties>
</file>