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36B-5471-4FD6-9EDD-E598653E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78E-318D-43BE-9CCF-F499BB5C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B74-7273-4497-953A-5619E0D5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9C3-E8CB-400C-BAF8-8F2A12BB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3EB-D041-4276-BC91-2030C0B3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01A-B824-4278-B8B2-3CBB5E10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497-44E1-41D4-B166-C207A934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492-EC1C-454E-BF76-6CF18767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ED5-408B-4F36-AE4B-31C450E1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ADD-DFE6-49EC-99E0-AA928208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B5B-2081-4D12-8BDF-8C2B65D3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078-AD92-4AF9-9E8A-C859C2D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9F61-5529-4EAF-A79D-8A63849719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la géométr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des calculs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us aurez 15 secondes pour donner une répon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0" y="4857840"/>
            <a:ext cx="2751120" cy="20001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3,6 x 100 = </a:t>
            </a: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……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8+30+6000=</a:t>
            </a: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……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1"/>
          <p:cNvSpPr/>
          <p:nvPr/>
        </p:nvSpPr>
        <p:spPr>
          <a:xfrm>
            <a:off x="1571760" y="64296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819600" cy="3419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428760" y="4714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. Le quadrilatère ABCD es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071800" y="714240"/>
            <a:ext cx="4305240" cy="361980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4"/>
          <p:cNvSpPr/>
          <p:nvPr/>
        </p:nvSpPr>
        <p:spPr>
          <a:xfrm>
            <a:off x="3574800" y="56437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Un carr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. L’angle               mesure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143080" y="1285920"/>
            <a:ext cx="430524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2500200" y="5357880"/>
                <a:ext cx="12146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ZoneTexte 4"/>
          <p:cNvSpPr/>
          <p:nvPr/>
        </p:nvSpPr>
        <p:spPr>
          <a:xfrm>
            <a:off x="11307600" y="2357280"/>
            <a:ext cx="93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90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-0.02126 C -0.11858 -0.0208 -0.23438 -0.02011 -0.32813 0.05616 C -0.42188 0.13243 -0.52483 0.37208 -0.56545 0.43702 E">
                                      <p:cBhvr>
                                        <p:cTn id="5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ZoneTexte 3"/>
          <p:cNvSpPr/>
          <p:nvPr/>
        </p:nvSpPr>
        <p:spPr>
          <a:xfrm>
            <a:off x="285840" y="464328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. Nommer une diagonale de ce quadrilatère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286000" y="500040"/>
            <a:ext cx="4305240" cy="361944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4"/>
          <p:cNvSpPr/>
          <p:nvPr/>
        </p:nvSpPr>
        <p:spPr>
          <a:xfrm>
            <a:off x="2728800" y="5572080"/>
            <a:ext cx="33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[AC]  ou   [BD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oneTexte 3"/>
          <p:cNvSpPr/>
          <p:nvPr/>
        </p:nvSpPr>
        <p:spPr>
          <a:xfrm>
            <a:off x="214200" y="45720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. Ce quadrilatère est un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214720" y="1285920"/>
            <a:ext cx="4281480" cy="253368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9"/>
          <p:cNvSpPr/>
          <p:nvPr/>
        </p:nvSpPr>
        <p:spPr>
          <a:xfrm>
            <a:off x="3864600" y="557208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los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oneTexte 5"/>
          <p:cNvSpPr/>
          <p:nvPr/>
        </p:nvSpPr>
        <p:spPr>
          <a:xfrm>
            <a:off x="714240" y="2643120"/>
            <a:ext cx="51436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0,7 + 0,3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5646960" y="31431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7144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e double de 2,5 est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ZoneTexte 3"/>
          <p:cNvSpPr/>
          <p:nvPr/>
        </p:nvSpPr>
        <p:spPr>
          <a:xfrm>
            <a:off x="7290000" y="29289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00" y="264276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a moitié de 7 est</a:t>
            </a: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ZoneTexte 2"/>
          <p:cNvSpPr/>
          <p:nvPr/>
        </p:nvSpPr>
        <p:spPr>
          <a:xfrm>
            <a:off x="7364880" y="257184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3,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ZoneTexte 3"/>
          <p:cNvSpPr/>
          <p:nvPr/>
        </p:nvSpPr>
        <p:spPr>
          <a:xfrm>
            <a:off x="500040" y="4929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. Le quadrilatère ABCD est un </a:t>
            </a: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……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071800" y="714240"/>
            <a:ext cx="4305240" cy="36198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12 x 100 =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oneTexte 3"/>
          <p:cNvSpPr/>
          <p:nvPr/>
        </p:nvSpPr>
        <p:spPr>
          <a:xfrm>
            <a:off x="9439560" y="285768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120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10602 C -0.09809 -0.24422 -0.20347 -0.38218 -0.27569 -0.37246 C -0.34774 -0.3625 -0.40034 -0.1088 -0.42517 -0.04607 E">
                                      <p:cBhvr>
                                        <p:cTn id="9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567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3,6 x 100 =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ZoneTexte 3"/>
          <p:cNvSpPr/>
          <p:nvPr/>
        </p:nvSpPr>
        <p:spPr>
          <a:xfrm>
            <a:off x="5794200" y="2714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36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42600" y="2928600"/>
            <a:ext cx="51433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8+30+6000=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ZoneTexte 3"/>
          <p:cNvSpPr/>
          <p:nvPr/>
        </p:nvSpPr>
        <p:spPr>
          <a:xfrm>
            <a:off x="5724720" y="292896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603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E:\college\mes cours\sixièmes\6. Additions et soustractions\Cours\001.jpg"/>
          <p:cNvPicPr/>
          <p:nvPr/>
        </p:nvPicPr>
        <p:blipFill>
          <a:blip r:embed="rId1"/>
          <a:stretch/>
        </p:blipFill>
        <p:spPr>
          <a:xfrm>
            <a:off x="285840" y="-31680"/>
            <a:ext cx="8429400" cy="68896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. L’angle               mesure  </a:t>
            </a: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…………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143080" y="1285920"/>
            <a:ext cx="430524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2500200" y="5357880"/>
                <a:ext cx="12146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ZoneTexte 3"/>
          <p:cNvSpPr/>
          <p:nvPr/>
        </p:nvSpPr>
        <p:spPr>
          <a:xfrm>
            <a:off x="0" y="5143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. Nommer une diagonale de ce quadrilatère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2143080" y="1143000"/>
            <a:ext cx="4305240" cy="3619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3"/>
          <p:cNvSpPr/>
          <p:nvPr/>
        </p:nvSpPr>
        <p:spPr>
          <a:xfrm>
            <a:off x="214200" y="45720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. Ce quadrilatère est un</a:t>
            </a: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……………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14720" y="1285920"/>
            <a:ext cx="4281480" cy="25336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5"/>
          <p:cNvSpPr/>
          <p:nvPr/>
        </p:nvSpPr>
        <p:spPr>
          <a:xfrm>
            <a:off x="1928880" y="1928880"/>
            <a:ext cx="51433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0,7 + 0,3 =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…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6</a:t>
            </a:r>
            <a:br>
              <a:rPr sz="4400"/>
            </a:br>
            <a:br>
              <a:rPr sz="44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e double de 2,5 est </a:t>
            </a:r>
            <a:r>
              <a:rPr b="0" lang="en-US" sz="6000" spc="-1" strike="noStrike">
                <a:solidFill>
                  <a:srgbClr val="ffc000"/>
                </a:solidFill>
                <a:latin typeface="Calibri"/>
              </a:rPr>
              <a:t>….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7</a:t>
            </a:r>
            <a:br>
              <a:rPr sz="3600"/>
            </a:br>
            <a:br>
              <a:rPr sz="36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a moitié de 7 est </a:t>
            </a:r>
            <a:r>
              <a:rPr b="0" lang="en-US" sz="6000" spc="-1" strike="noStrike">
                <a:solidFill>
                  <a:srgbClr val="ffc000"/>
                </a:solidFill>
                <a:latin typeface="Calibri"/>
              </a:rPr>
              <a:t>….</a:t>
            </a: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12 x 100 =</a:t>
            </a: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 ……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Christian Girard</cp:lastModifiedBy>
  <dcterms:modified xsi:type="dcterms:W3CDTF">2011-07-12T21:09:03Z</dcterms:modified>
  <cp:revision>84</cp:revision>
  <dc:subject/>
  <dc:title>5 x 10 = ……</dc:title>
</cp:coreProperties>
</file>