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589-D5F6-4E5A-8912-166F0016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2D8-F902-46A9-BDF5-FBF897D6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F2F-7FEC-49B6-A9B2-97BCD268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03D-ADBD-4F87-A66E-580A6270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15A-9ADF-40DA-9F96-24F208F5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64F-5FC8-4EC4-AD2C-7048A350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F47-D0BE-49CE-A2D7-EB555B52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3F5-8D1A-4CCE-8D58-C801BF05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046-0D9A-42E2-9410-6C41267A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178-F090-4A51-998F-9519510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BE7-2C9C-4F84-808D-C7156E3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741-34FD-42C9-8700-DC2B413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D61-9FD3-4B24-9A48-7A08752D9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15 secondes pour résoudre chaque calcu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0 + 6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 x 9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C appartient-il à la droite (AB) ?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4040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643440" cy="389088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3"/>
          <p:cNvSpPr/>
          <p:nvPr/>
        </p:nvSpPr>
        <p:spPr>
          <a:xfrm>
            <a:off x="1449000" y="4714920"/>
            <a:ext cx="59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D appartient-il à [AB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appartient-il à [ED) ?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3890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3"/>
          <p:cNvSpPr/>
          <p:nvPr/>
        </p:nvSpPr>
        <p:spPr>
          <a:xfrm>
            <a:off x="-285840" y="510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eux droites parallèles : (AB) et (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64372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3"/>
          <p:cNvSpPr/>
          <p:nvPr/>
        </p:nvSpPr>
        <p:spPr>
          <a:xfrm>
            <a:off x="0" y="507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eux droites perpendiculaires: (AB) et (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 (CE) et (D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542916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15 – 9 = 10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5 + 14 = 3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C appartient-il à la droite (AB)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4040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7+6 = 4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0 + 600 = 21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 x 9 = 6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643440" cy="389088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3"/>
          <p:cNvSpPr/>
          <p:nvPr/>
        </p:nvSpPr>
        <p:spPr>
          <a:xfrm>
            <a:off x="1449000" y="4714920"/>
            <a:ext cx="59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D appartient-il à [AB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appartient-il à [ED)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3890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3"/>
          <p:cNvSpPr/>
          <p:nvPr/>
        </p:nvSpPr>
        <p:spPr>
          <a:xfrm>
            <a:off x="-285840" y="510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Nomme deux droites 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64372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0" y="507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iter deux droites perpendiculai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542916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15 – 9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5 + 14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7+6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3-29T19:18:29Z</dcterms:modified>
  <cp:revision>34</cp:revision>
  <dc:subject/>
  <dc:title>5 x 10 = ……</dc:title>
</cp:coreProperties>
</file>