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push.wav" ContentType="audio/x-wav"/>
  <Override PartName="/ppt/media/drumroll.wav" ContentType="audio/x-wav"/>
  <Override PartName="/ppt/media/arrow.wav" ContentType="audio/x-wav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A08C-4273-4EE0-9384-4917F1D290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E144-2247-4462-8567-0E04BBF646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6E7E-AAAD-4094-8CB7-FC5076DA21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46E8-F432-4817-AD76-0CD68C5758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8D3A-6345-4C94-B4A6-72131FD11A3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E199-A8B1-4DA5-990B-B5CADA1A9F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FFFB-F32D-4A9C-BC12-7C47C87B40C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E2E6-0FD6-4474-998B-189F00DD70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8EB8-4D3E-48F0-BF28-AB81C70A4C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6376-0D6E-4446-95D4-384F3A8B32E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ACBF-0AD8-4E42-8705-E70EFA7C6C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F667-0578-402F-9967-3318E8C1523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07EA-BAA5-4CC7-9580-18D1C9D34A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D9B6-32E5-4CB5-B6BD-7A11E0C0BD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9E40-B51D-47F6-9614-7CA970C047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DF06-611C-407A-B98D-15B861B7C4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D39B-49D4-4CAB-B6CF-D5A944A80E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603C-F50F-4329-94FC-5EB9D375C4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DBA7-E72F-4BCD-8350-47DE085177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3DB4-F934-4900-A325-B638F8A295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09E7-B273-43BB-B185-C91F5188BE6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FBA2-81B8-4707-9B49-49268C1734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D08F-62F9-4030-B539-732789CB7F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AAD6-2FF5-4ECE-91AB-E0C53A3676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A23B-8467-4E03-A325-0586A0618C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B923-095E-4724-9729-D1BB21B9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9660-ACBD-4B99-ABC0-FEB0F53B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B45D-7CCD-4131-928F-1E46BC8D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1159-C328-4424-9839-D32DE7B5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F124-0B83-497E-872C-8FECC3FC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F1A4-B614-4399-A036-B61BA460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A11F-DCDA-41B2-8EE4-9AE51D26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4E86-11B8-4536-85FB-88BC20FD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B33C-6322-494C-A379-9449861A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2B99-1DAF-4FA1-A34C-D8C45868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A0B3-C1A8-471F-907C-2A3C6167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A7D8-977F-4F3A-A082-2A7E7F0A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08B4-B31A-4499-9E37-340D3DCB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A0FC-75F4-4E4B-9BC6-E974E83D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0945-1765-4371-86EF-F967D603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A621-E4AF-4565-A693-F76F22EE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6BB4-0534-4198-BA44-D40FDB4B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90AA-8FBB-4FD4-AFBC-104FE060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1AD2-A095-404A-828B-22426FD7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9BBF-E502-42B0-B0D8-193AD31A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136-982D-4A30-B38E-092A5638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72A-3232-4D74-A4A2-EB98D20C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84F4-20DE-4F33-8021-47E515B4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19B1-04E4-4F6F-8C60-2CB1CA6B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124D-05C8-40C7-A3CD-D2942DF917C7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774C-6AB1-4D75-9829-0354AF3DBC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7CCF-E535-4CB6-B68D-F0D7A083E34E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9C24-D009-4DEA-B6D1-749C6D1B17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77E7-486F-4A0D-B25E-04D57EC8CDAF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C949-6EB7-46F2-8593-670BEDEDD16B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Comic Sans MS"/>
              </a:rPr>
              <a:t>CALCUL MENTAL N°8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A56A-CA7B-4525-8DCD-46429B79575B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49F8-F019-4098-AF7F-2F1FB3EFF2D8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3"/>
          <p:cNvSpPr/>
          <p:nvPr/>
        </p:nvSpPr>
        <p:spPr>
          <a:xfrm>
            <a:off x="304920" y="2133720"/>
            <a:ext cx="8076960" cy="82512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Je soustrais 1200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à 470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632E-8E02-459E-8E1A-93011610B4F9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8914-7390-44FA-BE4F-5645B7B0B595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380880" y="2590920"/>
            <a:ext cx="8077320" cy="155628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Un quadrilatère qui a 4 angles droits est un …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F995-8607-4CE4-8B46-5595EBE9D7E3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10E1-6B7E-45FC-A70B-F0CE188CE47E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304920" y="2286000"/>
            <a:ext cx="8610480" cy="228744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Un quadrilatère qui a 4 angles droits et quatre côtés égaux est un ….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D513-87D4-468C-952D-962441296631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8AEE-9F3E-4B18-B31E-2D7FED7BA114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380880" y="2590920"/>
            <a:ext cx="8077320" cy="1556280"/>
          </a:xfrm>
          <a:prstGeom prst="rect">
            <a:avLst/>
          </a:prstGeom>
          <a:solidFill>
            <a:srgbClr val="00b0f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Un quadrilatère qui a 4 côtés égaux est un …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9"/>
          <p:cNvGrpSpPr/>
          <p:nvPr/>
        </p:nvGrpSpPr>
        <p:grpSpPr>
          <a:xfrm>
            <a:off x="2602800" y="771840"/>
            <a:ext cx="1757520" cy="1330200"/>
            <a:chOff x="2602800" y="771840"/>
            <a:chExt cx="1757520" cy="1330200"/>
          </a:xfrm>
        </p:grpSpPr>
        <p:sp>
          <p:nvSpPr>
            <p:cNvPr id="215" name="AutoShape 2"/>
            <p:cNvSpPr/>
            <p:nvPr/>
          </p:nvSpPr>
          <p:spPr>
            <a:xfrm rot="2700000">
              <a:off x="3586320" y="1298160"/>
              <a:ext cx="641160" cy="64152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AutoShape 3"/>
            <p:cNvSpPr/>
            <p:nvPr/>
          </p:nvSpPr>
          <p:spPr>
            <a:xfrm flipH="1" rot="2700000">
              <a:off x="2666520" y="1725120"/>
              <a:ext cx="314280" cy="3110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Rectangle 4"/>
            <p:cNvSpPr/>
            <p:nvPr/>
          </p:nvSpPr>
          <p:spPr>
            <a:xfrm rot="18900000">
              <a:off x="3662280" y="837720"/>
              <a:ext cx="322200" cy="3272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AutoShape 5"/>
            <p:cNvSpPr/>
            <p:nvPr/>
          </p:nvSpPr>
          <p:spPr>
            <a:xfrm rot="16200000">
              <a:off x="2801880" y="1425600"/>
              <a:ext cx="444240" cy="4442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AutoShape 6"/>
            <p:cNvSpPr/>
            <p:nvPr/>
          </p:nvSpPr>
          <p:spPr>
            <a:xfrm>
              <a:off x="3247920" y="1420920"/>
              <a:ext cx="642960" cy="64440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AutoShape 7"/>
            <p:cNvSpPr/>
            <p:nvPr/>
          </p:nvSpPr>
          <p:spPr>
            <a:xfrm rot="13500000">
              <a:off x="3744720" y="1699920"/>
              <a:ext cx="317520" cy="3146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Freeform 8"/>
            <p:cNvSpPr/>
            <p:nvPr/>
          </p:nvSpPr>
          <p:spPr>
            <a:xfrm>
              <a:off x="3902040" y="1158840"/>
              <a:ext cx="215640" cy="689040"/>
            </a:xfrm>
            <a:prstGeom prst="pi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2" name="Group 17"/>
          <p:cNvGrpSpPr/>
          <p:nvPr/>
        </p:nvGrpSpPr>
        <p:grpSpPr>
          <a:xfrm>
            <a:off x="762120" y="762120"/>
            <a:ext cx="836280" cy="2146320"/>
            <a:chOff x="762120" y="762120"/>
            <a:chExt cx="836280" cy="2146320"/>
          </a:xfrm>
        </p:grpSpPr>
        <p:sp>
          <p:nvSpPr>
            <p:cNvPr id="223" name="Rectangle 10"/>
            <p:cNvSpPr/>
            <p:nvPr/>
          </p:nvSpPr>
          <p:spPr>
            <a:xfrm>
              <a:off x="1186200" y="2254320"/>
              <a:ext cx="322200" cy="325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AutoShape 11"/>
            <p:cNvSpPr/>
            <p:nvPr/>
          </p:nvSpPr>
          <p:spPr>
            <a:xfrm rot="10800000">
              <a:off x="947880" y="762120"/>
              <a:ext cx="642960" cy="64296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AutoShape 12"/>
            <p:cNvSpPr/>
            <p:nvPr/>
          </p:nvSpPr>
          <p:spPr>
            <a:xfrm rot="10800000">
              <a:off x="1152360" y="1915920"/>
              <a:ext cx="446040" cy="44604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AutoShape 13"/>
            <p:cNvSpPr/>
            <p:nvPr/>
          </p:nvSpPr>
          <p:spPr>
            <a:xfrm rot="16200000">
              <a:off x="763920" y="1253880"/>
              <a:ext cx="641160" cy="64476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AutoShape 14"/>
            <p:cNvSpPr/>
            <p:nvPr/>
          </p:nvSpPr>
          <p:spPr>
            <a:xfrm>
              <a:off x="1094040" y="906480"/>
              <a:ext cx="317520" cy="31608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AutoShape 15"/>
            <p:cNvSpPr/>
            <p:nvPr/>
          </p:nvSpPr>
          <p:spPr>
            <a:xfrm flipH="1">
              <a:off x="1136160" y="2597400"/>
              <a:ext cx="314280" cy="31104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Freeform 16"/>
            <p:cNvSpPr/>
            <p:nvPr/>
          </p:nvSpPr>
          <p:spPr>
            <a:xfrm>
              <a:off x="833760" y="1906920"/>
              <a:ext cx="639720" cy="33624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0" name="Group 25"/>
          <p:cNvGrpSpPr/>
          <p:nvPr/>
        </p:nvGrpSpPr>
        <p:grpSpPr>
          <a:xfrm>
            <a:off x="5257800" y="517320"/>
            <a:ext cx="1453320" cy="1735920"/>
            <a:chOff x="5257800" y="517320"/>
            <a:chExt cx="1453320" cy="1735920"/>
          </a:xfrm>
        </p:grpSpPr>
        <p:sp>
          <p:nvSpPr>
            <p:cNvPr id="231" name="Rectangle 18"/>
            <p:cNvSpPr/>
            <p:nvPr/>
          </p:nvSpPr>
          <p:spPr>
            <a:xfrm>
              <a:off x="5267520" y="833400"/>
              <a:ext cx="322200" cy="3268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AutoShape 19"/>
            <p:cNvSpPr/>
            <p:nvPr/>
          </p:nvSpPr>
          <p:spPr>
            <a:xfrm rot="2700000">
              <a:off x="5937120" y="971280"/>
              <a:ext cx="641160" cy="64116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AutoShape 20"/>
            <p:cNvSpPr/>
            <p:nvPr/>
          </p:nvSpPr>
          <p:spPr>
            <a:xfrm rot="18900000">
              <a:off x="5711400" y="609120"/>
              <a:ext cx="444600" cy="44460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AutoShape 21"/>
            <p:cNvSpPr/>
            <p:nvPr/>
          </p:nvSpPr>
          <p:spPr>
            <a:xfrm rot="8100000">
              <a:off x="5403240" y="1476360"/>
              <a:ext cx="641160" cy="64440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AutoShape 22"/>
            <p:cNvSpPr/>
            <p:nvPr/>
          </p:nvSpPr>
          <p:spPr>
            <a:xfrm>
              <a:off x="5605560" y="830160"/>
              <a:ext cx="317520" cy="31428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AutoShape 23"/>
            <p:cNvSpPr/>
            <p:nvPr/>
          </p:nvSpPr>
          <p:spPr>
            <a:xfrm flipH="1" rot="10800000">
              <a:off x="5267520" y="1164960"/>
              <a:ext cx="311040" cy="31428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Freeform 24"/>
            <p:cNvSpPr/>
            <p:nvPr/>
          </p:nvSpPr>
          <p:spPr>
            <a:xfrm>
              <a:off x="5257800" y="1149480"/>
              <a:ext cx="344520" cy="639720"/>
            </a:xfrm>
            <a:prstGeom prst="pi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8" name="Group 33"/>
          <p:cNvGrpSpPr/>
          <p:nvPr/>
        </p:nvGrpSpPr>
        <p:grpSpPr>
          <a:xfrm>
            <a:off x="7086600" y="838080"/>
            <a:ext cx="1297080" cy="1611360"/>
            <a:chOff x="7086600" y="838080"/>
            <a:chExt cx="1297080" cy="1611360"/>
          </a:xfrm>
        </p:grpSpPr>
        <p:sp>
          <p:nvSpPr>
            <p:cNvPr id="239" name="AutoShape 26"/>
            <p:cNvSpPr/>
            <p:nvPr/>
          </p:nvSpPr>
          <p:spPr>
            <a:xfrm flipH="1" rot="13500000">
              <a:off x="7513200" y="1913040"/>
              <a:ext cx="444600" cy="44424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Rectangle 27"/>
            <p:cNvSpPr/>
            <p:nvPr/>
          </p:nvSpPr>
          <p:spPr>
            <a:xfrm>
              <a:off x="7732800" y="1493640"/>
              <a:ext cx="322200" cy="3272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AutoShape 28"/>
            <p:cNvSpPr/>
            <p:nvPr/>
          </p:nvSpPr>
          <p:spPr>
            <a:xfrm>
              <a:off x="7742160" y="838080"/>
              <a:ext cx="641520" cy="64152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AutoShape 29"/>
            <p:cNvSpPr/>
            <p:nvPr/>
          </p:nvSpPr>
          <p:spPr>
            <a:xfrm rot="16200000">
              <a:off x="7088040" y="845640"/>
              <a:ext cx="641160" cy="64440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AutoShape 30"/>
            <p:cNvSpPr/>
            <p:nvPr/>
          </p:nvSpPr>
          <p:spPr>
            <a:xfrm rot="10800000">
              <a:off x="7737120" y="1809720"/>
              <a:ext cx="322200" cy="31896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AutoShape 31"/>
            <p:cNvSpPr/>
            <p:nvPr/>
          </p:nvSpPr>
          <p:spPr>
            <a:xfrm flipH="1" rot="10800000">
              <a:off x="7401240" y="1493640"/>
              <a:ext cx="311400" cy="31464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Freeform 32"/>
            <p:cNvSpPr/>
            <p:nvPr/>
          </p:nvSpPr>
          <p:spPr>
            <a:xfrm>
              <a:off x="7400880" y="1490760"/>
              <a:ext cx="334800" cy="639720"/>
            </a:xfrm>
            <a:prstGeom prst="pi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6" name="Group 41"/>
          <p:cNvGrpSpPr/>
          <p:nvPr/>
        </p:nvGrpSpPr>
        <p:grpSpPr>
          <a:xfrm>
            <a:off x="762120" y="5181120"/>
            <a:ext cx="1450800" cy="1122840"/>
            <a:chOff x="762120" y="5181120"/>
            <a:chExt cx="1450800" cy="1122840"/>
          </a:xfrm>
        </p:grpSpPr>
        <p:sp>
          <p:nvSpPr>
            <p:cNvPr id="247" name="AutoShape 34"/>
            <p:cNvSpPr/>
            <p:nvPr/>
          </p:nvSpPr>
          <p:spPr>
            <a:xfrm flipH="1">
              <a:off x="991440" y="5281560"/>
              <a:ext cx="446040" cy="4460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Rectangle 35"/>
            <p:cNvSpPr/>
            <p:nvPr/>
          </p:nvSpPr>
          <p:spPr>
            <a:xfrm>
              <a:off x="992160" y="5743440"/>
              <a:ext cx="322200" cy="3268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AutoShape 36"/>
            <p:cNvSpPr/>
            <p:nvPr/>
          </p:nvSpPr>
          <p:spPr>
            <a:xfrm rot="13500000">
              <a:off x="1125360" y="5317560"/>
              <a:ext cx="641520" cy="64152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AutoShape 37"/>
            <p:cNvSpPr/>
            <p:nvPr/>
          </p:nvSpPr>
          <p:spPr>
            <a:xfrm rot="16200000">
              <a:off x="1239480" y="5651280"/>
              <a:ext cx="650880" cy="6476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AutoShape 38"/>
            <p:cNvSpPr/>
            <p:nvPr/>
          </p:nvSpPr>
          <p:spPr>
            <a:xfrm rot="10800000">
              <a:off x="1450440" y="5181120"/>
              <a:ext cx="306360" cy="30780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AutoShape 39"/>
            <p:cNvSpPr/>
            <p:nvPr/>
          </p:nvSpPr>
          <p:spPr>
            <a:xfrm flipH="1" rot="5400000">
              <a:off x="1900080" y="5644440"/>
              <a:ext cx="314280" cy="3110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Freeform 40"/>
            <p:cNvSpPr/>
            <p:nvPr/>
          </p:nvSpPr>
          <p:spPr>
            <a:xfrm>
              <a:off x="762120" y="6086160"/>
              <a:ext cx="687240" cy="217800"/>
            </a:xfrm>
            <a:prstGeom prst="pi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4" name="Group 48"/>
          <p:cNvGrpSpPr/>
          <p:nvPr/>
        </p:nvGrpSpPr>
        <p:grpSpPr>
          <a:xfrm>
            <a:off x="3124080" y="5124240"/>
            <a:ext cx="1292400" cy="1091880"/>
            <a:chOff x="3124080" y="5124240"/>
            <a:chExt cx="1292400" cy="1091880"/>
          </a:xfrm>
        </p:grpSpPr>
        <p:sp>
          <p:nvSpPr>
            <p:cNvPr id="255" name="Rectangle 42"/>
            <p:cNvSpPr/>
            <p:nvPr/>
          </p:nvSpPr>
          <p:spPr>
            <a:xfrm>
              <a:off x="4093920" y="5889240"/>
              <a:ext cx="322560" cy="3268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AutoShape 43"/>
            <p:cNvSpPr/>
            <p:nvPr/>
          </p:nvSpPr>
          <p:spPr>
            <a:xfrm rot="8100000">
              <a:off x="3297240" y="5257800"/>
              <a:ext cx="644400" cy="64440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AutoShape 44"/>
            <p:cNvSpPr/>
            <p:nvPr/>
          </p:nvSpPr>
          <p:spPr>
            <a:xfrm rot="10800000">
              <a:off x="3433680" y="5571360"/>
              <a:ext cx="644400" cy="64116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AutoShape 45"/>
            <p:cNvSpPr/>
            <p:nvPr/>
          </p:nvSpPr>
          <p:spPr>
            <a:xfrm rot="16200000">
              <a:off x="3140280" y="5892480"/>
              <a:ext cx="313920" cy="31752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AutoShape 46"/>
            <p:cNvSpPr/>
            <p:nvPr/>
          </p:nvSpPr>
          <p:spPr>
            <a:xfrm flipH="1" rot="5400000">
              <a:off x="3773520" y="5889240"/>
              <a:ext cx="320400" cy="31752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Freeform 47"/>
            <p:cNvSpPr/>
            <p:nvPr/>
          </p:nvSpPr>
          <p:spPr>
            <a:xfrm>
              <a:off x="3124080" y="5554440"/>
              <a:ext cx="639720" cy="334440"/>
            </a:xfrm>
            <a:prstGeom prst="pi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1" name="AutoShape 49"/>
          <p:cNvSpPr/>
          <p:nvPr/>
        </p:nvSpPr>
        <p:spPr>
          <a:xfrm flipH="1" rot="18900000">
            <a:off x="2895120" y="4800600"/>
            <a:ext cx="446040" cy="446040"/>
          </a:xfrm>
          <a:prstGeom prst="rtTriangle">
            <a:avLst/>
          </a:prstGeom>
          <a:solidFill>
            <a:srgbClr val="6699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2" name="Group 58"/>
          <p:cNvGrpSpPr/>
          <p:nvPr/>
        </p:nvGrpSpPr>
        <p:grpSpPr>
          <a:xfrm>
            <a:off x="5559120" y="5193360"/>
            <a:ext cx="1351080" cy="1477800"/>
            <a:chOff x="5559120" y="5193360"/>
            <a:chExt cx="1351080" cy="1477800"/>
          </a:xfrm>
        </p:grpSpPr>
        <p:sp>
          <p:nvSpPr>
            <p:cNvPr id="263" name="AutoShape 50"/>
            <p:cNvSpPr/>
            <p:nvPr/>
          </p:nvSpPr>
          <p:spPr>
            <a:xfrm flipH="1" rot="13500000">
              <a:off x="6108840" y="5895360"/>
              <a:ext cx="644400" cy="641520"/>
            </a:xfrm>
            <a:prstGeom prst="rtTriangle">
              <a:avLst/>
            </a:prstGeom>
            <a:solidFill>
              <a:srgbClr val="ff0000"/>
            </a:solidFill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4" name="Group 57"/>
            <p:cNvGrpSpPr/>
            <p:nvPr/>
          </p:nvGrpSpPr>
          <p:grpSpPr>
            <a:xfrm>
              <a:off x="5559120" y="5193360"/>
              <a:ext cx="1351080" cy="1008720"/>
              <a:chOff x="5559120" y="5193360"/>
              <a:chExt cx="1351080" cy="1008720"/>
            </a:xfrm>
          </p:grpSpPr>
          <p:sp>
            <p:nvSpPr>
              <p:cNvPr id="265" name="AutoShape 51"/>
              <p:cNvSpPr/>
              <p:nvPr/>
            </p:nvSpPr>
            <p:spPr>
              <a:xfrm flipH="1" rot="5400000">
                <a:off x="5565960" y="5756040"/>
                <a:ext cx="434880" cy="44136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" name="Rectangle 52"/>
              <p:cNvSpPr/>
              <p:nvPr/>
            </p:nvSpPr>
            <p:spPr>
              <a:xfrm>
                <a:off x="5670360" y="5408640"/>
                <a:ext cx="322560" cy="3268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AutoShape 53"/>
              <p:cNvSpPr/>
              <p:nvPr/>
            </p:nvSpPr>
            <p:spPr>
              <a:xfrm flipH="1" rot="2700000">
                <a:off x="5692320" y="5413320"/>
                <a:ext cx="644400" cy="64440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AutoShape 54"/>
              <p:cNvSpPr/>
              <p:nvPr/>
            </p:nvSpPr>
            <p:spPr>
              <a:xfrm rot="8100000">
                <a:off x="5673240" y="5257800"/>
                <a:ext cx="314280" cy="3175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AutoShape 55"/>
              <p:cNvSpPr/>
              <p:nvPr/>
            </p:nvSpPr>
            <p:spPr>
              <a:xfrm flipH="1" rot="8100000">
                <a:off x="6523920" y="5603400"/>
                <a:ext cx="320400" cy="3175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Freeform 56"/>
              <p:cNvSpPr/>
              <p:nvPr/>
            </p:nvSpPr>
            <p:spPr>
              <a:xfrm>
                <a:off x="6673680" y="5514840"/>
                <a:ext cx="217800" cy="687240"/>
              </a:xfrm>
              <a:prstGeom prst="pi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1" name="Group 66"/>
          <p:cNvGrpSpPr/>
          <p:nvPr/>
        </p:nvGrpSpPr>
        <p:grpSpPr>
          <a:xfrm>
            <a:off x="7629120" y="4648320"/>
            <a:ext cx="1398960" cy="1531440"/>
            <a:chOff x="7629120" y="4648320"/>
            <a:chExt cx="1398960" cy="1531440"/>
          </a:xfrm>
        </p:grpSpPr>
        <p:sp>
          <p:nvSpPr>
            <p:cNvPr id="272" name="Rectangle 59"/>
            <p:cNvSpPr/>
            <p:nvPr/>
          </p:nvSpPr>
          <p:spPr>
            <a:xfrm rot="18900000">
              <a:off x="7929720" y="5185800"/>
              <a:ext cx="314280" cy="320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AutoShape 60"/>
            <p:cNvSpPr/>
            <p:nvPr/>
          </p:nvSpPr>
          <p:spPr>
            <a:xfrm flipH="1" rot="2700000">
              <a:off x="8249760" y="5238720"/>
              <a:ext cx="644400" cy="64440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AutoShape 61"/>
            <p:cNvSpPr/>
            <p:nvPr/>
          </p:nvSpPr>
          <p:spPr>
            <a:xfrm flipH="1" rot="5400000">
              <a:off x="8101080" y="5530680"/>
              <a:ext cx="644400" cy="6415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AutoShape 62"/>
            <p:cNvSpPr/>
            <p:nvPr/>
          </p:nvSpPr>
          <p:spPr>
            <a:xfrm rot="16200000">
              <a:off x="7761240" y="4647600"/>
              <a:ext cx="314280" cy="3175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AutoShape 63"/>
            <p:cNvSpPr/>
            <p:nvPr/>
          </p:nvSpPr>
          <p:spPr>
            <a:xfrm rot="13500000">
              <a:off x="7696080" y="5417640"/>
              <a:ext cx="324000" cy="32400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Freeform 64"/>
            <p:cNvSpPr/>
            <p:nvPr/>
          </p:nvSpPr>
          <p:spPr>
            <a:xfrm>
              <a:off x="8086680" y="4648320"/>
              <a:ext cx="217440" cy="685800"/>
            </a:xfrm>
            <a:prstGeom prst="pi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AutoShape 65"/>
            <p:cNvSpPr/>
            <p:nvPr/>
          </p:nvSpPr>
          <p:spPr>
            <a:xfrm rot="2700000">
              <a:off x="7889400" y="5663880"/>
              <a:ext cx="426960" cy="4273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9" name="Rectangle 67"/>
          <p:cNvSpPr/>
          <p:nvPr/>
        </p:nvSpPr>
        <p:spPr>
          <a:xfrm>
            <a:off x="762120" y="2819520"/>
            <a:ext cx="81532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100" spc="-1" strike="noStrike">
                <a:solidFill>
                  <a:srgbClr val="000000"/>
                </a:solidFill>
                <a:latin typeface="Comic Sans MS"/>
              </a:rPr>
              <a:t>C’est fini!</a:t>
            </a:r>
            <a:br>
              <a:rPr sz="5100"/>
            </a:br>
            <a:br>
              <a:rPr sz="5100"/>
            </a:br>
            <a:r>
              <a:rPr b="0" lang="fr-FR" sz="5100" spc="-1" strike="noStrike">
                <a:solidFill>
                  <a:srgbClr val="000000"/>
                </a:solidFill>
                <a:latin typeface="Comic Sans MS"/>
              </a:rPr>
              <a:t>Posez les stylos.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arrow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61AB-0636-44FE-A0E0-170408ED361F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1204-1BEF-4896-AB2E-A3CFA5710ECE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AutoShape 15"/>
          <p:cNvSpPr/>
          <p:nvPr/>
        </p:nvSpPr>
        <p:spPr>
          <a:xfrm>
            <a:off x="2971800" y="45720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0"/>
              <p:cNvSpPr txBox="1"/>
              <p:nvPr/>
            </p:nvSpPr>
            <p:spPr>
              <a:xfrm>
                <a:off x="609480" y="2209680"/>
                <a:ext cx="5486400" cy="18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15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ZoneTexte 5"/>
          <p:cNvSpPr/>
          <p:nvPr/>
        </p:nvSpPr>
        <p:spPr>
          <a:xfrm>
            <a:off x="6532200" y="236232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47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2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27E9-0DBB-49DC-A44B-A9FE9F1D9885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8D15-73DF-4D97-B3CF-0F4522ADC418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1"/>
              <p:cNvSpPr txBox="1"/>
              <p:nvPr/>
            </p:nvSpPr>
            <p:spPr>
              <a:xfrm>
                <a:off x="977760" y="2333520"/>
                <a:ext cx="4889520" cy="17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16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ZoneTexte 5"/>
          <p:cNvSpPr/>
          <p:nvPr/>
        </p:nvSpPr>
        <p:spPr>
          <a:xfrm>
            <a:off x="6281640" y="251460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61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2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EFF8-468C-4359-AA7D-863A54D4DF73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3FC3-BCC7-49F9-A8E0-B81478819FC1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4920" y="2209680"/>
            <a:ext cx="8610480" cy="825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J’ajoute 7000 à 4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ZoneTexte 6"/>
          <p:cNvSpPr/>
          <p:nvPr/>
        </p:nvSpPr>
        <p:spPr>
          <a:xfrm>
            <a:off x="9578520" y="2971800"/>
            <a:ext cx="157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704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1 0.00486 C -0.18524 0.19514 -0.27621 0.38565 -0.37639 0.40903 C -0.47656 0.43241 -0.58594 0.28866 -0.69514 0.14514 E">
                                      <p:cBhvr>
                                        <p:cTn id="82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604E-6609-47AA-AF15-4A68E1E7E368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A8F2-AC3A-4862-B8B2-E7FCE312D0E9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11"/>
              <p:cNvSpPr txBox="1"/>
              <p:nvPr/>
            </p:nvSpPr>
            <p:spPr>
              <a:xfrm>
                <a:off x="304920" y="2286000"/>
                <a:ext cx="548640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1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29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ZoneTexte 5"/>
          <p:cNvSpPr/>
          <p:nvPr/>
        </p:nvSpPr>
        <p:spPr>
          <a:xfrm>
            <a:off x="9351720" y="251460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90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18 -0.00324 L -0.35885 -0.00324 E">
                                      <p:cBhvr>
                                        <p:cTn id="88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1911-45B9-4B6A-9756-569193A27C9B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0700-FFED-4185-A3D6-68ADE4034D43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2"/>
              <p:cNvSpPr txBox="1"/>
              <p:nvPr/>
            </p:nvSpPr>
            <p:spPr>
              <a:xfrm>
                <a:off x="380880" y="2286000"/>
                <a:ext cx="73915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0 - 32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ZoneTexte 5"/>
          <p:cNvSpPr/>
          <p:nvPr/>
        </p:nvSpPr>
        <p:spPr>
          <a:xfrm>
            <a:off x="3352680" y="4648320"/>
            <a:ext cx="262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418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3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7675-D952-4F7F-826F-067F1BAD17E4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FCD0-DBE0-4D20-9207-E0ECC90B6AA0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2209680"/>
            <a:ext cx="8380440" cy="24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0000"/>
                </a:solidFill>
                <a:latin typeface="Comic Sans MS"/>
              </a:rPr>
              <a:t>l‘addition, la soustraction,les quadrilatèr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E30C-FC33-4BB7-9B53-30FE9AA2E778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17CE-F177-491A-A245-392B6A77DFBE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6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380880" y="2666880"/>
            <a:ext cx="5715000" cy="302004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110 – 11 =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ZoneTexte 6"/>
          <p:cNvSpPr/>
          <p:nvPr/>
        </p:nvSpPr>
        <p:spPr>
          <a:xfrm>
            <a:off x="9428040" y="274320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99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19 -0.00324 L -0.36719 -0.00324 E">
                                      <p:cBhvr>
                                        <p:cTn id="105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A719-3961-4446-96D8-17C8535BB29B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119A-35CD-4827-8645-3E47F2336E58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3"/>
          <p:cNvSpPr/>
          <p:nvPr/>
        </p:nvSpPr>
        <p:spPr>
          <a:xfrm>
            <a:off x="304920" y="2133720"/>
            <a:ext cx="8076960" cy="82512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Je soustrais 1200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à 470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ZoneTexte 8"/>
          <p:cNvSpPr/>
          <p:nvPr/>
        </p:nvSpPr>
        <p:spPr>
          <a:xfrm>
            <a:off x="9349920" y="2133720"/>
            <a:ext cx="157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350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2" name="camera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55556E-006 C -0.06858 0.22638 -0.13698 0.453 -0.22084 0.4736 C -0.30469 0.49421 -0.44011 0.16504 -0.50313 0.1236 C -0.56615 0.08217 -0.58264 0.15347 -0.59896 0.22499 E">
                                      <p:cBhvr>
                                        <p:cTn id="111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728F-9212-4C2A-9449-3627405DBE9D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C895-C5F3-4D01-BAC2-692BEBC11426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380880" y="2590920"/>
            <a:ext cx="8077320" cy="155628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Un quadrilatère qui a 4 angles droits est un …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ZoneTexte 5"/>
          <p:cNvSpPr/>
          <p:nvPr/>
        </p:nvSpPr>
        <p:spPr>
          <a:xfrm>
            <a:off x="2815200" y="4572000"/>
            <a:ext cx="386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Un rectangl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B779-6EFA-4B6D-8A20-723C97223938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82FC-12B4-4A0E-AD02-8FA1740014BE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304920" y="2286000"/>
            <a:ext cx="8610480" cy="228744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Un quadrilatère qui a 4 angles droits et quatre côtés égaux est un ….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ZoneTexte 6"/>
          <p:cNvSpPr/>
          <p:nvPr/>
        </p:nvSpPr>
        <p:spPr>
          <a:xfrm>
            <a:off x="3690000" y="5334120"/>
            <a:ext cx="264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Un carré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EC26-801A-479F-B426-1CA059F2C8A7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ED61-C12D-488A-8528-C770596B34F8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80880" y="2590920"/>
            <a:ext cx="8077320" cy="1556280"/>
          </a:xfrm>
          <a:prstGeom prst="rect">
            <a:avLst/>
          </a:prstGeom>
          <a:solidFill>
            <a:srgbClr val="00b0f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Un quadrilatère qui a 4 côtés égaux est un …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ZoneTexte 6"/>
          <p:cNvSpPr/>
          <p:nvPr/>
        </p:nvSpPr>
        <p:spPr>
          <a:xfrm>
            <a:off x="3416760" y="4724280"/>
            <a:ext cx="341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Un losang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6050-8915-40B8-829B-CC57E004FE77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397A-B5B5-4FFC-8AE1-F11254C58E46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1904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0000"/>
                </a:solidFill>
                <a:latin typeface="Times New Roman"/>
              </a:rPr>
              <a:t>Pour chaque calcul, vous aurez un temps limité.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57200" y="29718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b200"/>
                </a:solidFill>
                <a:latin typeface="Times New Roman"/>
              </a:rPr>
              <a:t>Ecrivez uniquement la réponse.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57200" y="42670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3300"/>
                </a:solidFill>
                <a:latin typeface="Times New Roman"/>
              </a:rPr>
              <a:t>Attention, c’est à vous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998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998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709F-C3C9-471A-B488-A252F785D999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9812-AF47-4DBA-B4A9-867A5191DF12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15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0"/>
              <p:cNvSpPr txBox="1"/>
              <p:nvPr/>
            </p:nvSpPr>
            <p:spPr>
              <a:xfrm>
                <a:off x="1042920" y="2170080"/>
                <a:ext cx="7058160" cy="18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15 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6308-CCCE-48CA-BBCE-BD27C1C4C006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1D11-4273-4DA9-81C3-25FEF4BD33BF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1"/>
              <p:cNvSpPr txBox="1"/>
              <p:nvPr/>
            </p:nvSpPr>
            <p:spPr>
              <a:xfrm>
                <a:off x="230040" y="2333520"/>
                <a:ext cx="8533080" cy="17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16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? 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5000">
    <p:cover dir="d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8D52-80D3-4765-B45D-691340907D6F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5316-4452-4788-B22C-5B66A161C5D3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04920" y="2209680"/>
            <a:ext cx="8610480" cy="825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J’ajoute 7000 à 4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E7B5-0CB6-497D-AED3-314DB8E2C898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3867-93F1-43EA-BDCC-45D4CF878466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1"/>
              <p:cNvSpPr txBox="1"/>
              <p:nvPr/>
            </p:nvSpPr>
            <p:spPr>
              <a:xfrm>
                <a:off x="533520" y="2286000"/>
                <a:ext cx="807696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1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29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161D-E4AB-43EF-AEF6-1A0E30EA94AE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8157-45B5-437B-82E1-790BC1305F26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2"/>
              <p:cNvSpPr txBox="1"/>
              <p:nvPr/>
            </p:nvSpPr>
            <p:spPr>
              <a:xfrm>
                <a:off x="457200" y="2438280"/>
                <a:ext cx="820728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0 - 32 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E3E4-3293-4C96-9D49-D2E145706701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9344-EA34-4D72-89B2-454CAFD8A00F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6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90720" y="2590920"/>
            <a:ext cx="6933960" cy="155700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110 – 11 = ?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ma</dc:creator>
  <dc:description/>
  <dc:language>en-US</dc:language>
  <cp:lastModifiedBy>Toma</cp:lastModifiedBy>
  <dcterms:modified xsi:type="dcterms:W3CDTF">2011-05-23T04:43:30Z</dcterms:modified>
  <cp:revision>1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6</vt:r8>
  </property>
  <property fmtid="{D5CDD505-2E9C-101B-9397-08002B2CF9AE}" pid="3" name="Version">
    <vt:r8>3</vt:r8>
  </property>
</Properties>
</file>