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680-45A7-46FC-8D28-3A44F067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26C-4DC5-48CF-A12E-B3BED8B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835-E175-439B-92B4-9E95B8CF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74E-CFC2-4302-993F-382DEBF2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A47-00D2-4ECF-AC09-828C0D74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0C0-E0C6-4754-AA74-FE5215F0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9F9-3BCB-4740-9327-A64484B1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737-E765-4DFB-8555-DCB97C60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FBE-D5C6-4510-9BF8-95D556CC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C4C-9A83-49B1-A859-2451E35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046-8C1B-4B0A-A4ED-74A7085C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C96-DEA3-4261-A5D8-C2EA074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49B0-DAA2-4051-AFA1-C071DDD86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20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,6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30+6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DF) et (CF) est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4"/>
          <p:cNvSpPr/>
          <p:nvPr/>
        </p:nvSpPr>
        <p:spPr>
          <a:xfrm>
            <a:off x="10218960" y="13572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56 0.06018 C -0.02604 0.25023 -0.02153 0.44051 -0.12153 0.53078 C -0.22153 0.62106 -0.54844 0.59328 -0.63056 0.60162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3"/>
          <p:cNvSpPr/>
          <p:nvPr/>
        </p:nvSpPr>
        <p:spPr>
          <a:xfrm>
            <a:off x="9364680" y="5857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03 0.00833 L -0.53681 0.00833 E">
                                      <p:cBhvr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CE) semble perpendiculaire à la droite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4"/>
          <p:cNvSpPr/>
          <p:nvPr/>
        </p:nvSpPr>
        <p:spPr>
          <a:xfrm>
            <a:off x="9952920" y="300024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AE) ou (AB) ou 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.04884 C 0.01441 0.1625 0.03246 0.27639 -0.09566 0.33843 C -0.22379 0.40046 -0.64809 0.40787 -0.77222 0.42176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AB) et (CF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3"/>
          <p:cNvSpPr/>
          <p:nvPr/>
        </p:nvSpPr>
        <p:spPr>
          <a:xfrm>
            <a:off x="9861480" y="2857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0.00509 C -0.15989 -0.1007 -0.28732 -0.20648 -0.39288 -0.13843 C -0.49843 -0.07037 -0.61892 0.3169 -0.66562 0.41319 E">
                                      <p:cBhvr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5"/>
          <p:cNvSpPr/>
          <p:nvPr/>
        </p:nvSpPr>
        <p:spPr>
          <a:xfrm>
            <a:off x="714240" y="2643120"/>
            <a:ext cx="51436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7 + 0,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5646960" y="31431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7144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12 es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3"/>
          <p:cNvSpPr/>
          <p:nvPr/>
        </p:nvSpPr>
        <p:spPr>
          <a:xfrm>
            <a:off x="7292880" y="29289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4 est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7361640" y="25718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DF) et (CF) est ?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2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9439560" y="285768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12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10602 C -0.09809 -0.24422 -0.20347 -0.38218 -0.27569 -0.37246 C -0.34774 -0.3625 -0.40034 -0.1088 -0.42517 -0.04607 E">
                                      <p:cBhvr>
                                        <p:cTn id="8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567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,6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"/>
          <p:cNvSpPr/>
          <p:nvPr/>
        </p:nvSpPr>
        <p:spPr>
          <a:xfrm>
            <a:off x="5794200" y="2714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36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600" y="2928600"/>
            <a:ext cx="51433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30+600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5724720" y="292896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603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CE) semble perpendiculaire à la droite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AB) et (CF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7 + 0,3 = 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12 est …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4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2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5-03T09:27:18Z</dcterms:modified>
  <cp:revision>62</cp:revision>
  <dc:subject/>
  <dc:title>5 x 10 = ……</dc:title>
</cp:coreProperties>
</file>