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797-2BE2-4978-B9AD-59B510AC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BDC-73FF-4808-B53D-947732FE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7C2-2198-4AB5-9C27-2BEAB9D5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187-17EA-4599-AE0E-D2C49354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2C7-9AED-49B1-A59E-EF606F3B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61E-87F8-4F78-B0CF-02EBABBB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899-28AF-4A32-833A-DFCE1FCD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937-3F25-4ED4-8C54-C6270B8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DD4-E1FE-4836-9C72-18AA8A37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052-5FB0-4FB0-843A-4638102D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77A-FDF2-4553-B39F-4D7A3FAF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F5A-3775-4FB9-98D2-561F7146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D859-F470-4ED0-882A-F82CA957A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15 secondes pour donner une ré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,04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600+2000=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H est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OB) et (SX) ?</a:t>
            </a:r>
            <a:r>
              <a:rPr b="0" lang="fr-FR" sz="36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(OX) et (BS) semblent parallèles? 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(OX) et (XS) semblent perpendicul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OB) et (XO) sont deux       droites sécantes?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 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382428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3"/>
          <p:cNvSpPr/>
          <p:nvPr/>
        </p:nvSpPr>
        <p:spPr>
          <a:xfrm>
            <a:off x="824400" y="5072040"/>
            <a:ext cx="782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Les points O, B, et S sont aligné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b050"/>
                </a:solidFill>
                <a:latin typeface="Arial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4"/>
          <p:cNvSpPr/>
          <p:nvPr/>
        </p:nvSpPr>
        <p:spPr>
          <a:xfrm>
            <a:off x="857160" y="47149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Le point 0 est-il le milieu du segment [HB] ? </a:t>
            </a:r>
            <a:r>
              <a:rPr b="0" lang="fr-FR" sz="3600" spc="-1" strike="noStrike">
                <a:solidFill>
                  <a:srgbClr val="00b050"/>
                </a:solidFill>
                <a:latin typeface="Arial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7. Deux droites sécantes sont-elles forcément perpendiculaires ?</a:t>
            </a:r>
            <a:br>
              <a:rPr sz="3600"/>
            </a:b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H est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OB) et (SX)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- 60 = </a:t>
            </a:r>
            <a:r>
              <a:rPr b="0" lang="fr-FR" sz="7200" spc="-1" strike="noStrike">
                <a:solidFill>
                  <a:srgbClr val="00b050"/>
                </a:solidFill>
                <a:latin typeface="Calibri"/>
              </a:rPr>
              <a:t>9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,04 x 100 = </a:t>
            </a:r>
            <a:r>
              <a:rPr b="0" lang="fr-FR" sz="7200" spc="-1" strike="noStrike">
                <a:solidFill>
                  <a:srgbClr val="00b050"/>
                </a:solidFill>
                <a:latin typeface="Calibri"/>
              </a:rPr>
              <a:t>70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600+2000=</a:t>
            </a:r>
            <a:r>
              <a:rPr b="0" lang="fr-FR" sz="7200" spc="-1" strike="noStrike">
                <a:solidFill>
                  <a:srgbClr val="00b050"/>
                </a:solidFill>
                <a:latin typeface="Calibri"/>
              </a:rPr>
              <a:t>2 60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(OX) et (BS) semblent parallèl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3"/>
          <p:cNvSpPr/>
          <p:nvPr/>
        </p:nvSpPr>
        <p:spPr>
          <a:xfrm>
            <a:off x="571680" y="51037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(OX) et (XS) semblent perpendicul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OB) et (XO) sont deux       droites sécan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382428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3"/>
          <p:cNvSpPr/>
          <p:nvPr/>
        </p:nvSpPr>
        <p:spPr>
          <a:xfrm>
            <a:off x="824400" y="5000760"/>
            <a:ext cx="78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Les points O, B, et S sont aligné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857160" y="47149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Le point 0 est-il le milieu du segment [HB]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7. Deux droites sécantes sont-elles forcément perpendiculaires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- 6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4-09T23:18:16Z</dcterms:modified>
  <cp:revision>44</cp:revision>
  <dc:subject/>
  <dc:title>5 x 10 = ……</dc:title>
</cp:coreProperties>
</file>