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BBC-CB15-4270-AF61-23A32B0A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FD1-E2E8-4E2A-89A4-AB62D71E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C59-F93C-48D5-B4D8-403B157B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BDF-51DD-43E3-9513-D436C916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FA9B-0434-4A92-8637-C26C385A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72BD-A9A8-41EF-AAAE-2621F326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4B85-4707-4A54-A6A7-1941B2D2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ECA0-AE6B-4543-B1D1-03C02E3B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5EBD-B583-481D-9D8B-D4FF7CB2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C969-23E8-47C2-856C-1591B03B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F76A-1BD9-43D9-BAE3-7017694D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5E6-CDC9-463D-8119-9AF4B002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5012-3342-4176-A5E4-8D3889D6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9874-AA43-46A0-B82F-5C623A09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778C-D402-4C04-BB1C-7B848EF4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756A-3B2A-410F-9145-135FF523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875D-D377-48CF-82B8-1D2C6D63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1BD-8048-41F9-ABBC-6ACAB0C2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637-8508-432B-8229-B8290136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D2D-0C85-47FB-ACDB-89269BBF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D10-4232-467C-9562-92851962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536-6D1F-4654-A5C5-3AF22B81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E5E-925A-4C87-963D-5A2EA80D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1D9-234C-4F1A-A6BB-26578FE4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9E4C-D42E-47A7-8E01-28899F0DF86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76DD-D07B-4B3B-9238-CCDF26D98A92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1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r la lettre du sujet tra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 définition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 définition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468360" y="234936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378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374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'image de -1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2710080" cy="963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(les) antécédan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0000" y="4724280"/>
            <a:ext cx="254808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3494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0" y="2636640"/>
            <a:ext cx="37450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'image de -1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(les) antécédant(s) 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2547720" cy="619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2717640" cy="96552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1432080" cy="619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213372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042920" y="2852640"/>
            <a:ext cx="695520" cy="619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979640" y="2852640"/>
            <a:ext cx="695160" cy="61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843280" y="2852640"/>
            <a:ext cx="939600" cy="62064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1432080" cy="619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867280" y="2852640"/>
            <a:ext cx="1432080" cy="619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42920" y="6984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908000" y="2997360"/>
            <a:ext cx="1432080" cy="618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288040" y="2952720"/>
            <a:ext cx="69516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224760" y="2952720"/>
            <a:ext cx="69516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7088040" y="2952720"/>
            <a:ext cx="939960" cy="62064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227808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0;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3213000"/>
            <a:ext cx="143172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206064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0;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547640" y="3068640"/>
            <a:ext cx="143208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graphiquement les valeurs de f(-3,5) et f(-3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graphiquement les valeurs de f(-2,5) et f(-2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4:57Z</dcterms:modified>
  <cp:revision>15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1639994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