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7DD-F5C6-49F0-B176-EBA8B033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74E-3B6D-4527-A436-4DD46515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BDB-04DA-46FF-A497-AFB7519B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962-1317-4045-B43B-37B8A43E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8799-328D-4A6C-A4EC-702A2DB2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1EC4-CF27-4336-AF25-C56E69AB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461D-40A8-47BC-A7C6-E4ED40A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543A-CC9F-4892-A881-462FE097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E990-57DA-4AB2-B51E-3A15DB5A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741F-00B5-4B31-AFE0-28B03A4B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3B5-D6F1-40FB-AB72-4141F186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CBC-B256-4A78-9D3B-FB533361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96B9-C2A5-4CA3-9063-897E9F12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0FE5-7600-42B7-805F-D784E04E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F203-0353-4FFC-8DD1-6ADF9A53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5506-FB28-445C-B355-8F3CBF67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25E5-0D52-47AB-A6DB-2B4E344F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A6C-593A-407F-9CD6-BDB96BA0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79F-7219-4D8A-9A75-31F84FD5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95B-E3C1-4CE4-9026-703057BC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A7D-79F9-429F-9420-1420ED6D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080-27B2-47FA-B35C-C475D78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B93-3C80-4CBA-B741-5E5353C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499-8375-47A5-BACC-0CA102F1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7F56-E5AD-4F59-8453-B34465317C71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63ED-883E-4FDD-B3EC-9395511FDA9F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84720" y="364500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64500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s de 1 par la fonction f définie par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27640" y="3213000"/>
          <a:ext cx="38844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213000"/>
                    <a:ext cx="388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xpress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 – 1)(x + 1) + (x + 2)(x – 1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-elle une somme ou un produit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alors le nombre de termes ou de fact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 l’express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x² – (x + 1)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dans l'équat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+2)² – 1 =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fonction f définie par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(x-1)² - x²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st-elle affine ? 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i oui l’écrire sous forme réduite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mx +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’expression de la fonction affine telle qu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0) = 3  et f( 6) = -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357336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57336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5T21:04:41Z</dcterms:modified>
  <cp:revision>10</cp:revision>
  <dc:subject/>
  <dc:title>Donner l'image de -1 par la fonction f définie par </dc:title>
</cp:coreProperties>
</file>