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001-010F-4656-8736-12844EEF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31C-CDF8-4DF7-A1D7-1C60022B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1617-8F61-4620-B67B-99B9FE94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DB08-DAF1-42B2-B263-7A72B4CB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C1AC-C8E7-418E-84DB-B58F26E7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12FD-AF68-4E0E-9E12-A5356BBD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8CDE-7900-4E36-81D6-7A35E813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214D-0729-4A20-80B8-6667EB98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E263-A1EF-45A9-88EC-29E5D2D9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F9FA-64AB-4089-A2B6-EF78D6DF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1508-7C73-428F-AC39-559DFBD3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7728-E3C4-4A06-832C-62DA8496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7C63-9FD4-4F59-B3B0-E5E21624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A9D8-38B1-471C-A0BB-D3A0F9EF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98BB-0240-41FC-A334-35F40063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6856-4B41-4BD8-98C1-2F197E3D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2E43-E6E4-4ECD-9F8A-34CB84E5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3FA1-86E5-402E-A0CC-070A9C9D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7A07-D461-44C4-8222-BD77608F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0A1B-7F97-4BEB-AB59-87C771BF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8931-64B4-46AD-811F-D8BFA57C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DD1D-FA8C-4057-AB5D-78D50D14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7374-2BC5-4BCE-8DA6-2AE9376F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715D-64AF-45D5-9190-1C5A3A91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0076-E054-4B9B-B3DF-721BEE860A28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16EA-225C-4CF9-8EB7-8AABADF9586B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EST d’activités mentales n°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z vos NOM, Prénom et Classe sur la fiche répo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r la lettre du sujet tra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pondez brièvement sur la fiche en respectant rigoureusement la numérotation des ques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32360" y="278136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463480" y="2060640"/>
            <a:ext cx="39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003640" y="285264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35120" y="2060640"/>
            <a:ext cx="39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71640" y="-360"/>
            <a:ext cx="378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374472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e coefficient directeur de la droite (A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859280" y="1916280"/>
            <a:ext cx="374508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e coefficient directeur de la droite (AB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88000" y="3141720"/>
            <a:ext cx="3886200" cy="305748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0360" y="-360"/>
            <a:ext cx="334944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133720"/>
            <a:ext cx="442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a hauteur à l’origine de la droite (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72000" y="2133720"/>
            <a:ext cx="442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a hauteur à l’origine de la droite (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03640" y="2997360"/>
            <a:ext cx="3886200" cy="305748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916280"/>
            <a:ext cx="3744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859280" y="278136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716360" y="1916280"/>
            <a:ext cx="374508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916280"/>
            <a:ext cx="3744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88000" y="1916280"/>
            <a:ext cx="3744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42920" y="6984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59280" y="314172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56000" y="1916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932360" y="299736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401920" y="18511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932360" y="299736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35120" y="2060640"/>
            <a:ext cx="39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932360" y="292428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607840" y="1989000"/>
            <a:ext cx="39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3:12:41Z</dcterms:created>
  <dc:creator>hgc</dc:creator>
  <dc:description/>
  <dc:language>en-US</dc:language>
  <cp:lastModifiedBy>CLEMENT ODILE</cp:lastModifiedBy>
  <dcterms:modified xsi:type="dcterms:W3CDTF">2008-08-17T00:56:36Z</dcterms:modified>
  <cp:revision>18</cp:revision>
  <dc:subject/>
  <dc:title>TEST n°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 DAP">
    <vt:lpwstr>[ContentDir]\Student\MS\Templates\Groups and Movements\Groups and Movements.xml</vt:lpwstr>
  </property>
  <property fmtid="{D5CDD505-2E9C-101B-9397-08002B2CF9AE}" pid="3" name="SE DAP Check Values">
    <vt:lpwstr>0</vt:lpwstr>
  </property>
  <property fmtid="{D5CDD505-2E9C-101B-9397-08002B2CF9AE}" pid="4" name="SE DAP Default">
    <vt:lpwstr>NODEFAULTDAP</vt:lpwstr>
  </property>
  <property fmtid="{D5CDD505-2E9C-101B-9397-08002B2CF9AE}" pid="5" name="SE DAP Window Handle">
    <vt:lpwstr>1639994</vt:lpwstr>
  </property>
  <property fmtid="{D5CDD505-2E9C-101B-9397-08002B2CF9AE}" pid="6" name="SE Mode">
    <vt:lpwstr>student</vt:lpwstr>
  </property>
  <property fmtid="{D5CDD505-2E9C-101B-9397-08002B2CF9AE}" pid="7" name="Version">
    <vt:r8>5</vt:r8>
  </property>
</Properties>
</file>