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4A4-FDAA-430D-9BE3-36C3234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7DD-B478-4343-A770-A0E2886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14F-B9CA-48DD-82FB-3BA7C5DB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72B-2924-4045-A96D-3E349E67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07D4-BB2B-4578-8444-30952B1F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63C5-02C6-44B0-94BC-108963D4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0E2A-81C8-47EB-B2C6-5B508E60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A048-979E-4974-BCC6-94CCF65D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4331-64DA-4446-8AE2-06FF936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95C-661D-4BFA-A78B-E3E128B9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AF70-6908-4987-A206-2536E9A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1DE-9496-4EE0-BF3E-F1B7A041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2DF-46AA-4473-A081-F2429924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3570-1891-402D-8B17-D62FE1A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066E-65A7-4D0B-8A74-520B7ABF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9118-513C-4934-8D08-B3CAEC3B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BCD-B7F6-4650-9C32-3AC38EA2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E373-156D-4E23-B5EA-0D811B1E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D5FF-4C87-49A5-A365-57F0F1A2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7801-BBEA-4AF8-B1A8-56A4BFF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B136-035A-46E8-B9C7-4A28CE2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6545-0AF0-4FBF-85AB-CA2CF103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2A6-3C86-4ECE-BD57-06F4E50C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8871-2224-447F-827C-AAB558E3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1B04-98F2-4EA0-9413-20F7E003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8C622-BD47-4CB2-A348-E13618E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02C1-46F6-4680-A14D-A13F377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22C1-56CF-4383-BB06-FED16312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B9E3-96B2-4B1E-B8A8-4F69C549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82DF-E0F7-479E-86DE-83990D03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DD7-069F-4677-974E-95C4EAD7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AF4-D7D7-42B3-9EFB-FB7915E3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AF2-7E67-4B67-8891-E74860B7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02F-3667-4870-B513-4A37F3D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FB2-E00C-4031-8926-D5B3FCBC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B7A-C030-46B8-892D-0EF2020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00B9-74CE-4C6D-A721-1D60A4C337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D7F0-9A66-4571-B810-82469841DF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738E-F1AC-4230-B82C-36E7AE85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0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3771720" cy="212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26920" y="2421000"/>
          <a:ext cx="32101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21000"/>
                    <a:ext cx="3210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213372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5435640" y="2997360"/>
          <a:ext cx="1892160" cy="13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997360"/>
                    <a:ext cx="18921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003640" y="2781360"/>
          <a:ext cx="24163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78136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3467160" cy="2466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4360" y="1341360"/>
            <a:ext cx="352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55720" y="1967040"/>
          <a:ext cx="100476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720" y="1967040"/>
                    <a:ext cx="1004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04960" y="2011320"/>
          <a:ext cx="9144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4960" y="2011320"/>
                    <a:ext cx="914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3771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er les antécédents éventuels de O pour la fonction f définie par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4005360"/>
          <a:ext cx="38070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05360"/>
                    <a:ext cx="38070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003640" y="1989000"/>
          <a:ext cx="351180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51180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38894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716360" y="3716280"/>
          <a:ext cx="341640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716280"/>
                    <a:ext cx="34164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43280" y="1916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l’antécédent de O pour la fonction f définie pa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403280" y="3500280"/>
          <a:ext cx="204804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3500280"/>
                    <a:ext cx="20480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75200" y="234936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377208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346716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4957920" y="2543040"/>
          <a:ext cx="100620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7920" y="2543040"/>
                    <a:ext cx="10062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804000" y="2565360"/>
          <a:ext cx="1062000" cy="83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2565360"/>
                    <a:ext cx="10620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042920" y="2708280"/>
          <a:ext cx="2416320" cy="120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70828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1933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23:46:44Z</dcterms:created>
  <dc:creator>Mignot Nathalie</dc:creator>
  <dc:description/>
  <dc:language>en-US</dc:language>
  <cp:lastModifiedBy>CLEMENT ODILE</cp:lastModifiedBy>
  <dcterms:modified xsi:type="dcterms:W3CDTF">2008-08-17T19:56:52Z</dcterms:modified>
  <cp:revision>7</cp:revision>
  <dc:subject/>
  <dc:title>Activité mentale</dc:title>
</cp:coreProperties>
</file>