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2901-17C4-406A-8C8A-E951E22D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2739-A751-44D6-981A-A1B20534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755F-2382-4A06-9299-1D0F9867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F3E-DC46-4C2E-9D9B-A383E872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2A61-E128-40E1-98C7-A4E56E1D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5217-5DCB-4D1B-953D-F2FC5183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E15C-2513-44D6-8CCA-33E4C7E8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FCC5-DABE-4165-B516-6542D338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5375-AE52-4BB0-9AB0-A0F85C40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A94A-D100-43B3-97D0-CBD3F039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4C2C-767F-48B5-9D35-A4700807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B04-DA55-4C7B-A418-45C3C3E2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8694-3893-4BBA-8BC9-DA259CC0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C2B4-5656-4A31-B789-9F11C95C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1912-E4EC-492D-B2CB-88838589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7CB9-673A-4EA1-93B7-5A72C494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B537-AC46-427B-9EB0-4DEA7439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965-5D7D-43E5-A257-E2077E50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602A-358B-4DA5-8751-FA1BA945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1B7-5099-4016-BE38-554171D0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DCD4-FE5F-44A9-B74C-BB73ACB4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15A-1AB5-410B-93F2-B7EFA93E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9632-2411-41EB-920F-67B1CDAA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772-7544-467E-AFC2-4AF8FE03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D65C-0E30-425C-A954-775F7A761061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67A1-4564-4C12-8B3D-3BF9EDF876E8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éparez une feuille de ré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tez votre n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érotez dix lignes de 1 à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us aurez 40 secondes par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39640" y="162828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BCD est un parallélogramme de centre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954080" y="3716280"/>
          <a:ext cx="621828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4080" y="3716280"/>
                    <a:ext cx="621828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39640" y="162828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BCD est un parallélogramme de centre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954080" y="3716280"/>
          <a:ext cx="621828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4080" y="3716280"/>
                    <a:ext cx="621828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39640" y="162828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497400" y="1484280"/>
          <a:ext cx="361296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7400" y="1484280"/>
                    <a:ext cx="3612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843280" y="2708280"/>
            <a:ext cx="4429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280" y="1268280"/>
            <a:ext cx="66308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lle relation peut-on écri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re les vecteurs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960720" cy="28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2484360" y="2205000"/>
          <a:ext cx="914400" cy="72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2205000"/>
                    <a:ext cx="9144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788000" y="2205000"/>
          <a:ext cx="868320" cy="76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205000"/>
                    <a:ext cx="86832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1268280"/>
            <a:ext cx="66308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lle relation peut-on écri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re les vecteurs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960720" cy="28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484360" y="2276640"/>
          <a:ext cx="914400" cy="72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2276640"/>
                    <a:ext cx="914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572000" y="2276640"/>
          <a:ext cx="912960" cy="76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2276640"/>
                    <a:ext cx="91296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68000" y="137124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lle relation peut-on écri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re les vecteurs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771640" y="2276640"/>
          <a:ext cx="91440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276640"/>
                    <a:ext cx="914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148360" y="2276640"/>
          <a:ext cx="91260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2276640"/>
                    <a:ext cx="91260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2195640" y="3213000"/>
            <a:ext cx="54720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68000" y="137124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492360" y="1484280"/>
          <a:ext cx="351972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484280"/>
                    <a:ext cx="35197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268360" y="2781360"/>
            <a:ext cx="547236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68000" y="137124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762280" y="1484280"/>
          <a:ext cx="498168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2280" y="1484280"/>
                    <a:ext cx="49816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268360" y="2781360"/>
            <a:ext cx="547236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39640" y="112500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rimer en fonction des vecteurs      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4140360" cy="387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5003640" y="1628640"/>
          <a:ext cx="411480" cy="7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1628640"/>
                    <a:ext cx="41148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918040" y="1655640"/>
          <a:ext cx="457200" cy="858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18040" y="1655640"/>
                    <a:ext cx="4572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342120" y="2924280"/>
          <a:ext cx="2103480" cy="85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42120" y="2924280"/>
                    <a:ext cx="21034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236000" y="3789360"/>
            <a:ext cx="10792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ui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89720" y="5013360"/>
          <a:ext cx="2011320" cy="858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89720" y="5013360"/>
                    <a:ext cx="201132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39640" y="112500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primer en fonction des vecteurs      e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4140360" cy="387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5003640" y="1628640"/>
          <a:ext cx="411480" cy="7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1628640"/>
                    <a:ext cx="41148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443640" y="1700280"/>
          <a:ext cx="457200" cy="85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43640" y="1700280"/>
                    <a:ext cx="45720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342120" y="2924280"/>
          <a:ext cx="2103480" cy="85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42120" y="2924280"/>
                    <a:ext cx="21034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7236000" y="3789360"/>
            <a:ext cx="10792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ui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489720" y="5013360"/>
          <a:ext cx="2011320" cy="858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89720" y="5013360"/>
                    <a:ext cx="201132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39640" y="162828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BCD est un parallélogramme de centre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348000" y="3716280"/>
          <a:ext cx="342900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3716280"/>
                    <a:ext cx="3429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17T19:45:11Z</dcterms:modified>
  <cp:revision>33</cp:revision>
  <dc:subject/>
  <dc:title>Donner l'image de -1 par la fonction f définie par </dc:title>
</cp:coreProperties>
</file>