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493-DE0D-402F-952D-3535388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378-6E09-476B-B8AA-0D27453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351-16C4-4502-B6CE-806CD46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540-CA73-446E-ADC9-42F46FFE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02A-5726-4C9E-ADC4-B78CE133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2B6A-FC8A-4A40-9AC5-142E734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FA9-8055-4149-97CD-FA2F0A6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4C58-386D-4AE7-B737-BAA01EBB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90E-D767-4A03-B3D3-86F959FF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587-CD6D-42D0-872B-27E951BC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173-F635-42C3-A1DA-FA49F19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78F-95ED-4066-B151-F293918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5531-E057-42E6-9CF1-3EF7F04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C988-5076-4CCB-9969-1E315C0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317-ADEE-4592-B0A2-683B898C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67CC-23DF-49F1-A42D-14C7631D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B14-F437-470D-A329-6EFAC1A8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6F9-41A0-421C-9E39-C0D5DB9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8D2-A54E-4A64-9610-6B3A0C6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85E-6AF5-4E70-A96C-D8BBE571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298-8E55-449F-824B-5E370F7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D7D-B703-4D71-AFC2-8B13FC1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530-3CB0-4281-9AB2-8FB33A3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3B2-A01B-4837-B56D-FCD1121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6653-2123-4B39-977F-9695425FBB0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286-7167-428F-A930-F2205123C234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-4;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0;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2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s valeurs qui n’ont pas d’image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image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1; et 3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-1; et 5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1432080" cy="6188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-4;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2;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-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1,5) et f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2) et f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5:54Z</dcterms:modified>
  <cp:revision>17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