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6BDB-892E-4C6A-997E-A566B30EF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A819-E9F3-4D83-904A-8B9F12F6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64F7-B04E-42CB-B8C7-F55780365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10C2-A532-4838-8284-82BAC2324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7E1B-155E-434F-8E91-F9025A466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5EB7-4997-45ED-AB4D-9D7C43DE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8E1B-A65C-467B-821B-9DBD474A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D71B-683A-443C-B9A1-B70AAFDC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95B8-B0B8-4621-AA64-8D5B896E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C8D4-84DC-42B3-B99C-1C164BE5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03E6-05C6-41B2-A92F-0C9CDCB1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EFCE-50B1-445D-B665-3D8246AB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B6B5-3D5C-4A56-8CF1-930CCFFD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FD2C-7D14-4D64-8689-4BCE96A3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3D0A-922A-451D-94E4-67689EC8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29AC-E947-41C9-88A8-D1EA70490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9660-9651-4C4E-BE3B-9634FC70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8512-E8DE-48BC-8192-B28747A5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0616-85CD-46C9-A9EF-6398D835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BB60-821C-4AE9-8E6F-E5E32F16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13E3-1C39-44F1-8EF6-6B3689E2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F469-536D-46BD-A334-317EC5C0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608E-92A5-49B4-85B6-42357CE0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DCBF-3359-4516-AD79-3BA8EA84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DE81-3B8C-4B2F-8F7E-25E7032E011C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119C-AB23-4431-8F9E-B9DFEA990772}" type="slidenum">
              <a:rPr b="0" lang="fr-F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EST d’activités mentales n°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ndiquez vos NOM, Prénom et Classe sur la fiche répon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épondez brièvement sur la fiche en respectant rigoureusement la numérotation des ques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éponse possible: « ..est un quadrilatère sans nom particulier »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5000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87280" y="476280"/>
            <a:ext cx="320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278136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diagonales perpendiculaires est u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3280" y="2852640"/>
            <a:ext cx="4211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diagonales perpendiculaires et qui se coupent en leurs milieux est u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87280" y="476280"/>
            <a:ext cx="320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1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314172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côtés opposés parallèles et des diagonales de mêmes longueur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16360" y="306864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côtés consécutifs perpendiculaires est u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87640" y="502920"/>
            <a:ext cx="307656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920" y="2852640"/>
            <a:ext cx="4211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 quadrilatère qui admet des côtés opposés parallèles est un…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16360" y="278136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 quadrilatère qui admet des diagonales de mêmes longueurs est un…..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87640" y="502920"/>
            <a:ext cx="307656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2781000"/>
            <a:ext cx="42116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côtés opposés parallèles et de mêmes longueurs est un…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4643280" y="278136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diagonales perpendiculaires et de mêmes longueurs est u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87280" y="476280"/>
            <a:ext cx="320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263700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diagonales perpendiculaires est u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63700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diagonales perpendiculaires et de mêmes longueurs est u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87280" y="476280"/>
            <a:ext cx="320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335772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diagonales qui se coupent en leurs milieux est u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43280" y="335772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côtés opposés parallèles et des diagonales de mêmes longueur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87280" y="476280"/>
            <a:ext cx="320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335772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diagonales perpendiculaires et qui se coupent en leurs milieux est u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43280" y="335772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côtés opposés parallèles et de mêmes longueur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987280" y="476280"/>
            <a:ext cx="320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335772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côtés opposés de mêmes longueurs et des diagonales de mêmes longueurs, est u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2920" y="3357360"/>
            <a:ext cx="42116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 quadrilatère qui admet des côtés opposés parallèles est un…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5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987280" y="476280"/>
            <a:ext cx="320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99736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côtés opposés parallèles et de mêmes longueur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06864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côtés consécutifs perpendiculaires est u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87280" y="476280"/>
            <a:ext cx="320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292428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 quadrilatère qui admet des diagonales de mêmes longueurs est un…..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858920" y="2565000"/>
            <a:ext cx="374508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 quadrilatère qui admet des côtés opposés de mêmes longueurs et des diagonales de mêmes longueurs, est un…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5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3:12:41Z</dcterms:created>
  <dc:creator>hgc</dc:creator>
  <dc:description/>
  <dc:language>en-US</dc:language>
  <cp:lastModifiedBy>CLEMENT ODILE</cp:lastModifiedBy>
  <dcterms:modified xsi:type="dcterms:W3CDTF">2008-08-17T00:57:33Z</dcterms:modified>
  <cp:revision>14</cp:revision>
  <dc:subject/>
  <dc:title>TEST n°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E DAP">
    <vt:lpwstr>[ContentDir]\Student\MS\Templates\Groups and Movements\Groups and Movements.xml</vt:lpwstr>
  </property>
  <property fmtid="{D5CDD505-2E9C-101B-9397-08002B2CF9AE}" pid="3" name="SE DAP Check Values">
    <vt:lpwstr>0</vt:lpwstr>
  </property>
  <property fmtid="{D5CDD505-2E9C-101B-9397-08002B2CF9AE}" pid="4" name="SE DAP Default">
    <vt:lpwstr>NODEFAULTDAP</vt:lpwstr>
  </property>
  <property fmtid="{D5CDD505-2E9C-101B-9397-08002B2CF9AE}" pid="5" name="SE DAP Window Handle">
    <vt:lpwstr>329242</vt:lpwstr>
  </property>
  <property fmtid="{D5CDD505-2E9C-101B-9397-08002B2CF9AE}" pid="6" name="SE Mode">
    <vt:lpwstr>student</vt:lpwstr>
  </property>
  <property fmtid="{D5CDD505-2E9C-101B-9397-08002B2CF9AE}" pid="7" name="Version">
    <vt:r8>5</vt:r8>
  </property>
</Properties>
</file>