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4AAD-CD7F-41C0-BA31-16123C5BE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DE56-7059-4319-BC0A-D02EC2B6E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5EA5-E7CA-49E6-B1FF-00A0CB91C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D8D4-B084-4067-83AC-D2CBFF269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E0F8A-A93E-4E95-9283-2A6820009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01DDB-C5FA-4782-B475-111DA925C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3D506-3F32-4270-86ED-0D0A170DD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81644-611E-45D3-AE51-F6A6A332E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42B83-D985-43FE-8CFE-96920FA60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A0A65-45DF-4BD9-AFD2-76121BD4D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BC45F-C2F8-4F06-B060-E9043C8E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C9D1-F712-49E0-92B1-D3AF67FEA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89CE7-C4F4-4D0C-9EA2-98CE29CA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2B584-8B58-4B90-BFA0-37B59B3C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DFB7F-8CE0-4495-8306-AEA4E7832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D3AD7-33A2-4AA3-A54E-EE0AAB3FD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A5F20-7860-4258-8341-F7ECD50CD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57C6-549D-4AAC-AB29-E0DF7BFC9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36B3-21DB-4088-B70A-98ED5A800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40CA-B007-431E-BFA0-A5117EBE9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6217-FCEE-4867-A69E-A294B24C8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375C-1A9E-4D3C-B3C8-A1F20AD4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F7F4-2011-4A84-8998-A65376BB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A781-FA4C-43FD-A68F-AE05A1EB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8BDB7-0C9B-4665-9DB8-4906C425A1B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03C4B-B716-44E6-9F97-7511D9B7E68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4      Question 1</a:t>
            </a:r>
            <a:r>
              <a:rPr b="0" lang="fr-FR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Donner l'image de -1 par la fonction f définie pa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Donner le(s) antécédents éventuels du réel 1 par f lorsque f est définie par :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900000" y="3068640"/>
          <a:ext cx="3456000" cy="14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3068640"/>
                    <a:ext cx="3456000" cy="14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076720" y="3357720"/>
          <a:ext cx="3884760" cy="72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6720" y="3357720"/>
                    <a:ext cx="388476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fr-FR" sz="25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4      Question 2</a:t>
            </a:r>
            <a:r>
              <a:rPr b="0" lang="fr-FR" sz="40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25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Donner le(s) antécédents éventuels du réel 1 par f lorsque f est définie par :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Développer l’expression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88000" y="1844640"/>
            <a:ext cx="0" cy="424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94200" y="2852640"/>
            <a:ext cx="42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(x – 1)(x + 1) + (x + 2)(x –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24000" y="3284640"/>
          <a:ext cx="3884400" cy="72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284640"/>
                    <a:ext cx="388440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4      Question 3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Développer l’expression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Donner l'image de -1 par la fonction f définie pa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3068640"/>
            <a:ext cx="42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(x – 1)(x + 1) + (x + 2)(x –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859280" y="1989000"/>
            <a:ext cx="0" cy="410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219640" y="2924280"/>
          <a:ext cx="3456000" cy="14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2924280"/>
                    <a:ext cx="3456000" cy="14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Factoriser  l’expression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Résoudre dans R l'équation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3320" y="285264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(x – 1)(x + 1) + (x + 2)(x –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16360" y="198900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92720" y="270828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(x+2)² – 1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35280" y="903240"/>
            <a:ext cx="63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4      Question 4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4      Question 5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Factorise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Donner l'image de -1 par la fonction f définie pa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00000" y="2924280"/>
            <a:ext cx="25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9x² – (x + 1)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356000" y="1844640"/>
            <a:ext cx="0" cy="432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76720" y="2781360"/>
            <a:ext cx="33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(x) = (x-1)² - x²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33240" y="2303640"/>
            <a:ext cx="3562200" cy="36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Résoudre dans R l'équation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Factoriser  l’expression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26920" y="3284640"/>
            <a:ext cx="32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(x+2)² – 1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90000" y="623880"/>
            <a:ext cx="597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4      Question 6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00720" y="198900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82960" y="256536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(x – 1)(x + 1) + (x + 2)(x –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4      Question 7</a:t>
            </a:r>
            <a:br>
              <a:rPr sz="40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Donner l'image de -1 par la fonction f définie pa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Factoriser  l’expression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55640" y="3213000"/>
            <a:ext cx="33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(x) = (x-1)² - x²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932360" y="1844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292720" y="249228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9x² – (x + 1)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356220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Donner le (les) antécédent(s) de 3 par la fonction f définie par</a:t>
            </a:r>
            <a:br>
              <a:rPr sz="2100"/>
            </a:b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Donner le (les) antécédent(s) de 0 par la fonction f définie par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50360" y="839880"/>
            <a:ext cx="59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4      Question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826920" y="3500280"/>
                <a:ext cx="19051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4284720" y="1844640"/>
            <a:ext cx="0" cy="424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356000" y="4076640"/>
          <a:ext cx="457992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4076640"/>
                    <a:ext cx="457992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Donner le (les) antécédent(s) de 0 par la fonction f définie par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Donner le (les) antécédent(s) de 3 par la fonction f définie par</a:t>
            </a:r>
            <a:br>
              <a:rPr sz="2100"/>
            </a:b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79280" y="3500280"/>
          <a:ext cx="457992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3500280"/>
                    <a:ext cx="457992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5003640" y="184464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50360" y="912960"/>
            <a:ext cx="59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4      Question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5580000" y="3068640"/>
                <a:ext cx="190512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8:38:38Z</dcterms:created>
  <dc:creator>Admin</dc:creator>
  <dc:description/>
  <dc:language>en-US</dc:language>
  <cp:lastModifiedBy>CLEMENT ODILE</cp:lastModifiedBy>
  <dcterms:modified xsi:type="dcterms:W3CDTF">2008-05-19T23:26:19Z</dcterms:modified>
  <cp:revision>16</cp:revision>
  <dc:subject/>
  <dc:title>Donner l'image de -1 par la fonction f définie par </dc:title>
</cp:coreProperties>
</file>