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F19-5C46-4C6A-8C1E-2B6FF9C5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976-92DF-4997-93D4-2DD5034B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CC5-A683-48D5-BB1E-4EDDCBC5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D30-88D8-4CA6-840B-F352E0D4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3D39-A834-4FF8-90EC-EAD4A9F0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1749-C448-4C35-AE91-E5A9EF5F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156E-E51B-4420-9D97-85DC4797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6A3C-4F15-4713-B6FB-F5F874E8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7751-F877-4B8E-B9D2-407A4EE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1586-8D8D-4600-8828-1342D80C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885F-60CA-4EB6-9E95-1A4D3C93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591-EA99-4F07-8D8F-51E86A96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E2DD-8EC5-4FBD-AC4C-CB2306BA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A261-6C9B-4A02-9010-C8B61BFF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574D-F7F8-444A-BD14-964705D5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79D4-0D07-480B-BA09-BD65A078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5D5D-6FD0-47E9-815F-8291215B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19F-16F6-45A0-A797-0BDBA23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B1F-9DF1-488D-BEE4-53347029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1FF-B700-41D6-BC88-CD81659E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D05-8EDB-48B9-9CCF-E81BD579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622-F8FA-45A1-AD3B-40CFCBE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9E3-10B1-4D93-BF76-B9CAED11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129-7440-4C5F-AA3A-A04242A7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DDDC-2E21-46F8-B7AC-9AE77D84D3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3DD6-5E03-4AFA-A11A-659A2902FD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3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: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un encadrement de A-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9079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l‘inéqu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457880" y="2946240"/>
                <a:ext cx="22860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71640" y="328464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un encadrement d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3x + 2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nner un encadrement du réel : -3x+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l‘inéqu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580000" y="342900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48:18Z</dcterms:modified>
  <cp:revision>17</cp:revision>
  <dc:subject/>
  <dc:title>Donner l'image de -1 par la fonction f définie par </dc:title>
</cp:coreProperties>
</file>