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9034-0CD9-4828-85C4-AD52E2C3C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FE83-BBA1-441D-9D74-D43E961E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9D1F-C8D5-4CC6-A08F-ED0B30A7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7E74-9C1E-44FD-B349-6345F3FE0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2020-5B41-4B4D-89C7-4E6EC6F8E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686A-7B69-4E32-9171-6EAFAFAB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F162-7B2A-48C8-83B4-77130213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154A-4F65-4E3E-AD03-1E15240A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9E5D-9F52-4BC8-9F5C-870E82CC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3C01-65C9-463C-B88A-9D8851C3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47A9-97F7-4E90-91B2-BA0295DE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DBD7-B29A-4820-BF46-776ACD85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7797-7084-4939-9556-057B4E32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4E08-9700-4009-B077-3BAFA2C2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E5ED-CB7E-43AA-A771-0D4041DF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0C06-F5C5-42C1-AC37-3B9014E7B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9C1D-A041-45DE-B60F-710B32FA8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324B-9451-4027-AF3E-14E45DC4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40F7-4DA3-4BC1-80C3-7FB2416B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590E-96E2-43A4-9399-FDE8C435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D3B9-6CBD-43E7-A2AF-46AAC468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AA33-163B-4451-BBDC-FA49951B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5FF6-F4D5-4652-929D-10B8036C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1E37-A23E-46DB-8A0E-BC0F6DC7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3813-8ABC-4FD5-BF1E-CE187899EEA5}" type="slidenum">
              <a:rPr b="0" lang="fr-F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65FB-C3B3-456F-8743-C633347E71D8}" type="slidenum">
              <a:rPr b="0" lang="fr-F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006633"/>
                </a:solidFill>
                <a:latin typeface="Garamond"/>
              </a:rPr>
              <a:t>Automaths 2</a:t>
            </a:r>
            <a:br>
              <a:rPr sz="4600"/>
            </a:br>
            <a:r>
              <a:rPr b="0" lang="fr-FR" sz="4600" spc="-1" strike="noStrike">
                <a:solidFill>
                  <a:srgbClr val="006633"/>
                </a:solidFill>
                <a:latin typeface="Garamond"/>
              </a:rPr>
              <a:t>Seconde 8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71280" y="2924280"/>
            <a:ext cx="75610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ésolutions d’ é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us disposez de  45 secondes par question. Il y a  9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arème : 2 points gratuits, deux points par réponse exacte, 0,5 point enlevé par réponse fauss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cover dir="d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Automaths 2</a:t>
            </a:r>
            <a:br>
              <a:rPr sz="3800"/>
            </a:b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Question 9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les solutions dans R de l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(x + 4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les solutions dans R de l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+2)(x-2)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cover dir="d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Automaths 2</a:t>
            </a:r>
            <a:br>
              <a:rPr sz="3800"/>
            </a:b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Question 1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oudre dans R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 + 7(x-5)= -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en l’équation 3x+5= 3(x-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t-elle de solutions réel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00720" y="2205000"/>
            <a:ext cx="0" cy="37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cover dir="d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Automaths 2</a:t>
            </a:r>
            <a:br>
              <a:rPr sz="3800"/>
            </a:b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Question 2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en l’équation  X² =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a étant un réel donné et x l’inconnu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et-elle de solutions réel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en l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+6 = 3(x+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t-elle de solutions réelles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43280" y="1844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cover dir="d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Automaths 2</a:t>
            </a:r>
            <a:br>
              <a:rPr sz="3800"/>
            </a:b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Question 3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en l’équation 3x+5= 3(x-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t-elle de solutions réel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oudre dans R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 + 7(x-5)= - 1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1844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cover dir="d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Automaths 2</a:t>
            </a:r>
            <a:br>
              <a:rPr sz="3800"/>
            </a:b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Question 4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en l’éq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+6 = 3(x+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t-elle de solutions réel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en l’équation     X² =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a étant un réel donné et x l’inconnu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et-elle de solutions réel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177336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cover dir="d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Automaths 2</a:t>
            </a:r>
            <a:br>
              <a:rPr sz="3800"/>
            </a:b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Question 5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les solutions dans R de l’équation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+5 =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les solutions dans R de l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+1)(x-3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56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cover dir="d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Automaths 2</a:t>
            </a:r>
            <a:br>
              <a:rPr sz="3800"/>
            </a:b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Question 6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les solutions dans R de l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² + 12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les solutions dans R de l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(x + 4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cover dir="d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Automaths 2</a:t>
            </a:r>
            <a:br>
              <a:rPr sz="3800"/>
            </a:b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Question 7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les solutions dans R de l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+1)(x-3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les solutions dans R de l’équation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+5 =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56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cover dir="d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Automaths 2</a:t>
            </a:r>
            <a:br>
              <a:rPr sz="3800"/>
            </a:b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Question 8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les solutions dans R de l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+2)(x-2)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les solutions dans R de l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² + 12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56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cover dir="d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53:26Z</dcterms:created>
  <dc:creator>CLEMENT ODILE</dc:creator>
  <dc:description/>
  <dc:language>en-US</dc:language>
  <cp:lastModifiedBy>CLEMENT ODILE</cp:lastModifiedBy>
  <dcterms:modified xsi:type="dcterms:W3CDTF">2008-05-19T22:34:08Z</dcterms:modified>
  <cp:revision>6</cp:revision>
  <dc:subject/>
  <dc:title>CR2</dc:title>
</cp:coreProperties>
</file>