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F0F-7CE5-4EEB-8960-8A1FB688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A56A-01F4-4CD2-B6EF-432A039B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6317-0177-4A2A-9F6D-971C5466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E659-6B32-4260-A1C1-CDCB7475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E053-DC79-4AB7-9482-8843B598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9F09-FEE4-4945-BFF7-8F08144D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1228-DD3E-4FB7-89AF-E223F56D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9914-FD16-4C24-BECB-CBA50DBD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B946-CDC4-4FE0-B26D-1224521A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CB34-1875-4B20-9585-264B5B06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0373-2947-489E-9744-E7F19291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1E9A-03EB-476F-8653-AFFAA59D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9A07-024A-4FFA-98E9-8E1EBB70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5F3D-D159-4C3F-86B8-B9CC7C92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C85B-3FBE-41AA-A5EE-EA2868B2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2FF4-A394-4621-B4CF-A24AB3E1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8D94-165A-4FB7-9901-B98CDA3E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EC06-54D8-4503-AB4F-03DAA0EB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F45E-DE6C-42CB-8BD8-7B536092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078-44AC-4DBE-9285-AB7D0D90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9402-A831-4059-ACA3-F33789B9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3A71-B251-4221-BC89-27BD6CCD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199-D131-46A1-BD3D-B82260C8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A394-E1D3-4FCD-AC13-2C85A60E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0A60-5076-426E-91FC-A61A618723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F0A3-E642-4884-9E1B-EFAAFD551A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utomaths N°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 calculatrice est interd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ous disposez d’une minute par qu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rquez droite ou gauche suivant votre place à la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l y a 9 questions ( 2 points gratuits, 2 points par réponse juste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ous préciserez le numéro de la question devant chaque ré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50360" y="91296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79280" y="4797360"/>
                <a:ext cx="4622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737240" y="3357720"/>
                <a:ext cx="44067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1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éveloppe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84360" y="4869000"/>
                <a:ext cx="32893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72000" y="4005360"/>
                <a:ext cx="435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fr-FR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2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5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e(s) antécédents éventuels du réel 0  par f lorsque f est définie par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ser l’ex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27640" y="184464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00000" y="4724280"/>
                <a:ext cx="32893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72000" y="4005360"/>
                <a:ext cx="435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3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évelopper l’expres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1989000"/>
            <a:ext cx="0" cy="41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435640" y="3716280"/>
                <a:ext cx="32893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50920" y="3357720"/>
                <a:ext cx="43560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e(s) antécédents éventuels du réel 0  par f lorsque f est définie par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1989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90324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076720" y="4653000"/>
                <a:ext cx="32893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0920" y="4076640"/>
                <a:ext cx="435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5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ésoudr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0" y="2060640"/>
            <a:ext cx="43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Soit la fonction f définie par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est-elle affine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Si oui, la donner sous la forme : mx+p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1640" y="184464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40360" y="2708280"/>
                <a:ext cx="46353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3068640"/>
                <a:ext cx="30099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356220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se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90000" y="623880"/>
            <a:ext cx="59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6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1989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79280" y="3716280"/>
                <a:ext cx="44071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292720" y="2924280"/>
                <a:ext cx="29462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7</a:t>
            </a:r>
            <a:br>
              <a:rPr sz="40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Soit la fonction f définie par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est-elle affine 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Si oui, la donner sous la forme : mx+p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1844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0" y="2781360"/>
                <a:ext cx="46353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21240" y="4221000"/>
                <a:ext cx="4622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35622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 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50360" y="83988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826920" y="3068640"/>
                <a:ext cx="29466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5292720" y="184464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545080" y="3782880"/>
                <a:ext cx="30099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364000" y="24210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6-14T00:02:36Z</dcterms:modified>
  <cp:revision>20</cp:revision>
  <dc:subject/>
  <dc:title>Donner l'image de -1 par la fonction f définie par </dc:title>
</cp:coreProperties>
</file>