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90C-A1E3-40DC-AC61-595F851C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3BD-A843-4393-B5AE-E9D4F8AF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277-BFF1-4E5C-9CDC-70DF2370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3E8-C64A-4F15-8952-EA6C5268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1FD-E007-445B-BD3E-6F21E319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FF2-60DA-4304-ADC9-5A4A2235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A7C-AEEE-4846-B424-2C3100A6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225-6D68-4D0F-91D3-91265001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C78-E999-49D4-9D9E-A21475C7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217-92DA-4864-B0EB-BFA3F1D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E05-609C-4AFC-ACDC-B4D2570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8C0-1203-4F2D-BEDF-0D0D27C9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B380-33EF-47E4-8A5E-911C5842CE9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7840" y="1971720"/>
            <a:ext cx="3827880" cy="1556280"/>
            <a:chOff x="537840" y="1971720"/>
            <a:chExt cx="3827880" cy="1556280"/>
          </a:xfrm>
        </p:grpSpPr>
        <p:sp>
          <p:nvSpPr>
            <p:cNvPr id="199" name=""/>
            <p:cNvSpPr/>
            <p:nvPr/>
          </p:nvSpPr>
          <p:spPr>
            <a:xfrm>
              <a:off x="537840" y="197172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84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16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8764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360" y="21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068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916880" y="1919160"/>
            <a:ext cx="408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78000" y="2060640"/>
            <a:ext cx="3827880" cy="1556280"/>
            <a:chOff x="4878000" y="2060640"/>
            <a:chExt cx="3827880" cy="1556280"/>
          </a:xfrm>
        </p:grpSpPr>
        <p:sp>
          <p:nvSpPr>
            <p:cNvPr id="212" name=""/>
            <p:cNvSpPr/>
            <p:nvPr/>
          </p:nvSpPr>
          <p:spPr>
            <a:xfrm>
              <a:off x="4878000" y="206064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5144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24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56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2780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24520" y="222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67440" y="31575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0920" y="1989000"/>
            <a:ext cx="424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880" y="1827360"/>
            <a:ext cx="4237560" cy="4237560"/>
            <a:chOff x="335880" y="1827360"/>
            <a:chExt cx="4237560" cy="4237560"/>
          </a:xfrm>
        </p:grpSpPr>
        <p:sp>
          <p:nvSpPr>
            <p:cNvPr id="105" name=""/>
            <p:cNvSpPr/>
            <p:nvPr/>
          </p:nvSpPr>
          <p:spPr>
            <a:xfrm>
              <a:off x="447840" y="182736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826920" y="357336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335880" y="450864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72920" y="1700280"/>
            <a:ext cx="2885760" cy="4480920"/>
            <a:chOff x="5272920" y="1700280"/>
            <a:chExt cx="2885760" cy="4480920"/>
          </a:xfrm>
        </p:grpSpPr>
        <p:sp>
          <p:nvSpPr>
            <p:cNvPr id="109" name=""/>
            <p:cNvSpPr/>
            <p:nvPr/>
          </p:nvSpPr>
          <p:spPr>
            <a:xfrm>
              <a:off x="5272920" y="170028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.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83080" y="4597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68360" y="1844640"/>
            <a:ext cx="3619440" cy="3506040"/>
            <a:chOff x="468360" y="1844640"/>
            <a:chExt cx="3619440" cy="3506040"/>
          </a:xfrm>
        </p:grpSpPr>
        <p:sp>
          <p:nvSpPr>
            <p:cNvPr id="117" name=""/>
            <p:cNvSpPr/>
            <p:nvPr/>
          </p:nvSpPr>
          <p:spPr>
            <a:xfrm>
              <a:off x="46836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39640" y="1916280"/>
              <a:ext cx="1008000" cy="2952720"/>
              <a:chOff x="539640" y="1916280"/>
              <a:chExt cx="1008000" cy="2952720"/>
            </a:xfrm>
          </p:grpSpPr>
          <p:sp>
            <p:nvSpPr>
              <p:cNvPr id="119" name=""/>
              <p:cNvSpPr/>
              <p:nvPr/>
            </p:nvSpPr>
            <p:spPr>
              <a:xfrm>
                <a:off x="140328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128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964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1600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5076720" y="1916280"/>
            <a:ext cx="3619440" cy="3506040"/>
            <a:chOff x="5076720" y="1916280"/>
            <a:chExt cx="3619440" cy="3506040"/>
          </a:xfrm>
        </p:grpSpPr>
        <p:sp>
          <p:nvSpPr>
            <p:cNvPr id="124" name=""/>
            <p:cNvSpPr/>
            <p:nvPr/>
          </p:nvSpPr>
          <p:spPr>
            <a:xfrm>
              <a:off x="5076720" y="191628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148000" y="1987920"/>
              <a:ext cx="1008000" cy="2952720"/>
              <a:chOff x="5148000" y="1987920"/>
              <a:chExt cx="1008000" cy="2952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011640" y="1987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19640" y="2995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48000" y="494064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24360" y="49406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003640" y="2060640"/>
            <a:ext cx="3619440" cy="3506040"/>
            <a:chOff x="5003640" y="2060640"/>
            <a:chExt cx="3619440" cy="3506040"/>
          </a:xfrm>
        </p:grpSpPr>
        <p:sp>
          <p:nvSpPr>
            <p:cNvPr id="136" name=""/>
            <p:cNvSpPr/>
            <p:nvPr/>
          </p:nvSpPr>
          <p:spPr>
            <a:xfrm>
              <a:off x="5003640" y="2060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 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074920" y="2132280"/>
              <a:ext cx="1008000" cy="2952720"/>
              <a:chOff x="5074920" y="2132280"/>
              <a:chExt cx="1008000" cy="2952720"/>
            </a:xfrm>
          </p:grpSpPr>
          <p:sp>
            <p:nvSpPr>
              <p:cNvPr id="138" name=""/>
              <p:cNvSpPr/>
              <p:nvPr/>
            </p:nvSpPr>
            <p:spPr>
              <a:xfrm>
                <a:off x="5938560" y="2132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46560" y="3140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74920" y="5085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51280" y="5085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735120" y="1755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24000" y="1844640"/>
            <a:ext cx="3619440" cy="3506040"/>
            <a:chOff x="324000" y="1844640"/>
            <a:chExt cx="3619440" cy="3506040"/>
          </a:xfrm>
        </p:grpSpPr>
        <p:sp>
          <p:nvSpPr>
            <p:cNvPr id="144" name=""/>
            <p:cNvSpPr/>
            <p:nvPr/>
          </p:nvSpPr>
          <p:spPr>
            <a:xfrm>
              <a:off x="32400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95280" y="1916280"/>
              <a:ext cx="1008000" cy="2952720"/>
              <a:chOff x="395280" y="1916280"/>
              <a:chExt cx="1008000" cy="2952720"/>
            </a:xfrm>
          </p:grpSpPr>
          <p:sp>
            <p:nvSpPr>
              <p:cNvPr id="146" name=""/>
              <p:cNvSpPr/>
              <p:nvPr/>
            </p:nvSpPr>
            <p:spPr>
              <a:xfrm>
                <a:off x="125892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692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28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7164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56960" y="1916280"/>
            <a:ext cx="4237560" cy="4237560"/>
            <a:chOff x="4656960" y="1916280"/>
            <a:chExt cx="4237560" cy="4237560"/>
          </a:xfrm>
        </p:grpSpPr>
        <p:sp>
          <p:nvSpPr>
            <p:cNvPr id="156" name=""/>
            <p:cNvSpPr/>
            <p:nvPr/>
          </p:nvSpPr>
          <p:spPr>
            <a:xfrm>
              <a:off x="4768920" y="191628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5148000" y="366228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4656960" y="459756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01120" y="1971720"/>
            <a:ext cx="2885760" cy="4480920"/>
            <a:chOff x="501120" y="1971720"/>
            <a:chExt cx="2885760" cy="4480920"/>
          </a:xfrm>
        </p:grpSpPr>
        <p:sp>
          <p:nvSpPr>
            <p:cNvPr id="160" name=""/>
            <p:cNvSpPr/>
            <p:nvPr/>
          </p:nvSpPr>
          <p:spPr>
            <a:xfrm>
              <a:off x="501120" y="197172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280" y="486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120" y="190008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152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190008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1916280"/>
            <a:ext cx="405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198900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200" y="1827360"/>
            <a:ext cx="405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177336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380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124000" y="2565360"/>
            <a:ext cx="1440000" cy="3025800"/>
            <a:chOff x="2124000" y="2565360"/>
            <a:chExt cx="1440000" cy="3025800"/>
          </a:xfrm>
        </p:grpSpPr>
        <p:sp>
          <p:nvSpPr>
            <p:cNvPr id="190" name=""/>
            <p:cNvSpPr/>
            <p:nvPr/>
          </p:nvSpPr>
          <p:spPr>
            <a:xfrm>
              <a:off x="2124000" y="256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87640" y="55911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48000" y="55911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47Z</dcterms:modified>
  <cp:revision>27</cp:revision>
  <dc:subject/>
  <dc:title>Donner l'image de -1 par la fonction f définie par </dc:title>
</cp:coreProperties>
</file>