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0C0-69E4-47C3-AEC6-42581B3C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35D-C1F1-476D-9460-BCD6053E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5BF-B94E-4701-82B2-F9B10C5A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B65-1464-45D4-A526-54083DEF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7267-E9CD-4E02-91C5-96905220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52FF-B353-47A7-9E5C-9C83DC9D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ACB2-9F50-4DEE-9E27-7AC34EF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1D77-E690-4B3F-A7C6-1415CDBB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9806-220E-4068-B3C7-DB3720E6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65A1-D5BE-4850-BED0-8A97242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0E06-4D1E-40FE-B553-6050B1D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579-870D-4B50-ABCB-0CD2DC1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D383-7012-42FD-A8E8-C80CFAC1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447B-6761-4A7B-8F78-AD162D11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D9BB-9D80-4AAA-9F41-04EEFEEE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2B76-7FBD-411A-9D43-9EE5E843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3FBF-C3CA-42A5-9490-66906289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5E1-61FC-47C1-BDC7-D4C215DC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0A0-FD95-4910-B646-A82FAD3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558-127C-40B1-A793-3C4D020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F72-2AE5-49EC-8301-83CE9D5D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C97-3AD0-4383-BE1E-CA7096E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DB9-A732-4DE5-8DF8-B48C114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550-8660-42AE-89AB-1325942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80B-FB64-4ECB-9CB9-B6837B1D49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1E67-4D40-4E95-8BBC-6CF7CE2C4EB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10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1979640" cy="92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-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nombre décima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060640"/>
            <a:ext cx="3673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décima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4437000"/>
            <a:ext cx="19796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206064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– 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8-05T00:43:37Z</dcterms:modified>
  <cp:revision>17</cp:revision>
  <dc:subject/>
  <dc:title>Calcul mental 1</dc:title>
</cp:coreProperties>
</file>