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F40-2F15-49D6-A73C-4CC9BECAA6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D4B-69AF-451C-BDBA-7884B6244E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11A-89EF-4D13-AA8F-33850F09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293-EF35-49C1-ABA9-38F45672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E89-8543-45F0-8E2C-84E27393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908-A5A8-415B-B18D-487CFD10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EC8-0025-4BA6-AD23-430AE1AD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0B5-ED41-490E-83B8-BFAFDBF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09A-0876-45BC-B16F-AC0CC23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934-776D-40BF-AE60-28E2EE1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346-A494-45B5-A233-F240C5E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F71-6F7D-4782-8309-D6519F1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60C-561A-4CA4-BAF6-C10A7591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31-E5DE-4253-8FAB-94527D5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C38-7466-4FE5-863D-810A647DED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Quotients ég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7:08Z</dcterms:modified>
  <cp:revision>28</cp:revision>
  <dc:subject/>
  <dc:title>8 x 4</dc:title>
</cp:coreProperties>
</file>