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0C147-186F-4B7C-9C52-494A64C1ADB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AE75C-7F10-45E7-937C-F11A3651803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B88E-FF50-4CCD-96F2-163EA8D21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4F07-B31D-4606-91D1-AA4CDD2D3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A499-2827-4A23-B008-804419F32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8544-E948-418F-98E2-FCCDE72CD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BB3D-7E9C-4F30-AB7F-03D0229D4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858D-0797-4C0E-BAFF-E3071547D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9DCD-3008-48A5-8D7F-498B88F17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8417-655C-4FAE-BF9B-7C54D5B83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F6DB-6FC2-401B-871B-7224E2D6A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3059-909B-4F33-AD84-30A9C1E7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E36B-548E-4AF7-A0E7-0F82AE8C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164D-5FC5-4A2A-8928-BD26C316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0D62F-D011-4023-BA46-0AA42D8C2E7A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357192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Calculer en respectant les priorités opératoires (avec parenthès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30 – [3 × (4 + 3)]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40 – [3 × (4 + 3)]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5840" y="2492280"/>
            <a:ext cx="8572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9 × (3 + 5)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8 × (5 – 2)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(3 + 4) × (9 – 2)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9 × (3 + 5)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8 × (5 – 2)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(3 + 4) × (9 – 2)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5840" y="2130120"/>
            <a:ext cx="8572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[4 × (8 – 5)] × 2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[3 × (9 – 5)] × 2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8-09-11T16:56:07Z</dcterms:modified>
  <cp:revision>32</cp:revision>
  <dc:subject/>
  <dc:title>8 x 4</dc:title>
</cp:coreProperties>
</file>