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24DE-C958-4424-B4C3-5AC451BC6F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34C1-3F82-4D15-B11E-F5EEDDD858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C8A7-601D-493D-80B9-A95F17BD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963-2CFC-4D56-A87D-B1834AA0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2A62-FCB6-443C-A6D3-EE1E7198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CEA-4542-4DF9-BC3F-C3830B09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1A2C-5AD1-4965-B29B-1932A55D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7D0C-4309-4072-990F-F79CA7C3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8E18-13B2-4A03-9B1C-C2B13F8A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251E-AA1F-40DA-BBC4-2BC9A9C6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F8F2-48E9-4589-8766-DADAE612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A8DE-47BC-4C2B-845D-088E68A0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387-80DA-4C8F-BFE8-5B667873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5168-D9E4-46EC-8F79-0B50CD44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E8AB-E01C-4E81-AC01-01C42BF9B72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et opé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soustrac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1357200" y="2357280"/>
                <a:ext cx="64436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1357200" y="2357280"/>
                <a:ext cx="64436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28T12:54:28Z</dcterms:modified>
  <cp:revision>45</cp:revision>
  <dc:subject/>
  <dc:title>8 x 4</dc:title>
</cp:coreProperties>
</file>