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D43F-7D2D-4B25-9968-FEFE41CC21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A30-D813-4BC0-A25C-29B19E6043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206-D32A-46CF-93FC-89ABBAD2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B3B-F303-485E-B0A2-943D3455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E5E-34BF-4AC4-ABA1-592E4BA2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508-4F3B-46ED-8556-E6C7F9E7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E1C-D632-4787-B74A-5AB17F5A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347-989A-4ACC-B921-183F2EF7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1EE1-A4CA-4142-A987-3B6BA9A7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1B2-E77C-469A-86BD-237A45C8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61B-EC91-45F4-9F13-251EBCE1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19F-FBF8-49D2-A038-4AA0B134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C045-C6F3-4469-9929-6C74092F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C2D-58BD-4A29-ABFA-C9CCDFF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FEDC-F5EE-4BB9-8D13-19007F5C596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Organiser astucieusement une somm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28564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1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35728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2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43 + 85 + 17 + 7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357280"/>
            <a:ext cx="8429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63 + 85 + 17 + 5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2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3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24Z</dcterms:modified>
  <cp:revision>23</cp:revision>
  <dc:subject/>
  <dc:title>8 x 4</dc:title>
</cp:coreProperties>
</file>