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2BC6-9C95-43D5-BF0D-BACC3BAC51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EE45-8CF6-429E-8165-93A55DCD74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1FF-D489-42EE-BB4F-88955A61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65B-7802-4C10-9CAD-D803D170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EA4-9ECB-40D1-A99D-D302DAC2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865-E2FF-4FF5-8A14-4DC55A7D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C06-43F7-48C4-9A3D-675DD91F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866-4A1A-40EA-AC80-9AECEAA3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50E-E6BA-4576-A9F4-20F80641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1BE-88FC-4F2E-9A15-403BC8D0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23C-F880-491B-AE15-643E9A20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0BA2-19CF-4B14-994B-3D06B3C9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541-3064-4DFA-AF03-D7680CC2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0B96-6744-42AB-A052-A9775667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19E3-F676-47B0-873D-318EBA46BF7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278080" y="2473200"/>
                <a:ext cx="46036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127160" y="2357280"/>
                <a:ext cx="69040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3141720" y="2473200"/>
                <a:ext cx="2876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2278080" y="2473200"/>
                <a:ext cx="46036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278080" y="2357280"/>
                <a:ext cx="46036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3141720" y="2473200"/>
                <a:ext cx="2876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624040" y="2473200"/>
                <a:ext cx="39117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2278080" y="2357280"/>
                <a:ext cx="46036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127160" y="2357280"/>
                <a:ext cx="69040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2624040" y="2473200"/>
                <a:ext cx="39117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3:04:31Z</dcterms:modified>
  <cp:revision>44</cp:revision>
  <dc:subject/>
  <dc:title>8 x 4</dc:title>
</cp:coreProperties>
</file>