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793C-5E2D-4EF8-A1B1-C582A58463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CDD2-5437-40EC-9D2D-A6D608E75B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B59-D30A-4A00-9583-832FA7A3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0DD0-ABAE-445E-811A-43480445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448C-BB42-4587-90AC-2B98DA65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E29-F3E7-4E58-8C33-6F495279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227-2F7A-4214-9B52-121FF257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6607-7540-4A10-BFCF-257ED66E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685-0857-427B-A021-25E13AFC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3AF-B2B3-4F07-A8A9-98F9802F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11DF-473B-409D-8464-9081242E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6A2-8C03-430F-A692-70B05061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EBD-B6AF-407B-AA63-22DFD198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C553-9341-4772-9331-3BB74522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E52A-7A33-4823-976A-BBE2245FDAA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Multiplier par 9 et par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3:00Z</dcterms:modified>
  <cp:revision>16</cp:revision>
  <dc:subject/>
  <dc:title>8 x 4</dc:title>
</cp:coreProperties>
</file>