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BF3B-C0E2-49E2-A5AB-D3AA4800E7D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732B-8E5B-4269-8EA8-36B286AD5A2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EA3C-A955-4CAD-88DC-8DBA8731A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D3E0-AF8C-4F98-9812-12BE78A3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E977-49DE-45A2-99D3-F14F76CA2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3A0E-770A-4764-8C7E-511F2C144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92F3-BCEF-4C9E-983A-1094E2A0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F095-D3B9-4935-82C1-F226FF2F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BD2B-BB9C-478A-B18B-CCB26246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D499-3505-48CA-99D3-E65A8229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410E-9C6C-4D52-8436-DD84CD84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CEF4-1CF1-4987-A60C-1868FC13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0E07-6B4C-4B46-9B19-C74415E6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E018-3D19-4571-BA68-2719FB07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D0D6-30C5-4DAF-835A-688536C4115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357120" y="3143160"/>
            <a:ext cx="85726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Initiation au calcul litté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Développements et factoris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velopper le produit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1143000" y="3227400"/>
                <a:ext cx="678960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velopper le produit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1143000" y="3227400"/>
                <a:ext cx="678960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velopper le produit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6"/>
              <p:cNvSpPr txBox="1"/>
              <p:nvPr/>
            </p:nvSpPr>
            <p:spPr>
              <a:xfrm>
                <a:off x="2235240" y="3227400"/>
                <a:ext cx="460368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ctoriser la différenc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2408400" y="3227400"/>
                <a:ext cx="425916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ctoriser la somm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6"/>
              <p:cNvSpPr txBox="1"/>
              <p:nvPr/>
            </p:nvSpPr>
            <p:spPr>
              <a:xfrm>
                <a:off x="2292480" y="3343320"/>
                <a:ext cx="448920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velopper le produit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2235240" y="3227400"/>
                <a:ext cx="460368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velopper le produit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6"/>
              <p:cNvSpPr txBox="1"/>
              <p:nvPr/>
            </p:nvSpPr>
            <p:spPr>
              <a:xfrm>
                <a:off x="2235240" y="3227400"/>
                <a:ext cx="460368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ctoriser la somm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2349360" y="3343320"/>
                <a:ext cx="437364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ctoriser la différenc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6"/>
              <p:cNvSpPr txBox="1"/>
              <p:nvPr/>
            </p:nvSpPr>
            <p:spPr>
              <a:xfrm>
                <a:off x="2351160" y="3227400"/>
                <a:ext cx="437364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velopper le produit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6"/>
              <p:cNvSpPr txBox="1"/>
              <p:nvPr/>
            </p:nvSpPr>
            <p:spPr>
              <a:xfrm>
                <a:off x="2178000" y="3227400"/>
                <a:ext cx="471960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03-12T21:19:00Z</dcterms:modified>
  <cp:revision>33</cp:revision>
  <dc:subject/>
  <dc:title>8 x 4</dc:title>
</cp:coreProperties>
</file>