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D2B2-42D0-452D-A94C-D0C03D15A19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4FA0-1BA1-47AD-88FA-FA42AAE4383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2735-D075-4A8C-911A-AAE84C74E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C0C6-DD5F-4D71-83B9-48B52AFE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F31F-A21F-4824-B8B9-F05A8D252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3B60-3E20-48EC-99F6-D3610F607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52A7-E432-494F-9767-20E3BDCE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B2CB-E6D3-42B2-B23A-6161DA08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42CC-D86D-4FC7-9284-E4998C2C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1F00-2E8E-40B9-A75D-4EB0E5E7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D8D2-BAE9-480D-B6CE-3A6DC605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1F5D-1E67-459E-B010-7C21259E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7368-ECC7-4DCF-9353-933D6AC9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46B2-1843-4422-BF39-1AE856E3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DEB5-E8CC-47B8-A97A-7A70CC4A355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Révisions de 6è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63 :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72 :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8 x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45,6 x 1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56 + 5 somme ou produit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4 x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67,7 : 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6 × 8 somme ou produit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14,58 x 10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63,2 : 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6:49:30Z</dcterms:modified>
  <cp:revision>14</cp:revision>
  <dc:subject/>
  <dc:title>8 x 4</dc:title>
</cp:coreProperties>
</file>