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8549-DCF8-4627-A9ED-5EC0B24316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6569-52D6-4223-859A-831B371AF5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310-DD63-4149-8F62-FF2B41D4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8D57-29A0-4DAA-B889-F6908FD3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81B-2A3C-4485-BF55-DF6DADCA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576-C166-49D1-BC8C-DF169BE3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B6F-3E1A-4CAA-9A12-CD4FF8B2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BC6-0F0F-4822-9D61-02CD2C31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E20F-5A4A-43DA-92FA-298BC94D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02D-161A-42A1-9808-8E19CFA2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679-E91D-4128-B988-94B1361A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26EC-1DAB-425B-8490-6390FC69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73D-617B-4211-9249-53D54590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E4E-3F38-42BD-82B0-18E9BE49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F886-0CA9-4FB7-8126-2B98F0894AC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 ou la différence de deux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sans reten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,24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5,79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 1,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,6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,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5,81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3,1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,358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2,0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,457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2,0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5,79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 1,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,24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5,81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3,1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,3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,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6:58:45Z</dcterms:modified>
  <cp:revision>17</cp:revision>
  <dc:subject/>
  <dc:title>8 x 4</dc:title>
</cp:coreProperties>
</file>