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EADD-19CB-49E1-85FF-DD3B1F6951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3E5D-8C40-4EBE-856D-7047DF3437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28F-DEB4-41CB-9B90-B15B9570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B97-187A-4FF8-9237-66BD18D1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A70-AF01-495C-AEB8-E99717C5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7AB-4056-4DB4-824D-6C61F71E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788-DB30-47FF-B12F-04925BBF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3CF-6A82-44FB-B0EC-EE1D53FC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4C7-4027-46E1-91DB-D6785570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E3E-86A8-4810-95B2-318F086D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DC3-BD4E-456D-AB0F-1D724E70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ACD-E0B4-405E-9086-29FB58B1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EAA9-464D-4BA4-B0E5-0E2B259C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07D-1930-48E7-BDA0-F5C6507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F86F-C4F0-40EE-A53C-7478EBABDAC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les priorités opéra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2:16Z</dcterms:modified>
  <cp:revision>36</cp:revision>
  <dc:subject/>
  <dc:title>8 x 4</dc:title>
</cp:coreProperties>
</file>