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F82A-E4F4-44E3-8FD1-66C1BE3F7E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4DA5-36F8-456A-9F4D-B1506DFA7A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288-6823-4CD4-BEAE-6E4F5158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E5D-A330-4919-B0FA-36A61FD9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4D4-1F23-433F-92D6-A3303D80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DE6-2FB2-4BED-9635-4E73DB69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00D6-8A94-44DE-99A1-CE6AA43A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D455-10ED-41C8-A2C7-BA6DDC9C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0CD-5DF8-4275-8245-1D7194C4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73D-4D89-4ECC-A829-36270F09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3F8-52BB-4192-9705-72EE7E6F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F34-C004-4273-A4C5-D0DBF5EC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19E4-BE53-4FA7-8990-D35AE281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DF9-7493-472F-A594-324D3C72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4299-39E7-4B43-91D1-96EEE8ABD44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Simplifications de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vec les tab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7:02:57Z</dcterms:modified>
  <cp:revision>19</cp:revision>
  <dc:subject/>
  <dc:title>8 x 4</dc:title>
</cp:coreProperties>
</file>