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0222-8ADE-4125-A051-3CFF18C0E1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10A2-19FA-43FE-9994-8000BE5D45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57B-B497-4158-B88A-3AE5F9C2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A820-49B7-4097-A077-542B92E9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630-F666-4823-ABC5-9AE8CC42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40C8-0738-462A-9D23-CDABFBB0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569-076D-450C-8211-F0027F70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B31-25F2-4BA7-AAEF-C45C8323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9E8-9F65-4FAB-B6CB-0A45724C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155-1EE4-42F8-A412-3FAD70DF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8CEF-FE48-41E6-A1C0-EE4A9673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54E-DD40-4D32-BB44-5D3903BC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54D5-8AD9-402E-BDD3-3C02ABF0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9A5-EF16-4CEC-BFBA-C359EF59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3134-6D45-4640-8787-6D36C71F71B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la so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de deux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2130480" y="1714680"/>
                <a:ext cx="1382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130480" y="1714680"/>
                <a:ext cx="1382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5273640" y="1714680"/>
                <a:ext cx="18432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2187720" y="1714680"/>
                <a:ext cx="12650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5273640" y="1714680"/>
                <a:ext cx="18432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187720" y="1714680"/>
                <a:ext cx="12650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4:54Z</dcterms:modified>
  <cp:revision>40</cp:revision>
  <dc:subject/>
  <dc:title>8 x 4</dc:title>
</cp:coreProperties>
</file>