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1BB7-C757-4AA9-BD87-71EE6E75E6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511E-C4D9-4FF1-B527-B66BE1A9EB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311-7DAC-411C-9009-FE29A345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FF1-7B6D-4034-B565-B294B76D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E8F-A59E-40DA-B0E1-BF4A65AF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176-F104-43BF-AA22-3734244F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DC9-4B15-47B0-9BFD-B6877506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30E-E89B-496C-9FE1-3B5051AD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C68-748D-4D6E-A882-4B7829EF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BFA-7DD8-44D3-A53D-BE7A683B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7A1-453F-40D6-B962-1B8D1804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888-339D-458A-8401-95A50F5F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59C-F3EB-4E4E-91E7-F846A5EE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50EF-2DCB-4069-BC21-9514CF3B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6953-FAA4-47C4-AD9A-4E3C6ADAE4E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especter la priorité de la soustraction sur la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5 –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3 –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3 –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5 –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9 – 4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1 –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67 – 6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9 – 4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1 –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67 – 6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0:25Z</dcterms:modified>
  <cp:revision>25</cp:revision>
  <dc:subject/>
  <dc:title>8 x 4</dc:title>
</cp:coreProperties>
</file>