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8174-7ED9-47EC-9337-11F82B7A4B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D223-469C-4CFA-A3C4-F6BA997776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678-105B-4B0A-A4EC-3733C5BD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951-A474-4584-9F0D-3E9430C7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170-42E3-4813-A2FD-29AB1DB5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B53-391F-4022-ACC0-A6D7A763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D6C-A3A0-4818-91D9-5EB9BDB3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0B67-D1DD-4B39-ACEA-CEFEDA8C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F4F-4FDE-4E13-B7CC-3F7AFDF8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70E-E011-452D-A287-209714D4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193-6DAB-477B-A08F-63443BEB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600-7F04-48F8-920B-9125850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C57-D467-4728-9B6D-3A4D398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063-9562-49F1-B1E9-6BFAB60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4CCD-9C3E-4EBE-ADDC-9C87DEA7BC6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,87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8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98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8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,237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8T08:39:42Z</dcterms:modified>
  <cp:revision>24</cp:revision>
  <dc:subject/>
  <dc:title>8 x 4</dc:title>
</cp:coreProperties>
</file>