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A188-990F-40B9-9377-B565E4D311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1D40-889B-4D6F-9D90-78BE7C70DF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F71-8CE9-46F9-9A49-D44FBC29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A27-DC4F-4B4F-90B5-C8125FFC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780-193F-4313-89B1-C2FDB811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265-AD0E-4D7A-8BE7-9905E461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62F-87D1-41C4-A765-117C7925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3F2-53C5-47E1-B458-9E1FB2BB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1B3-0453-4D1E-BAD4-F86DE51D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869-6618-4B62-BD35-8174B336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3EC-0010-4401-A195-204C7F28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1A2-A905-48C1-A455-A240CFC9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805-DBB9-4992-9924-FD62624E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D5D-59C8-452A-AF84-96E5C4E5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6597-8C52-4A93-948A-5E17DC2A966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ngles dans un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rcRect l="0" t="10385" r="3849" b="11771"/>
          <a:stretch/>
        </p:blipFill>
        <p:spPr>
          <a:xfrm>
            <a:off x="857160" y="2214720"/>
            <a:ext cx="4357800" cy="373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5929200" y="2617920"/>
                <a:ext cx="257184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5900760" y="2643120"/>
                <a:ext cx="2628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9" name="Picture 8" descr=""/>
          <p:cNvPicPr/>
          <p:nvPr/>
        </p:nvPicPr>
        <p:blipFill>
          <a:blip r:embed="rId1"/>
          <a:srcRect l="2176" t="6733" r="6252" b="10184"/>
          <a:stretch/>
        </p:blipFill>
        <p:spPr>
          <a:xfrm>
            <a:off x="785880" y="2071800"/>
            <a:ext cx="478620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5958000" y="2643120"/>
                <a:ext cx="2514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" name="Picture 7" descr=""/>
          <p:cNvPicPr/>
          <p:nvPr/>
        </p:nvPicPr>
        <p:blipFill>
          <a:blip r:embed="rId1"/>
          <a:srcRect l="1778" t="7734" r="7362" b="7208"/>
          <a:stretch/>
        </p:blipFill>
        <p:spPr>
          <a:xfrm>
            <a:off x="357120" y="2714760"/>
            <a:ext cx="64580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rcRect l="3498" t="5175" r="5370" b="6895"/>
          <a:stretch/>
        </p:blipFill>
        <p:spPr>
          <a:xfrm>
            <a:off x="928800" y="2214720"/>
            <a:ext cx="3643200" cy="40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5986440" y="2643120"/>
                <a:ext cx="245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5900760" y="2643120"/>
                <a:ext cx="2628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Picture 8" descr=""/>
          <p:cNvPicPr/>
          <p:nvPr/>
        </p:nvPicPr>
        <p:blipFill>
          <a:blip r:embed="rId1"/>
          <a:srcRect l="2176" t="6733" r="6252" b="10184"/>
          <a:stretch/>
        </p:blipFill>
        <p:spPr>
          <a:xfrm>
            <a:off x="785880" y="2071800"/>
            <a:ext cx="478620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rcRect l="0" t="12706" r="0" b="11019"/>
          <a:stretch/>
        </p:blipFill>
        <p:spPr>
          <a:xfrm>
            <a:off x="357120" y="2643120"/>
            <a:ext cx="7264440" cy="27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5843520" y="2643120"/>
                <a:ext cx="27432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rcRect l="3498" t="5175" r="5370" b="6895"/>
          <a:stretch/>
        </p:blipFill>
        <p:spPr>
          <a:xfrm>
            <a:off x="928800" y="2214720"/>
            <a:ext cx="3643200" cy="40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5986440" y="2643120"/>
                <a:ext cx="245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rcRect l="0" t="10385" r="3849" b="11771"/>
          <a:stretch/>
        </p:blipFill>
        <p:spPr>
          <a:xfrm>
            <a:off x="857160" y="2214720"/>
            <a:ext cx="4357800" cy="373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5929200" y="2585880"/>
                <a:ext cx="2571840" cy="10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rcRect l="0" t="12706" r="0" b="11019"/>
          <a:stretch/>
        </p:blipFill>
        <p:spPr>
          <a:xfrm>
            <a:off x="357120" y="2643120"/>
            <a:ext cx="7264440" cy="27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5843520" y="2643120"/>
                <a:ext cx="27432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5958000" y="2643120"/>
                <a:ext cx="2514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" name="Picture 7" descr=""/>
          <p:cNvPicPr/>
          <p:nvPr/>
        </p:nvPicPr>
        <p:blipFill>
          <a:blip r:embed="rId1"/>
          <a:srcRect l="1778" t="7734" r="7362" b="7208"/>
          <a:stretch/>
        </p:blipFill>
        <p:spPr>
          <a:xfrm>
            <a:off x="357120" y="2714760"/>
            <a:ext cx="64580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10-01-21T14:49:46Z</dcterms:modified>
  <cp:revision>36</cp:revision>
  <dc:subject/>
  <dc:title>8 x 4</dc:title>
</cp:coreProperties>
</file>