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D056-9F76-4CD7-A0AC-CAD5A22CF8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45B8-84EC-4920-84EF-528BFFFADD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91C-C50D-4298-9349-51EE56CB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F9D-3030-4129-A84D-15F33AB7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501-0697-427B-AABA-C99E2064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012-8401-472D-ABA8-245514EC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C65-8C6C-4E0D-A61E-A0BB75FF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ABC-80F3-4648-92B2-0F485088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9F4-1EF3-40AC-A4E7-F9A8C402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03F-C3F3-4222-9DC5-37FC84C4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CB4-C651-413C-A1EF-8CBFE39F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DD6-9D4D-4DCA-94D4-4D6AA269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C67-4CC6-425C-9CB1-F72016F3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5F2C-4F0B-40E2-9D7C-A12C7194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A9CB-14D0-4E1D-9731-878CC207064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21877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609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1877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609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3:36Z</dcterms:modified>
  <cp:revision>39</cp:revision>
  <dc:subject/>
  <dc:title>8 x 4</dc:title>
</cp:coreProperties>
</file>