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7F3F-F6AF-483C-93CF-FB841268F6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8D04-FE58-43A1-87E9-5E51426648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18E-AD2C-48A4-B11F-DA293898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EB9-FF86-4B15-8FFB-B2AFA52C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927-604F-48F2-8E73-557985C1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697-968B-4187-9477-2B4FB172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E2E-3A2C-469D-8162-34F58B2C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9814-49BF-4F1D-BC14-AE51BC6A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B14-F58D-4BC0-A479-4988D9BF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6BA-8AB6-45A3-A5CA-8DDA76DE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E97-BA9A-4998-A6D9-F1DE717E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7F6-A645-459F-A2C2-77C92EC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7BA-DD2E-4D63-8986-8A746199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CCB-C66E-4457-B9CD-375AB6A4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B82C-D28A-410F-8D3A-DF4194C5193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’addi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9:01Z</dcterms:modified>
  <cp:revision>23</cp:revision>
  <dc:subject/>
  <dc:title>8 x 4</dc:title>
</cp:coreProperties>
</file>