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BB64-9AF3-491F-BC44-577D80B10A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41E3-95C8-4BAB-8D9B-4BB075EB01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7331-2314-412E-8903-8ECA6992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D943-4D01-44DE-B123-9510C5C1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3AAC-F5E1-4459-BA20-C1D1ED53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1A88-F9F1-4934-B0D9-B3B0C8E8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F391-F685-4F40-9269-FBE4C262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1E5-FF93-4F3F-A2BD-C54703D7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F6F6-8149-45AF-8119-9F306F76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93C8-2B7B-4F2C-BE11-E7A3B439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B065-F1FA-4D9D-8160-36D61F15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EFD7-82D7-455D-94D4-CB0928B2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A7CC-663F-4D4E-B1C8-6CC3F8DF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64C1-A5D9-4B6D-958B-696BE5CA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070E-D0C0-4D93-A304-23FEB6025B4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la so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de deux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6"/>
              <p:cNvSpPr txBox="1"/>
              <p:nvPr/>
            </p:nvSpPr>
            <p:spPr>
              <a:xfrm>
                <a:off x="1900080" y="1714680"/>
                <a:ext cx="18450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8"/>
              <p:cNvSpPr txBox="1"/>
              <p:nvPr/>
            </p:nvSpPr>
            <p:spPr>
              <a:xfrm>
                <a:off x="5273640" y="1714680"/>
                <a:ext cx="18432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8"/>
              <p:cNvSpPr txBox="1"/>
              <p:nvPr/>
            </p:nvSpPr>
            <p:spPr>
              <a:xfrm>
                <a:off x="5560920" y="1714680"/>
                <a:ext cx="12686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900080" y="1714680"/>
                <a:ext cx="18450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1900080" y="1714680"/>
                <a:ext cx="1841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8"/>
              <p:cNvSpPr txBox="1"/>
              <p:nvPr/>
            </p:nvSpPr>
            <p:spPr>
              <a:xfrm>
                <a:off x="550404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5560920" y="1714680"/>
                <a:ext cx="12686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ZoneTexte 11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2187720" y="1714680"/>
                <a:ext cx="12650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1900080" y="1714680"/>
                <a:ext cx="1841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8"/>
              <p:cNvSpPr txBox="1"/>
              <p:nvPr/>
            </p:nvSpPr>
            <p:spPr>
              <a:xfrm>
                <a:off x="550404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5273640" y="1714680"/>
                <a:ext cx="18432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2187720" y="1714680"/>
                <a:ext cx="12650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16:23Z</dcterms:modified>
  <cp:revision>42</cp:revision>
  <dc:subject/>
  <dc:title>8 x 4</dc:title>
</cp:coreProperties>
</file>