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A859-74E0-4A26-9D16-D17A06BAE2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90F-108F-4CD8-BC44-EE7804898B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48CF-4D5A-472A-9664-FA7BE66325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4CA4-7A94-47D1-8E6F-DD9F311D65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8842-5F46-4227-9FA8-03E65D32AE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B9E0-5E6F-4EE2-B20F-A3AD69ECF1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55F7-7587-41DD-85D9-9F28991801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F1F-20EC-4728-A0A1-AFBEAFC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D79-F98B-4C60-B5EE-6E209B4F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25E-9647-4F7C-A35D-9D695FC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05C-226C-4182-A9DC-9F9F70EB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46B-01B7-43F5-A2AE-F9F1F100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450-92A6-4E65-84E2-90A3F334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844-3A5B-4512-BDC2-CEFFA9B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479-62F9-4344-9D5E-6B05800A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C58-0490-45F3-899E-E176C59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B26-43E8-41A9-A466-5458F780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E5F-15A4-46E8-8B5C-2ADB17A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C0B-A78F-4208-8CCF-D3A88BA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E0AD-E16C-4827-BCF1-CC61375716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2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n 51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285920" y="2571840"/>
                <a:ext cx="64450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28880" y="1928880"/>
                <a:ext cx="1841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532480" y="19288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ZoneTexte 8"/>
          <p:cNvSpPr/>
          <p:nvPr/>
        </p:nvSpPr>
        <p:spPr>
          <a:xfrm>
            <a:off x="4172040" y="3214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28800" y="2571840"/>
                <a:ext cx="71355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bscis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34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36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39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41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43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45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47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49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51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2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53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4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55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56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57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58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59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60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61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62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63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64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65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6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7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8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9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70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71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2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3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4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5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6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7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8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9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1357200" y="257184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357200" y="271476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rdonn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30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32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34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36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38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40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1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42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43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44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5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46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7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48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9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50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1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52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3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54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56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7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58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9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0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1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2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63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64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5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6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7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8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9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0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1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2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73" name="Connecteur droit 96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cteur droit 97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071720" y="2643120"/>
                <a:ext cx="7019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nombre 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est-il solution de l’équation suivan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42960" y="3000240"/>
                <a:ext cx="77151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9288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9288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2148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1714680" y="2071800"/>
                <a:ext cx="540828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4172040" cy="3646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357120" y="10000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hoisis la bonne répon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érimètre de cette figure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071960" y="2357280"/>
            <a:ext cx="5072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5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ordonn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9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0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0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0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0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0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1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1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1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1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1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1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2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2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2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2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2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2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2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3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3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3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4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41" name="Connecteur droit 4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cteur droit 49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solution de l’é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643040" y="2000160"/>
                <a:ext cx="557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"/>
              <p:cNvSpPr txBox="1"/>
              <p:nvPr/>
            </p:nvSpPr>
            <p:spPr>
              <a:xfrm>
                <a:off x="357120" y="2357280"/>
                <a:ext cx="83520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657440" y="2071800"/>
                <a:ext cx="552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ég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28880" y="2071800"/>
                <a:ext cx="53848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vraie qu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et   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668160" y="2473200"/>
                <a:ext cx="78249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71680" y="150012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2292480" y="31291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71680" y="135720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235240" y="287028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s mesures de deux angles complémentaires est égale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1143000" y="28576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90°?       ou       180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5-28T20:47:44Z</dcterms:modified>
  <cp:revision>77</cp:revision>
  <dc:subject/>
  <dc:title>8 x 4</dc:title>
</cp:coreProperties>
</file>