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F7D5-B998-46CD-8222-C00B550C3D9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7352-51E6-4D8F-B913-D1FB1FDBDCE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B1B1-E1D9-4F85-A54C-C9E489C45A3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10AF-7D31-4022-ACF9-C350266111A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DB1A-4D07-49C0-947F-96FB5465EF2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0464-AF33-4583-A55F-C8C0A078F84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86FB-5FB0-4049-8F71-77B1FD1A60F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8DD6-2D49-4F94-8E33-4AAEA0DC3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BD8E-678F-4B54-AFCD-F69801BA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0EBC-962F-4C21-8BE4-A3100BEBF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DF80-93BB-4B9A-9539-BB5DCFD5B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242F-9B52-4D4D-9AEB-8BE27E11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163C-1F47-45FE-B8C5-0CD27CD0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7297-28F1-4565-A86A-94A30A3C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01A2-BA96-420A-8756-4788C707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75E8-6C75-4763-8B96-C5D8934E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E377-B02B-4AA3-989C-4DFFF2DB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F99B-45FD-4F89-B591-4CBE847D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83CC-566F-49AC-A4ED-C7E9F469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b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260C-5311-42A7-995E-AA3060F7063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Révision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785880" y="342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Chapitre 1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 : priorités de calc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Chapitre 2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 : triangles et droites remarqu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Chapitre 3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 : fractions (simplifications comparais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3,8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à l’unité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rcRect l="4813" t="15154" r="4813" b="37546"/>
          <a:stretch/>
        </p:blipFill>
        <p:spPr>
          <a:xfrm>
            <a:off x="428760" y="2286000"/>
            <a:ext cx="3429000" cy="3886200"/>
          </a:xfrm>
          <a:prstGeom prst="rect">
            <a:avLst/>
          </a:prstGeom>
          <a:ln w="0">
            <a:noFill/>
          </a:ln>
        </p:spPr>
      </p:pic>
      <p:sp>
        <p:nvSpPr>
          <p:cNvPr id="87" name="ZoneTexte 7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5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6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t xml:space="preserve">?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9,6428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214200" y="1714680"/>
            <a:ext cx="87868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5840" y="1428480"/>
            <a:ext cx="850104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rcRect l="0" t="14562" r="0" b="35912"/>
          <a:stretch/>
        </p:blipFill>
        <p:spPr>
          <a:xfrm>
            <a:off x="500040" y="2143080"/>
            <a:ext cx="3519360" cy="4143600"/>
          </a:xfrm>
          <a:prstGeom prst="rect">
            <a:avLst/>
          </a:prstGeom>
          <a:ln w="0">
            <a:noFill/>
          </a:ln>
        </p:spPr>
      </p:pic>
      <p:sp>
        <p:nvSpPr>
          <p:cNvPr id="99" name="ZoneTexte 6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840" y="2714400"/>
            <a:ext cx="8572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3 + 4 × 7 – 1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,872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1680" y="2785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2 × (14 </a:t>
            </a:r>
            <a:r>
              <a:rPr b="1" lang="fr-FR" sz="7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 4 × 3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1428480"/>
            <a:ext cx="8286480" cy="136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s trois segments tracés peuvent-ils être les trois côtés d’un triangl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3414" t="10628" r="7914" b="11414"/>
          <a:stretch/>
        </p:blipFill>
        <p:spPr>
          <a:xfrm>
            <a:off x="642960" y="3429000"/>
            <a:ext cx="5429160" cy="2297160"/>
          </a:xfrm>
          <a:prstGeom prst="rect">
            <a:avLst/>
          </a:prstGeom>
          <a:ln w="0">
            <a:noFill/>
          </a:ln>
        </p:spPr>
      </p:pic>
      <p:sp>
        <p:nvSpPr>
          <p:cNvPr id="115" name="ZoneTexte 7"/>
          <p:cNvSpPr/>
          <p:nvPr/>
        </p:nvSpPr>
        <p:spPr>
          <a:xfrm>
            <a:off x="6929280" y="3857760"/>
            <a:ext cx="171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ui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5840" y="28573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5 × 6 – 3 ×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5"/>
              <p:cNvSpPr txBox="1"/>
              <p:nvPr/>
            </p:nvSpPr>
            <p:spPr>
              <a:xfrm>
                <a:off x="1785960" y="2428920"/>
                <a:ext cx="20700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6"/>
              <p:cNvSpPr txBox="1"/>
              <p:nvPr/>
            </p:nvSpPr>
            <p:spPr>
              <a:xfrm>
                <a:off x="5543640" y="2428920"/>
                <a:ext cx="12668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7,138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214200" y="1714680"/>
            <a:ext cx="8715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 produit de 20 par la</a:t>
            </a: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ifférence de 5 et 3 vaut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97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40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45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8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8"/>
              <p:cNvSpPr txBox="1"/>
              <p:nvPr/>
            </p:nvSpPr>
            <p:spPr>
              <a:xfrm>
                <a:off x="5141880" y="2428920"/>
                <a:ext cx="20732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Pour tracer le cercle circonscrit à un triangle, il faut construire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les médiatric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les médian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les hauteur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6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8"/>
              <p:cNvSpPr txBox="1"/>
              <p:nvPr/>
            </p:nvSpPr>
            <p:spPr>
              <a:xfrm>
                <a:off x="5313240" y="2428920"/>
                <a:ext cx="17290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3,15 × 101 est égal à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316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301,51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318,15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un triangle, l’orthocentre est le point d’intersection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tric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n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hauteur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8"/>
              <p:cNvSpPr txBox="1"/>
              <p:nvPr/>
            </p:nvSpPr>
            <p:spPr>
              <a:xfrm>
                <a:off x="5545080" y="2428920"/>
                <a:ext cx="12668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13 – 2 × 3 +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6"/>
              <p:cNvSpPr txBox="1"/>
              <p:nvPr/>
            </p:nvSpPr>
            <p:spPr>
              <a:xfrm>
                <a:off x="1900080" y="2428920"/>
                <a:ext cx="18399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8"/>
              <p:cNvSpPr txBox="1"/>
              <p:nvPr/>
            </p:nvSpPr>
            <p:spPr>
              <a:xfrm>
                <a:off x="5543640" y="2428920"/>
                <a:ext cx="12682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un triangle, le centre de gravité est le point d’intersection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tric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n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hauteur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12 + 9 – 5 × 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a somme de 3 et du produit </a:t>
            </a: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e 2 par 5 vaut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11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17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13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est égal à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oneTexte 7"/>
          <p:cNvSpPr/>
          <p:nvPr/>
        </p:nvSpPr>
        <p:spPr>
          <a:xfrm>
            <a:off x="857160" y="2857680"/>
            <a:ext cx="450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 3,8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8,3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      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4"/>
              <p:cNvSpPr txBox="1"/>
              <p:nvPr/>
            </p:nvSpPr>
            <p:spPr>
              <a:xfrm>
                <a:off x="2508120" y="1000080"/>
                <a:ext cx="55404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3"/>
              <p:cNvSpPr txBox="1"/>
              <p:nvPr/>
            </p:nvSpPr>
            <p:spPr>
              <a:xfrm>
                <a:off x="1357200" y="4643280"/>
                <a:ext cx="80172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,3</m:t>
                        </m:r>
                      </m:num>
                      <m:den>
                        <m:r>
                          <m:t xml:space="preserve">0,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357120" y="2857680"/>
            <a:ext cx="84297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13,7 × 62,5 + 13,7 × 37,5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57120" y="2857680"/>
            <a:ext cx="84297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21,32 × 18 </a:t>
            </a: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 21,32 × 8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42960" y="2357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3 + 7 ×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149976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s trois segments tracés peuvent-ils être les trois côtés d’un triangl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rcRect l="3352" t="5873" r="3816" b="8872"/>
          <a:stretch/>
        </p:blipFill>
        <p:spPr>
          <a:xfrm>
            <a:off x="571680" y="3214800"/>
            <a:ext cx="5929200" cy="2071440"/>
          </a:xfrm>
          <a:prstGeom prst="rect">
            <a:avLst/>
          </a:prstGeom>
          <a:ln w="0">
            <a:noFill/>
          </a:ln>
        </p:spPr>
      </p:pic>
      <p:sp>
        <p:nvSpPr>
          <p:cNvPr id="62" name="ZoneTexte 8"/>
          <p:cNvSpPr/>
          <p:nvPr/>
        </p:nvSpPr>
        <p:spPr>
          <a:xfrm>
            <a:off x="5214960" y="4643280"/>
            <a:ext cx="36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ui ?  -  N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6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5"/>
              <p:cNvSpPr txBox="1"/>
              <p:nvPr/>
            </p:nvSpPr>
            <p:spPr>
              <a:xfrm>
                <a:off x="1785960" y="2428920"/>
                <a:ext cx="20700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6"/>
              <p:cNvSpPr txBox="1"/>
              <p:nvPr/>
            </p:nvSpPr>
            <p:spPr>
              <a:xfrm>
                <a:off x="5486400" y="2428920"/>
                <a:ext cx="1382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6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5,71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50920" y="333360"/>
            <a:ext cx="439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6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4200" y="1428840"/>
            <a:ext cx="87868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rcRect l="9778" t="20520" r="14512" b="25568"/>
          <a:stretch/>
        </p:blipFill>
        <p:spPr>
          <a:xfrm>
            <a:off x="500040" y="2428920"/>
            <a:ext cx="3672000" cy="3786120"/>
          </a:xfrm>
          <a:prstGeom prst="rect">
            <a:avLst/>
          </a:prstGeom>
          <a:ln w="0">
            <a:noFill/>
          </a:ln>
        </p:spPr>
      </p:pic>
      <p:sp>
        <p:nvSpPr>
          <p:cNvPr id="74" name="ZoneTexte 7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2960" y="2571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50 – [3 × (4 + 5)]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12-07T20:04:08Z</dcterms:modified>
  <cp:revision>49</cp:revision>
  <dc:subject/>
  <dc:title>8 x 4</dc:title>
</cp:coreProperties>
</file>