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2495-0D1C-485F-8246-69163CBC2C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6EF-3B33-443D-81AB-B4C4B1A830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C73-B017-47F7-8A82-FA6776BD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373-9931-4B31-BE59-07E41A19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D2F-B627-4850-A8B6-D09CE9B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71B-01F9-40BB-BD9B-A910476E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222-431A-4670-9A29-1FF59F2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4D7-0359-4FE7-BE56-3DA37009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0A7-EC76-4FFF-8F8E-F9BC946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3F1-2199-4132-8786-1CDDD0F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8A4-2BF5-44F3-B5C0-8BB61E1E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0F8-0ECB-4FCC-A446-DEC365D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BDA-B780-4781-9088-DB55751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890-23E4-4DC5-B173-D6B6FCC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DED1-83C6-4A06-AEFD-DC073995FEF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arallélogrammes partic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4-12T09:10:46Z</dcterms:modified>
  <cp:revision>39</cp:revision>
  <dc:subject/>
  <dc:title>8 x 4</dc:title>
</cp:coreProperties>
</file>