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5CA96-5460-4339-83DD-E676DB85CFF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C7B74-BEDE-4E36-9F17-249C1485606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FB0F-B2A1-498C-9308-C3223ED99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3020-C692-40B4-B392-174EA1465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F66E-44F4-4B2D-A081-604671E74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36E6-064A-4AE0-A0D7-6544EBAB9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3E75-23F6-4C3D-A3CE-12AE2B6E2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4428-4CBF-4022-B1B3-D7D2E29BF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88C5-0DA8-438D-AA64-1AE30E462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F3FA-52BC-4AF9-90F2-5DEBAD2B5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6B84-6433-4F09-87BB-6D283D0BA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B80C-17A3-408B-A2BB-FCAE9DB5F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2889-00D5-4B33-BBE7-5FB22D242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8445-C6D6-4EC1-AF34-618A8A584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8A295-587E-4FF4-A566-558241CF628C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Calcul menta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85716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Comparaison de f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(compléter par &lt; ou &gt;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828684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rouver le symbole manquant :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&lt; ou 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6"/>
              <p:cNvSpPr txBox="1"/>
              <p:nvPr/>
            </p:nvSpPr>
            <p:spPr>
              <a:xfrm>
                <a:off x="1843200" y="2428920"/>
                <a:ext cx="195552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Object 8"/>
              <p:cNvSpPr txBox="1"/>
              <p:nvPr/>
            </p:nvSpPr>
            <p:spPr>
              <a:xfrm>
                <a:off x="5313240" y="2428920"/>
                <a:ext cx="172908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" name="ZoneTexte 8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828684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rouver le symbole manquant :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&lt; ou 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6"/>
              <p:cNvSpPr txBox="1"/>
              <p:nvPr/>
            </p:nvSpPr>
            <p:spPr>
              <a:xfrm>
                <a:off x="1843200" y="2428920"/>
                <a:ext cx="195552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8"/>
              <p:cNvSpPr txBox="1"/>
              <p:nvPr/>
            </p:nvSpPr>
            <p:spPr>
              <a:xfrm>
                <a:off x="5313240" y="2428920"/>
                <a:ext cx="172908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0" name="ZoneTexte 8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3429000" y="17146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"/>
          <p:cNvSpPr/>
          <p:nvPr/>
        </p:nvSpPr>
        <p:spPr>
          <a:xfrm>
            <a:off x="2500200" y="364320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Posez les sty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828684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rouver le symbole manquant :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&lt; ou 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Object 6"/>
              <p:cNvSpPr txBox="1"/>
              <p:nvPr/>
            </p:nvSpPr>
            <p:spPr>
              <a:xfrm>
                <a:off x="1785960" y="242892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7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Object 8"/>
              <p:cNvSpPr txBox="1"/>
              <p:nvPr/>
            </p:nvSpPr>
            <p:spPr>
              <a:xfrm>
                <a:off x="5199120" y="2428920"/>
                <a:ext cx="195876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4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" name="ZoneTexte 8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828684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rouver le symbole manquant :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&lt; ou 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6"/>
              <p:cNvSpPr txBox="1"/>
              <p:nvPr/>
            </p:nvSpPr>
            <p:spPr>
              <a:xfrm>
                <a:off x="1843200" y="2428920"/>
                <a:ext cx="195552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Object 8"/>
              <p:cNvSpPr txBox="1"/>
              <p:nvPr/>
            </p:nvSpPr>
            <p:spPr>
              <a:xfrm>
                <a:off x="5199120" y="2428920"/>
                <a:ext cx="195876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0" name="ZoneTexte 8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828684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rouver le symbole manquant :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&lt; ou 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6"/>
              <p:cNvSpPr txBox="1"/>
              <p:nvPr/>
            </p:nvSpPr>
            <p:spPr>
              <a:xfrm>
                <a:off x="1785960" y="242892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8"/>
              <p:cNvSpPr txBox="1"/>
              <p:nvPr/>
            </p:nvSpPr>
            <p:spPr>
              <a:xfrm>
                <a:off x="5141880" y="2428920"/>
                <a:ext cx="207324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" name="ZoneTexte 8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828684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rouver le symbole manquant :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&lt; ou 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6"/>
              <p:cNvSpPr txBox="1"/>
              <p:nvPr/>
            </p:nvSpPr>
            <p:spPr>
              <a:xfrm>
                <a:off x="1843200" y="2428920"/>
                <a:ext cx="195552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Object 8"/>
              <p:cNvSpPr txBox="1"/>
              <p:nvPr/>
            </p:nvSpPr>
            <p:spPr>
              <a:xfrm>
                <a:off x="5199120" y="2428920"/>
                <a:ext cx="195876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0" name="ZoneTexte 8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828684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rouver le symbole manquant :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&lt; ou 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6"/>
              <p:cNvSpPr txBox="1"/>
              <p:nvPr/>
            </p:nvSpPr>
            <p:spPr>
              <a:xfrm>
                <a:off x="2130480" y="2428920"/>
                <a:ext cx="138096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ct 8"/>
              <p:cNvSpPr txBox="1"/>
              <p:nvPr/>
            </p:nvSpPr>
            <p:spPr>
              <a:xfrm>
                <a:off x="5141880" y="2428920"/>
                <a:ext cx="207504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" name="ZoneTexte 8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828684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rouver le symbole manquant :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&lt; ou 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6"/>
              <p:cNvSpPr txBox="1"/>
              <p:nvPr/>
            </p:nvSpPr>
            <p:spPr>
              <a:xfrm>
                <a:off x="2189160" y="2428920"/>
                <a:ext cx="12654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Object 8"/>
              <p:cNvSpPr txBox="1"/>
              <p:nvPr/>
            </p:nvSpPr>
            <p:spPr>
              <a:xfrm>
                <a:off x="5199120" y="2428920"/>
                <a:ext cx="195876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0" name="ZoneTexte 8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828684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rouver le symbole manquant :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&lt; ou 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6"/>
              <p:cNvSpPr txBox="1"/>
              <p:nvPr/>
            </p:nvSpPr>
            <p:spPr>
              <a:xfrm>
                <a:off x="1785960" y="242892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8"/>
              <p:cNvSpPr txBox="1"/>
              <p:nvPr/>
            </p:nvSpPr>
            <p:spPr>
              <a:xfrm>
                <a:off x="5141880" y="2428920"/>
                <a:ext cx="207324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5" name="ZoneTexte 8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828684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rouver le symbole manquant :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&lt; ou 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6"/>
              <p:cNvSpPr txBox="1"/>
              <p:nvPr/>
            </p:nvSpPr>
            <p:spPr>
              <a:xfrm>
                <a:off x="1843200" y="2428920"/>
                <a:ext cx="195552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Object 8"/>
              <p:cNvSpPr txBox="1"/>
              <p:nvPr/>
            </p:nvSpPr>
            <p:spPr>
              <a:xfrm>
                <a:off x="5141880" y="2428920"/>
                <a:ext cx="207324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0" name="ZoneTexte 8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8-09-11T17:10:57Z</dcterms:modified>
  <cp:revision>36</cp:revision>
  <dc:subject/>
  <dc:title>8 x 4</dc:title>
</cp:coreProperties>
</file>