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F2B4-3E5D-4194-9865-9B626B3864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984A-2B9C-438E-8C4C-4EC7810BB1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4FD1-0F08-48A2-9B70-C0DE71CC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7D7-9F31-4C6D-BA18-00A97CDE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D7D-28F6-41E8-A0B8-12EA5BD2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B289-EEF0-4B6D-BBD9-9A65FAE0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5B40-323B-4490-A858-DEF90F34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FFD-DF6A-4611-B021-CC5CABE3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6BB-EE91-4DF3-BD52-449D9CC0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1F4-5525-4D7B-94D2-B29079BB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97F-55DA-42FC-81CA-817E7087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3AA-AB2A-4ACA-AE45-EAFBC815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351-4275-41CF-A540-DBC41B05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55E-8707-40FE-A013-7877A6D4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A16C-1779-4ED6-A705-409FEA7C992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en respectant les priorités opératoires (sans parenthè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25 × 4 – 45 – 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25 × 4 – 45 – 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3 + 4 × 7 – 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4 + 4 × 7 –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1:45Z</dcterms:modified>
  <cp:revision>30</cp:revision>
  <dc:subject/>
  <dc:title>8 x 4</dc:title>
</cp:coreProperties>
</file>