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B0A6-BD5F-41F0-ABA8-F36EA0F608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7342-D275-437A-A510-8A3577C318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3FD-CE58-4C91-AA15-5E62F03F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335-6107-455B-9280-F600ACA1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366-E3A9-478D-B392-5C6D1EBB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CC7-BED2-4E39-9FB2-923B21D9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50A-7F70-406E-8449-EB187F43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961-AE27-43E8-905A-0920800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86A-529F-4448-925D-4E3C739D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39E-92AA-4842-9217-1DA3EEA7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7C2-8358-4964-91E4-D471C184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544-E99D-47A2-AB1A-6D6D6531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1A7-1FF6-4E45-8A04-4DB7962B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B61-3502-4E8B-BA02-4DC50A5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F574-B204-48AA-8073-4F1036990BD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 et 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3:49Z</dcterms:modified>
  <cp:revision>44</cp:revision>
  <dc:subject/>
  <dc:title>8 x 4</dc:title>
</cp:coreProperties>
</file>