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EC2D-C905-44F2-84B7-B8BDB5C470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38D-15E5-4760-BC1F-6C096F39C4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AB05-9549-4102-B6C1-15D8C016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CBF-193F-48C0-ADD1-80762A1D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CF8-10B1-4ADC-B05D-25CE0DE7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33F-3A01-4E2D-82B4-A0AD9CA1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A5D-6165-4B8E-A1FA-EF3A974D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EE8-825A-4311-A712-4ED9220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901-27CC-428B-90C7-633461FC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46F-227E-4121-96A9-81D595F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6DF-C7A0-4C74-BB2E-04F2549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8D1-DA12-4D93-8C18-AFD7B493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BFB-4E3D-4148-BD87-E7A0AF46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A9C-2A7E-4FD0-BEA8-D74C5411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E85-59F5-4656-B363-C859B4ADA2B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3:16Z</dcterms:modified>
  <cp:revision>20</cp:revision>
  <dc:subject/>
  <dc:title>8 x 4</dc:title>
</cp:coreProperties>
</file>