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478F-2A3C-48E7-B7DC-532A4D39C1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EA32-539A-4F54-A41A-CFA1D99DE7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D20-D865-48EC-A9E3-367E1E91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AAF-1EDE-44AE-A366-9CC8647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1C0-1293-426D-A721-0533AC2E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640-ADED-4802-85E4-5C2B63FA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BEE3-9FED-4356-8164-106BFF75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84A-0196-4DC2-B1B5-0FB633C5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5B7-CE2F-4627-93F1-344E846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015-5B8E-4C5C-9F77-E6B48CE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7C72-3E6C-4F16-8AB5-73F18E9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018-AEA2-451A-89A5-2F7775C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F5D-3ED5-47FF-B757-67EAB6E7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E85-D15B-4672-9460-694E61EA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3A83-6F17-4EAC-B79B-D8E06C4E02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47:56Z</dcterms:modified>
  <cp:revision>42</cp:revision>
  <dc:subject/>
  <dc:title>8 x 4</dc:title>
</cp:coreProperties>
</file>