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B2A4-08E9-4D76-8EA9-19355C4669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23A5-B719-4580-BD9F-AB937F91B8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A01-D7DA-47E2-8BAD-D227027C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AB8-689E-47B3-9E03-5BFFC255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796-0E07-428C-8EFA-29B76F6D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3725-92CC-4AF2-A149-2514A00D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5DE-63FB-484A-B6FB-A6D450F6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5B0-F126-4DFA-8288-8E6B7D57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7F1-A4AF-4EB6-BB16-24899227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2FF-C863-45E3-B967-75048AB0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B35-7D7E-49D7-8F94-488FF73A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5FA-0CB1-4ED1-A3F5-F8D18C66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DEB-6C01-46E2-A95A-AF91C912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7C5-2057-4644-9160-1A866CC3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86BD-61BF-4461-8694-1F5EF71CF3B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00040" y="3143160"/>
            <a:ext cx="8286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rro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à l’unité, au 1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, au 10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…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5,7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,87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85840" y="1714680"/>
            <a:ext cx="871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,732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2,8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5:36Z</dcterms:modified>
  <cp:revision>23</cp:revision>
  <dc:subject/>
  <dc:title>8 x 4</dc:title>
</cp:coreProperties>
</file>