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897B-A7E2-4CF9-A94B-F9ADFD8EDE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5F04-1DD5-40C9-A37F-37ECD2EBDB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819-0326-41B4-B093-6649F443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39A-6BA7-47A5-99CB-99B76425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207-AF10-4081-9F8D-0B640F47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7F3-8E58-4A84-BCF1-15AB06C3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3A2-5402-41F9-9BA8-787E58CB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CEA-0738-4DB0-BC75-760D0EB6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D6D-1A63-4FDA-A68C-0D9539F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617-1C87-4792-9100-1F447F3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429-FD85-4E58-A80E-A83A7BE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7FB-9E54-4EC4-A4B1-BB8E5E43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1AF-E4FA-4442-9BF3-DD69F28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EA8-CC60-48F7-A7C4-CB447D19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563-61AA-4931-A6AC-C5583AB5DFE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et 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88" name="Connecteur droit avec flèche 10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89" name="Connecteur droit avec flèche 12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12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9" name="Connecteur droit avec flèche 13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9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8T22:24:53Z</dcterms:modified>
  <cp:revision>41</cp:revision>
  <dc:subject/>
  <dc:title>8 x 4</dc:title>
</cp:coreProperties>
</file>