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EE6B-B56E-46F1-A372-F2FB310581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1916-92DE-42F6-9235-EC43130DB2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E5ED-DF86-4AC0-9A65-3875CFD22C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113F-2DA4-4946-AF01-1C107D3E25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033B-B34F-4D95-A2D5-601578582C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A21C-7A09-4002-BF32-4D3D39AEDD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35EF-A648-4448-8FB1-E07B3CB76A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0E6-881C-4F5C-9369-086F8812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C56-5765-4E2D-8AE3-730AE0E6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681-3663-4492-B857-369517AD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242-E6B1-4DEA-AB5B-6B4DD40E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265-4D8B-43C8-AD93-E5FA389A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AE1-FCC3-4C67-904C-AB8F2C8E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2AF-138D-4BF3-9377-F622B9D3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177-561B-4984-AB2E-A6513DA7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9EC-1C75-4939-879F-794BBC5E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E78-BEEE-489B-80D3-64F9082B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412-A732-426A-A2AD-94C15F4E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6FA-23E5-4475-AA7F-47D93C3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9124-CE82-4556-A2DB-F030DDD674B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42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1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priorités de calc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triangles et droites remarqu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3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fractions (simplifications comparai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71440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roduit de 20 par la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ifférence de 5 et 3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9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3,15 × 101 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6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01,5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8,1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 3 et du produit 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e 2 par 5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7"/>
          <p:cNvSpPr/>
          <p:nvPr/>
        </p:nvSpPr>
        <p:spPr>
          <a:xfrm>
            <a:off x="857160" y="2857680"/>
            <a:ext cx="45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3,8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8,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508120" y="1000080"/>
                <a:ext cx="5540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1357200" y="4643280"/>
                <a:ext cx="801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</m:num>
                      <m:den>
                        <m:r>
                          <m:t xml:space="preserve">0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13,7 × 62,5 + 13,7 × 37,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1,32 × 18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 21,32 × 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50 – [3 × (4 + 5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12-07T20:05:47Z</dcterms:modified>
  <cp:revision>51</cp:revision>
  <dc:subject/>
  <dc:title>8 x 4</dc:title>
</cp:coreProperties>
</file>