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3B94-A199-4EEA-BD25-9899A24D93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6CAD-C712-4957-B900-4A67C6D8A8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4DD8-B7C2-4007-825B-C3BB2F27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6D16-6B9D-4F8E-B00B-65342F90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4D0B-829E-4A8D-9801-9D16633B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C55-0F95-4607-84EA-A624A15C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209E-1B6B-4035-8CD1-28D273E3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25AC-F45E-4F26-BF50-809D7A0A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971E-AFA9-47FD-B272-2B391491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3D83-3061-4963-AECA-705BAF99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380B-3D12-4713-A08D-94268A30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22F8-8C2E-463A-9B7C-A53C0A85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2F72-6AC4-4696-88B6-6F93DD19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2F64-CAC0-4F3C-96AD-C12DA29C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FC58-BF91-4679-A725-1749801F4BE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200" spc="-1" strike="noStrike">
                <a:solidFill>
                  <a:srgbClr val="ff0000"/>
                </a:solidFill>
                <a:latin typeface="Arial"/>
              </a:rPr>
              <a:t>Nombres relatifs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omparaison et repé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9680" y="1285920"/>
            <a:ext cx="8286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les sont le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ordonnées du point C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268" name="Text Box 150"/>
            <p:cNvSpPr/>
            <p:nvPr/>
          </p:nvSpPr>
          <p:spPr>
            <a:xfrm>
              <a:off x="6000480" y="478620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270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272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3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274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5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276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7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278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9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280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81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282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83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284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85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286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87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288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89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290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91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292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93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294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295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296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97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98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99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00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301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302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3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4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5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6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7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8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9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10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311" name="Connecteur droit 98"/>
          <p:cNvSpPr/>
          <p:nvPr/>
        </p:nvSpPr>
        <p:spPr>
          <a:xfrm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onnecteur droit 101"/>
          <p:cNvSpPr/>
          <p:nvPr/>
        </p:nvSpPr>
        <p:spPr>
          <a:xfrm flipH="1"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ordonnée du point E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316" name="Text Box 150"/>
            <p:cNvSpPr/>
            <p:nvPr/>
          </p:nvSpPr>
          <p:spPr>
            <a:xfrm>
              <a:off x="2357640" y="257148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318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9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320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1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322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3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324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25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326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27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328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29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330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331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332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333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334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35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336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337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338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339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340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341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342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343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344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45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46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47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48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349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350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1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2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3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4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5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6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7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8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359" name="Connecteur droit 52"/>
          <p:cNvSpPr/>
          <p:nvPr/>
        </p:nvSpPr>
        <p:spPr>
          <a:xfrm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Connecteur droit 53"/>
          <p:cNvSpPr/>
          <p:nvPr/>
        </p:nvSpPr>
        <p:spPr>
          <a:xfrm flipH="1"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mparer les deux nombres suivants à l’aide de 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428760" y="3357720"/>
                <a:ext cx="3001680" cy="15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5929200" y="3357720"/>
                <a:ext cx="2428920" cy="15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,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ZoneTexte 8"/>
          <p:cNvSpPr/>
          <p:nvPr/>
        </p:nvSpPr>
        <p:spPr>
          <a:xfrm>
            <a:off x="4357800" y="350028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1285920"/>
            <a:ext cx="8286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les sont le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ordonnées du point F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59" name="Text Box 150"/>
            <p:cNvSpPr/>
            <p:nvPr/>
          </p:nvSpPr>
          <p:spPr>
            <a:xfrm>
              <a:off x="6000480" y="478620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61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63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65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67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8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69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0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71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72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73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74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75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76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77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78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79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80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81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82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83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84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85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86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87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88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89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90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91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92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93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4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5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6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7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8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9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00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01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102" name="Connecteur droit 52"/>
          <p:cNvSpPr/>
          <p:nvPr/>
        </p:nvSpPr>
        <p:spPr>
          <a:xfrm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onnecteur droit 53"/>
          <p:cNvSpPr/>
          <p:nvPr/>
        </p:nvSpPr>
        <p:spPr>
          <a:xfrm flipH="1"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 la liste de nombres suivante,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quel est le plus petit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mbre relatif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642960" y="2786040"/>
                <a:ext cx="242892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3143160" y="3643200"/>
                <a:ext cx="242892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9"/>
              <p:cNvSpPr txBox="1"/>
              <p:nvPr/>
            </p:nvSpPr>
            <p:spPr>
              <a:xfrm>
                <a:off x="5516640" y="4714920"/>
                <a:ext cx="29685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mparer les deux nombres suivants à l’aide de 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6"/>
              <p:cNvSpPr txBox="1"/>
              <p:nvPr/>
            </p:nvSpPr>
            <p:spPr>
              <a:xfrm>
                <a:off x="380880" y="3357720"/>
                <a:ext cx="3097440" cy="15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>
                <a:off x="5883120" y="3357720"/>
                <a:ext cx="2522520" cy="15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ZoneTexte 8"/>
          <p:cNvSpPr/>
          <p:nvPr/>
        </p:nvSpPr>
        <p:spPr>
          <a:xfrm>
            <a:off x="4357800" y="350028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abscisse du point A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117" name="Text Box 150"/>
            <p:cNvSpPr/>
            <p:nvPr/>
          </p:nvSpPr>
          <p:spPr>
            <a:xfrm>
              <a:off x="6151680" y="2623320"/>
              <a:ext cx="48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151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cxnSp>
            <p:nvCxnSpPr>
              <p:cNvPr id="119" name="AutoShape 152"/>
              <p:cNvCxnSpPr/>
              <p:nvPr/>
            </p:nvCxnSpPr>
            <p:spPr>
              <a:xfrm>
                <a:off x="579348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cxnSp>
            <p:nvCxnSpPr>
              <p:cNvPr id="120" name="AutoShape 153"/>
              <p:cNvCxnSpPr/>
              <p:nvPr/>
            </p:nvCxnSpPr>
            <p:spPr>
              <a:xfrm flipH="1">
                <a:off x="579312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grpSp>
            <p:nvGrpSpPr>
              <p:cNvPr id="121" name="Group 154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122" name="Text Box 155"/>
                <p:cNvSpPr/>
                <p:nvPr/>
              </p:nvSpPr>
              <p:spPr>
                <a:xfrm>
                  <a:off x="4171320" y="4017600"/>
                  <a:ext cx="360720" cy="3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alibri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156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124" name="Text Box 157"/>
                  <p:cNvSpPr/>
                  <p:nvPr/>
                </p:nvSpPr>
                <p:spPr>
                  <a:xfrm>
                    <a:off x="3810960" y="546048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2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5" name="Group 158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126" name="Text Box 159"/>
                    <p:cNvSpPr/>
                    <p:nvPr/>
                  </p:nvSpPr>
                  <p:spPr>
                    <a:xfrm>
                      <a:off x="3810960" y="4739040"/>
                      <a:ext cx="721440" cy="36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7" name="Group 160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128" name="Text Box 161"/>
                      <p:cNvSpPr/>
                      <p:nvPr/>
                    </p:nvSpPr>
                    <p:spPr>
                      <a:xfrm>
                        <a:off x="3810960" y="2935800"/>
                        <a:ext cx="721440" cy="36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1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9" name="Group 162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130" name="Text Box 163"/>
                        <p:cNvSpPr/>
                        <p:nvPr/>
                      </p:nvSpPr>
                      <p:spPr>
                        <a:xfrm>
                          <a:off x="3810960" y="2214720"/>
                          <a:ext cx="721440" cy="360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2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1" name="Group 164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132" name="Text Box 165"/>
                          <p:cNvSpPr/>
                          <p:nvPr/>
                        </p:nvSpPr>
                        <p:spPr>
                          <a:xfrm>
                            <a:off x="7057080" y="4017600"/>
                            <a:ext cx="72144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4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33" name="Group 166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134" name="Text Box 167"/>
                            <p:cNvSpPr/>
                            <p:nvPr/>
                          </p:nvSpPr>
                          <p:spPr>
                            <a:xfrm>
                              <a:off x="6336000" y="4017600"/>
                              <a:ext cx="72108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3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35" name="Group 168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136" name="Text Box 169"/>
                              <p:cNvSpPr/>
                              <p:nvPr/>
                            </p:nvSpPr>
                            <p:spPr>
                              <a:xfrm>
                                <a:off x="561456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2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37" name="Group 170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138" name="Text Box 171"/>
                                <p:cNvSpPr/>
                                <p:nvPr/>
                              </p:nvSpPr>
                              <p:spPr>
                                <a:xfrm>
                                  <a:off x="4893120" y="4017600"/>
                                  <a:ext cx="72144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+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139" name="Group 172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140" name="Text Box 173"/>
                                  <p:cNvSpPr/>
                                  <p:nvPr/>
                                </p:nvSpPr>
                                <p:spPr>
                                  <a:xfrm>
                                    <a:off x="3450240" y="4017600"/>
                                    <a:ext cx="72108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1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41" name="Group 17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142" name="Text Box 17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880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2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143" name="Group 17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144" name="Text Box 177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28592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4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145" name="Group 178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146" name="Text Box 179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007360" y="4017600"/>
                                          <a:ext cx="721440" cy="36072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0" rIns="0" tIns="0" bIns="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spcAft>
                                              <a:spcPts val="1001"/>
                                            </a:spcAft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r>
                                            <a:rPr b="0" lang="fr-FR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ahoma"/>
                                            </a:rPr>
                                            <a:t>(-3)</a:t>
                                          </a: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147" name="Group 180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285920" y="2214720"/>
                                          <a:ext cx="6492960" cy="3606480"/>
                                          <a:chOff x="1285920" y="2214720"/>
                                          <a:chExt cx="6492960" cy="3606480"/>
                                        </a:xfrm>
                                      </p:grpSpPr>
                                      <p:sp>
                                        <p:nvSpPr>
                                          <p:cNvPr id="148" name="Line 18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01760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tail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49" name="Line 18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25750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50" name="Line 18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329652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51" name="Line 18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73904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52" name="Line 18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54604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153" name="Group 186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646640" y="2214720"/>
                                            <a:ext cx="5771160" cy="3606480"/>
                                            <a:chOff x="1646640" y="2214720"/>
                                            <a:chExt cx="5771160" cy="3606480"/>
                                          </a:xfrm>
                                        </p:grpSpPr>
                                        <p:sp>
                                          <p:nvSpPr>
                                            <p:cNvPr id="154" name="Line 187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45320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316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  <a:headEnd len="med" type="arrow" w="med"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55" name="Line 188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16466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56" name="Line 189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236808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57" name="Line 190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0891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58" name="Line 191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8106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59" name="Line 192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25312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60" name="Line 19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9745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61" name="Line 194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6963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62" name="Line 195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74178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 la liste de nombres suivante,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quel est le plus petit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mbre relatif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687240" y="2786040"/>
                <a:ext cx="23385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3143160" y="3643200"/>
                <a:ext cx="242892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0"/>
              <p:cNvSpPr txBox="1"/>
              <p:nvPr/>
            </p:nvSpPr>
            <p:spPr>
              <a:xfrm>
                <a:off x="5560920" y="4714920"/>
                <a:ext cx="287820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ordonnée du point B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171" name="Text Box 150"/>
            <p:cNvSpPr/>
            <p:nvPr/>
          </p:nvSpPr>
          <p:spPr>
            <a:xfrm>
              <a:off x="2357640" y="257148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173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175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6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177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8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179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80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181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82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183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84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185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86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187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88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189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90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191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192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193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94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195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196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197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198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199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00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01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02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03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204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205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06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07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08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09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10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11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12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13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214" name="Connecteur droit 57"/>
          <p:cNvSpPr/>
          <p:nvPr/>
        </p:nvSpPr>
        <p:spPr>
          <a:xfrm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onnecteur droit 59"/>
          <p:cNvSpPr/>
          <p:nvPr/>
        </p:nvSpPr>
        <p:spPr>
          <a:xfrm flipH="1"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abscisse du point D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219" name="Text Box 150"/>
            <p:cNvSpPr/>
            <p:nvPr/>
          </p:nvSpPr>
          <p:spPr>
            <a:xfrm>
              <a:off x="6151680" y="2623320"/>
              <a:ext cx="48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51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cxnSp>
            <p:nvCxnSpPr>
              <p:cNvPr id="221" name="AutoShape 152"/>
              <p:cNvCxnSpPr/>
              <p:nvPr/>
            </p:nvCxnSpPr>
            <p:spPr>
              <a:xfrm>
                <a:off x="579348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cxnSp>
            <p:nvCxnSpPr>
              <p:cNvPr id="222" name="AutoShape 153"/>
              <p:cNvCxnSpPr/>
              <p:nvPr/>
            </p:nvCxnSpPr>
            <p:spPr>
              <a:xfrm flipH="1">
                <a:off x="579312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grpSp>
            <p:nvGrpSpPr>
              <p:cNvPr id="223" name="Group 154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224" name="Text Box 155"/>
                <p:cNvSpPr/>
                <p:nvPr/>
              </p:nvSpPr>
              <p:spPr>
                <a:xfrm>
                  <a:off x="4171320" y="4017600"/>
                  <a:ext cx="360720" cy="3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alibri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5" name="Group 156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226" name="Text Box 157"/>
                  <p:cNvSpPr/>
                  <p:nvPr/>
                </p:nvSpPr>
                <p:spPr>
                  <a:xfrm>
                    <a:off x="3810960" y="546048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2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7" name="Group 158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228" name="Text Box 159"/>
                    <p:cNvSpPr/>
                    <p:nvPr/>
                  </p:nvSpPr>
                  <p:spPr>
                    <a:xfrm>
                      <a:off x="3810960" y="4739040"/>
                      <a:ext cx="721440" cy="36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9" name="Group 160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230" name="Text Box 161"/>
                      <p:cNvSpPr/>
                      <p:nvPr/>
                    </p:nvSpPr>
                    <p:spPr>
                      <a:xfrm>
                        <a:off x="3810960" y="2935800"/>
                        <a:ext cx="721440" cy="36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1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31" name="Group 162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232" name="Text Box 163"/>
                        <p:cNvSpPr/>
                        <p:nvPr/>
                      </p:nvSpPr>
                      <p:spPr>
                        <a:xfrm>
                          <a:off x="3810960" y="2214720"/>
                          <a:ext cx="721440" cy="360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2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33" name="Group 164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234" name="Text Box 165"/>
                          <p:cNvSpPr/>
                          <p:nvPr/>
                        </p:nvSpPr>
                        <p:spPr>
                          <a:xfrm>
                            <a:off x="7057080" y="4017600"/>
                            <a:ext cx="72144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4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35" name="Group 166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236" name="Text Box 167"/>
                            <p:cNvSpPr/>
                            <p:nvPr/>
                          </p:nvSpPr>
                          <p:spPr>
                            <a:xfrm>
                              <a:off x="6336000" y="4017600"/>
                              <a:ext cx="72108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3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37" name="Group 168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238" name="Text Box 169"/>
                              <p:cNvSpPr/>
                              <p:nvPr/>
                            </p:nvSpPr>
                            <p:spPr>
                              <a:xfrm>
                                <a:off x="561456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2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39" name="Group 170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240" name="Text Box 171"/>
                                <p:cNvSpPr/>
                                <p:nvPr/>
                              </p:nvSpPr>
                              <p:spPr>
                                <a:xfrm>
                                  <a:off x="4893120" y="4017600"/>
                                  <a:ext cx="72144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+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41" name="Group 172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242" name="Text Box 173"/>
                                  <p:cNvSpPr/>
                                  <p:nvPr/>
                                </p:nvSpPr>
                                <p:spPr>
                                  <a:xfrm>
                                    <a:off x="3450240" y="4017600"/>
                                    <a:ext cx="72108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1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43" name="Group 17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244" name="Text Box 17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880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2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45" name="Group 17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246" name="Text Box 177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28592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4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247" name="Group 178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248" name="Text Box 179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007360" y="4017600"/>
                                          <a:ext cx="721440" cy="36072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0" rIns="0" tIns="0" bIns="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spcAft>
                                              <a:spcPts val="1001"/>
                                            </a:spcAft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r>
                                            <a:rPr b="0" lang="fr-FR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ahoma"/>
                                            </a:rPr>
                                            <a:t>(-3)</a:t>
                                          </a: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249" name="Group 180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285920" y="2214720"/>
                                          <a:ext cx="6492960" cy="3606480"/>
                                          <a:chOff x="1285920" y="2214720"/>
                                          <a:chExt cx="6492960" cy="3606480"/>
                                        </a:xfrm>
                                      </p:grpSpPr>
                                      <p:sp>
                                        <p:nvSpPr>
                                          <p:cNvPr id="250" name="Line 18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01760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tail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51" name="Line 18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25750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52" name="Line 18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329652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53" name="Line 18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73904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54" name="Line 18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54604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255" name="Group 186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646640" y="2214720"/>
                                            <a:ext cx="5771160" cy="3606480"/>
                                            <a:chOff x="1646640" y="2214720"/>
                                            <a:chExt cx="5771160" cy="3606480"/>
                                          </a:xfrm>
                                        </p:grpSpPr>
                                        <p:sp>
                                          <p:nvSpPr>
                                            <p:cNvPr id="256" name="Line 187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45320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316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  <a:headEnd len="med" type="arrow" w="med"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57" name="Line 188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16466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58" name="Line 189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236808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59" name="Line 190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0891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60" name="Line 191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8106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61" name="Line 192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25312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62" name="Line 19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9745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63" name="Line 194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6963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64" name="Line 195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74178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1-19T22:20:33Z</dcterms:modified>
  <cp:revision>43</cp:revision>
  <dc:subject/>
  <dc:title>8 x 4</dc:title>
</cp:coreProperties>
</file>