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38081-AFFC-4751-B6E0-8443D069D8F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C71B9-C1AF-4D32-9193-FF5841BA446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8730-8C7E-4350-AE47-9E38CAF5A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BBD9-411D-428B-B237-1B34E6EE6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3EEC-0701-4DD1-8DDF-02BA39398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D578-3650-4D59-BAAA-8D6D29946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8166-F66C-4FFF-91B4-EE2360F5A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5320-DB54-48F7-BC36-9F973FE32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90D5-54CA-4E07-A67C-81B1F7371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A56B-D0D8-4293-A557-51A89DD33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52CA-C2A4-4012-9200-82E4AAE1F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F36B-0881-4DC7-A612-1CCCB829F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1312-5095-4331-BC6A-E4463C7C6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9888-D641-43BD-9097-855C7360E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5A9EB-61ED-4D1C-BD24-2EE097E0B87D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1571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800" spc="-1" strike="noStrike">
                <a:solidFill>
                  <a:srgbClr val="ff0000"/>
                </a:solidFill>
                <a:latin typeface="Arial"/>
              </a:rPr>
              <a:t>Calcul mental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857160" y="314316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Révisions de 6è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436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63 : 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436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72 : 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3429000" y="1714680"/>
            <a:ext cx="345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ff0000"/>
                </a:solidFill>
                <a:latin typeface="Arial"/>
              </a:rPr>
              <a:t>FI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"/>
          <p:cNvSpPr/>
          <p:nvPr/>
        </p:nvSpPr>
        <p:spPr>
          <a:xfrm>
            <a:off x="2500200" y="3643200"/>
            <a:ext cx="471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Posez les sty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36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8 x 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36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45,6 x 10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436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56 + 5 somme ou produit 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4 x 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436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67,7 : 1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36 × 8 somme ou produit 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14,58 x 100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436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63,2 : 1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9T21:06:10Z</dcterms:created>
  <dc:creator>bayle</dc:creator>
  <dc:description/>
  <dc:language>en-US</dc:language>
  <cp:lastModifiedBy>Raphaël</cp:lastModifiedBy>
  <dcterms:modified xsi:type="dcterms:W3CDTF">2008-09-11T16:49:30Z</dcterms:modified>
  <cp:revision>14</cp:revision>
  <dc:subject/>
  <dc:title>8 x 4</dc:title>
</cp:coreProperties>
</file>