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4517-F1C3-498B-B451-A3B242D533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43F8-0F32-4101-AEA9-06F32F4C62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76A-FBAF-4103-B9BC-A71D0820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6A9-5836-41E0-B9B6-53DA27AB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6270-9DEA-4A6B-8506-EA6A5809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919E-EAF4-4819-A350-C98858E5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4138-E604-4B6A-9082-47D00BED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D5F-0C00-49C1-B035-59B2E2CA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2615-338B-4775-AB89-2C38EFEF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C07-4AB6-4235-A60B-9D7E527D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3D0-DD37-4C30-98DC-42DF8E35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FB8D-29B7-44B8-89B6-B9DC54FC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7AF-A100-47FA-8802-08B21828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5C39-382D-4664-AA2A-5FE2361A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24A9-681C-4293-B061-8DCDE1354EE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t opé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soustrac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1357200" y="2357280"/>
                <a:ext cx="64436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357200" y="2357280"/>
                <a:ext cx="64436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28T12:54:28Z</dcterms:modified>
  <cp:revision>45</cp:revision>
  <dc:subject/>
  <dc:title>8 x 4</dc:title>
</cp:coreProperties>
</file>