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E60-D4FF-4A44-9E67-9109894C3C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43B1-10A7-442E-BC0C-ED7E26B655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516-A9E4-4588-9CB9-A7E057C4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185-9381-4624-87FC-D8149791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574-BB90-4EE0-B3CD-3DD6319C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BAF-6675-45CA-B858-035ED738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927-9CFC-4145-A6C6-1B158D0F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1E5-1E17-4E38-879B-05C341B3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624-E1F3-443C-99CF-100BAC5F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753-77BC-4228-97C9-33E1E36B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AE4-67E4-4457-92E4-915E958D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420-8C32-4F36-8508-FD66AF64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714-B62E-4C3C-894C-80FC8DA7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E2F-1AB0-4168-A45E-A6455FEE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D9DC-3552-4932-B75D-9C355A18804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Quotients ég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7:08Z</dcterms:modified>
  <cp:revision>28</cp:revision>
  <dc:subject/>
  <dc:title>8 x 4</dc:title>
</cp:coreProperties>
</file>