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AD8-70D7-4450-B81E-AB744A80B6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69E-9547-459C-B62B-A21F4E5A63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D9B-9D1F-45A9-9AA7-6F9E0125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161-B33A-44B1-B00F-0CA12931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EB6-F036-4A20-9EA8-9BB8DD28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1A1-65F0-4CF7-AEF3-4C5F56DD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B4E-CD2F-4EEF-BE9A-6D7F5C2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81B-49E7-4E61-BABE-AE8626FE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BA1-E8C7-400F-B23E-CDD430D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861-2801-4D5F-8560-63D703C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1D2-4764-43D9-8A74-73A7CD09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4A6-F807-4369-B9B2-24F3B02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8C4-7185-4456-A243-03D4BD7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50E-B996-4B71-B875-8AABD65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667-541D-458C-B721-5F304BD4072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et 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88" name="Connecteur droit avec flèche 10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89" name="Connecteur droit avec flèche 12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12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9" name="Connecteur droit avec flèche 13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9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8T22:24:53Z</dcterms:modified>
  <cp:revision>41</cp:revision>
  <dc:subject/>
  <dc:title>8 x 4</dc:title>
</cp:coreProperties>
</file>