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0F3C-5FC8-4B6E-81AB-1587A4ADCF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FBCF-B3AB-452F-83BD-4A22BC0D6B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048-A88A-4B66-A144-80E77CB4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391-7EEF-4758-A81B-9511181F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5080-C953-452B-9ACF-1AFA9D61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654-8B10-4160-AC61-85B01215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54D-A845-46DC-8A6D-CFA7FE30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5AE-3458-4A5A-AA22-EE11D82F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751-40AA-4B81-BE26-458C02C1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F4E-F54B-4AD5-B753-E774FCAB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7E7-3291-493F-88B8-642CA4F4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BBA-1C2B-44B0-9AE0-26AA3984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236-7942-4D8B-898B-EC71169B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082-0674-4E8A-8AA5-F64CC719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0B77-D843-4A2A-9A65-F3FAEF2399A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ngles dans un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rcRect l="0" t="10385" r="3849" b="11771"/>
          <a:stretch/>
        </p:blipFill>
        <p:spPr>
          <a:xfrm>
            <a:off x="857160" y="2214720"/>
            <a:ext cx="4357800" cy="373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5929200" y="2617920"/>
                <a:ext cx="257184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5900760" y="2643120"/>
                <a:ext cx="2628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9" name="Picture 8" descr=""/>
          <p:cNvPicPr/>
          <p:nvPr/>
        </p:nvPicPr>
        <p:blipFill>
          <a:blip r:embed="rId1"/>
          <a:srcRect l="2176" t="6733" r="6252" b="10184"/>
          <a:stretch/>
        </p:blipFill>
        <p:spPr>
          <a:xfrm>
            <a:off x="785880" y="2071800"/>
            <a:ext cx="478620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5958000" y="2643120"/>
                <a:ext cx="2514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" name="Picture 7" descr=""/>
          <p:cNvPicPr/>
          <p:nvPr/>
        </p:nvPicPr>
        <p:blipFill>
          <a:blip r:embed="rId1"/>
          <a:srcRect l="1778" t="7734" r="7362" b="7208"/>
          <a:stretch/>
        </p:blipFill>
        <p:spPr>
          <a:xfrm>
            <a:off x="357120" y="2714760"/>
            <a:ext cx="64580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rcRect l="3498" t="5175" r="5370" b="6895"/>
          <a:stretch/>
        </p:blipFill>
        <p:spPr>
          <a:xfrm>
            <a:off x="928800" y="2214720"/>
            <a:ext cx="3643200" cy="40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5986440" y="2643120"/>
                <a:ext cx="245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5900760" y="2643120"/>
                <a:ext cx="2628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Picture 8" descr=""/>
          <p:cNvPicPr/>
          <p:nvPr/>
        </p:nvPicPr>
        <p:blipFill>
          <a:blip r:embed="rId1"/>
          <a:srcRect l="2176" t="6733" r="6252" b="10184"/>
          <a:stretch/>
        </p:blipFill>
        <p:spPr>
          <a:xfrm>
            <a:off x="785880" y="2071800"/>
            <a:ext cx="478620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rcRect l="0" t="12706" r="0" b="11019"/>
          <a:stretch/>
        </p:blipFill>
        <p:spPr>
          <a:xfrm>
            <a:off x="357120" y="2643120"/>
            <a:ext cx="7264440" cy="27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5843520" y="2643120"/>
                <a:ext cx="27432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rcRect l="3498" t="5175" r="5370" b="6895"/>
          <a:stretch/>
        </p:blipFill>
        <p:spPr>
          <a:xfrm>
            <a:off x="928800" y="2214720"/>
            <a:ext cx="3643200" cy="40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5986440" y="2643120"/>
                <a:ext cx="245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rcRect l="0" t="10385" r="3849" b="11771"/>
          <a:stretch/>
        </p:blipFill>
        <p:spPr>
          <a:xfrm>
            <a:off x="857160" y="2214720"/>
            <a:ext cx="4357800" cy="373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5929200" y="2585880"/>
                <a:ext cx="2571840" cy="10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rcRect l="0" t="12706" r="0" b="11019"/>
          <a:stretch/>
        </p:blipFill>
        <p:spPr>
          <a:xfrm>
            <a:off x="357120" y="2643120"/>
            <a:ext cx="7264440" cy="27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5843520" y="2643120"/>
                <a:ext cx="27432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5958000" y="2643120"/>
                <a:ext cx="2514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" name="Picture 7" descr=""/>
          <p:cNvPicPr/>
          <p:nvPr/>
        </p:nvPicPr>
        <p:blipFill>
          <a:blip r:embed="rId1"/>
          <a:srcRect l="1778" t="7734" r="7362" b="7208"/>
          <a:stretch/>
        </p:blipFill>
        <p:spPr>
          <a:xfrm>
            <a:off x="357120" y="2714760"/>
            <a:ext cx="64580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10-01-21T14:49:46Z</dcterms:modified>
  <cp:revision>36</cp:revision>
  <dc:subject/>
  <dc:title>8 x 4</dc:title>
</cp:coreProperties>
</file>