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AFE9-89F6-4FA6-A14A-23CCF8EB39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C0C2-B11A-4058-ACE3-1D14B099E3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6D8-AE8B-4836-BA3D-D3CA3A6A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AF5-DAC5-4AB3-99B6-0837F791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C38-648D-4A67-A942-CE7FE2C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BE0-C7C9-448E-A795-31AF1D35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1F6-3BDB-4B71-AB33-DBC0525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F3D-97C4-4663-A11B-DED44EFD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2B2-A931-43F5-89F1-7DD0CE3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DA4-C75C-4753-83F1-2EC4D889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A7C-2568-4F85-8AA9-5E17562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0CE-D62D-4588-AE15-F26EC63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7BE-FE29-4A94-B603-58075F3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02D-7E6A-4646-857F-A28C4F0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16EF-5F34-44A3-8BCD-E8E4C2B3E5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compléter par &lt; ou &gt;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30480" y="2428920"/>
                <a:ext cx="1380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141880" y="2428920"/>
                <a:ext cx="20750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189160" y="2428920"/>
                <a:ext cx="12654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0:57Z</dcterms:modified>
  <cp:revision>36</cp:revision>
  <dc:subject/>
  <dc:title>8 x 4</dc:title>
</cp:coreProperties>
</file>