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1570-E970-4716-98FE-5AFB1FF7FA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33D6-473B-47B6-A22B-8371F9A5D2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718-BA07-40F7-9087-95D717FD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088-C2C1-4282-83A2-B681033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939-F584-486E-92F3-00C35961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80E-2971-4534-84F0-8FD5A8ED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26E-0F6D-4397-A79A-EDECC495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60D-F28F-42CC-BF18-95A0909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92B-4F4B-45C1-8835-AA69999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D90-36E7-47C6-8FC4-EF1F791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040-69D6-4365-82F2-FFDBE37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680-F1C6-4311-B53A-2971405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B1D-5DA1-4AB2-B13D-5134EE7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BD2-D33E-4606-A020-F7347E3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C295-9DDA-492C-89AD-BC833F662C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rganiser astucieusement une somm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35728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43 + 85 + 17 + 7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8429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63 + 85 + 17 + 5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2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3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24Z</dcterms:modified>
  <cp:revision>23</cp:revision>
  <dc:subject/>
  <dc:title>8 x 4</dc:title>
</cp:coreProperties>
</file>