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7000-4875-43C8-AF56-6CF8CBF6AF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281B-A652-44C6-8CE5-0F76C0DFC1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8FA-9FDC-4077-B267-42B84E81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174-E2F4-45FC-B830-72E35AAC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840-152D-4E1E-80B0-AD5ADE92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7F9-D1BC-4C6A-BBD9-CD335DF1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638-E078-4D99-896F-7F02FA22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5A0-9761-4C21-987B-845D814D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9A4-9E17-4D43-8D81-095CA4F7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195-636F-41B2-B45E-3E3CB1D5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697-931E-44B5-9C61-73839E35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A84-D521-4618-8792-6F26E607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EAF-9393-4F69-8E13-5C43ACBA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DE6-41EB-4401-92C9-8C2BA9A8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5792-9780-4F01-9058-8F436F523C0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les priorités opéra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3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4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2:16Z</dcterms:modified>
  <cp:revision>36</cp:revision>
  <dc:subject/>
  <dc:title>8 x 4</dc:title>
</cp:coreProperties>
</file>