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8AC-75EA-476C-8552-1D185EE0E0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993-A1BB-46B9-95F5-589D0F987C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8D1-64F6-4781-8F7A-4C6619A6DB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79D-EBC6-47F9-A3BE-E550CC19CD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C9B-FD43-4177-8091-04A3EAEB61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2EC-3BA0-4BD6-B588-EAB4F1FF29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BDA-CF46-4893-BA9E-0825966340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313-58DF-4F0B-96CC-7DB88720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7DC-E7C4-4974-978C-27E8264C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331-5B1E-46C8-AF5C-92A889F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683-F321-4878-A2E6-AB3D373D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580-8568-4C8B-9855-CEDA7903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CAB-505F-46EA-B60E-E501812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3BB-68C2-4470-BA46-6102DAE0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E65-0A2D-4C55-99BA-5608D4E7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627-AF1A-4AD2-8326-F5D97F4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FDB-2BF6-4C57-8190-424253B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1E0-152D-4C10-A78D-D29A359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C89-C6A9-4F39-85B0-2B85225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C75-9970-4EF9-ADC3-3E92A0A8F2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5:47Z</dcterms:modified>
  <cp:revision>51</cp:revision>
  <dc:subject/>
  <dc:title>8 x 4</dc:title>
</cp:coreProperties>
</file>