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45CC-D103-4290-9AD2-7DD207A338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F643-D49A-48B6-8972-E1CD2AFD43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BA8-FA42-4134-A7D0-6810569E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9FB-BC1B-460C-BA52-9AA3D534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923-0295-4A16-9C6E-3910B38A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C5E-E85A-4ADC-A1B6-AFBC9877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A13-072A-40D2-BA1E-6A64F6DC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4B3-BDCA-45DB-B9A5-D9184FDA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31F-FC58-47EC-9F63-449AB6A3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031-3F4C-4AF5-878A-544277C1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46F-3C9E-4B14-B50F-CA35DDD3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644-CAFA-49E0-90B3-9819648D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722-B203-4768-ACCB-DDE5CA84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616-59C0-4F40-8B67-407AE480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88D9-81CA-4C98-9BF2-674A8FCB2F3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dd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47:56Z</dcterms:modified>
  <cp:revision>42</cp:revision>
  <dc:subject/>
  <dc:title>8 x 4</dc:title>
</cp:coreProperties>
</file>