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B249-7AA7-4794-8C0F-1DBA3D4703C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9E6F-8C07-4420-9C55-96453C553C6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6A75-3A87-4CBF-B1F9-6B36FAE85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6870-BB8D-46BA-A3BB-5CD94EA2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E4EF-5E33-480B-A974-2DBC123C5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320E-B6C5-468B-95EA-6B9980CFB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A278-A028-44F4-BA96-49A0AF33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DE88-C263-4FE6-97A5-7AAA1D5B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C9F6-6C78-433C-9D50-52CB2381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A07C-779E-4776-90F4-474F2F92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E9C0-A303-41A5-850C-7360480C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F91C-86FD-4FA5-9958-4FAABB81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74E4-1FAF-4589-8DE8-524C09F7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43AE-5106-4387-9BB2-7D97288D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1AC3-7B62-48C1-BC38-F5F8880B1F8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Calculer la som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de deux 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6"/>
              <p:cNvSpPr txBox="1"/>
              <p:nvPr/>
            </p:nvSpPr>
            <p:spPr>
              <a:xfrm>
                <a:off x="1900080" y="1714680"/>
                <a:ext cx="18450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8"/>
              <p:cNvSpPr txBox="1"/>
              <p:nvPr/>
            </p:nvSpPr>
            <p:spPr>
              <a:xfrm>
                <a:off x="5273640" y="1714680"/>
                <a:ext cx="18432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8"/>
              <p:cNvSpPr txBox="1"/>
              <p:nvPr/>
            </p:nvSpPr>
            <p:spPr>
              <a:xfrm>
                <a:off x="5560920" y="1714680"/>
                <a:ext cx="126864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1900080" y="1714680"/>
                <a:ext cx="18450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1900080" y="1714680"/>
                <a:ext cx="18417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8"/>
              <p:cNvSpPr txBox="1"/>
              <p:nvPr/>
            </p:nvSpPr>
            <p:spPr>
              <a:xfrm>
                <a:off x="550404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8"/>
              <p:cNvSpPr txBox="1"/>
              <p:nvPr/>
            </p:nvSpPr>
            <p:spPr>
              <a:xfrm>
                <a:off x="5560920" y="1714680"/>
                <a:ext cx="126864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" name="ZoneTexte 11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6"/>
              <p:cNvSpPr txBox="1"/>
              <p:nvPr/>
            </p:nvSpPr>
            <p:spPr>
              <a:xfrm>
                <a:off x="2187720" y="1714680"/>
                <a:ext cx="126504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6"/>
              <p:cNvSpPr txBox="1"/>
              <p:nvPr/>
            </p:nvSpPr>
            <p:spPr>
              <a:xfrm>
                <a:off x="1900080" y="1714680"/>
                <a:ext cx="18417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8"/>
              <p:cNvSpPr txBox="1"/>
              <p:nvPr/>
            </p:nvSpPr>
            <p:spPr>
              <a:xfrm>
                <a:off x="550404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8"/>
              <p:cNvSpPr txBox="1"/>
              <p:nvPr/>
            </p:nvSpPr>
            <p:spPr>
              <a:xfrm>
                <a:off x="5273640" y="1714680"/>
                <a:ext cx="18432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6"/>
              <p:cNvSpPr txBox="1"/>
              <p:nvPr/>
            </p:nvSpPr>
            <p:spPr>
              <a:xfrm>
                <a:off x="2187720" y="1714680"/>
                <a:ext cx="126504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7:16:23Z</dcterms:modified>
  <cp:revision>42</cp:revision>
  <dc:subject/>
  <dc:title>8 x 4</dc:title>
</cp:coreProperties>
</file>