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C7F5-AB9B-426B-ADE9-7DCAB50583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5718-505C-4286-86D0-BC3200E7CE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3E0-EA3F-403E-AA00-D27E449F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8E3-87A3-46CB-BDCD-67217D6D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7CA-8E81-4B1E-8C92-89F04CD6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468-9427-4193-97F0-2AA5A6D5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034-0A6D-4789-A7AE-E83DC99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267-4555-4E02-86DC-BCA331F3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C65-0998-4855-BF36-D7E40DCD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8B3-B33E-47C1-AE2A-E4DD63CA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1C6-8AAF-4D99-B235-2311FE45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1B3-0387-4FB6-8072-0C3D8B0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54C-617A-4C24-903E-D93D416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C9F-A161-4B25-B290-0959082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6458-69FA-4F9E-B570-3F88E9C97E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57Z</dcterms:modified>
  <cp:revision>19</cp:revision>
  <dc:subject/>
  <dc:title>8 x 4</dc:title>
</cp:coreProperties>
</file>