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11FD-DB31-4983-B827-2A398A4BCC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CAE2-0C82-4FF1-B48E-2E58554AAF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2867-0F49-432E-AED9-740BF77A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6697-E86C-4A15-8E41-9F2DFCEF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47DE-B03F-4E10-A67A-2B09E4EE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D74-C068-41CB-BDB1-7305984F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4A72-433B-4598-964A-DE3B8144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91B8-A9E7-47B0-9AA9-AFD70415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A920-96C2-40F8-A94A-5CE523F3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2BAF-2744-4F8B-BBAE-51BD3996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77FB-E0BA-467D-B07A-1CF67F94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A6AF-5D8B-43BB-B7CC-87F53C63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FC9C-0C5D-4E45-8AFD-070750CE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FCF3-A2C9-4704-AB28-53CF9048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5F10-C1DA-417F-9186-C6316B9F675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Nombres rela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et opé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addition et soustrac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1012680" y="2357280"/>
                <a:ext cx="713448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1012680" y="2357280"/>
                <a:ext cx="713448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3-28T12:53:49Z</dcterms:modified>
  <cp:revision>44</cp:revision>
  <dc:subject/>
  <dc:title>8 x 4</dc:title>
</cp:coreProperties>
</file>