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9D93-E77E-455A-9468-82478C4BD0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66DA-5C53-4FCD-ACBE-CE36E71E91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4BD6-BCC1-4AB3-9009-2D4E4091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501-2B12-44F0-9A06-2BDF5E81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4B3-22A8-48E4-8C65-F8639238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643-2AA1-48A1-B309-8EDA9A8B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84B-6AE5-4B66-9438-3A3D3DF0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51B1-6113-4014-8303-1C0591EC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B6A-9A51-4CF0-9B64-90E06BFF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150-5B0D-4A1D-B681-4DAF1FDF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DB2-A17E-4361-8CC6-EDBD24F9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8F1-4D54-432F-A4D2-4F08F576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173-D6DD-492E-87BB-60F3550F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23B-1879-4B89-9A15-F510A029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C84B-B236-4B39-93A5-6935BADE0B9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arallélogrammes particu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quadrilatère a ses diagonales perpendiculaires et de même longueur, alors c’est un carré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dont les diagonales sont de même longueur 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losange a ses diagonales de même longueurs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quadrilatère a ses diagonales perpendiculaires et de même longueur, alors c’est un carré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parallélogramme a ses diagonales perpendiculaires, alors c’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losange a ses diagonales de même longueurs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ayant deux côtés consécutifs de même longueur est un losang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parallélogramme a ses diagonales perpendiculaires, alors c’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dont les diagonales sont de même longueur 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ayant deux côtés consécutifs de même longueur est un losang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4-12T09:10:46Z</dcterms:modified>
  <cp:revision>39</cp:revision>
  <dc:subject/>
  <dc:title>8 x 4</dc:title>
</cp:coreProperties>
</file>