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51B-73FC-4869-94F6-10B4DD664F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2AA-0807-44E2-A8AC-574D1BC279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39C-16D4-43B4-84DE-2D04F878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BC-992D-4C42-A842-845EE83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A84-2B60-47D2-AB26-91D92D1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BBF-1309-431A-8DC7-F46E4BC8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422-31FB-4164-ADCF-5DB4082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3D4-F981-471D-8A5C-4F15E549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80B-27B4-405B-B804-A6F01CE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280-EE57-43E2-BFF8-A9E7C3B6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A0-B14A-45FF-B4B9-22F30432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E1A-AF84-4CBF-AD10-C7241BE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FD3-CFEE-47DC-BDAE-2529968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06F-FB2D-41EC-A2D1-50116E3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B3D7-849B-4A66-B4EA-F0D9C5C429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 ou la différenc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ans reten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6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358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457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6:58:45Z</dcterms:modified>
  <cp:revision>17</cp:revision>
  <dc:subject/>
  <dc:title>8 x 4</dc:title>
</cp:coreProperties>
</file>