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761-690A-49A9-85D7-EA801B16FD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4F2A-2356-476B-9283-171C85E905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842-B64C-4ED8-8480-E847980E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224-7AD2-483A-94E9-775BFB8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FDF-033C-4886-8378-0502B627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902-C77B-40A9-A5BF-12CAC12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28F-D3CB-4717-A009-C1DBC9BC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9A7-23FC-4D4E-B73A-C8F7325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929-CF8F-4064-B1CC-EA420CE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7DE-2A40-4E2F-8A75-E38A675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C9B-CF46-4763-8FE9-446126E6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062-DB57-4FC5-9D03-946E507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A1B-E43F-4B70-BCA3-F99F324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B4E-C8AA-45A2-91CE-D99938D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2C6-487C-4A3D-BA7E-C77D9597385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4:54Z</dcterms:modified>
  <cp:revision>40</cp:revision>
  <dc:subject/>
  <dc:title>8 x 4</dc:title>
</cp:coreProperties>
</file>