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C2C3-3B20-46A2-989E-77D41B6C7F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A420-2D08-47BF-83F7-DD173D373D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15E-578A-40FF-ABFF-ACABBF07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7B6-86DE-438E-9E8A-148D50BA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FE4-8619-4273-AA3F-7DC22E0F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A6E-D661-4343-B4B5-364C7552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E63-F0C7-4C3C-B3A7-1BB488FA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B28-7A64-47D5-A403-2F929B5C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D61-7662-4B95-A497-A348AA47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80A-D399-43BE-80DB-46672F5E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864-FED3-420C-8989-5098122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D17-BADA-4E46-867F-B5D3A07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E7D-2885-48A5-BF4A-75910B2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BFB-ACF3-4451-9A12-2AD922F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74C-4496-4D44-934B-016499D886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Triangles et droites remarqu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10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4T05:36:28Z</dcterms:modified>
  <cp:revision>30</cp:revision>
  <dc:subject/>
  <dc:title>8 x 4</dc:title>
</cp:coreProperties>
</file>