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6D94-E8BC-48C5-A8F1-02BFCC2121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0BBE-CED0-4A4D-A3F0-E383A64B45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F5C-6387-4FB6-99F5-BEB64460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00B-1BAC-41C6-9D17-B41B4785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266-8CE0-445A-B2EB-0E8027AA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85A-7DBC-4149-833A-C03B655C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1F8-FB08-40C4-A861-C37C16E0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AE2-1352-4FED-A4F3-DC45CD3C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C39-5BFA-419E-AA16-E6B5B393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2DE-2DD2-4EF8-BCAE-F64F50C9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9C4-AA33-4E35-8874-01D1F818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95F-39B3-4B78-87B6-9785FA57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206-6061-47F8-AAEC-6B400B28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B0D-40F7-41D9-BF3A-E87AF12C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CF66-0FC5-4700-A2B1-A5FD089BD37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00040" y="3143160"/>
            <a:ext cx="8286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rro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à l’unité, au 1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, au 10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…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,87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5,7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,8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98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4,82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,237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85840" y="1714680"/>
            <a:ext cx="871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,732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2,8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18T08:39:42Z</dcterms:modified>
  <cp:revision>24</cp:revision>
  <dc:subject/>
  <dc:title>8 x 4</dc:title>
</cp:coreProperties>
</file>