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A03-EB55-4D85-9992-DDA0100B8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8B3B-C8B6-4F56-BFC2-DC8D5507E2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DFA3-50B6-47BE-A713-1CAE68C59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F67-5E74-4237-A955-F159E32450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CCC-B7D6-4FAF-8D36-E3E5F5BF59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347-5741-4A7B-9510-AF85D2D88A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3CF5-CCFD-4F8C-9612-AAF78E1591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D26-A202-4BFE-86D3-C9209665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359-6F87-4CB0-BADC-F91E1AF9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1CC-D850-4B0D-B548-F13345B2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408-5796-4E35-9ABF-BDD8C287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D55-CDF4-4F94-BB9B-F1ABF57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72D-A3F5-4F6D-867B-5DD9746A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39B-8AC1-49C5-96FF-A4C88A6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9E5-76EC-476B-A0E8-8BAD798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8C9-B8FA-4D8D-A821-2E496E7F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43C-B66D-4383-9AE2-2266A88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3AE-F6FE-4D2F-9974-626B82E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EAE-8E92-43E2-9B42-FC7E479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0CC-D1B5-4696-9B8A-FE5A197F388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4:08Z</dcterms:modified>
  <cp:revision>49</cp:revision>
  <dc:subject/>
  <dc:title>8 x 4</dc:title>
</cp:coreProperties>
</file>