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46DB-0B1D-46F4-B41B-1E76E7753F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832D-1313-4A69-BCE9-2791218802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DD25-1917-42BA-88F7-C8016EFF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9094-1257-4FE0-842B-47FEFB39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B18B-43A2-402F-95BE-3D03680C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8DBC-9BDD-4289-9001-71EB0408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6302-BD09-49D0-9979-9B5C6ABA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0571-A4E2-478B-BEE7-6DBB1412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D2B3-A225-4F34-9A7A-8920FF5A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6C4B-156A-4F97-AE1A-BEAD8ABA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557B-B438-46B7-B9B1-37D359D3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C235-D1D9-4FC4-B531-EBC9EA1B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BD6-2034-46E8-9B6C-32E7F462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382C-1B0D-49B4-8F05-39EAE5C4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E111-51E7-4F35-AC5D-A3588517CED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Respecter la priorité de l’addition sur la 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7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5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5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7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2 + 7 ×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 + 9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0 + 5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0 + 5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 + 9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2 + 7 ×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6:59:01Z</dcterms:modified>
  <cp:revision>23</cp:revision>
  <dc:subject/>
  <dc:title>8 x 4</dc:title>
</cp:coreProperties>
</file>