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2B77-4D15-44F9-852F-C9F62BC208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0647-AE4A-45ED-B260-90AE805EB2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7DDF-525F-4782-BE89-C6201B51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F4A-0A6A-4805-BB76-47C3EA85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30A0-719F-4D57-B4DB-E1A2872E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64D-740F-46AD-B20F-F0FB0E9C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293F-6E2D-4D73-AE72-F72808E2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DAE-0256-46DC-86A5-594783BE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927B-0006-4613-AAB1-FC762B5D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2461-9997-456F-A378-431A135C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7165-ADD8-4C34-BD8B-BD158377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6E91-4FA8-4E71-B8BB-7CA0CBEF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3C3-E180-4B2F-BD32-E3922C36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5609-943D-48FF-A108-E27FA071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C5D3-BE46-467E-BA90-4C192B7E101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Multiplier par 9 et par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3:00Z</dcterms:modified>
  <cp:revision>16</cp:revision>
  <dc:subject/>
  <dc:title>8 x 4</dc:title>
</cp:coreProperties>
</file>