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482F8-0DAE-4523-B772-2FC60DF47AA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C267D-B42A-43B5-8D8A-5EA82E32A09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52E4-9120-44EF-A742-5E569272B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4DA3-8275-4293-9ED7-5230D8A52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7423-E6F6-42B6-A331-7471A8EED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0C22-0830-425B-A23B-8F907786B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F00B-1995-40ED-AD33-F11179E25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5E81-5E2D-40C2-BFB6-B4C081CB9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E227-F0CC-4D72-B291-967C93DE9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229B-A590-4A1A-85AE-FE86625A6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E2E9-701D-4723-ADB0-BE90EE1EC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CC11-2695-4B0D-84EF-10C50FD81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AEB0-161B-4F16-A44D-8C97A2EDF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8F03-2AB4-405C-8A62-AE8C47A6E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1266B-8C3D-4C50-802D-17DD8226959B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200" spc="-1" strike="noStrike">
                <a:solidFill>
                  <a:srgbClr val="ff0000"/>
                </a:solidFill>
                <a:latin typeface="Arial"/>
              </a:rPr>
              <a:t>Nombres relatifs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85716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Comparaison et repér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99680" y="1285920"/>
            <a:ext cx="828684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Quelles sont les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coordonnées du point C 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149"/>
          <p:cNvGrpSpPr/>
          <p:nvPr/>
        </p:nvGrpSpPr>
        <p:grpSpPr>
          <a:xfrm>
            <a:off x="1285920" y="2214720"/>
            <a:ext cx="6492960" cy="3606480"/>
            <a:chOff x="1285920" y="2214720"/>
            <a:chExt cx="6492960" cy="3606480"/>
          </a:xfrm>
        </p:grpSpPr>
        <p:sp>
          <p:nvSpPr>
            <p:cNvPr id="268" name="Text Box 150"/>
            <p:cNvSpPr/>
            <p:nvPr/>
          </p:nvSpPr>
          <p:spPr>
            <a:xfrm>
              <a:off x="6000480" y="4786200"/>
              <a:ext cx="487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6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9" name="Group 154"/>
            <p:cNvGrpSpPr/>
            <p:nvPr/>
          </p:nvGrpSpPr>
          <p:grpSpPr>
            <a:xfrm>
              <a:off x="1285920" y="2214720"/>
              <a:ext cx="6492960" cy="3606480"/>
              <a:chOff x="1285920" y="2214720"/>
              <a:chExt cx="6492960" cy="3606480"/>
            </a:xfrm>
          </p:grpSpPr>
          <p:sp>
            <p:nvSpPr>
              <p:cNvPr id="270" name="Text Box 155"/>
              <p:cNvSpPr/>
              <p:nvPr/>
            </p:nvSpPr>
            <p:spPr>
              <a:xfrm>
                <a:off x="4171320" y="4017600"/>
                <a:ext cx="360720" cy="36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Calibri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1" name="Group 156"/>
              <p:cNvGrpSpPr/>
              <p:nvPr/>
            </p:nvGrpSpPr>
            <p:grpSpPr>
              <a:xfrm>
                <a:off x="1285920" y="2214720"/>
                <a:ext cx="6492960" cy="3606480"/>
                <a:chOff x="1285920" y="2214720"/>
                <a:chExt cx="6492960" cy="3606480"/>
              </a:xfrm>
            </p:grpSpPr>
            <p:sp>
              <p:nvSpPr>
                <p:cNvPr id="272" name="Text Box 157"/>
                <p:cNvSpPr/>
                <p:nvPr/>
              </p:nvSpPr>
              <p:spPr>
                <a:xfrm>
                  <a:off x="3810960" y="5460480"/>
                  <a:ext cx="721440" cy="36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ahoma"/>
                    </a:rPr>
                    <a:t>(-2)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73" name="Group 158"/>
                <p:cNvGrpSpPr/>
                <p:nvPr/>
              </p:nvGrpSpPr>
              <p:grpSpPr>
                <a:xfrm>
                  <a:off x="1285920" y="2214720"/>
                  <a:ext cx="6492960" cy="3606480"/>
                  <a:chOff x="1285920" y="2214720"/>
                  <a:chExt cx="6492960" cy="3606480"/>
                </a:xfrm>
              </p:grpSpPr>
              <p:sp>
                <p:nvSpPr>
                  <p:cNvPr id="274" name="Text Box 159"/>
                  <p:cNvSpPr/>
                  <p:nvPr/>
                </p:nvSpPr>
                <p:spPr>
                  <a:xfrm>
                    <a:off x="3810960" y="4739040"/>
                    <a:ext cx="721440" cy="360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Aft>
                        <a:spcPts val="10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2400" spc="-1" strike="noStrike">
                        <a:solidFill>
                          <a:srgbClr val="000000"/>
                        </a:solidFill>
                        <a:latin typeface="Tahoma"/>
                      </a:rPr>
                      <a:t>(-1)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75" name="Group 160"/>
                  <p:cNvGrpSpPr/>
                  <p:nvPr/>
                </p:nvGrpSpPr>
                <p:grpSpPr>
                  <a:xfrm>
                    <a:off x="1285920" y="2214720"/>
                    <a:ext cx="6492960" cy="3606480"/>
                    <a:chOff x="1285920" y="2214720"/>
                    <a:chExt cx="6492960" cy="3606480"/>
                  </a:xfrm>
                </p:grpSpPr>
                <p:sp>
                  <p:nvSpPr>
                    <p:cNvPr id="276" name="Text Box 161"/>
                    <p:cNvSpPr/>
                    <p:nvPr/>
                  </p:nvSpPr>
                  <p:spPr>
                    <a:xfrm>
                      <a:off x="3810960" y="2935800"/>
                      <a:ext cx="721440" cy="360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+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77" name="Group 162"/>
                    <p:cNvGrpSpPr/>
                    <p:nvPr/>
                  </p:nvGrpSpPr>
                  <p:grpSpPr>
                    <a:xfrm>
                      <a:off x="1285920" y="2214720"/>
                      <a:ext cx="6492960" cy="3606480"/>
                      <a:chOff x="1285920" y="2214720"/>
                      <a:chExt cx="6492960" cy="3606480"/>
                    </a:xfrm>
                  </p:grpSpPr>
                  <p:sp>
                    <p:nvSpPr>
                      <p:cNvPr id="278" name="Text Box 163"/>
                      <p:cNvSpPr/>
                      <p:nvPr/>
                    </p:nvSpPr>
                    <p:spPr>
                      <a:xfrm>
                        <a:off x="3810960" y="2214720"/>
                        <a:ext cx="721440" cy="360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spcAft>
                            <a:spcPts val="1001"/>
                          </a:spcAft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fr-FR" sz="2400" spc="-1" strike="noStrike">
                            <a:solidFill>
                              <a:srgbClr val="000000"/>
                            </a:solidFill>
                            <a:latin typeface="Tahoma"/>
                          </a:rPr>
                          <a:t>(+2)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79" name="Group 164"/>
                      <p:cNvGrpSpPr/>
                      <p:nvPr/>
                    </p:nvGrpSpPr>
                    <p:grpSpPr>
                      <a:xfrm>
                        <a:off x="1285920" y="2214720"/>
                        <a:ext cx="6492960" cy="3606480"/>
                        <a:chOff x="1285920" y="2214720"/>
                        <a:chExt cx="6492960" cy="3606480"/>
                      </a:xfrm>
                    </p:grpSpPr>
                    <p:sp>
                      <p:nvSpPr>
                        <p:cNvPr id="280" name="Text Box 165"/>
                        <p:cNvSpPr/>
                        <p:nvPr/>
                      </p:nvSpPr>
                      <p:spPr>
                        <a:xfrm>
                          <a:off x="7057080" y="4017600"/>
                          <a:ext cx="721440" cy="3607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0" rIns="0" tIns="0" bIns="0" anchor="t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spcAft>
                              <a:spcPts val="1001"/>
                            </a:spcAft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fr-FR" sz="2400" spc="-1" strike="noStrike">
                              <a:solidFill>
                                <a:srgbClr val="000000"/>
                              </a:solidFill>
                              <a:latin typeface="Tahoma"/>
                            </a:rPr>
                            <a:t>(+4)</a:t>
                          </a: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81" name="Group 166"/>
                        <p:cNvGrpSpPr/>
                        <p:nvPr/>
                      </p:nvGrpSpPr>
                      <p:grpSpPr>
                        <a:xfrm>
                          <a:off x="1285920" y="2214720"/>
                          <a:ext cx="6492960" cy="3606480"/>
                          <a:chOff x="1285920" y="2214720"/>
                          <a:chExt cx="6492960" cy="3606480"/>
                        </a:xfrm>
                      </p:grpSpPr>
                      <p:sp>
                        <p:nvSpPr>
                          <p:cNvPr id="282" name="Text Box 167"/>
                          <p:cNvSpPr/>
                          <p:nvPr/>
                        </p:nvSpPr>
                        <p:spPr>
                          <a:xfrm>
                            <a:off x="6336000" y="4017600"/>
                            <a:ext cx="721080" cy="3607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0" rIns="0" tIns="0" bIns="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spcAft>
                                <a:spcPts val="1001"/>
                              </a:spcAft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fr-FR" sz="2400" spc="-1" strike="noStrike">
                                <a:solidFill>
                                  <a:srgbClr val="000000"/>
                                </a:solidFill>
                                <a:latin typeface="Tahoma"/>
                              </a:rPr>
                              <a:t>(+3)</a:t>
                            </a: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283" name="Group 168"/>
                          <p:cNvGrpSpPr/>
                          <p:nvPr/>
                        </p:nvGrpSpPr>
                        <p:grpSpPr>
                          <a:xfrm>
                            <a:off x="1285920" y="2214720"/>
                            <a:ext cx="6492960" cy="3606480"/>
                            <a:chOff x="1285920" y="2214720"/>
                            <a:chExt cx="6492960" cy="3606480"/>
                          </a:xfrm>
                        </p:grpSpPr>
                        <p:sp>
                          <p:nvSpPr>
                            <p:cNvPr id="284" name="Text Box 169"/>
                            <p:cNvSpPr/>
                            <p:nvPr/>
                          </p:nvSpPr>
                          <p:spPr>
                            <a:xfrm>
                              <a:off x="5614560" y="4017600"/>
                              <a:ext cx="721440" cy="360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0" rIns="0" tIns="0" bIns="0" anchor="t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spcAft>
                                  <a:spcPts val="1001"/>
                                </a:spcAft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fr-FR" sz="2400" spc="-1" strike="noStrike">
                                  <a:solidFill>
                                    <a:srgbClr val="000000"/>
                                  </a:solidFill>
                                  <a:latin typeface="Tahoma"/>
                                </a:rPr>
                                <a:t>(+2)</a:t>
                              </a: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grpSp>
                          <p:nvGrpSpPr>
                            <p:cNvPr id="285" name="Group 170"/>
                            <p:cNvGrpSpPr/>
                            <p:nvPr/>
                          </p:nvGrpSpPr>
                          <p:grpSpPr>
                            <a:xfrm>
                              <a:off x="1285920" y="2214720"/>
                              <a:ext cx="6492960" cy="3606480"/>
                              <a:chOff x="1285920" y="2214720"/>
                              <a:chExt cx="6492960" cy="3606480"/>
                            </a:xfrm>
                          </p:grpSpPr>
                          <p:sp>
                            <p:nvSpPr>
                              <p:cNvPr id="286" name="Text Box 171"/>
                              <p:cNvSpPr/>
                              <p:nvPr/>
                            </p:nvSpPr>
                            <p:spPr>
                              <a:xfrm>
                                <a:off x="4893120" y="4017600"/>
                                <a:ext cx="721440" cy="360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0" rIns="0" tIns="0" bIns="0" anchor="t">
                                <a:noAutofit/>
                              </a:bodyPr>
                              <a:p>
                                <a:pPr algn="ctr">
                                  <a:lnSpc>
                                    <a:spcPct val="100000"/>
                                  </a:lnSpc>
                                  <a:spcAft>
                                    <a:spcPts val="1001"/>
                                  </a:spcAft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fr-FR" sz="2400" spc="-1" strike="noStrike">
                                    <a:solidFill>
                                      <a:srgbClr val="000000"/>
                                    </a:solidFill>
                                    <a:latin typeface="Tahoma"/>
                                  </a:rPr>
                                  <a:t>(+1)</a:t>
                                </a: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287" name="Group 172"/>
                              <p:cNvGrpSpPr/>
                              <p:nvPr/>
                            </p:nvGrpSpPr>
                            <p:grpSpPr>
                              <a:xfrm>
                                <a:off x="1285920" y="2214720"/>
                                <a:ext cx="6492960" cy="3606480"/>
                                <a:chOff x="1285920" y="2214720"/>
                                <a:chExt cx="6492960" cy="3606480"/>
                              </a:xfrm>
                            </p:grpSpPr>
                            <p:sp>
                              <p:nvSpPr>
                                <p:cNvPr id="288" name="Text Box 173"/>
                                <p:cNvSpPr/>
                                <p:nvPr/>
                              </p:nvSpPr>
                              <p:spPr>
                                <a:xfrm>
                                  <a:off x="3450240" y="4017600"/>
                                  <a:ext cx="721080" cy="36072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0" rIns="0" tIns="0" bIns="0" anchor="t">
                                  <a:noAutofit/>
                                </a:bodyPr>
                                <a:p>
                                  <a:pPr algn="ctr">
                                    <a:lnSpc>
                                      <a:spcPct val="100000"/>
                                    </a:lnSpc>
                                    <a:spcAft>
                                      <a:spcPts val="1001"/>
                                    </a:spcAft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fr-FR" sz="2400" spc="-1" strike="noStrike">
                                      <a:solidFill>
                                        <a:srgbClr val="000000"/>
                                      </a:solidFill>
                                      <a:latin typeface="Tahoma"/>
                                    </a:rPr>
                                    <a:t>(-1)</a:t>
                                  </a:r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grpSp>
                              <p:nvGrpSpPr>
                                <p:cNvPr id="289" name="Group 174"/>
                                <p:cNvGrpSpPr/>
                                <p:nvPr/>
                              </p:nvGrpSpPr>
                              <p:grpSpPr>
                                <a:xfrm>
                                  <a:off x="1285920" y="2214720"/>
                                  <a:ext cx="6492960" cy="3606480"/>
                                  <a:chOff x="1285920" y="2214720"/>
                                  <a:chExt cx="6492960" cy="3606480"/>
                                </a:xfrm>
                              </p:grpSpPr>
                              <p:sp>
                                <p:nvSpPr>
                                  <p:cNvPr id="290" name="Text Box 175"/>
                                  <p:cNvSpPr/>
                                  <p:nvPr/>
                                </p:nvSpPr>
                                <p:spPr>
                                  <a:xfrm>
                                    <a:off x="2728800" y="4017600"/>
                                    <a:ext cx="721440" cy="36072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0" rIns="0" tIns="0" bIns="0" anchor="t">
                                    <a:noAutofit/>
                                  </a:bodyPr>
                                  <a:p>
                                    <a:pPr algn="ctr">
                                      <a:lnSpc>
                                        <a:spcPct val="100000"/>
                                      </a:lnSpc>
                                      <a:spcAft>
                                        <a:spcPts val="1001"/>
                                      </a:spcAft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fr-FR" sz="2400" spc="-1" strike="noStrike">
                                        <a:solidFill>
                                          <a:srgbClr val="000000"/>
                                        </a:solidFill>
                                        <a:latin typeface="Tahoma"/>
                                      </a:rPr>
                                      <a:t>(-2)</a:t>
                                    </a:r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grpSp>
                                <p:nvGrpSpPr>
                                  <p:cNvPr id="291" name="Group 176"/>
                                  <p:cNvGrpSpPr/>
                                  <p:nvPr/>
                                </p:nvGrpSpPr>
                                <p:grpSpPr>
                                  <a:xfrm>
                                    <a:off x="1285920" y="2214720"/>
                                    <a:ext cx="6492960" cy="3606480"/>
                                    <a:chOff x="1285920" y="2214720"/>
                                    <a:chExt cx="6492960" cy="3606480"/>
                                  </a:xfrm>
                                </p:grpSpPr>
                                <p:sp>
                                  <p:nvSpPr>
                                    <p:cNvPr id="292" name="Text Box 177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285920" y="4017600"/>
                                      <a:ext cx="721440" cy="36072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0" rIns="0" tIns="0" bIns="0" anchor="t">
                                      <a:noAutofit/>
                                    </a:bodyPr>
                                    <a:p>
                                      <a:pPr algn="ctr">
                                        <a:lnSpc>
                                          <a:spcPct val="100000"/>
                                        </a:lnSpc>
                                        <a:spcAft>
                                          <a:spcPts val="1001"/>
                                        </a:spcAft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0" lang="fr-FR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ahoma"/>
                                        </a:rPr>
                                        <a:t>(-4)</a:t>
                                      </a:r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grpSp>
                                  <p:nvGrpSpPr>
                                    <p:cNvPr id="293" name="Group 178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1285920" y="2214720"/>
                                      <a:ext cx="6492960" cy="3606480"/>
                                      <a:chOff x="1285920" y="2214720"/>
                                      <a:chExt cx="6492960" cy="3606480"/>
                                    </a:xfrm>
                                  </p:grpSpPr>
                                  <p:sp>
                                    <p:nvSpPr>
                                      <p:cNvPr id="294" name="Text Box 179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2007360" y="4017600"/>
                                        <a:ext cx="721440" cy="360720"/>
                                      </a:xfrm>
                                      <a:prstGeom prst="rect">
                                        <a:avLst/>
                                      </a:prstGeom>
                                      <a:noFill/>
                                      <a:ln w="0">
                                        <a:noFill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0" rIns="0" tIns="0" bIns="0" anchor="t">
                                        <a:noAutofit/>
                                      </a:bodyPr>
                                      <a:p>
                                        <a:pPr algn="ctr">
                                          <a:lnSpc>
                                            <a:spcPct val="100000"/>
                                          </a:lnSpc>
                                          <a:spcAft>
                                            <a:spcPts val="1001"/>
                                          </a:spcAft>
                                          <a:tabLst>
                                            <a:tab algn="l" pos="0"/>
                                            <a:tab algn="l" pos="914400"/>
                                            <a:tab algn="l" pos="1828800"/>
                                            <a:tab algn="l" pos="2743200"/>
                                            <a:tab algn="l" pos="3657600"/>
                                            <a:tab algn="l" pos="4572000"/>
                                            <a:tab algn="l" pos="5486400"/>
                                            <a:tab algn="l" pos="6400800"/>
                                            <a:tab algn="l" pos="7315200"/>
                                            <a:tab algn="l" pos="8229600"/>
                                            <a:tab algn="l" pos="9144000"/>
                                            <a:tab algn="l" pos="10058400"/>
                                          </a:tabLst>
                                        </a:pPr>
                                        <a:r>
                                          <a:rPr b="0" lang="fr-FR" sz="24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ahoma"/>
                                          </a:rPr>
                                          <a:t>(-3)</a:t>
                                        </a:r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endParaRPr>
                                      </a:p>
                                    </p:txBody>
                                  </p:sp>
                                  <p:grpSp>
                                    <p:nvGrpSpPr>
                                      <p:cNvPr id="295" name="Group 180"/>
                                      <p:cNvGrpSpPr/>
                                      <p:nvPr/>
                                    </p:nvGrpSpPr>
                                    <p:grpSpPr>
                                      <a:xfrm>
                                        <a:off x="1285920" y="2214720"/>
                                        <a:ext cx="6492960" cy="3606480"/>
                                        <a:chOff x="1285920" y="2214720"/>
                                        <a:chExt cx="6492960" cy="3606480"/>
                                      </a:xfrm>
                                    </p:grpSpPr>
                                    <p:sp>
                                      <p:nvSpPr>
                                        <p:cNvPr id="296" name="Line 181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401760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316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  <a:tailEnd len="med" type="arrow" w="med"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297" name="Line 182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257508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190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298" name="Line 183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329652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190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299" name="Line 184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473904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190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300" name="Line 185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546048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190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grpSp>
                                      <p:nvGrpSpPr>
                                        <p:cNvPr id="301" name="Group 186"/>
                                        <p:cNvGrpSpPr/>
                                        <p:nvPr/>
                                      </p:nvGrpSpPr>
                                      <p:grpSpPr>
                                        <a:xfrm>
                                          <a:off x="1646640" y="2214720"/>
                                          <a:ext cx="5771160" cy="3606480"/>
                                          <a:chOff x="1646640" y="2214720"/>
                                          <a:chExt cx="5771160" cy="3606480"/>
                                        </a:xfrm>
                                      </p:grpSpPr>
                                      <p:sp>
                                        <p:nvSpPr>
                                          <p:cNvPr id="302" name="Line 187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453204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316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  <a:headEnd len="med" type="arrow" w="med"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303" name="Line 188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164664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304" name="Line 189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236808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305" name="Line 190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308916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306" name="Line 191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381060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307" name="Line 192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525312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308" name="Line 193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597456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309" name="Line 194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669636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310" name="Line 195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741780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</p:grpSp>
                                  </p:grpSp>
                                </p:grpSp>
                              </p:grpSp>
                            </p:grpSp>
                          </p:grpSp>
                        </p:grpSp>
                      </p:grpSp>
                    </p:grpSp>
                  </p:grpSp>
                </p:grpSp>
              </p:grpSp>
            </p:grpSp>
          </p:grpSp>
        </p:grpSp>
      </p:grpSp>
      <p:sp>
        <p:nvSpPr>
          <p:cNvPr id="311" name="Connecteur droit 98"/>
          <p:cNvSpPr/>
          <p:nvPr/>
        </p:nvSpPr>
        <p:spPr>
          <a:xfrm>
            <a:off x="6500880" y="5286240"/>
            <a:ext cx="357120" cy="3574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Connecteur droit 101"/>
          <p:cNvSpPr/>
          <p:nvPr/>
        </p:nvSpPr>
        <p:spPr>
          <a:xfrm flipH="1">
            <a:off x="6500880" y="5286240"/>
            <a:ext cx="357120" cy="3574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28760" y="1428840"/>
            <a:ext cx="82864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Quel est l’ordonnée du point E 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Group 149"/>
          <p:cNvGrpSpPr/>
          <p:nvPr/>
        </p:nvGrpSpPr>
        <p:grpSpPr>
          <a:xfrm>
            <a:off x="1285920" y="2214720"/>
            <a:ext cx="6492960" cy="3606480"/>
            <a:chOff x="1285920" y="2214720"/>
            <a:chExt cx="6492960" cy="3606480"/>
          </a:xfrm>
        </p:grpSpPr>
        <p:sp>
          <p:nvSpPr>
            <p:cNvPr id="316" name="Text Box 150"/>
            <p:cNvSpPr/>
            <p:nvPr/>
          </p:nvSpPr>
          <p:spPr>
            <a:xfrm>
              <a:off x="2357640" y="2571480"/>
              <a:ext cx="487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6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7" name="Group 154"/>
            <p:cNvGrpSpPr/>
            <p:nvPr/>
          </p:nvGrpSpPr>
          <p:grpSpPr>
            <a:xfrm>
              <a:off x="1285920" y="2214720"/>
              <a:ext cx="6492960" cy="3606480"/>
              <a:chOff x="1285920" y="2214720"/>
              <a:chExt cx="6492960" cy="3606480"/>
            </a:xfrm>
          </p:grpSpPr>
          <p:sp>
            <p:nvSpPr>
              <p:cNvPr id="318" name="Text Box 155"/>
              <p:cNvSpPr/>
              <p:nvPr/>
            </p:nvSpPr>
            <p:spPr>
              <a:xfrm>
                <a:off x="4171320" y="4017600"/>
                <a:ext cx="360720" cy="36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Calibri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9" name="Group 156"/>
              <p:cNvGrpSpPr/>
              <p:nvPr/>
            </p:nvGrpSpPr>
            <p:grpSpPr>
              <a:xfrm>
                <a:off x="1285920" y="2214720"/>
                <a:ext cx="6492960" cy="3606480"/>
                <a:chOff x="1285920" y="2214720"/>
                <a:chExt cx="6492960" cy="3606480"/>
              </a:xfrm>
            </p:grpSpPr>
            <p:sp>
              <p:nvSpPr>
                <p:cNvPr id="320" name="Text Box 157"/>
                <p:cNvSpPr/>
                <p:nvPr/>
              </p:nvSpPr>
              <p:spPr>
                <a:xfrm>
                  <a:off x="3810960" y="5460480"/>
                  <a:ext cx="721440" cy="36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ahoma"/>
                    </a:rPr>
                    <a:t>(-2)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21" name="Group 158"/>
                <p:cNvGrpSpPr/>
                <p:nvPr/>
              </p:nvGrpSpPr>
              <p:grpSpPr>
                <a:xfrm>
                  <a:off x="1285920" y="2214720"/>
                  <a:ext cx="6492960" cy="3606480"/>
                  <a:chOff x="1285920" y="2214720"/>
                  <a:chExt cx="6492960" cy="3606480"/>
                </a:xfrm>
              </p:grpSpPr>
              <p:sp>
                <p:nvSpPr>
                  <p:cNvPr id="322" name="Text Box 159"/>
                  <p:cNvSpPr/>
                  <p:nvPr/>
                </p:nvSpPr>
                <p:spPr>
                  <a:xfrm>
                    <a:off x="3810960" y="4739040"/>
                    <a:ext cx="721440" cy="360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Aft>
                        <a:spcPts val="10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2400" spc="-1" strike="noStrike">
                        <a:solidFill>
                          <a:srgbClr val="000000"/>
                        </a:solidFill>
                        <a:latin typeface="Tahoma"/>
                      </a:rPr>
                      <a:t>(-1)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23" name="Group 160"/>
                  <p:cNvGrpSpPr/>
                  <p:nvPr/>
                </p:nvGrpSpPr>
                <p:grpSpPr>
                  <a:xfrm>
                    <a:off x="1285920" y="2214720"/>
                    <a:ext cx="6492960" cy="3606480"/>
                    <a:chOff x="1285920" y="2214720"/>
                    <a:chExt cx="6492960" cy="3606480"/>
                  </a:xfrm>
                </p:grpSpPr>
                <p:sp>
                  <p:nvSpPr>
                    <p:cNvPr id="324" name="Text Box 161"/>
                    <p:cNvSpPr/>
                    <p:nvPr/>
                  </p:nvSpPr>
                  <p:spPr>
                    <a:xfrm>
                      <a:off x="3810960" y="2935800"/>
                      <a:ext cx="721440" cy="360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+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25" name="Group 162"/>
                    <p:cNvGrpSpPr/>
                    <p:nvPr/>
                  </p:nvGrpSpPr>
                  <p:grpSpPr>
                    <a:xfrm>
                      <a:off x="1285920" y="2214720"/>
                      <a:ext cx="6492960" cy="3606480"/>
                      <a:chOff x="1285920" y="2214720"/>
                      <a:chExt cx="6492960" cy="3606480"/>
                    </a:xfrm>
                  </p:grpSpPr>
                  <p:sp>
                    <p:nvSpPr>
                      <p:cNvPr id="326" name="Text Box 163"/>
                      <p:cNvSpPr/>
                      <p:nvPr/>
                    </p:nvSpPr>
                    <p:spPr>
                      <a:xfrm>
                        <a:off x="3810960" y="2214720"/>
                        <a:ext cx="721440" cy="360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spcAft>
                            <a:spcPts val="1001"/>
                          </a:spcAft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fr-FR" sz="2400" spc="-1" strike="noStrike">
                            <a:solidFill>
                              <a:srgbClr val="000000"/>
                            </a:solidFill>
                            <a:latin typeface="Tahoma"/>
                          </a:rPr>
                          <a:t>(+2)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327" name="Group 164"/>
                      <p:cNvGrpSpPr/>
                      <p:nvPr/>
                    </p:nvGrpSpPr>
                    <p:grpSpPr>
                      <a:xfrm>
                        <a:off x="1285920" y="2214720"/>
                        <a:ext cx="6492960" cy="3606480"/>
                        <a:chOff x="1285920" y="2214720"/>
                        <a:chExt cx="6492960" cy="3606480"/>
                      </a:xfrm>
                    </p:grpSpPr>
                    <p:sp>
                      <p:nvSpPr>
                        <p:cNvPr id="328" name="Text Box 165"/>
                        <p:cNvSpPr/>
                        <p:nvPr/>
                      </p:nvSpPr>
                      <p:spPr>
                        <a:xfrm>
                          <a:off x="7057080" y="4017600"/>
                          <a:ext cx="721440" cy="3607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0" rIns="0" tIns="0" bIns="0" anchor="t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spcAft>
                              <a:spcPts val="1001"/>
                            </a:spcAft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fr-FR" sz="2400" spc="-1" strike="noStrike">
                              <a:solidFill>
                                <a:srgbClr val="000000"/>
                              </a:solidFill>
                              <a:latin typeface="Tahoma"/>
                            </a:rPr>
                            <a:t>(+4)</a:t>
                          </a: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329" name="Group 166"/>
                        <p:cNvGrpSpPr/>
                        <p:nvPr/>
                      </p:nvGrpSpPr>
                      <p:grpSpPr>
                        <a:xfrm>
                          <a:off x="1285920" y="2214720"/>
                          <a:ext cx="6492960" cy="3606480"/>
                          <a:chOff x="1285920" y="2214720"/>
                          <a:chExt cx="6492960" cy="3606480"/>
                        </a:xfrm>
                      </p:grpSpPr>
                      <p:sp>
                        <p:nvSpPr>
                          <p:cNvPr id="330" name="Text Box 167"/>
                          <p:cNvSpPr/>
                          <p:nvPr/>
                        </p:nvSpPr>
                        <p:spPr>
                          <a:xfrm>
                            <a:off x="6336000" y="4017600"/>
                            <a:ext cx="721080" cy="3607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0" rIns="0" tIns="0" bIns="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spcAft>
                                <a:spcPts val="1001"/>
                              </a:spcAft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fr-FR" sz="2400" spc="-1" strike="noStrike">
                                <a:solidFill>
                                  <a:srgbClr val="000000"/>
                                </a:solidFill>
                                <a:latin typeface="Tahoma"/>
                              </a:rPr>
                              <a:t>(+3)</a:t>
                            </a: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331" name="Group 168"/>
                          <p:cNvGrpSpPr/>
                          <p:nvPr/>
                        </p:nvGrpSpPr>
                        <p:grpSpPr>
                          <a:xfrm>
                            <a:off x="1285920" y="2214720"/>
                            <a:ext cx="6492960" cy="3606480"/>
                            <a:chOff x="1285920" y="2214720"/>
                            <a:chExt cx="6492960" cy="3606480"/>
                          </a:xfrm>
                        </p:grpSpPr>
                        <p:sp>
                          <p:nvSpPr>
                            <p:cNvPr id="332" name="Text Box 169"/>
                            <p:cNvSpPr/>
                            <p:nvPr/>
                          </p:nvSpPr>
                          <p:spPr>
                            <a:xfrm>
                              <a:off x="5614560" y="4017600"/>
                              <a:ext cx="721440" cy="360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0" rIns="0" tIns="0" bIns="0" anchor="t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spcAft>
                                  <a:spcPts val="1001"/>
                                </a:spcAft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fr-FR" sz="2400" spc="-1" strike="noStrike">
                                  <a:solidFill>
                                    <a:srgbClr val="000000"/>
                                  </a:solidFill>
                                  <a:latin typeface="Tahoma"/>
                                </a:rPr>
                                <a:t>(+2)</a:t>
                              </a: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grpSp>
                          <p:nvGrpSpPr>
                            <p:cNvPr id="333" name="Group 170"/>
                            <p:cNvGrpSpPr/>
                            <p:nvPr/>
                          </p:nvGrpSpPr>
                          <p:grpSpPr>
                            <a:xfrm>
                              <a:off x="1285920" y="2214720"/>
                              <a:ext cx="6492960" cy="3606480"/>
                              <a:chOff x="1285920" y="2214720"/>
                              <a:chExt cx="6492960" cy="3606480"/>
                            </a:xfrm>
                          </p:grpSpPr>
                          <p:sp>
                            <p:nvSpPr>
                              <p:cNvPr id="334" name="Text Box 171"/>
                              <p:cNvSpPr/>
                              <p:nvPr/>
                            </p:nvSpPr>
                            <p:spPr>
                              <a:xfrm>
                                <a:off x="4893120" y="4017600"/>
                                <a:ext cx="721440" cy="360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0" rIns="0" tIns="0" bIns="0" anchor="t">
                                <a:noAutofit/>
                              </a:bodyPr>
                              <a:p>
                                <a:pPr algn="ctr">
                                  <a:lnSpc>
                                    <a:spcPct val="100000"/>
                                  </a:lnSpc>
                                  <a:spcAft>
                                    <a:spcPts val="1001"/>
                                  </a:spcAft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fr-FR" sz="2400" spc="-1" strike="noStrike">
                                    <a:solidFill>
                                      <a:srgbClr val="000000"/>
                                    </a:solidFill>
                                    <a:latin typeface="Tahoma"/>
                                  </a:rPr>
                                  <a:t>(+1)</a:t>
                                </a: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335" name="Group 172"/>
                              <p:cNvGrpSpPr/>
                              <p:nvPr/>
                            </p:nvGrpSpPr>
                            <p:grpSpPr>
                              <a:xfrm>
                                <a:off x="1285920" y="2214720"/>
                                <a:ext cx="6492960" cy="3606480"/>
                                <a:chOff x="1285920" y="2214720"/>
                                <a:chExt cx="6492960" cy="3606480"/>
                              </a:xfrm>
                            </p:grpSpPr>
                            <p:sp>
                              <p:nvSpPr>
                                <p:cNvPr id="336" name="Text Box 173"/>
                                <p:cNvSpPr/>
                                <p:nvPr/>
                              </p:nvSpPr>
                              <p:spPr>
                                <a:xfrm>
                                  <a:off x="3450240" y="4017600"/>
                                  <a:ext cx="721080" cy="36072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0" rIns="0" tIns="0" bIns="0" anchor="t">
                                  <a:noAutofit/>
                                </a:bodyPr>
                                <a:p>
                                  <a:pPr algn="ctr">
                                    <a:lnSpc>
                                      <a:spcPct val="100000"/>
                                    </a:lnSpc>
                                    <a:spcAft>
                                      <a:spcPts val="1001"/>
                                    </a:spcAft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fr-FR" sz="2400" spc="-1" strike="noStrike">
                                      <a:solidFill>
                                        <a:srgbClr val="000000"/>
                                      </a:solidFill>
                                      <a:latin typeface="Tahoma"/>
                                    </a:rPr>
                                    <a:t>(-1)</a:t>
                                  </a:r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grpSp>
                              <p:nvGrpSpPr>
                                <p:cNvPr id="337" name="Group 174"/>
                                <p:cNvGrpSpPr/>
                                <p:nvPr/>
                              </p:nvGrpSpPr>
                              <p:grpSpPr>
                                <a:xfrm>
                                  <a:off x="1285920" y="2214720"/>
                                  <a:ext cx="6492960" cy="3606480"/>
                                  <a:chOff x="1285920" y="2214720"/>
                                  <a:chExt cx="6492960" cy="3606480"/>
                                </a:xfrm>
                              </p:grpSpPr>
                              <p:sp>
                                <p:nvSpPr>
                                  <p:cNvPr id="338" name="Text Box 175"/>
                                  <p:cNvSpPr/>
                                  <p:nvPr/>
                                </p:nvSpPr>
                                <p:spPr>
                                  <a:xfrm>
                                    <a:off x="2728800" y="4017600"/>
                                    <a:ext cx="721440" cy="36072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0" rIns="0" tIns="0" bIns="0" anchor="t">
                                    <a:noAutofit/>
                                  </a:bodyPr>
                                  <a:p>
                                    <a:pPr algn="ctr">
                                      <a:lnSpc>
                                        <a:spcPct val="100000"/>
                                      </a:lnSpc>
                                      <a:spcAft>
                                        <a:spcPts val="1001"/>
                                      </a:spcAft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fr-FR" sz="2400" spc="-1" strike="noStrike">
                                        <a:solidFill>
                                          <a:srgbClr val="000000"/>
                                        </a:solidFill>
                                        <a:latin typeface="Tahoma"/>
                                      </a:rPr>
                                      <a:t>(-2)</a:t>
                                    </a:r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grpSp>
                                <p:nvGrpSpPr>
                                  <p:cNvPr id="339" name="Group 176"/>
                                  <p:cNvGrpSpPr/>
                                  <p:nvPr/>
                                </p:nvGrpSpPr>
                                <p:grpSpPr>
                                  <a:xfrm>
                                    <a:off x="1285920" y="2214720"/>
                                    <a:ext cx="6492960" cy="3606480"/>
                                    <a:chOff x="1285920" y="2214720"/>
                                    <a:chExt cx="6492960" cy="3606480"/>
                                  </a:xfrm>
                                </p:grpSpPr>
                                <p:sp>
                                  <p:nvSpPr>
                                    <p:cNvPr id="340" name="Text Box 177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285920" y="4017600"/>
                                      <a:ext cx="721440" cy="36072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0" rIns="0" tIns="0" bIns="0" anchor="t">
                                      <a:noAutofit/>
                                    </a:bodyPr>
                                    <a:p>
                                      <a:pPr algn="ctr">
                                        <a:lnSpc>
                                          <a:spcPct val="100000"/>
                                        </a:lnSpc>
                                        <a:spcAft>
                                          <a:spcPts val="1001"/>
                                        </a:spcAft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0" lang="fr-FR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ahoma"/>
                                        </a:rPr>
                                        <a:t>(-4)</a:t>
                                      </a:r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grpSp>
                                  <p:nvGrpSpPr>
                                    <p:cNvPr id="341" name="Group 178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1285920" y="2214720"/>
                                      <a:ext cx="6492960" cy="3606480"/>
                                      <a:chOff x="1285920" y="2214720"/>
                                      <a:chExt cx="6492960" cy="3606480"/>
                                    </a:xfrm>
                                  </p:grpSpPr>
                                  <p:sp>
                                    <p:nvSpPr>
                                      <p:cNvPr id="342" name="Text Box 179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2007360" y="4017600"/>
                                        <a:ext cx="721440" cy="360720"/>
                                      </a:xfrm>
                                      <a:prstGeom prst="rect">
                                        <a:avLst/>
                                      </a:prstGeom>
                                      <a:noFill/>
                                      <a:ln w="0">
                                        <a:noFill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0" rIns="0" tIns="0" bIns="0" anchor="t">
                                        <a:noAutofit/>
                                      </a:bodyPr>
                                      <a:p>
                                        <a:pPr algn="ctr">
                                          <a:lnSpc>
                                            <a:spcPct val="100000"/>
                                          </a:lnSpc>
                                          <a:spcAft>
                                            <a:spcPts val="1001"/>
                                          </a:spcAft>
                                          <a:tabLst>
                                            <a:tab algn="l" pos="0"/>
                                            <a:tab algn="l" pos="914400"/>
                                            <a:tab algn="l" pos="1828800"/>
                                            <a:tab algn="l" pos="2743200"/>
                                            <a:tab algn="l" pos="3657600"/>
                                            <a:tab algn="l" pos="4572000"/>
                                            <a:tab algn="l" pos="5486400"/>
                                            <a:tab algn="l" pos="6400800"/>
                                            <a:tab algn="l" pos="7315200"/>
                                            <a:tab algn="l" pos="8229600"/>
                                            <a:tab algn="l" pos="9144000"/>
                                            <a:tab algn="l" pos="10058400"/>
                                          </a:tabLst>
                                        </a:pPr>
                                        <a:r>
                                          <a:rPr b="0" lang="fr-FR" sz="24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ahoma"/>
                                          </a:rPr>
                                          <a:t>(-3)</a:t>
                                        </a:r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endParaRPr>
                                      </a:p>
                                    </p:txBody>
                                  </p:sp>
                                  <p:grpSp>
                                    <p:nvGrpSpPr>
                                      <p:cNvPr id="343" name="Group 180"/>
                                      <p:cNvGrpSpPr/>
                                      <p:nvPr/>
                                    </p:nvGrpSpPr>
                                    <p:grpSpPr>
                                      <a:xfrm>
                                        <a:off x="1285920" y="2214720"/>
                                        <a:ext cx="6492960" cy="3606480"/>
                                        <a:chOff x="1285920" y="2214720"/>
                                        <a:chExt cx="6492960" cy="3606480"/>
                                      </a:xfrm>
                                    </p:grpSpPr>
                                    <p:sp>
                                      <p:nvSpPr>
                                        <p:cNvPr id="344" name="Line 181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401760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316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  <a:tailEnd len="med" type="arrow" w="med"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345" name="Line 182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257508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190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346" name="Line 183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329652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190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347" name="Line 184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473904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190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348" name="Line 185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546048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190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grpSp>
                                      <p:nvGrpSpPr>
                                        <p:cNvPr id="349" name="Group 186"/>
                                        <p:cNvGrpSpPr/>
                                        <p:nvPr/>
                                      </p:nvGrpSpPr>
                                      <p:grpSpPr>
                                        <a:xfrm>
                                          <a:off x="1646640" y="2214720"/>
                                          <a:ext cx="5771160" cy="3606480"/>
                                          <a:chOff x="1646640" y="2214720"/>
                                          <a:chExt cx="5771160" cy="3606480"/>
                                        </a:xfrm>
                                      </p:grpSpPr>
                                      <p:sp>
                                        <p:nvSpPr>
                                          <p:cNvPr id="350" name="Line 187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453204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316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  <a:headEnd len="med" type="arrow" w="med"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351" name="Line 188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164664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352" name="Line 189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236808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353" name="Line 190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308916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354" name="Line 191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381060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355" name="Line 192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525312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356" name="Line 193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597456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357" name="Line 194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669636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358" name="Line 195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741780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</p:grpSp>
                                  </p:grpSp>
                                </p:grpSp>
                              </p:grpSp>
                            </p:grpSp>
                          </p:grpSp>
                        </p:grpSp>
                      </p:grpSp>
                    </p:grpSp>
                  </p:grpSp>
                </p:grpSp>
              </p:grpSp>
            </p:grpSp>
          </p:grpSp>
        </p:grpSp>
      </p:grpSp>
      <p:sp>
        <p:nvSpPr>
          <p:cNvPr id="359" name="Connecteur droit 52"/>
          <p:cNvSpPr/>
          <p:nvPr/>
        </p:nvSpPr>
        <p:spPr>
          <a:xfrm>
            <a:off x="2928960" y="2428920"/>
            <a:ext cx="357120" cy="2858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Connecteur droit 53"/>
          <p:cNvSpPr/>
          <p:nvPr/>
        </p:nvSpPr>
        <p:spPr>
          <a:xfrm flipH="1">
            <a:off x="2928960" y="2428920"/>
            <a:ext cx="357120" cy="2858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 Box 2"/>
          <p:cNvSpPr/>
          <p:nvPr/>
        </p:nvSpPr>
        <p:spPr>
          <a:xfrm>
            <a:off x="3429000" y="17146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2"/>
          <p:cNvSpPr/>
          <p:nvPr/>
        </p:nvSpPr>
        <p:spPr>
          <a:xfrm>
            <a:off x="2500200" y="364320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Posez les sty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828684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Comparer les deux nombres suivants à l’aide de &lt; ou 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Object 6"/>
              <p:cNvSpPr txBox="1"/>
              <p:nvPr/>
            </p:nvSpPr>
            <p:spPr>
              <a:xfrm>
                <a:off x="428760" y="3357720"/>
                <a:ext cx="3001680" cy="15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Object 8"/>
              <p:cNvSpPr txBox="1"/>
              <p:nvPr/>
            </p:nvSpPr>
            <p:spPr>
              <a:xfrm>
                <a:off x="5929200" y="3357720"/>
                <a:ext cx="2428920" cy="15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,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" name="ZoneTexte 8"/>
          <p:cNvSpPr/>
          <p:nvPr/>
        </p:nvSpPr>
        <p:spPr>
          <a:xfrm>
            <a:off x="4357800" y="3500280"/>
            <a:ext cx="71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9680" y="1285920"/>
            <a:ext cx="828684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Quelles sont les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coordonnées du point F 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149"/>
          <p:cNvGrpSpPr/>
          <p:nvPr/>
        </p:nvGrpSpPr>
        <p:grpSpPr>
          <a:xfrm>
            <a:off x="1285920" y="2214720"/>
            <a:ext cx="6492960" cy="3606480"/>
            <a:chOff x="1285920" y="2214720"/>
            <a:chExt cx="6492960" cy="3606480"/>
          </a:xfrm>
        </p:grpSpPr>
        <p:sp>
          <p:nvSpPr>
            <p:cNvPr id="59" name="Text Box 150"/>
            <p:cNvSpPr/>
            <p:nvPr/>
          </p:nvSpPr>
          <p:spPr>
            <a:xfrm>
              <a:off x="6000480" y="4786200"/>
              <a:ext cx="487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600" spc="-1" strike="noStrike">
                  <a:solidFill>
                    <a:srgbClr val="000000"/>
                  </a:solidFill>
                  <a:latin typeface="Calibri"/>
                </a:rPr>
                <a:t>F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" name="Group 154"/>
            <p:cNvGrpSpPr/>
            <p:nvPr/>
          </p:nvGrpSpPr>
          <p:grpSpPr>
            <a:xfrm>
              <a:off x="1285920" y="2214720"/>
              <a:ext cx="6492960" cy="3606480"/>
              <a:chOff x="1285920" y="2214720"/>
              <a:chExt cx="6492960" cy="3606480"/>
            </a:xfrm>
          </p:grpSpPr>
          <p:sp>
            <p:nvSpPr>
              <p:cNvPr id="61" name="Text Box 155"/>
              <p:cNvSpPr/>
              <p:nvPr/>
            </p:nvSpPr>
            <p:spPr>
              <a:xfrm>
                <a:off x="4171320" y="4017600"/>
                <a:ext cx="360720" cy="36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Calibri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" name="Group 156"/>
              <p:cNvGrpSpPr/>
              <p:nvPr/>
            </p:nvGrpSpPr>
            <p:grpSpPr>
              <a:xfrm>
                <a:off x="1285920" y="2214720"/>
                <a:ext cx="6492960" cy="3606480"/>
                <a:chOff x="1285920" y="2214720"/>
                <a:chExt cx="6492960" cy="3606480"/>
              </a:xfrm>
            </p:grpSpPr>
            <p:sp>
              <p:nvSpPr>
                <p:cNvPr id="63" name="Text Box 157"/>
                <p:cNvSpPr/>
                <p:nvPr/>
              </p:nvSpPr>
              <p:spPr>
                <a:xfrm>
                  <a:off x="3810960" y="5460480"/>
                  <a:ext cx="721440" cy="36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ahoma"/>
                    </a:rPr>
                    <a:t>(-2)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4" name="Group 158"/>
                <p:cNvGrpSpPr/>
                <p:nvPr/>
              </p:nvGrpSpPr>
              <p:grpSpPr>
                <a:xfrm>
                  <a:off x="1285920" y="2214720"/>
                  <a:ext cx="6492960" cy="3606480"/>
                  <a:chOff x="1285920" y="2214720"/>
                  <a:chExt cx="6492960" cy="3606480"/>
                </a:xfrm>
              </p:grpSpPr>
              <p:sp>
                <p:nvSpPr>
                  <p:cNvPr id="65" name="Text Box 159"/>
                  <p:cNvSpPr/>
                  <p:nvPr/>
                </p:nvSpPr>
                <p:spPr>
                  <a:xfrm>
                    <a:off x="3810960" y="4739040"/>
                    <a:ext cx="721440" cy="360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Aft>
                        <a:spcPts val="10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2400" spc="-1" strike="noStrike">
                        <a:solidFill>
                          <a:srgbClr val="000000"/>
                        </a:solidFill>
                        <a:latin typeface="Tahoma"/>
                      </a:rPr>
                      <a:t>(-1)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6" name="Group 160"/>
                  <p:cNvGrpSpPr/>
                  <p:nvPr/>
                </p:nvGrpSpPr>
                <p:grpSpPr>
                  <a:xfrm>
                    <a:off x="1285920" y="2214720"/>
                    <a:ext cx="6492960" cy="3606480"/>
                    <a:chOff x="1285920" y="2214720"/>
                    <a:chExt cx="6492960" cy="3606480"/>
                  </a:xfrm>
                </p:grpSpPr>
                <p:sp>
                  <p:nvSpPr>
                    <p:cNvPr id="67" name="Text Box 161"/>
                    <p:cNvSpPr/>
                    <p:nvPr/>
                  </p:nvSpPr>
                  <p:spPr>
                    <a:xfrm>
                      <a:off x="3810960" y="2935800"/>
                      <a:ext cx="721440" cy="360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+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68" name="Group 162"/>
                    <p:cNvGrpSpPr/>
                    <p:nvPr/>
                  </p:nvGrpSpPr>
                  <p:grpSpPr>
                    <a:xfrm>
                      <a:off x="1285920" y="2214720"/>
                      <a:ext cx="6492960" cy="3606480"/>
                      <a:chOff x="1285920" y="2214720"/>
                      <a:chExt cx="6492960" cy="3606480"/>
                    </a:xfrm>
                  </p:grpSpPr>
                  <p:sp>
                    <p:nvSpPr>
                      <p:cNvPr id="69" name="Text Box 163"/>
                      <p:cNvSpPr/>
                      <p:nvPr/>
                    </p:nvSpPr>
                    <p:spPr>
                      <a:xfrm>
                        <a:off x="3810960" y="2214720"/>
                        <a:ext cx="721440" cy="360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spcAft>
                            <a:spcPts val="1001"/>
                          </a:spcAft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fr-FR" sz="2400" spc="-1" strike="noStrike">
                            <a:solidFill>
                              <a:srgbClr val="000000"/>
                            </a:solidFill>
                            <a:latin typeface="Tahoma"/>
                          </a:rPr>
                          <a:t>(+2)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70" name="Group 164"/>
                      <p:cNvGrpSpPr/>
                      <p:nvPr/>
                    </p:nvGrpSpPr>
                    <p:grpSpPr>
                      <a:xfrm>
                        <a:off x="1285920" y="2214720"/>
                        <a:ext cx="6492960" cy="3606480"/>
                        <a:chOff x="1285920" y="2214720"/>
                        <a:chExt cx="6492960" cy="3606480"/>
                      </a:xfrm>
                    </p:grpSpPr>
                    <p:sp>
                      <p:nvSpPr>
                        <p:cNvPr id="71" name="Text Box 165"/>
                        <p:cNvSpPr/>
                        <p:nvPr/>
                      </p:nvSpPr>
                      <p:spPr>
                        <a:xfrm>
                          <a:off x="7057080" y="4017600"/>
                          <a:ext cx="721440" cy="3607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0" rIns="0" tIns="0" bIns="0" anchor="t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spcAft>
                              <a:spcPts val="1001"/>
                            </a:spcAft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fr-FR" sz="2400" spc="-1" strike="noStrike">
                              <a:solidFill>
                                <a:srgbClr val="000000"/>
                              </a:solidFill>
                              <a:latin typeface="Tahoma"/>
                            </a:rPr>
                            <a:t>(+4)</a:t>
                          </a: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72" name="Group 166"/>
                        <p:cNvGrpSpPr/>
                        <p:nvPr/>
                      </p:nvGrpSpPr>
                      <p:grpSpPr>
                        <a:xfrm>
                          <a:off x="1285920" y="2214720"/>
                          <a:ext cx="6492960" cy="3606480"/>
                          <a:chOff x="1285920" y="2214720"/>
                          <a:chExt cx="6492960" cy="3606480"/>
                        </a:xfrm>
                      </p:grpSpPr>
                      <p:sp>
                        <p:nvSpPr>
                          <p:cNvPr id="73" name="Text Box 167"/>
                          <p:cNvSpPr/>
                          <p:nvPr/>
                        </p:nvSpPr>
                        <p:spPr>
                          <a:xfrm>
                            <a:off x="6336000" y="4017600"/>
                            <a:ext cx="721080" cy="3607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0" rIns="0" tIns="0" bIns="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spcAft>
                                <a:spcPts val="1001"/>
                              </a:spcAft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fr-FR" sz="2400" spc="-1" strike="noStrike">
                                <a:solidFill>
                                  <a:srgbClr val="000000"/>
                                </a:solidFill>
                                <a:latin typeface="Tahoma"/>
                              </a:rPr>
                              <a:t>(+3)</a:t>
                            </a: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74" name="Group 168"/>
                          <p:cNvGrpSpPr/>
                          <p:nvPr/>
                        </p:nvGrpSpPr>
                        <p:grpSpPr>
                          <a:xfrm>
                            <a:off x="1285920" y="2214720"/>
                            <a:ext cx="6492960" cy="3606480"/>
                            <a:chOff x="1285920" y="2214720"/>
                            <a:chExt cx="6492960" cy="3606480"/>
                          </a:xfrm>
                        </p:grpSpPr>
                        <p:sp>
                          <p:nvSpPr>
                            <p:cNvPr id="75" name="Text Box 169"/>
                            <p:cNvSpPr/>
                            <p:nvPr/>
                          </p:nvSpPr>
                          <p:spPr>
                            <a:xfrm>
                              <a:off x="5614560" y="4017600"/>
                              <a:ext cx="721440" cy="360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0" rIns="0" tIns="0" bIns="0" anchor="t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spcAft>
                                  <a:spcPts val="1001"/>
                                </a:spcAft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fr-FR" sz="2400" spc="-1" strike="noStrike">
                                  <a:solidFill>
                                    <a:srgbClr val="000000"/>
                                  </a:solidFill>
                                  <a:latin typeface="Tahoma"/>
                                </a:rPr>
                                <a:t>(+2)</a:t>
                              </a: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grpSp>
                          <p:nvGrpSpPr>
                            <p:cNvPr id="76" name="Group 170"/>
                            <p:cNvGrpSpPr/>
                            <p:nvPr/>
                          </p:nvGrpSpPr>
                          <p:grpSpPr>
                            <a:xfrm>
                              <a:off x="1285920" y="2214720"/>
                              <a:ext cx="6492960" cy="3606480"/>
                              <a:chOff x="1285920" y="2214720"/>
                              <a:chExt cx="6492960" cy="3606480"/>
                            </a:xfrm>
                          </p:grpSpPr>
                          <p:sp>
                            <p:nvSpPr>
                              <p:cNvPr id="77" name="Text Box 171"/>
                              <p:cNvSpPr/>
                              <p:nvPr/>
                            </p:nvSpPr>
                            <p:spPr>
                              <a:xfrm>
                                <a:off x="4893120" y="4017600"/>
                                <a:ext cx="721440" cy="360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0" rIns="0" tIns="0" bIns="0" anchor="t">
                                <a:noAutofit/>
                              </a:bodyPr>
                              <a:p>
                                <a:pPr algn="ctr">
                                  <a:lnSpc>
                                    <a:spcPct val="100000"/>
                                  </a:lnSpc>
                                  <a:spcAft>
                                    <a:spcPts val="1001"/>
                                  </a:spcAft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fr-FR" sz="2400" spc="-1" strike="noStrike">
                                    <a:solidFill>
                                      <a:srgbClr val="000000"/>
                                    </a:solidFill>
                                    <a:latin typeface="Tahoma"/>
                                  </a:rPr>
                                  <a:t>(+1)</a:t>
                                </a: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78" name="Group 172"/>
                              <p:cNvGrpSpPr/>
                              <p:nvPr/>
                            </p:nvGrpSpPr>
                            <p:grpSpPr>
                              <a:xfrm>
                                <a:off x="1285920" y="2214720"/>
                                <a:ext cx="6492960" cy="3606480"/>
                                <a:chOff x="1285920" y="2214720"/>
                                <a:chExt cx="6492960" cy="3606480"/>
                              </a:xfrm>
                            </p:grpSpPr>
                            <p:sp>
                              <p:nvSpPr>
                                <p:cNvPr id="79" name="Text Box 173"/>
                                <p:cNvSpPr/>
                                <p:nvPr/>
                              </p:nvSpPr>
                              <p:spPr>
                                <a:xfrm>
                                  <a:off x="3450240" y="4017600"/>
                                  <a:ext cx="721080" cy="36072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0" rIns="0" tIns="0" bIns="0" anchor="t">
                                  <a:noAutofit/>
                                </a:bodyPr>
                                <a:p>
                                  <a:pPr algn="ctr">
                                    <a:lnSpc>
                                      <a:spcPct val="100000"/>
                                    </a:lnSpc>
                                    <a:spcAft>
                                      <a:spcPts val="1001"/>
                                    </a:spcAft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fr-FR" sz="2400" spc="-1" strike="noStrike">
                                      <a:solidFill>
                                        <a:srgbClr val="000000"/>
                                      </a:solidFill>
                                      <a:latin typeface="Tahoma"/>
                                    </a:rPr>
                                    <a:t>(-1)</a:t>
                                  </a:r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grpSp>
                              <p:nvGrpSpPr>
                                <p:cNvPr id="80" name="Group 174"/>
                                <p:cNvGrpSpPr/>
                                <p:nvPr/>
                              </p:nvGrpSpPr>
                              <p:grpSpPr>
                                <a:xfrm>
                                  <a:off x="1285920" y="2214720"/>
                                  <a:ext cx="6492960" cy="3606480"/>
                                  <a:chOff x="1285920" y="2214720"/>
                                  <a:chExt cx="6492960" cy="3606480"/>
                                </a:xfrm>
                              </p:grpSpPr>
                              <p:sp>
                                <p:nvSpPr>
                                  <p:cNvPr id="81" name="Text Box 175"/>
                                  <p:cNvSpPr/>
                                  <p:nvPr/>
                                </p:nvSpPr>
                                <p:spPr>
                                  <a:xfrm>
                                    <a:off x="2728800" y="4017600"/>
                                    <a:ext cx="721440" cy="36072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0" rIns="0" tIns="0" bIns="0" anchor="t">
                                    <a:noAutofit/>
                                  </a:bodyPr>
                                  <a:p>
                                    <a:pPr algn="ctr">
                                      <a:lnSpc>
                                        <a:spcPct val="100000"/>
                                      </a:lnSpc>
                                      <a:spcAft>
                                        <a:spcPts val="1001"/>
                                      </a:spcAft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fr-FR" sz="2400" spc="-1" strike="noStrike">
                                        <a:solidFill>
                                          <a:srgbClr val="000000"/>
                                        </a:solidFill>
                                        <a:latin typeface="Tahoma"/>
                                      </a:rPr>
                                      <a:t>(-2)</a:t>
                                    </a:r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grpSp>
                                <p:nvGrpSpPr>
                                  <p:cNvPr id="82" name="Group 176"/>
                                  <p:cNvGrpSpPr/>
                                  <p:nvPr/>
                                </p:nvGrpSpPr>
                                <p:grpSpPr>
                                  <a:xfrm>
                                    <a:off x="1285920" y="2214720"/>
                                    <a:ext cx="6492960" cy="3606480"/>
                                    <a:chOff x="1285920" y="2214720"/>
                                    <a:chExt cx="6492960" cy="3606480"/>
                                  </a:xfrm>
                                </p:grpSpPr>
                                <p:sp>
                                  <p:nvSpPr>
                                    <p:cNvPr id="83" name="Text Box 177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285920" y="4017600"/>
                                      <a:ext cx="721440" cy="36072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0" rIns="0" tIns="0" bIns="0" anchor="t">
                                      <a:noAutofit/>
                                    </a:bodyPr>
                                    <a:p>
                                      <a:pPr algn="ctr">
                                        <a:lnSpc>
                                          <a:spcPct val="100000"/>
                                        </a:lnSpc>
                                        <a:spcAft>
                                          <a:spcPts val="1001"/>
                                        </a:spcAft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0" lang="fr-FR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ahoma"/>
                                        </a:rPr>
                                        <a:t>(-4)</a:t>
                                      </a:r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grpSp>
                                  <p:nvGrpSpPr>
                                    <p:cNvPr id="84" name="Group 178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1285920" y="2214720"/>
                                      <a:ext cx="6492960" cy="3606480"/>
                                      <a:chOff x="1285920" y="2214720"/>
                                      <a:chExt cx="6492960" cy="3606480"/>
                                    </a:xfrm>
                                  </p:grpSpPr>
                                  <p:sp>
                                    <p:nvSpPr>
                                      <p:cNvPr id="85" name="Text Box 179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2007360" y="4017600"/>
                                        <a:ext cx="721440" cy="360720"/>
                                      </a:xfrm>
                                      <a:prstGeom prst="rect">
                                        <a:avLst/>
                                      </a:prstGeom>
                                      <a:noFill/>
                                      <a:ln w="0">
                                        <a:noFill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0" rIns="0" tIns="0" bIns="0" anchor="t">
                                        <a:noAutofit/>
                                      </a:bodyPr>
                                      <a:p>
                                        <a:pPr algn="ctr">
                                          <a:lnSpc>
                                            <a:spcPct val="100000"/>
                                          </a:lnSpc>
                                          <a:spcAft>
                                            <a:spcPts val="1001"/>
                                          </a:spcAft>
                                          <a:tabLst>
                                            <a:tab algn="l" pos="0"/>
                                            <a:tab algn="l" pos="914400"/>
                                            <a:tab algn="l" pos="1828800"/>
                                            <a:tab algn="l" pos="2743200"/>
                                            <a:tab algn="l" pos="3657600"/>
                                            <a:tab algn="l" pos="4572000"/>
                                            <a:tab algn="l" pos="5486400"/>
                                            <a:tab algn="l" pos="6400800"/>
                                            <a:tab algn="l" pos="7315200"/>
                                            <a:tab algn="l" pos="8229600"/>
                                            <a:tab algn="l" pos="9144000"/>
                                            <a:tab algn="l" pos="10058400"/>
                                          </a:tabLst>
                                        </a:pPr>
                                        <a:r>
                                          <a:rPr b="0" lang="fr-FR" sz="24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ahoma"/>
                                          </a:rPr>
                                          <a:t>(-3)</a:t>
                                        </a:r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endParaRPr>
                                      </a:p>
                                    </p:txBody>
                                  </p:sp>
                                  <p:grpSp>
                                    <p:nvGrpSpPr>
                                      <p:cNvPr id="86" name="Group 180"/>
                                      <p:cNvGrpSpPr/>
                                      <p:nvPr/>
                                    </p:nvGrpSpPr>
                                    <p:grpSpPr>
                                      <a:xfrm>
                                        <a:off x="1285920" y="2214720"/>
                                        <a:ext cx="6492960" cy="3606480"/>
                                        <a:chOff x="1285920" y="2214720"/>
                                        <a:chExt cx="6492960" cy="3606480"/>
                                      </a:xfrm>
                                    </p:grpSpPr>
                                    <p:sp>
                                      <p:nvSpPr>
                                        <p:cNvPr id="87" name="Line 181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401760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316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  <a:tailEnd len="med" type="arrow" w="med"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88" name="Line 182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257508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190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89" name="Line 183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329652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190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90" name="Line 184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473904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190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91" name="Line 185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546048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190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grpSp>
                                      <p:nvGrpSpPr>
                                        <p:cNvPr id="92" name="Group 186"/>
                                        <p:cNvGrpSpPr/>
                                        <p:nvPr/>
                                      </p:nvGrpSpPr>
                                      <p:grpSpPr>
                                        <a:xfrm>
                                          <a:off x="1646640" y="2214720"/>
                                          <a:ext cx="5771160" cy="3606480"/>
                                          <a:chOff x="1646640" y="2214720"/>
                                          <a:chExt cx="5771160" cy="3606480"/>
                                        </a:xfrm>
                                      </p:grpSpPr>
                                      <p:sp>
                                        <p:nvSpPr>
                                          <p:cNvPr id="93" name="Line 187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453204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316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  <a:headEnd len="med" type="arrow" w="med"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94" name="Line 188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164664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95" name="Line 189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236808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96" name="Line 190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308916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97" name="Line 191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381060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98" name="Line 192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525312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99" name="Line 193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597456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100" name="Line 194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669636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101" name="Line 195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741780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</p:grpSp>
                                  </p:grpSp>
                                </p:grpSp>
                              </p:grpSp>
                            </p:grpSp>
                          </p:grpSp>
                        </p:grpSp>
                      </p:grpSp>
                    </p:grpSp>
                  </p:grpSp>
                </p:grpSp>
              </p:grpSp>
            </p:grpSp>
          </p:grpSp>
        </p:grpSp>
      </p:grpSp>
      <p:sp>
        <p:nvSpPr>
          <p:cNvPr id="102" name="Connecteur droit 52"/>
          <p:cNvSpPr/>
          <p:nvPr/>
        </p:nvSpPr>
        <p:spPr>
          <a:xfrm>
            <a:off x="6500880" y="5286240"/>
            <a:ext cx="357120" cy="3574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onnecteur droit 53"/>
          <p:cNvSpPr/>
          <p:nvPr/>
        </p:nvSpPr>
        <p:spPr>
          <a:xfrm flipH="1">
            <a:off x="6500880" y="5286240"/>
            <a:ext cx="357120" cy="3574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835812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Dans la liste de nombres suivante,</a:t>
            </a:r>
            <a:br>
              <a:rPr sz="3600"/>
            </a:b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quel est le plus petit 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nombre relatif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6"/>
              <p:cNvSpPr txBox="1"/>
              <p:nvPr/>
            </p:nvSpPr>
            <p:spPr>
              <a:xfrm>
                <a:off x="642960" y="2786040"/>
                <a:ext cx="2428920" cy="14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7,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Object 8"/>
              <p:cNvSpPr txBox="1"/>
              <p:nvPr/>
            </p:nvSpPr>
            <p:spPr>
              <a:xfrm>
                <a:off x="3143160" y="3643200"/>
                <a:ext cx="2428920" cy="145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7,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9"/>
              <p:cNvSpPr txBox="1"/>
              <p:nvPr/>
            </p:nvSpPr>
            <p:spPr>
              <a:xfrm>
                <a:off x="5516640" y="4714920"/>
                <a:ext cx="2968560" cy="14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3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828684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Comparer les deux nombres suivants à l’aide de &lt; ou 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6"/>
              <p:cNvSpPr txBox="1"/>
              <p:nvPr/>
            </p:nvSpPr>
            <p:spPr>
              <a:xfrm>
                <a:off x="380880" y="3357720"/>
                <a:ext cx="3097440" cy="15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8"/>
              <p:cNvSpPr txBox="1"/>
              <p:nvPr/>
            </p:nvSpPr>
            <p:spPr>
              <a:xfrm>
                <a:off x="5883120" y="3357720"/>
                <a:ext cx="2522520" cy="15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,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ZoneTexte 8"/>
          <p:cNvSpPr/>
          <p:nvPr/>
        </p:nvSpPr>
        <p:spPr>
          <a:xfrm>
            <a:off x="4357800" y="3500280"/>
            <a:ext cx="71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8760" y="1428840"/>
            <a:ext cx="82864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Quel est l’abscisse du point A 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149"/>
          <p:cNvGrpSpPr/>
          <p:nvPr/>
        </p:nvGrpSpPr>
        <p:grpSpPr>
          <a:xfrm>
            <a:off x="1285920" y="2214720"/>
            <a:ext cx="6492960" cy="3606480"/>
            <a:chOff x="1285920" y="2214720"/>
            <a:chExt cx="6492960" cy="3606480"/>
          </a:xfrm>
        </p:grpSpPr>
        <p:sp>
          <p:nvSpPr>
            <p:cNvPr id="117" name="Text Box 150"/>
            <p:cNvSpPr/>
            <p:nvPr/>
          </p:nvSpPr>
          <p:spPr>
            <a:xfrm>
              <a:off x="6151680" y="2623320"/>
              <a:ext cx="487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600" spc="-1" strike="noStrike">
                  <a:solidFill>
                    <a:srgbClr val="000000"/>
                  </a:solidFill>
                  <a:latin typeface="Calibri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Group 151"/>
            <p:cNvGrpSpPr/>
            <p:nvPr/>
          </p:nvGrpSpPr>
          <p:grpSpPr>
            <a:xfrm>
              <a:off x="1285920" y="2214720"/>
              <a:ext cx="6492960" cy="3606480"/>
              <a:chOff x="1285920" y="2214720"/>
              <a:chExt cx="6492960" cy="3606480"/>
            </a:xfrm>
          </p:grpSpPr>
          <p:cxnSp>
            <p:nvCxnSpPr>
              <p:cNvPr id="119" name="AutoShape 152"/>
              <p:cNvCxnSpPr/>
              <p:nvPr/>
            </p:nvCxnSpPr>
            <p:spPr>
              <a:xfrm>
                <a:off x="5793480" y="3106800"/>
                <a:ext cx="356040" cy="356040"/>
              </a:xfrm>
              <a:prstGeom prst="straightConnector1">
                <a:avLst/>
              </a:prstGeom>
              <a:ln w="31680">
                <a:solidFill>
                  <a:srgbClr val="000000"/>
                </a:solidFill>
                <a:miter/>
              </a:ln>
            </p:spPr>
          </p:cxnSp>
          <p:cxnSp>
            <p:nvCxnSpPr>
              <p:cNvPr id="120" name="AutoShape 153"/>
              <p:cNvCxnSpPr/>
              <p:nvPr/>
            </p:nvCxnSpPr>
            <p:spPr>
              <a:xfrm flipH="1">
                <a:off x="5793120" y="3106800"/>
                <a:ext cx="356040" cy="356040"/>
              </a:xfrm>
              <a:prstGeom prst="straightConnector1">
                <a:avLst/>
              </a:prstGeom>
              <a:ln w="31680">
                <a:solidFill>
                  <a:srgbClr val="000000"/>
                </a:solidFill>
                <a:miter/>
              </a:ln>
            </p:spPr>
          </p:cxnSp>
          <p:grpSp>
            <p:nvGrpSpPr>
              <p:cNvPr id="121" name="Group 154"/>
              <p:cNvGrpSpPr/>
              <p:nvPr/>
            </p:nvGrpSpPr>
            <p:grpSpPr>
              <a:xfrm>
                <a:off x="1285920" y="2214720"/>
                <a:ext cx="6492960" cy="3606480"/>
                <a:chOff x="1285920" y="2214720"/>
                <a:chExt cx="6492960" cy="3606480"/>
              </a:xfrm>
            </p:grpSpPr>
            <p:sp>
              <p:nvSpPr>
                <p:cNvPr id="122" name="Text Box 155"/>
                <p:cNvSpPr/>
                <p:nvPr/>
              </p:nvSpPr>
              <p:spPr>
                <a:xfrm>
                  <a:off x="4171320" y="4017600"/>
                  <a:ext cx="360720" cy="36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Calibri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3" name="Group 156"/>
                <p:cNvGrpSpPr/>
                <p:nvPr/>
              </p:nvGrpSpPr>
              <p:grpSpPr>
                <a:xfrm>
                  <a:off x="1285920" y="2214720"/>
                  <a:ext cx="6492960" cy="3606480"/>
                  <a:chOff x="1285920" y="2214720"/>
                  <a:chExt cx="6492960" cy="3606480"/>
                </a:xfrm>
              </p:grpSpPr>
              <p:sp>
                <p:nvSpPr>
                  <p:cNvPr id="124" name="Text Box 157"/>
                  <p:cNvSpPr/>
                  <p:nvPr/>
                </p:nvSpPr>
                <p:spPr>
                  <a:xfrm>
                    <a:off x="3810960" y="5460480"/>
                    <a:ext cx="721440" cy="360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Aft>
                        <a:spcPts val="10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2400" spc="-1" strike="noStrike">
                        <a:solidFill>
                          <a:srgbClr val="000000"/>
                        </a:solidFill>
                        <a:latin typeface="Tahoma"/>
                      </a:rPr>
                      <a:t>(-2)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25" name="Group 158"/>
                  <p:cNvGrpSpPr/>
                  <p:nvPr/>
                </p:nvGrpSpPr>
                <p:grpSpPr>
                  <a:xfrm>
                    <a:off x="1285920" y="2214720"/>
                    <a:ext cx="6492960" cy="3606480"/>
                    <a:chOff x="1285920" y="2214720"/>
                    <a:chExt cx="6492960" cy="3606480"/>
                  </a:xfrm>
                </p:grpSpPr>
                <p:sp>
                  <p:nvSpPr>
                    <p:cNvPr id="126" name="Text Box 159"/>
                    <p:cNvSpPr/>
                    <p:nvPr/>
                  </p:nvSpPr>
                  <p:spPr>
                    <a:xfrm>
                      <a:off x="3810960" y="4739040"/>
                      <a:ext cx="721440" cy="360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-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27" name="Group 160"/>
                    <p:cNvGrpSpPr/>
                    <p:nvPr/>
                  </p:nvGrpSpPr>
                  <p:grpSpPr>
                    <a:xfrm>
                      <a:off x="1285920" y="2214720"/>
                      <a:ext cx="6492960" cy="3606480"/>
                      <a:chOff x="1285920" y="2214720"/>
                      <a:chExt cx="6492960" cy="3606480"/>
                    </a:xfrm>
                  </p:grpSpPr>
                  <p:sp>
                    <p:nvSpPr>
                      <p:cNvPr id="128" name="Text Box 161"/>
                      <p:cNvSpPr/>
                      <p:nvPr/>
                    </p:nvSpPr>
                    <p:spPr>
                      <a:xfrm>
                        <a:off x="3810960" y="2935800"/>
                        <a:ext cx="721440" cy="360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spcAft>
                            <a:spcPts val="1001"/>
                          </a:spcAft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fr-FR" sz="2400" spc="-1" strike="noStrike">
                            <a:solidFill>
                              <a:srgbClr val="000000"/>
                            </a:solidFill>
                            <a:latin typeface="Tahoma"/>
                          </a:rPr>
                          <a:t>(+1)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9" name="Group 162"/>
                      <p:cNvGrpSpPr/>
                      <p:nvPr/>
                    </p:nvGrpSpPr>
                    <p:grpSpPr>
                      <a:xfrm>
                        <a:off x="1285920" y="2214720"/>
                        <a:ext cx="6492960" cy="3606480"/>
                        <a:chOff x="1285920" y="2214720"/>
                        <a:chExt cx="6492960" cy="3606480"/>
                      </a:xfrm>
                    </p:grpSpPr>
                    <p:sp>
                      <p:nvSpPr>
                        <p:cNvPr id="130" name="Text Box 163"/>
                        <p:cNvSpPr/>
                        <p:nvPr/>
                      </p:nvSpPr>
                      <p:spPr>
                        <a:xfrm>
                          <a:off x="3810960" y="2214720"/>
                          <a:ext cx="721440" cy="360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0" rIns="0" tIns="0" bIns="0" anchor="t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spcAft>
                              <a:spcPts val="1001"/>
                            </a:spcAft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fr-FR" sz="2400" spc="-1" strike="noStrike">
                              <a:solidFill>
                                <a:srgbClr val="000000"/>
                              </a:solidFill>
                              <a:latin typeface="Tahoma"/>
                            </a:rPr>
                            <a:t>(+2)</a:t>
                          </a: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31" name="Group 164"/>
                        <p:cNvGrpSpPr/>
                        <p:nvPr/>
                      </p:nvGrpSpPr>
                      <p:grpSpPr>
                        <a:xfrm>
                          <a:off x="1285920" y="2214720"/>
                          <a:ext cx="6492960" cy="3606480"/>
                          <a:chOff x="1285920" y="2214720"/>
                          <a:chExt cx="6492960" cy="3606480"/>
                        </a:xfrm>
                      </p:grpSpPr>
                      <p:sp>
                        <p:nvSpPr>
                          <p:cNvPr id="132" name="Text Box 165"/>
                          <p:cNvSpPr/>
                          <p:nvPr/>
                        </p:nvSpPr>
                        <p:spPr>
                          <a:xfrm>
                            <a:off x="7057080" y="4017600"/>
                            <a:ext cx="721440" cy="3607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0" rIns="0" tIns="0" bIns="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spcAft>
                                <a:spcPts val="1001"/>
                              </a:spcAft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fr-FR" sz="2400" spc="-1" strike="noStrike">
                                <a:solidFill>
                                  <a:srgbClr val="000000"/>
                                </a:solidFill>
                                <a:latin typeface="Tahoma"/>
                              </a:rPr>
                              <a:t>(+4)</a:t>
                            </a: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133" name="Group 166"/>
                          <p:cNvGrpSpPr/>
                          <p:nvPr/>
                        </p:nvGrpSpPr>
                        <p:grpSpPr>
                          <a:xfrm>
                            <a:off x="1285920" y="2214720"/>
                            <a:ext cx="6492960" cy="3606480"/>
                            <a:chOff x="1285920" y="2214720"/>
                            <a:chExt cx="6492960" cy="3606480"/>
                          </a:xfrm>
                        </p:grpSpPr>
                        <p:sp>
                          <p:nvSpPr>
                            <p:cNvPr id="134" name="Text Box 167"/>
                            <p:cNvSpPr/>
                            <p:nvPr/>
                          </p:nvSpPr>
                          <p:spPr>
                            <a:xfrm>
                              <a:off x="6336000" y="4017600"/>
                              <a:ext cx="721080" cy="360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0" rIns="0" tIns="0" bIns="0" anchor="t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spcAft>
                                  <a:spcPts val="1001"/>
                                </a:spcAft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fr-FR" sz="2400" spc="-1" strike="noStrike">
                                  <a:solidFill>
                                    <a:srgbClr val="000000"/>
                                  </a:solidFill>
                                  <a:latin typeface="Tahoma"/>
                                </a:rPr>
                                <a:t>(+3)</a:t>
                              </a: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grpSp>
                          <p:nvGrpSpPr>
                            <p:cNvPr id="135" name="Group 168"/>
                            <p:cNvGrpSpPr/>
                            <p:nvPr/>
                          </p:nvGrpSpPr>
                          <p:grpSpPr>
                            <a:xfrm>
                              <a:off x="1285920" y="2214720"/>
                              <a:ext cx="6492960" cy="3606480"/>
                              <a:chOff x="1285920" y="2214720"/>
                              <a:chExt cx="6492960" cy="3606480"/>
                            </a:xfrm>
                          </p:grpSpPr>
                          <p:sp>
                            <p:nvSpPr>
                              <p:cNvPr id="136" name="Text Box 169"/>
                              <p:cNvSpPr/>
                              <p:nvPr/>
                            </p:nvSpPr>
                            <p:spPr>
                              <a:xfrm>
                                <a:off x="5614560" y="4017600"/>
                                <a:ext cx="721440" cy="360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0" rIns="0" tIns="0" bIns="0" anchor="t">
                                <a:noAutofit/>
                              </a:bodyPr>
                              <a:p>
                                <a:pPr algn="ctr">
                                  <a:lnSpc>
                                    <a:spcPct val="100000"/>
                                  </a:lnSpc>
                                  <a:spcAft>
                                    <a:spcPts val="1001"/>
                                  </a:spcAft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fr-FR" sz="2400" spc="-1" strike="noStrike">
                                    <a:solidFill>
                                      <a:srgbClr val="000000"/>
                                    </a:solidFill>
                                    <a:latin typeface="Tahoma"/>
                                  </a:rPr>
                                  <a:t>(+2)</a:t>
                                </a: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137" name="Group 170"/>
                              <p:cNvGrpSpPr/>
                              <p:nvPr/>
                            </p:nvGrpSpPr>
                            <p:grpSpPr>
                              <a:xfrm>
                                <a:off x="1285920" y="2214720"/>
                                <a:ext cx="6492960" cy="3606480"/>
                                <a:chOff x="1285920" y="2214720"/>
                                <a:chExt cx="6492960" cy="3606480"/>
                              </a:xfrm>
                            </p:grpSpPr>
                            <p:sp>
                              <p:nvSpPr>
                                <p:cNvPr id="138" name="Text Box 171"/>
                                <p:cNvSpPr/>
                                <p:nvPr/>
                              </p:nvSpPr>
                              <p:spPr>
                                <a:xfrm>
                                  <a:off x="4893120" y="4017600"/>
                                  <a:ext cx="721440" cy="36072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0" rIns="0" tIns="0" bIns="0" anchor="t">
                                  <a:noAutofit/>
                                </a:bodyPr>
                                <a:p>
                                  <a:pPr algn="ctr">
                                    <a:lnSpc>
                                      <a:spcPct val="100000"/>
                                    </a:lnSpc>
                                    <a:spcAft>
                                      <a:spcPts val="1001"/>
                                    </a:spcAft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fr-FR" sz="2400" spc="-1" strike="noStrike">
                                      <a:solidFill>
                                        <a:srgbClr val="000000"/>
                                      </a:solidFill>
                                      <a:latin typeface="Tahoma"/>
                                    </a:rPr>
                                    <a:t>(+1)</a:t>
                                  </a:r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grpSp>
                              <p:nvGrpSpPr>
                                <p:cNvPr id="139" name="Group 172"/>
                                <p:cNvGrpSpPr/>
                                <p:nvPr/>
                              </p:nvGrpSpPr>
                              <p:grpSpPr>
                                <a:xfrm>
                                  <a:off x="1285920" y="2214720"/>
                                  <a:ext cx="6492960" cy="3606480"/>
                                  <a:chOff x="1285920" y="2214720"/>
                                  <a:chExt cx="6492960" cy="3606480"/>
                                </a:xfrm>
                              </p:grpSpPr>
                              <p:sp>
                                <p:nvSpPr>
                                  <p:cNvPr id="140" name="Text Box 173"/>
                                  <p:cNvSpPr/>
                                  <p:nvPr/>
                                </p:nvSpPr>
                                <p:spPr>
                                  <a:xfrm>
                                    <a:off x="3450240" y="4017600"/>
                                    <a:ext cx="721080" cy="36072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0" rIns="0" tIns="0" bIns="0" anchor="t">
                                    <a:noAutofit/>
                                  </a:bodyPr>
                                  <a:p>
                                    <a:pPr algn="ctr">
                                      <a:lnSpc>
                                        <a:spcPct val="100000"/>
                                      </a:lnSpc>
                                      <a:spcAft>
                                        <a:spcPts val="1001"/>
                                      </a:spcAft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fr-FR" sz="2400" spc="-1" strike="noStrike">
                                        <a:solidFill>
                                          <a:srgbClr val="000000"/>
                                        </a:solidFill>
                                        <a:latin typeface="Tahoma"/>
                                      </a:rPr>
                                      <a:t>(-1)</a:t>
                                    </a:r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grpSp>
                                <p:nvGrpSpPr>
                                  <p:cNvPr id="141" name="Group 174"/>
                                  <p:cNvGrpSpPr/>
                                  <p:nvPr/>
                                </p:nvGrpSpPr>
                                <p:grpSpPr>
                                  <a:xfrm>
                                    <a:off x="1285920" y="2214720"/>
                                    <a:ext cx="6492960" cy="3606480"/>
                                    <a:chOff x="1285920" y="2214720"/>
                                    <a:chExt cx="6492960" cy="3606480"/>
                                  </a:xfrm>
                                </p:grpSpPr>
                                <p:sp>
                                  <p:nvSpPr>
                                    <p:cNvPr id="142" name="Text Box 175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28800" y="4017600"/>
                                      <a:ext cx="721440" cy="36072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0" rIns="0" tIns="0" bIns="0" anchor="t">
                                      <a:noAutofit/>
                                    </a:bodyPr>
                                    <a:p>
                                      <a:pPr algn="ctr">
                                        <a:lnSpc>
                                          <a:spcPct val="100000"/>
                                        </a:lnSpc>
                                        <a:spcAft>
                                          <a:spcPts val="1001"/>
                                        </a:spcAft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0" lang="fr-FR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ahoma"/>
                                        </a:rPr>
                                        <a:t>(-2)</a:t>
                                      </a:r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grpSp>
                                  <p:nvGrpSpPr>
                                    <p:cNvPr id="143" name="Group 176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1285920" y="2214720"/>
                                      <a:ext cx="6492960" cy="3606480"/>
                                      <a:chOff x="1285920" y="2214720"/>
                                      <a:chExt cx="6492960" cy="3606480"/>
                                    </a:xfrm>
                                  </p:grpSpPr>
                                  <p:sp>
                                    <p:nvSpPr>
                                      <p:cNvPr id="144" name="Text Box 177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1285920" y="4017600"/>
                                        <a:ext cx="721440" cy="360720"/>
                                      </a:xfrm>
                                      <a:prstGeom prst="rect">
                                        <a:avLst/>
                                      </a:prstGeom>
                                      <a:noFill/>
                                      <a:ln w="0">
                                        <a:noFill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0" rIns="0" tIns="0" bIns="0" anchor="t">
                                        <a:noAutofit/>
                                      </a:bodyPr>
                                      <a:p>
                                        <a:pPr algn="ctr">
                                          <a:lnSpc>
                                            <a:spcPct val="100000"/>
                                          </a:lnSpc>
                                          <a:spcAft>
                                            <a:spcPts val="1001"/>
                                          </a:spcAft>
                                          <a:tabLst>
                                            <a:tab algn="l" pos="0"/>
                                            <a:tab algn="l" pos="914400"/>
                                            <a:tab algn="l" pos="1828800"/>
                                            <a:tab algn="l" pos="2743200"/>
                                            <a:tab algn="l" pos="3657600"/>
                                            <a:tab algn="l" pos="4572000"/>
                                            <a:tab algn="l" pos="5486400"/>
                                            <a:tab algn="l" pos="6400800"/>
                                            <a:tab algn="l" pos="7315200"/>
                                            <a:tab algn="l" pos="8229600"/>
                                            <a:tab algn="l" pos="9144000"/>
                                            <a:tab algn="l" pos="10058400"/>
                                          </a:tabLst>
                                        </a:pPr>
                                        <a:r>
                                          <a:rPr b="0" lang="fr-FR" sz="24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ahoma"/>
                                          </a:rPr>
                                          <a:t>(-4)</a:t>
                                        </a:r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endParaRPr>
                                      </a:p>
                                    </p:txBody>
                                  </p:sp>
                                  <p:grpSp>
                                    <p:nvGrpSpPr>
                                      <p:cNvPr id="145" name="Group 178"/>
                                      <p:cNvGrpSpPr/>
                                      <p:nvPr/>
                                    </p:nvGrpSpPr>
                                    <p:grpSpPr>
                                      <a:xfrm>
                                        <a:off x="1285920" y="2214720"/>
                                        <a:ext cx="6492960" cy="3606480"/>
                                        <a:chOff x="1285920" y="2214720"/>
                                        <a:chExt cx="6492960" cy="3606480"/>
                                      </a:xfrm>
                                    </p:grpSpPr>
                                    <p:sp>
                                      <p:nvSpPr>
                                        <p:cNvPr id="146" name="Text Box 179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2007360" y="4017600"/>
                                          <a:ext cx="721440" cy="360720"/>
                                        </a:xfrm>
                                        <a:prstGeom prst="rect">
                                          <a:avLst/>
                                        </a:prstGeom>
                                        <a:noFill/>
                                        <a:ln w="0">
                                          <a:noFill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0" rIns="0" tIns="0" bIns="0" anchor="t">
                                          <a:noAutofit/>
                                        </a:bodyPr>
                                        <a:p>
                                          <a:pPr algn="ctr">
                                            <a:lnSpc>
                                              <a:spcPct val="100000"/>
                                            </a:lnSpc>
                                            <a:spcAft>
                                              <a:spcPts val="1001"/>
                                            </a:spcAft>
                                            <a:tabLst>
                                              <a:tab algn="l" pos="0"/>
                                              <a:tab algn="l" pos="914400"/>
                                              <a:tab algn="l" pos="1828800"/>
                                              <a:tab algn="l" pos="2743200"/>
                                              <a:tab algn="l" pos="3657600"/>
                                              <a:tab algn="l" pos="4572000"/>
                                              <a:tab algn="l" pos="5486400"/>
                                              <a:tab algn="l" pos="6400800"/>
                                              <a:tab algn="l" pos="7315200"/>
                                              <a:tab algn="l" pos="8229600"/>
                                              <a:tab algn="l" pos="9144000"/>
                                              <a:tab algn="l" pos="10058400"/>
                                            </a:tabLst>
                                          </a:pPr>
                                          <a:r>
                                            <a:rPr b="0" lang="fr-FR" sz="24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Tahoma"/>
                                            </a:rPr>
                                            <a:t>(-3)</a:t>
                                          </a:r>
                                          <a:endParaRPr b="0" lang="en-US" sz="24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grpSp>
                                      <p:nvGrpSpPr>
                                        <p:cNvPr id="147" name="Group 180"/>
                                        <p:cNvGrpSpPr/>
                                        <p:nvPr/>
                                      </p:nvGrpSpPr>
                                      <p:grpSpPr>
                                        <a:xfrm>
                                          <a:off x="1285920" y="2214720"/>
                                          <a:ext cx="6492960" cy="3606480"/>
                                          <a:chOff x="1285920" y="2214720"/>
                                          <a:chExt cx="6492960" cy="3606480"/>
                                        </a:xfrm>
                                      </p:grpSpPr>
                                      <p:sp>
                                        <p:nvSpPr>
                                          <p:cNvPr id="148" name="Line 181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1285920" y="4017600"/>
                                            <a:ext cx="6492960" cy="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316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  <a:tailEnd len="med" type="arrow" w="med"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-46800" bIns="-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149" name="Line 182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1285920" y="2575080"/>
                                            <a:ext cx="6492960" cy="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-46800" bIns="-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150" name="Line 183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1285920" y="3296520"/>
                                            <a:ext cx="6492960" cy="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-46800" bIns="-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151" name="Line 184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1285920" y="4739040"/>
                                            <a:ext cx="6492960" cy="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-46800" bIns="-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152" name="Line 185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1285920" y="5460480"/>
                                            <a:ext cx="6492960" cy="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-46800" bIns="-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grpSp>
                                        <p:nvGrpSpPr>
                                          <p:cNvPr id="153" name="Group 186"/>
                                          <p:cNvGrpSpPr/>
                                          <p:nvPr/>
                                        </p:nvGrpSpPr>
                                        <p:grpSpPr>
                                          <a:xfrm>
                                            <a:off x="1646640" y="2214720"/>
                                            <a:ext cx="5771160" cy="3606480"/>
                                            <a:chOff x="1646640" y="2214720"/>
                                            <a:chExt cx="5771160" cy="3606480"/>
                                          </a:xfrm>
                                        </p:grpSpPr>
                                        <p:sp>
                                          <p:nvSpPr>
                                            <p:cNvPr id="154" name="Line 187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4532040" y="2214720"/>
                                              <a:ext cx="0" cy="360648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3168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  <a:headEnd len="med" type="arrow" w="med"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155" name="Line 188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1646640" y="2214720"/>
                                              <a:ext cx="0" cy="360648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1908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156" name="Line 189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2368080" y="2214720"/>
                                              <a:ext cx="0" cy="360648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1908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157" name="Line 190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3089160" y="2214720"/>
                                              <a:ext cx="0" cy="360648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1908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158" name="Line 191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3810600" y="2214720"/>
                                              <a:ext cx="0" cy="360648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1908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159" name="Line 192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5253120" y="2214720"/>
                                              <a:ext cx="0" cy="360648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1908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160" name="Line 193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5974560" y="2214720"/>
                                              <a:ext cx="0" cy="360648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1908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161" name="Line 194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6696360" y="2214720"/>
                                              <a:ext cx="0" cy="360648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1908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162" name="Line 195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7417800" y="2214720"/>
                                              <a:ext cx="0" cy="360648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1908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</p:grpSp>
                                    </p:grpSp>
                                  </p:grpSp>
                                </p:grpSp>
                              </p:grpSp>
                            </p:grpSp>
                          </p:grpSp>
                        </p:grpSp>
                      </p:grpSp>
                    </p:grpSp>
                  </p:grpSp>
                </p:grpSp>
              </p:grpSp>
            </p:grpSp>
          </p:grpSp>
        </p:grp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835812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Dans la liste de nombres suivante,</a:t>
            </a:r>
            <a:br>
              <a:rPr sz="3600"/>
            </a:b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quel est le plus petit 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nombre relatif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6"/>
              <p:cNvSpPr txBox="1"/>
              <p:nvPr/>
            </p:nvSpPr>
            <p:spPr>
              <a:xfrm>
                <a:off x="687240" y="2786040"/>
                <a:ext cx="2338560" cy="14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,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9"/>
              <p:cNvSpPr txBox="1"/>
              <p:nvPr/>
            </p:nvSpPr>
            <p:spPr>
              <a:xfrm>
                <a:off x="3143160" y="3643200"/>
                <a:ext cx="2428920" cy="145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,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10"/>
              <p:cNvSpPr txBox="1"/>
              <p:nvPr/>
            </p:nvSpPr>
            <p:spPr>
              <a:xfrm>
                <a:off x="5560920" y="4714920"/>
                <a:ext cx="2878200" cy="14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3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8760" y="1428840"/>
            <a:ext cx="82864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Quel est l’ordonnée du point B 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149"/>
          <p:cNvGrpSpPr/>
          <p:nvPr/>
        </p:nvGrpSpPr>
        <p:grpSpPr>
          <a:xfrm>
            <a:off x="1285920" y="2214720"/>
            <a:ext cx="6492960" cy="3606480"/>
            <a:chOff x="1285920" y="2214720"/>
            <a:chExt cx="6492960" cy="3606480"/>
          </a:xfrm>
        </p:grpSpPr>
        <p:sp>
          <p:nvSpPr>
            <p:cNvPr id="171" name="Text Box 150"/>
            <p:cNvSpPr/>
            <p:nvPr/>
          </p:nvSpPr>
          <p:spPr>
            <a:xfrm>
              <a:off x="2357640" y="2571480"/>
              <a:ext cx="487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600" spc="-1" strike="noStrike">
                  <a:solidFill>
                    <a:srgbClr val="000000"/>
                  </a:solidFill>
                  <a:latin typeface="Calibri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154"/>
            <p:cNvGrpSpPr/>
            <p:nvPr/>
          </p:nvGrpSpPr>
          <p:grpSpPr>
            <a:xfrm>
              <a:off x="1285920" y="2214720"/>
              <a:ext cx="6492960" cy="3606480"/>
              <a:chOff x="1285920" y="2214720"/>
              <a:chExt cx="6492960" cy="3606480"/>
            </a:xfrm>
          </p:grpSpPr>
          <p:sp>
            <p:nvSpPr>
              <p:cNvPr id="173" name="Text Box 155"/>
              <p:cNvSpPr/>
              <p:nvPr/>
            </p:nvSpPr>
            <p:spPr>
              <a:xfrm>
                <a:off x="4171320" y="4017600"/>
                <a:ext cx="360720" cy="36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Calibri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4" name="Group 156"/>
              <p:cNvGrpSpPr/>
              <p:nvPr/>
            </p:nvGrpSpPr>
            <p:grpSpPr>
              <a:xfrm>
                <a:off x="1285920" y="2214720"/>
                <a:ext cx="6492960" cy="3606480"/>
                <a:chOff x="1285920" y="2214720"/>
                <a:chExt cx="6492960" cy="3606480"/>
              </a:xfrm>
            </p:grpSpPr>
            <p:sp>
              <p:nvSpPr>
                <p:cNvPr id="175" name="Text Box 157"/>
                <p:cNvSpPr/>
                <p:nvPr/>
              </p:nvSpPr>
              <p:spPr>
                <a:xfrm>
                  <a:off x="3810960" y="5460480"/>
                  <a:ext cx="721440" cy="36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ahoma"/>
                    </a:rPr>
                    <a:t>(-2)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6" name="Group 158"/>
                <p:cNvGrpSpPr/>
                <p:nvPr/>
              </p:nvGrpSpPr>
              <p:grpSpPr>
                <a:xfrm>
                  <a:off x="1285920" y="2214720"/>
                  <a:ext cx="6492960" cy="3606480"/>
                  <a:chOff x="1285920" y="2214720"/>
                  <a:chExt cx="6492960" cy="3606480"/>
                </a:xfrm>
              </p:grpSpPr>
              <p:sp>
                <p:nvSpPr>
                  <p:cNvPr id="177" name="Text Box 159"/>
                  <p:cNvSpPr/>
                  <p:nvPr/>
                </p:nvSpPr>
                <p:spPr>
                  <a:xfrm>
                    <a:off x="3810960" y="4739040"/>
                    <a:ext cx="721440" cy="360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Aft>
                        <a:spcPts val="10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2400" spc="-1" strike="noStrike">
                        <a:solidFill>
                          <a:srgbClr val="000000"/>
                        </a:solidFill>
                        <a:latin typeface="Tahoma"/>
                      </a:rPr>
                      <a:t>(-1)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8" name="Group 160"/>
                  <p:cNvGrpSpPr/>
                  <p:nvPr/>
                </p:nvGrpSpPr>
                <p:grpSpPr>
                  <a:xfrm>
                    <a:off x="1285920" y="2214720"/>
                    <a:ext cx="6492960" cy="3606480"/>
                    <a:chOff x="1285920" y="2214720"/>
                    <a:chExt cx="6492960" cy="3606480"/>
                  </a:xfrm>
                </p:grpSpPr>
                <p:sp>
                  <p:nvSpPr>
                    <p:cNvPr id="179" name="Text Box 161"/>
                    <p:cNvSpPr/>
                    <p:nvPr/>
                  </p:nvSpPr>
                  <p:spPr>
                    <a:xfrm>
                      <a:off x="3810960" y="2935800"/>
                      <a:ext cx="721440" cy="360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+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80" name="Group 162"/>
                    <p:cNvGrpSpPr/>
                    <p:nvPr/>
                  </p:nvGrpSpPr>
                  <p:grpSpPr>
                    <a:xfrm>
                      <a:off x="1285920" y="2214720"/>
                      <a:ext cx="6492960" cy="3606480"/>
                      <a:chOff x="1285920" y="2214720"/>
                      <a:chExt cx="6492960" cy="3606480"/>
                    </a:xfrm>
                  </p:grpSpPr>
                  <p:sp>
                    <p:nvSpPr>
                      <p:cNvPr id="181" name="Text Box 163"/>
                      <p:cNvSpPr/>
                      <p:nvPr/>
                    </p:nvSpPr>
                    <p:spPr>
                      <a:xfrm>
                        <a:off x="3810960" y="2214720"/>
                        <a:ext cx="721440" cy="360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spcAft>
                            <a:spcPts val="1001"/>
                          </a:spcAft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fr-FR" sz="2400" spc="-1" strike="noStrike">
                            <a:solidFill>
                              <a:srgbClr val="000000"/>
                            </a:solidFill>
                            <a:latin typeface="Tahoma"/>
                          </a:rPr>
                          <a:t>(+2)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82" name="Group 164"/>
                      <p:cNvGrpSpPr/>
                      <p:nvPr/>
                    </p:nvGrpSpPr>
                    <p:grpSpPr>
                      <a:xfrm>
                        <a:off x="1285920" y="2214720"/>
                        <a:ext cx="6492960" cy="3606480"/>
                        <a:chOff x="1285920" y="2214720"/>
                        <a:chExt cx="6492960" cy="3606480"/>
                      </a:xfrm>
                    </p:grpSpPr>
                    <p:sp>
                      <p:nvSpPr>
                        <p:cNvPr id="183" name="Text Box 165"/>
                        <p:cNvSpPr/>
                        <p:nvPr/>
                      </p:nvSpPr>
                      <p:spPr>
                        <a:xfrm>
                          <a:off x="7057080" y="4017600"/>
                          <a:ext cx="721440" cy="3607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0" rIns="0" tIns="0" bIns="0" anchor="t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spcAft>
                              <a:spcPts val="1001"/>
                            </a:spcAft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fr-FR" sz="2400" spc="-1" strike="noStrike">
                              <a:solidFill>
                                <a:srgbClr val="000000"/>
                              </a:solidFill>
                              <a:latin typeface="Tahoma"/>
                            </a:rPr>
                            <a:t>(+4)</a:t>
                          </a: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84" name="Group 166"/>
                        <p:cNvGrpSpPr/>
                        <p:nvPr/>
                      </p:nvGrpSpPr>
                      <p:grpSpPr>
                        <a:xfrm>
                          <a:off x="1285920" y="2214720"/>
                          <a:ext cx="6492960" cy="3606480"/>
                          <a:chOff x="1285920" y="2214720"/>
                          <a:chExt cx="6492960" cy="3606480"/>
                        </a:xfrm>
                      </p:grpSpPr>
                      <p:sp>
                        <p:nvSpPr>
                          <p:cNvPr id="185" name="Text Box 167"/>
                          <p:cNvSpPr/>
                          <p:nvPr/>
                        </p:nvSpPr>
                        <p:spPr>
                          <a:xfrm>
                            <a:off x="6336000" y="4017600"/>
                            <a:ext cx="721080" cy="3607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0" rIns="0" tIns="0" bIns="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spcAft>
                                <a:spcPts val="1001"/>
                              </a:spcAft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fr-FR" sz="2400" spc="-1" strike="noStrike">
                                <a:solidFill>
                                  <a:srgbClr val="000000"/>
                                </a:solidFill>
                                <a:latin typeface="Tahoma"/>
                              </a:rPr>
                              <a:t>(+3)</a:t>
                            </a: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186" name="Group 168"/>
                          <p:cNvGrpSpPr/>
                          <p:nvPr/>
                        </p:nvGrpSpPr>
                        <p:grpSpPr>
                          <a:xfrm>
                            <a:off x="1285920" y="2214720"/>
                            <a:ext cx="6492960" cy="3606480"/>
                            <a:chOff x="1285920" y="2214720"/>
                            <a:chExt cx="6492960" cy="3606480"/>
                          </a:xfrm>
                        </p:grpSpPr>
                        <p:sp>
                          <p:nvSpPr>
                            <p:cNvPr id="187" name="Text Box 169"/>
                            <p:cNvSpPr/>
                            <p:nvPr/>
                          </p:nvSpPr>
                          <p:spPr>
                            <a:xfrm>
                              <a:off x="5614560" y="4017600"/>
                              <a:ext cx="721440" cy="360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0" rIns="0" tIns="0" bIns="0" anchor="t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spcAft>
                                  <a:spcPts val="1001"/>
                                </a:spcAft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fr-FR" sz="2400" spc="-1" strike="noStrike">
                                  <a:solidFill>
                                    <a:srgbClr val="000000"/>
                                  </a:solidFill>
                                  <a:latin typeface="Tahoma"/>
                                </a:rPr>
                                <a:t>(+2)</a:t>
                              </a: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grpSp>
                          <p:nvGrpSpPr>
                            <p:cNvPr id="188" name="Group 170"/>
                            <p:cNvGrpSpPr/>
                            <p:nvPr/>
                          </p:nvGrpSpPr>
                          <p:grpSpPr>
                            <a:xfrm>
                              <a:off x="1285920" y="2214720"/>
                              <a:ext cx="6492960" cy="3606480"/>
                              <a:chOff x="1285920" y="2214720"/>
                              <a:chExt cx="6492960" cy="3606480"/>
                            </a:xfrm>
                          </p:grpSpPr>
                          <p:sp>
                            <p:nvSpPr>
                              <p:cNvPr id="189" name="Text Box 171"/>
                              <p:cNvSpPr/>
                              <p:nvPr/>
                            </p:nvSpPr>
                            <p:spPr>
                              <a:xfrm>
                                <a:off x="4893120" y="4017600"/>
                                <a:ext cx="721440" cy="360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0" rIns="0" tIns="0" bIns="0" anchor="t">
                                <a:noAutofit/>
                              </a:bodyPr>
                              <a:p>
                                <a:pPr algn="ctr">
                                  <a:lnSpc>
                                    <a:spcPct val="100000"/>
                                  </a:lnSpc>
                                  <a:spcAft>
                                    <a:spcPts val="1001"/>
                                  </a:spcAft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fr-FR" sz="2400" spc="-1" strike="noStrike">
                                    <a:solidFill>
                                      <a:srgbClr val="000000"/>
                                    </a:solidFill>
                                    <a:latin typeface="Tahoma"/>
                                  </a:rPr>
                                  <a:t>(+1)</a:t>
                                </a: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190" name="Group 172"/>
                              <p:cNvGrpSpPr/>
                              <p:nvPr/>
                            </p:nvGrpSpPr>
                            <p:grpSpPr>
                              <a:xfrm>
                                <a:off x="1285920" y="2214720"/>
                                <a:ext cx="6492960" cy="3606480"/>
                                <a:chOff x="1285920" y="2214720"/>
                                <a:chExt cx="6492960" cy="3606480"/>
                              </a:xfrm>
                            </p:grpSpPr>
                            <p:sp>
                              <p:nvSpPr>
                                <p:cNvPr id="191" name="Text Box 173"/>
                                <p:cNvSpPr/>
                                <p:nvPr/>
                              </p:nvSpPr>
                              <p:spPr>
                                <a:xfrm>
                                  <a:off x="3450240" y="4017600"/>
                                  <a:ext cx="721080" cy="36072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0" rIns="0" tIns="0" bIns="0" anchor="t">
                                  <a:noAutofit/>
                                </a:bodyPr>
                                <a:p>
                                  <a:pPr algn="ctr">
                                    <a:lnSpc>
                                      <a:spcPct val="100000"/>
                                    </a:lnSpc>
                                    <a:spcAft>
                                      <a:spcPts val="1001"/>
                                    </a:spcAft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fr-FR" sz="2400" spc="-1" strike="noStrike">
                                      <a:solidFill>
                                        <a:srgbClr val="000000"/>
                                      </a:solidFill>
                                      <a:latin typeface="Tahoma"/>
                                    </a:rPr>
                                    <a:t>(-1)</a:t>
                                  </a:r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grpSp>
                              <p:nvGrpSpPr>
                                <p:cNvPr id="192" name="Group 174"/>
                                <p:cNvGrpSpPr/>
                                <p:nvPr/>
                              </p:nvGrpSpPr>
                              <p:grpSpPr>
                                <a:xfrm>
                                  <a:off x="1285920" y="2214720"/>
                                  <a:ext cx="6492960" cy="3606480"/>
                                  <a:chOff x="1285920" y="2214720"/>
                                  <a:chExt cx="6492960" cy="3606480"/>
                                </a:xfrm>
                              </p:grpSpPr>
                              <p:sp>
                                <p:nvSpPr>
                                  <p:cNvPr id="193" name="Text Box 175"/>
                                  <p:cNvSpPr/>
                                  <p:nvPr/>
                                </p:nvSpPr>
                                <p:spPr>
                                  <a:xfrm>
                                    <a:off x="2728800" y="4017600"/>
                                    <a:ext cx="721440" cy="36072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0" rIns="0" tIns="0" bIns="0" anchor="t">
                                    <a:noAutofit/>
                                  </a:bodyPr>
                                  <a:p>
                                    <a:pPr algn="ctr">
                                      <a:lnSpc>
                                        <a:spcPct val="100000"/>
                                      </a:lnSpc>
                                      <a:spcAft>
                                        <a:spcPts val="1001"/>
                                      </a:spcAft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fr-FR" sz="2400" spc="-1" strike="noStrike">
                                        <a:solidFill>
                                          <a:srgbClr val="000000"/>
                                        </a:solidFill>
                                        <a:latin typeface="Tahoma"/>
                                      </a:rPr>
                                      <a:t>(-2)</a:t>
                                    </a:r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grpSp>
                                <p:nvGrpSpPr>
                                  <p:cNvPr id="194" name="Group 176"/>
                                  <p:cNvGrpSpPr/>
                                  <p:nvPr/>
                                </p:nvGrpSpPr>
                                <p:grpSpPr>
                                  <a:xfrm>
                                    <a:off x="1285920" y="2214720"/>
                                    <a:ext cx="6492960" cy="3606480"/>
                                    <a:chOff x="1285920" y="2214720"/>
                                    <a:chExt cx="6492960" cy="3606480"/>
                                  </a:xfrm>
                                </p:grpSpPr>
                                <p:sp>
                                  <p:nvSpPr>
                                    <p:cNvPr id="195" name="Text Box 177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285920" y="4017600"/>
                                      <a:ext cx="721440" cy="36072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0" rIns="0" tIns="0" bIns="0" anchor="t">
                                      <a:noAutofit/>
                                    </a:bodyPr>
                                    <a:p>
                                      <a:pPr algn="ctr">
                                        <a:lnSpc>
                                          <a:spcPct val="100000"/>
                                        </a:lnSpc>
                                        <a:spcAft>
                                          <a:spcPts val="1001"/>
                                        </a:spcAft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0" lang="fr-FR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ahoma"/>
                                        </a:rPr>
                                        <a:t>(-4)</a:t>
                                      </a:r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grpSp>
                                  <p:nvGrpSpPr>
                                    <p:cNvPr id="196" name="Group 178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1285920" y="2214720"/>
                                      <a:ext cx="6492960" cy="3606480"/>
                                      <a:chOff x="1285920" y="2214720"/>
                                      <a:chExt cx="6492960" cy="3606480"/>
                                    </a:xfrm>
                                  </p:grpSpPr>
                                  <p:sp>
                                    <p:nvSpPr>
                                      <p:cNvPr id="197" name="Text Box 179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2007360" y="4017600"/>
                                        <a:ext cx="721440" cy="360720"/>
                                      </a:xfrm>
                                      <a:prstGeom prst="rect">
                                        <a:avLst/>
                                      </a:prstGeom>
                                      <a:noFill/>
                                      <a:ln w="0">
                                        <a:noFill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0" rIns="0" tIns="0" bIns="0" anchor="t">
                                        <a:noAutofit/>
                                      </a:bodyPr>
                                      <a:p>
                                        <a:pPr algn="ctr">
                                          <a:lnSpc>
                                            <a:spcPct val="100000"/>
                                          </a:lnSpc>
                                          <a:spcAft>
                                            <a:spcPts val="1001"/>
                                          </a:spcAft>
                                          <a:tabLst>
                                            <a:tab algn="l" pos="0"/>
                                            <a:tab algn="l" pos="914400"/>
                                            <a:tab algn="l" pos="1828800"/>
                                            <a:tab algn="l" pos="2743200"/>
                                            <a:tab algn="l" pos="3657600"/>
                                            <a:tab algn="l" pos="4572000"/>
                                            <a:tab algn="l" pos="5486400"/>
                                            <a:tab algn="l" pos="6400800"/>
                                            <a:tab algn="l" pos="7315200"/>
                                            <a:tab algn="l" pos="8229600"/>
                                            <a:tab algn="l" pos="9144000"/>
                                            <a:tab algn="l" pos="10058400"/>
                                          </a:tabLst>
                                        </a:pPr>
                                        <a:r>
                                          <a:rPr b="0" lang="fr-FR" sz="24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ahoma"/>
                                          </a:rPr>
                                          <a:t>(-3)</a:t>
                                        </a:r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endParaRPr>
                                      </a:p>
                                    </p:txBody>
                                  </p:sp>
                                  <p:grpSp>
                                    <p:nvGrpSpPr>
                                      <p:cNvPr id="198" name="Group 180"/>
                                      <p:cNvGrpSpPr/>
                                      <p:nvPr/>
                                    </p:nvGrpSpPr>
                                    <p:grpSpPr>
                                      <a:xfrm>
                                        <a:off x="1285920" y="2214720"/>
                                        <a:ext cx="6492960" cy="3606480"/>
                                        <a:chOff x="1285920" y="2214720"/>
                                        <a:chExt cx="6492960" cy="3606480"/>
                                      </a:xfrm>
                                    </p:grpSpPr>
                                    <p:sp>
                                      <p:nvSpPr>
                                        <p:cNvPr id="199" name="Line 181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401760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316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  <a:tailEnd len="med" type="arrow" w="med"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200" name="Line 182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257508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190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201" name="Line 183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329652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190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202" name="Line 184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473904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190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203" name="Line 185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546048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190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grpSp>
                                      <p:nvGrpSpPr>
                                        <p:cNvPr id="204" name="Group 186"/>
                                        <p:cNvGrpSpPr/>
                                        <p:nvPr/>
                                      </p:nvGrpSpPr>
                                      <p:grpSpPr>
                                        <a:xfrm>
                                          <a:off x="1646640" y="2214720"/>
                                          <a:ext cx="5771160" cy="3606480"/>
                                          <a:chOff x="1646640" y="2214720"/>
                                          <a:chExt cx="5771160" cy="3606480"/>
                                        </a:xfrm>
                                      </p:grpSpPr>
                                      <p:sp>
                                        <p:nvSpPr>
                                          <p:cNvPr id="205" name="Line 187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453204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316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  <a:headEnd len="med" type="arrow" w="med"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206" name="Line 188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164664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207" name="Line 189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236808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208" name="Line 190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308916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209" name="Line 191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381060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210" name="Line 192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525312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211" name="Line 193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597456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212" name="Line 194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669636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213" name="Line 195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741780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</p:grpSp>
                                  </p:grpSp>
                                </p:grpSp>
                              </p:grpSp>
                            </p:grpSp>
                          </p:grpSp>
                        </p:grpSp>
                      </p:grpSp>
                    </p:grpSp>
                  </p:grpSp>
                </p:grpSp>
              </p:grpSp>
            </p:grpSp>
          </p:grpSp>
        </p:grpSp>
      </p:grpSp>
      <p:sp>
        <p:nvSpPr>
          <p:cNvPr id="214" name="Connecteur droit 57"/>
          <p:cNvSpPr/>
          <p:nvPr/>
        </p:nvSpPr>
        <p:spPr>
          <a:xfrm>
            <a:off x="2928960" y="2428920"/>
            <a:ext cx="357120" cy="2858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Connecteur droit 59"/>
          <p:cNvSpPr/>
          <p:nvPr/>
        </p:nvSpPr>
        <p:spPr>
          <a:xfrm flipH="1">
            <a:off x="2928960" y="2428920"/>
            <a:ext cx="357120" cy="2858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28760" y="1428840"/>
            <a:ext cx="82864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Quel est l’abscisse du point D 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oup 149"/>
          <p:cNvGrpSpPr/>
          <p:nvPr/>
        </p:nvGrpSpPr>
        <p:grpSpPr>
          <a:xfrm>
            <a:off x="1285920" y="2214720"/>
            <a:ext cx="6492960" cy="3606480"/>
            <a:chOff x="1285920" y="2214720"/>
            <a:chExt cx="6492960" cy="3606480"/>
          </a:xfrm>
        </p:grpSpPr>
        <p:sp>
          <p:nvSpPr>
            <p:cNvPr id="219" name="Text Box 150"/>
            <p:cNvSpPr/>
            <p:nvPr/>
          </p:nvSpPr>
          <p:spPr>
            <a:xfrm>
              <a:off x="6151680" y="2623320"/>
              <a:ext cx="487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600" spc="-1" strike="noStrike">
                  <a:solidFill>
                    <a:srgbClr val="000000"/>
                  </a:solidFill>
                  <a:latin typeface="Calibri"/>
                </a:rPr>
                <a:t>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0" name="Group 151"/>
            <p:cNvGrpSpPr/>
            <p:nvPr/>
          </p:nvGrpSpPr>
          <p:grpSpPr>
            <a:xfrm>
              <a:off x="1285920" y="2214720"/>
              <a:ext cx="6492960" cy="3606480"/>
              <a:chOff x="1285920" y="2214720"/>
              <a:chExt cx="6492960" cy="3606480"/>
            </a:xfrm>
          </p:grpSpPr>
          <p:cxnSp>
            <p:nvCxnSpPr>
              <p:cNvPr id="221" name="AutoShape 152"/>
              <p:cNvCxnSpPr/>
              <p:nvPr/>
            </p:nvCxnSpPr>
            <p:spPr>
              <a:xfrm>
                <a:off x="5793480" y="3106800"/>
                <a:ext cx="356040" cy="356040"/>
              </a:xfrm>
              <a:prstGeom prst="straightConnector1">
                <a:avLst/>
              </a:prstGeom>
              <a:ln w="31680">
                <a:solidFill>
                  <a:srgbClr val="000000"/>
                </a:solidFill>
                <a:miter/>
              </a:ln>
            </p:spPr>
          </p:cxnSp>
          <p:cxnSp>
            <p:nvCxnSpPr>
              <p:cNvPr id="222" name="AutoShape 153"/>
              <p:cNvCxnSpPr/>
              <p:nvPr/>
            </p:nvCxnSpPr>
            <p:spPr>
              <a:xfrm flipH="1">
                <a:off x="5793120" y="3106800"/>
                <a:ext cx="356040" cy="356040"/>
              </a:xfrm>
              <a:prstGeom prst="straightConnector1">
                <a:avLst/>
              </a:prstGeom>
              <a:ln w="31680">
                <a:solidFill>
                  <a:srgbClr val="000000"/>
                </a:solidFill>
                <a:miter/>
              </a:ln>
            </p:spPr>
          </p:cxnSp>
          <p:grpSp>
            <p:nvGrpSpPr>
              <p:cNvPr id="223" name="Group 154"/>
              <p:cNvGrpSpPr/>
              <p:nvPr/>
            </p:nvGrpSpPr>
            <p:grpSpPr>
              <a:xfrm>
                <a:off x="1285920" y="2214720"/>
                <a:ext cx="6492960" cy="3606480"/>
                <a:chOff x="1285920" y="2214720"/>
                <a:chExt cx="6492960" cy="3606480"/>
              </a:xfrm>
            </p:grpSpPr>
            <p:sp>
              <p:nvSpPr>
                <p:cNvPr id="224" name="Text Box 155"/>
                <p:cNvSpPr/>
                <p:nvPr/>
              </p:nvSpPr>
              <p:spPr>
                <a:xfrm>
                  <a:off x="4171320" y="4017600"/>
                  <a:ext cx="360720" cy="36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Calibri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5" name="Group 156"/>
                <p:cNvGrpSpPr/>
                <p:nvPr/>
              </p:nvGrpSpPr>
              <p:grpSpPr>
                <a:xfrm>
                  <a:off x="1285920" y="2214720"/>
                  <a:ext cx="6492960" cy="3606480"/>
                  <a:chOff x="1285920" y="2214720"/>
                  <a:chExt cx="6492960" cy="3606480"/>
                </a:xfrm>
              </p:grpSpPr>
              <p:sp>
                <p:nvSpPr>
                  <p:cNvPr id="226" name="Text Box 157"/>
                  <p:cNvSpPr/>
                  <p:nvPr/>
                </p:nvSpPr>
                <p:spPr>
                  <a:xfrm>
                    <a:off x="3810960" y="5460480"/>
                    <a:ext cx="721440" cy="360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Aft>
                        <a:spcPts val="10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2400" spc="-1" strike="noStrike">
                        <a:solidFill>
                          <a:srgbClr val="000000"/>
                        </a:solidFill>
                        <a:latin typeface="Tahoma"/>
                      </a:rPr>
                      <a:t>(-2)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27" name="Group 158"/>
                  <p:cNvGrpSpPr/>
                  <p:nvPr/>
                </p:nvGrpSpPr>
                <p:grpSpPr>
                  <a:xfrm>
                    <a:off x="1285920" y="2214720"/>
                    <a:ext cx="6492960" cy="3606480"/>
                    <a:chOff x="1285920" y="2214720"/>
                    <a:chExt cx="6492960" cy="3606480"/>
                  </a:xfrm>
                </p:grpSpPr>
                <p:sp>
                  <p:nvSpPr>
                    <p:cNvPr id="228" name="Text Box 159"/>
                    <p:cNvSpPr/>
                    <p:nvPr/>
                  </p:nvSpPr>
                  <p:spPr>
                    <a:xfrm>
                      <a:off x="3810960" y="4739040"/>
                      <a:ext cx="721440" cy="360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-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29" name="Group 160"/>
                    <p:cNvGrpSpPr/>
                    <p:nvPr/>
                  </p:nvGrpSpPr>
                  <p:grpSpPr>
                    <a:xfrm>
                      <a:off x="1285920" y="2214720"/>
                      <a:ext cx="6492960" cy="3606480"/>
                      <a:chOff x="1285920" y="2214720"/>
                      <a:chExt cx="6492960" cy="3606480"/>
                    </a:xfrm>
                  </p:grpSpPr>
                  <p:sp>
                    <p:nvSpPr>
                      <p:cNvPr id="230" name="Text Box 161"/>
                      <p:cNvSpPr/>
                      <p:nvPr/>
                    </p:nvSpPr>
                    <p:spPr>
                      <a:xfrm>
                        <a:off x="3810960" y="2935800"/>
                        <a:ext cx="721440" cy="360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spcAft>
                            <a:spcPts val="1001"/>
                          </a:spcAft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fr-FR" sz="2400" spc="-1" strike="noStrike">
                            <a:solidFill>
                              <a:srgbClr val="000000"/>
                            </a:solidFill>
                            <a:latin typeface="Tahoma"/>
                          </a:rPr>
                          <a:t>(+1)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31" name="Group 162"/>
                      <p:cNvGrpSpPr/>
                      <p:nvPr/>
                    </p:nvGrpSpPr>
                    <p:grpSpPr>
                      <a:xfrm>
                        <a:off x="1285920" y="2214720"/>
                        <a:ext cx="6492960" cy="3606480"/>
                        <a:chOff x="1285920" y="2214720"/>
                        <a:chExt cx="6492960" cy="3606480"/>
                      </a:xfrm>
                    </p:grpSpPr>
                    <p:sp>
                      <p:nvSpPr>
                        <p:cNvPr id="232" name="Text Box 163"/>
                        <p:cNvSpPr/>
                        <p:nvPr/>
                      </p:nvSpPr>
                      <p:spPr>
                        <a:xfrm>
                          <a:off x="3810960" y="2214720"/>
                          <a:ext cx="721440" cy="360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0" rIns="0" tIns="0" bIns="0" anchor="t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spcAft>
                              <a:spcPts val="1001"/>
                            </a:spcAft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fr-FR" sz="2400" spc="-1" strike="noStrike">
                              <a:solidFill>
                                <a:srgbClr val="000000"/>
                              </a:solidFill>
                              <a:latin typeface="Tahoma"/>
                            </a:rPr>
                            <a:t>(+2)</a:t>
                          </a: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33" name="Group 164"/>
                        <p:cNvGrpSpPr/>
                        <p:nvPr/>
                      </p:nvGrpSpPr>
                      <p:grpSpPr>
                        <a:xfrm>
                          <a:off x="1285920" y="2214720"/>
                          <a:ext cx="6492960" cy="3606480"/>
                          <a:chOff x="1285920" y="2214720"/>
                          <a:chExt cx="6492960" cy="3606480"/>
                        </a:xfrm>
                      </p:grpSpPr>
                      <p:sp>
                        <p:nvSpPr>
                          <p:cNvPr id="234" name="Text Box 165"/>
                          <p:cNvSpPr/>
                          <p:nvPr/>
                        </p:nvSpPr>
                        <p:spPr>
                          <a:xfrm>
                            <a:off x="7057080" y="4017600"/>
                            <a:ext cx="721440" cy="3607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0" rIns="0" tIns="0" bIns="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spcAft>
                                <a:spcPts val="1001"/>
                              </a:spcAft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fr-FR" sz="2400" spc="-1" strike="noStrike">
                                <a:solidFill>
                                  <a:srgbClr val="000000"/>
                                </a:solidFill>
                                <a:latin typeface="Tahoma"/>
                              </a:rPr>
                              <a:t>(+4)</a:t>
                            </a: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235" name="Group 166"/>
                          <p:cNvGrpSpPr/>
                          <p:nvPr/>
                        </p:nvGrpSpPr>
                        <p:grpSpPr>
                          <a:xfrm>
                            <a:off x="1285920" y="2214720"/>
                            <a:ext cx="6492960" cy="3606480"/>
                            <a:chOff x="1285920" y="2214720"/>
                            <a:chExt cx="6492960" cy="3606480"/>
                          </a:xfrm>
                        </p:grpSpPr>
                        <p:sp>
                          <p:nvSpPr>
                            <p:cNvPr id="236" name="Text Box 167"/>
                            <p:cNvSpPr/>
                            <p:nvPr/>
                          </p:nvSpPr>
                          <p:spPr>
                            <a:xfrm>
                              <a:off x="6336000" y="4017600"/>
                              <a:ext cx="721080" cy="360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0" rIns="0" tIns="0" bIns="0" anchor="t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spcAft>
                                  <a:spcPts val="1001"/>
                                </a:spcAft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fr-FR" sz="2400" spc="-1" strike="noStrike">
                                  <a:solidFill>
                                    <a:srgbClr val="000000"/>
                                  </a:solidFill>
                                  <a:latin typeface="Tahoma"/>
                                </a:rPr>
                                <a:t>(+3)</a:t>
                              </a: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grpSp>
                          <p:nvGrpSpPr>
                            <p:cNvPr id="237" name="Group 168"/>
                            <p:cNvGrpSpPr/>
                            <p:nvPr/>
                          </p:nvGrpSpPr>
                          <p:grpSpPr>
                            <a:xfrm>
                              <a:off x="1285920" y="2214720"/>
                              <a:ext cx="6492960" cy="3606480"/>
                              <a:chOff x="1285920" y="2214720"/>
                              <a:chExt cx="6492960" cy="3606480"/>
                            </a:xfrm>
                          </p:grpSpPr>
                          <p:sp>
                            <p:nvSpPr>
                              <p:cNvPr id="238" name="Text Box 169"/>
                              <p:cNvSpPr/>
                              <p:nvPr/>
                            </p:nvSpPr>
                            <p:spPr>
                              <a:xfrm>
                                <a:off x="5614560" y="4017600"/>
                                <a:ext cx="721440" cy="360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0" rIns="0" tIns="0" bIns="0" anchor="t">
                                <a:noAutofit/>
                              </a:bodyPr>
                              <a:p>
                                <a:pPr algn="ctr">
                                  <a:lnSpc>
                                    <a:spcPct val="100000"/>
                                  </a:lnSpc>
                                  <a:spcAft>
                                    <a:spcPts val="1001"/>
                                  </a:spcAft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fr-FR" sz="2400" spc="-1" strike="noStrike">
                                    <a:solidFill>
                                      <a:srgbClr val="000000"/>
                                    </a:solidFill>
                                    <a:latin typeface="Tahoma"/>
                                  </a:rPr>
                                  <a:t>(+2)</a:t>
                                </a: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239" name="Group 170"/>
                              <p:cNvGrpSpPr/>
                              <p:nvPr/>
                            </p:nvGrpSpPr>
                            <p:grpSpPr>
                              <a:xfrm>
                                <a:off x="1285920" y="2214720"/>
                                <a:ext cx="6492960" cy="3606480"/>
                                <a:chOff x="1285920" y="2214720"/>
                                <a:chExt cx="6492960" cy="3606480"/>
                              </a:xfrm>
                            </p:grpSpPr>
                            <p:sp>
                              <p:nvSpPr>
                                <p:cNvPr id="240" name="Text Box 171"/>
                                <p:cNvSpPr/>
                                <p:nvPr/>
                              </p:nvSpPr>
                              <p:spPr>
                                <a:xfrm>
                                  <a:off x="4893120" y="4017600"/>
                                  <a:ext cx="721440" cy="36072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0" rIns="0" tIns="0" bIns="0" anchor="t">
                                  <a:noAutofit/>
                                </a:bodyPr>
                                <a:p>
                                  <a:pPr algn="ctr">
                                    <a:lnSpc>
                                      <a:spcPct val="100000"/>
                                    </a:lnSpc>
                                    <a:spcAft>
                                      <a:spcPts val="1001"/>
                                    </a:spcAft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fr-FR" sz="2400" spc="-1" strike="noStrike">
                                      <a:solidFill>
                                        <a:srgbClr val="000000"/>
                                      </a:solidFill>
                                      <a:latin typeface="Tahoma"/>
                                    </a:rPr>
                                    <a:t>(+1)</a:t>
                                  </a:r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grpSp>
                              <p:nvGrpSpPr>
                                <p:cNvPr id="241" name="Group 172"/>
                                <p:cNvGrpSpPr/>
                                <p:nvPr/>
                              </p:nvGrpSpPr>
                              <p:grpSpPr>
                                <a:xfrm>
                                  <a:off x="1285920" y="2214720"/>
                                  <a:ext cx="6492960" cy="3606480"/>
                                  <a:chOff x="1285920" y="2214720"/>
                                  <a:chExt cx="6492960" cy="3606480"/>
                                </a:xfrm>
                              </p:grpSpPr>
                              <p:sp>
                                <p:nvSpPr>
                                  <p:cNvPr id="242" name="Text Box 173"/>
                                  <p:cNvSpPr/>
                                  <p:nvPr/>
                                </p:nvSpPr>
                                <p:spPr>
                                  <a:xfrm>
                                    <a:off x="3450240" y="4017600"/>
                                    <a:ext cx="721080" cy="36072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0" rIns="0" tIns="0" bIns="0" anchor="t">
                                    <a:noAutofit/>
                                  </a:bodyPr>
                                  <a:p>
                                    <a:pPr algn="ctr">
                                      <a:lnSpc>
                                        <a:spcPct val="100000"/>
                                      </a:lnSpc>
                                      <a:spcAft>
                                        <a:spcPts val="1001"/>
                                      </a:spcAft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fr-FR" sz="2400" spc="-1" strike="noStrike">
                                        <a:solidFill>
                                          <a:srgbClr val="000000"/>
                                        </a:solidFill>
                                        <a:latin typeface="Tahoma"/>
                                      </a:rPr>
                                      <a:t>(-1)</a:t>
                                    </a:r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grpSp>
                                <p:nvGrpSpPr>
                                  <p:cNvPr id="243" name="Group 174"/>
                                  <p:cNvGrpSpPr/>
                                  <p:nvPr/>
                                </p:nvGrpSpPr>
                                <p:grpSpPr>
                                  <a:xfrm>
                                    <a:off x="1285920" y="2214720"/>
                                    <a:ext cx="6492960" cy="3606480"/>
                                    <a:chOff x="1285920" y="2214720"/>
                                    <a:chExt cx="6492960" cy="3606480"/>
                                  </a:xfrm>
                                </p:grpSpPr>
                                <p:sp>
                                  <p:nvSpPr>
                                    <p:cNvPr id="244" name="Text Box 175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28800" y="4017600"/>
                                      <a:ext cx="721440" cy="36072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0" rIns="0" tIns="0" bIns="0" anchor="t">
                                      <a:noAutofit/>
                                    </a:bodyPr>
                                    <a:p>
                                      <a:pPr algn="ctr">
                                        <a:lnSpc>
                                          <a:spcPct val="100000"/>
                                        </a:lnSpc>
                                        <a:spcAft>
                                          <a:spcPts val="1001"/>
                                        </a:spcAft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0" lang="fr-FR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ahoma"/>
                                        </a:rPr>
                                        <a:t>(-2)</a:t>
                                      </a:r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grpSp>
                                  <p:nvGrpSpPr>
                                    <p:cNvPr id="245" name="Group 176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1285920" y="2214720"/>
                                      <a:ext cx="6492960" cy="3606480"/>
                                      <a:chOff x="1285920" y="2214720"/>
                                      <a:chExt cx="6492960" cy="3606480"/>
                                    </a:xfrm>
                                  </p:grpSpPr>
                                  <p:sp>
                                    <p:nvSpPr>
                                      <p:cNvPr id="246" name="Text Box 177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1285920" y="4017600"/>
                                        <a:ext cx="721440" cy="360720"/>
                                      </a:xfrm>
                                      <a:prstGeom prst="rect">
                                        <a:avLst/>
                                      </a:prstGeom>
                                      <a:noFill/>
                                      <a:ln w="0">
                                        <a:noFill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0" rIns="0" tIns="0" bIns="0" anchor="t">
                                        <a:noAutofit/>
                                      </a:bodyPr>
                                      <a:p>
                                        <a:pPr algn="ctr">
                                          <a:lnSpc>
                                            <a:spcPct val="100000"/>
                                          </a:lnSpc>
                                          <a:spcAft>
                                            <a:spcPts val="1001"/>
                                          </a:spcAft>
                                          <a:tabLst>
                                            <a:tab algn="l" pos="0"/>
                                            <a:tab algn="l" pos="914400"/>
                                            <a:tab algn="l" pos="1828800"/>
                                            <a:tab algn="l" pos="2743200"/>
                                            <a:tab algn="l" pos="3657600"/>
                                            <a:tab algn="l" pos="4572000"/>
                                            <a:tab algn="l" pos="5486400"/>
                                            <a:tab algn="l" pos="6400800"/>
                                            <a:tab algn="l" pos="7315200"/>
                                            <a:tab algn="l" pos="8229600"/>
                                            <a:tab algn="l" pos="9144000"/>
                                            <a:tab algn="l" pos="10058400"/>
                                          </a:tabLst>
                                        </a:pPr>
                                        <a:r>
                                          <a:rPr b="0" lang="fr-FR" sz="24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ahoma"/>
                                          </a:rPr>
                                          <a:t>(-4)</a:t>
                                        </a:r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endParaRPr>
                                      </a:p>
                                    </p:txBody>
                                  </p:sp>
                                  <p:grpSp>
                                    <p:nvGrpSpPr>
                                      <p:cNvPr id="247" name="Group 178"/>
                                      <p:cNvGrpSpPr/>
                                      <p:nvPr/>
                                    </p:nvGrpSpPr>
                                    <p:grpSpPr>
                                      <a:xfrm>
                                        <a:off x="1285920" y="2214720"/>
                                        <a:ext cx="6492960" cy="3606480"/>
                                        <a:chOff x="1285920" y="2214720"/>
                                        <a:chExt cx="6492960" cy="3606480"/>
                                      </a:xfrm>
                                    </p:grpSpPr>
                                    <p:sp>
                                      <p:nvSpPr>
                                        <p:cNvPr id="248" name="Text Box 179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2007360" y="4017600"/>
                                          <a:ext cx="721440" cy="360720"/>
                                        </a:xfrm>
                                        <a:prstGeom prst="rect">
                                          <a:avLst/>
                                        </a:prstGeom>
                                        <a:noFill/>
                                        <a:ln w="0">
                                          <a:noFill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0" rIns="0" tIns="0" bIns="0" anchor="t">
                                          <a:noAutofit/>
                                        </a:bodyPr>
                                        <a:p>
                                          <a:pPr algn="ctr">
                                            <a:lnSpc>
                                              <a:spcPct val="100000"/>
                                            </a:lnSpc>
                                            <a:spcAft>
                                              <a:spcPts val="1001"/>
                                            </a:spcAft>
                                            <a:tabLst>
                                              <a:tab algn="l" pos="0"/>
                                              <a:tab algn="l" pos="914400"/>
                                              <a:tab algn="l" pos="1828800"/>
                                              <a:tab algn="l" pos="2743200"/>
                                              <a:tab algn="l" pos="3657600"/>
                                              <a:tab algn="l" pos="4572000"/>
                                              <a:tab algn="l" pos="5486400"/>
                                              <a:tab algn="l" pos="6400800"/>
                                              <a:tab algn="l" pos="7315200"/>
                                              <a:tab algn="l" pos="8229600"/>
                                              <a:tab algn="l" pos="9144000"/>
                                              <a:tab algn="l" pos="10058400"/>
                                            </a:tabLst>
                                          </a:pPr>
                                          <a:r>
                                            <a:rPr b="0" lang="fr-FR" sz="24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Tahoma"/>
                                            </a:rPr>
                                            <a:t>(-3)</a:t>
                                          </a:r>
                                          <a:endParaRPr b="0" lang="en-US" sz="24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grpSp>
                                      <p:nvGrpSpPr>
                                        <p:cNvPr id="249" name="Group 180"/>
                                        <p:cNvGrpSpPr/>
                                        <p:nvPr/>
                                      </p:nvGrpSpPr>
                                      <p:grpSpPr>
                                        <a:xfrm>
                                          <a:off x="1285920" y="2214720"/>
                                          <a:ext cx="6492960" cy="3606480"/>
                                          <a:chOff x="1285920" y="2214720"/>
                                          <a:chExt cx="6492960" cy="3606480"/>
                                        </a:xfrm>
                                      </p:grpSpPr>
                                      <p:sp>
                                        <p:nvSpPr>
                                          <p:cNvPr id="250" name="Line 181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1285920" y="4017600"/>
                                            <a:ext cx="6492960" cy="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316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  <a:tailEnd len="med" type="arrow" w="med"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-46800" bIns="-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251" name="Line 182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1285920" y="2575080"/>
                                            <a:ext cx="6492960" cy="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-46800" bIns="-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252" name="Line 183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1285920" y="3296520"/>
                                            <a:ext cx="6492960" cy="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-46800" bIns="-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253" name="Line 184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1285920" y="4739040"/>
                                            <a:ext cx="6492960" cy="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-46800" bIns="-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254" name="Line 185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1285920" y="5460480"/>
                                            <a:ext cx="6492960" cy="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-46800" bIns="-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grpSp>
                                        <p:nvGrpSpPr>
                                          <p:cNvPr id="255" name="Group 186"/>
                                          <p:cNvGrpSpPr/>
                                          <p:nvPr/>
                                        </p:nvGrpSpPr>
                                        <p:grpSpPr>
                                          <a:xfrm>
                                            <a:off x="1646640" y="2214720"/>
                                            <a:ext cx="5771160" cy="3606480"/>
                                            <a:chOff x="1646640" y="2214720"/>
                                            <a:chExt cx="5771160" cy="3606480"/>
                                          </a:xfrm>
                                        </p:grpSpPr>
                                        <p:sp>
                                          <p:nvSpPr>
                                            <p:cNvPr id="256" name="Line 187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4532040" y="2214720"/>
                                              <a:ext cx="0" cy="360648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3168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  <a:headEnd len="med" type="arrow" w="med"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257" name="Line 188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1646640" y="2214720"/>
                                              <a:ext cx="0" cy="360648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1908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258" name="Line 189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2368080" y="2214720"/>
                                              <a:ext cx="0" cy="360648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1908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259" name="Line 190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3089160" y="2214720"/>
                                              <a:ext cx="0" cy="360648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1908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260" name="Line 191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3810600" y="2214720"/>
                                              <a:ext cx="0" cy="360648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1908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261" name="Line 192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5253120" y="2214720"/>
                                              <a:ext cx="0" cy="360648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1908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262" name="Line 193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5974560" y="2214720"/>
                                              <a:ext cx="0" cy="360648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1908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263" name="Line 194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6696360" y="2214720"/>
                                              <a:ext cx="0" cy="360648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1908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264" name="Line 195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7417800" y="2214720"/>
                                              <a:ext cx="0" cy="360648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1908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</p:grpSp>
                                    </p:grpSp>
                                  </p:grpSp>
                                </p:grpSp>
                              </p:grpSp>
                            </p:grpSp>
                          </p:grpSp>
                        </p:grpSp>
                      </p:grpSp>
                    </p:grpSp>
                  </p:grpSp>
                </p:grpSp>
              </p:grpSp>
            </p:grpSp>
          </p:grpSp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9-01-19T22:20:33Z</dcterms:modified>
  <cp:revision>43</cp:revision>
  <dc:subject/>
  <dc:title>8 x 4</dc:title>
</cp:coreProperties>
</file>