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1102-6A41-47E4-B6E2-66E6726D3B2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7991-1BE3-4290-88FD-51C1DC03C39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FE44-BEB9-4AE6-AAE7-376635E3D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30E3-2E3A-4A42-8B44-FA26A78E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5A4B-D4A7-4A77-8654-A5EBAFA0E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1E30-CB89-41A4-8A2E-839C955DA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C289-4EFA-476F-80D1-DB692924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95E3-7A0E-41E8-8C81-551012F2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FD0F-E773-4C36-AD15-EE54CF8F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0545-8946-426B-91CF-7B134A3C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6984-0536-4596-9348-6616644B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47A5-69D0-4411-972D-2E944985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9967-1D2F-4801-901C-8A7E32A2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E310-D685-4ADB-9F09-FE3E0EC4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710A-AEEA-4325-A815-F74D816A89E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Calculer la som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de deux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6"/>
              <p:cNvSpPr txBox="1"/>
              <p:nvPr/>
            </p:nvSpPr>
            <p:spPr>
              <a:xfrm>
                <a:off x="2187720" y="1714680"/>
                <a:ext cx="126684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8"/>
              <p:cNvSpPr txBox="1"/>
              <p:nvPr/>
            </p:nvSpPr>
            <p:spPr>
              <a:xfrm>
                <a:off x="5560920" y="1714680"/>
                <a:ext cx="126684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2187720" y="1714680"/>
                <a:ext cx="126684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8"/>
              <p:cNvSpPr txBox="1"/>
              <p:nvPr/>
            </p:nvSpPr>
            <p:spPr>
              <a:xfrm>
                <a:off x="5560920" y="1714680"/>
                <a:ext cx="126684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6"/>
              <p:cNvSpPr txBox="1"/>
              <p:nvPr/>
            </p:nvSpPr>
            <p:spPr>
              <a:xfrm>
                <a:off x="1900080" y="1714680"/>
                <a:ext cx="18417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1900080" y="1714680"/>
                <a:ext cx="18417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7:13:36Z</dcterms:modified>
  <cp:revision>39</cp:revision>
  <dc:subject/>
  <dc:title>8 x 4</dc:title>
</cp:coreProperties>
</file>