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D3C8-95B0-4499-A8F7-0FA8594F1C4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AEE6-A60A-493F-A132-10118ADBC0C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7625-7B46-4A1D-BA4F-E19C7D5D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15BD-4E82-4298-941A-418826A3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A4D5-5FCD-4B4B-A4E6-7251C73FD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E6F5-8080-4F58-8007-ACEBE972F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1A1E-ACAA-4637-9F30-D35F6184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02B6-1E98-4332-A683-B766FDAA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F186-0A2E-43CF-8539-5CC9365A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4AA0-7C57-4FF8-B1DA-8B4C5FEE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8644-3F6A-4A8C-BE83-D14323BA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F121-B446-46E6-BF6B-AA455A65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7E9B-405E-4562-B3A8-295F4609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4D8F-B25E-4EE8-BAFA-5CAF82C2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6398-7CEA-420B-ACBD-C6779685751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35719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Respecter la priorité de la soustraction sur la multi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85 – 7 ×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73 – 5 ×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53 – 5 ×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85 – 7 ×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79 – 4 ×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81 – 5 ×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67 – 6 ×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79 – 4 ×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81 – 5 ×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67 – 6 ×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00:25Z</dcterms:modified>
  <cp:revision>25</cp:revision>
  <dc:subject/>
  <dc:title>8 x 4</dc:title>
</cp:coreProperties>
</file>