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9463-F2F8-46F2-ADBA-69B50862C0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21B8-8172-4CE2-9227-1C75D60598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4870-094B-4776-9854-74891D21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1A9-3856-4FD0-9BDB-2771D27C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37E-7170-478E-99B3-506A40DB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9FE-7E3C-4099-8E7E-C06612CB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38A-578C-456F-8E1C-173C3B8D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8A2-98E9-492D-847E-40D95189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2DF-6D85-4D6F-A2A3-D2F42E29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3B2-2604-4A6D-AB01-5AE42656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5E6-5ED5-4971-AD10-DDC2C9EE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9BC-E3CC-4B88-8417-CB8E5F16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5A4-E129-406B-A6AB-00C5EC97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737-66ED-40CF-9307-279464B6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A9D6-E07C-4BF7-8FD6-3A22F8D0543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00040" y="3143160"/>
            <a:ext cx="8286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rro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à l’unité, au 1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, au 10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…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87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5,7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,7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,87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3,8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85840" y="1714680"/>
            <a:ext cx="8715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8,732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2,8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5:36Z</dcterms:modified>
  <cp:revision>23</cp:revision>
  <dc:subject/>
  <dc:title>8 x 4</dc:title>
</cp:coreProperties>
</file>