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16A8-1C46-482F-B9FD-591F2DFA03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864-AB43-4142-90EA-E50B364665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69B-FAD4-4483-9CEA-593A9217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D13-EAC7-47C5-9B2D-6BD243D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0A9-6BF7-471D-B445-E036751F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BEE-E573-446C-9A5E-E249D330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BF7-2E56-4181-B9DA-E6DB7DFE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1DD-88AA-4A6C-87F0-13A49F7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7DE-9768-4314-A18C-C20F7CF1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F23-CD09-4CF0-A46B-7C853BDA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761-8A0E-45AA-9231-6814121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E5E-9678-455B-8976-9A955383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778-FB80-40A4-B888-F16ADC33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44A-EBB0-4F66-A519-F47AD169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6DFD-4E64-4977-BAE6-0DF97F5ECE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sans parenthè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1:45Z</dcterms:modified>
  <cp:revision>30</cp:revision>
  <dc:subject/>
  <dc:title>8 x 4</dc:title>
</cp:coreProperties>
</file>