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CA2A-0E9A-43AD-9051-4CAE5A428A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835E-F306-4CF8-875C-9D041C444B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08FC-934E-4D24-B4BE-70131EE2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D80-A3FE-457F-9746-D69CFA17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031-8ED0-43D3-A96C-0B2F5672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DB1-BBE3-47FC-96F2-5CF2F622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F3E-9E0D-467A-ABF5-0BB68E28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CF18-4018-4759-9229-7FCE7870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A0A-4852-4551-AE68-4E1D5193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96DA-4258-4DA6-A0D2-9E1A35C7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2EB6-211C-48C8-B112-DC7FB3D4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44F-7D16-4B3E-8CB0-11EE20EB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108-0518-4BA3-90A0-1F93FA68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04D-7598-4227-B9AB-99E2BB61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A55E-EEE0-4139-A233-0A7F72A5A0C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en respectant les priorités opératoires (avec parenthè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3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4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8 × (5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8 × (5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[4 × (8 – 5)] × 2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[3 × (9 – 5)] × 2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6:56:07Z</dcterms:modified>
  <cp:revision>32</cp:revision>
  <dc:subject/>
  <dc:title>8 x 4</dc:title>
</cp:coreProperties>
</file>