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006F-ECA4-479D-BDD0-86E485EBACA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336B-FB84-4704-8CAC-DD297384168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90E1-5201-4D77-8697-6186C110410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7F9C-5886-4C69-B112-E263C588EA7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388F-70A6-484A-9675-F51496E6E90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BA2B-79C5-4A1A-BAD6-F8BADDFD529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DE70-9AF3-44C3-BF7E-88B2E3D8365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51E3-CF2D-4F9C-A3DE-AEBFD04D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35D9-3B8F-4C7E-8B54-14165254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4FE2-5A4C-4FF6-8DD8-13EED5C4B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A8A2-9EBE-4D01-967D-A8F40F01D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E0C1-AF10-4831-9FDB-10B4D2AB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BDA1-6018-415C-B007-31883CCD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780E-B655-403D-B50F-81982080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696C-5E88-4194-A02E-0F1FF4EC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5C5B-4975-40C9-BF83-50ECAFE3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93B5-55AB-4C60-8CEF-72874E3D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CCBD-48A3-4306-BE9C-5ED84958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70EC-E767-4055-AFFD-4246D7DA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b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C30F-5396-4FD3-A0A0-CC781F5F35E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78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Révision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785880" y="32148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en 51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6"/>
              <p:cNvSpPr txBox="1"/>
              <p:nvPr/>
            </p:nvSpPr>
            <p:spPr>
              <a:xfrm>
                <a:off x="1285920" y="2571840"/>
                <a:ext cx="644508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rcRect l="4813" t="15154" r="4813" b="37546"/>
          <a:stretch/>
        </p:blipFill>
        <p:spPr>
          <a:xfrm>
            <a:off x="428760" y="228600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90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6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t xml:space="preserve">?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rcRect l="3498" t="5175" r="5370" b="6895"/>
          <a:stretch/>
        </p:blipFill>
        <p:spPr>
          <a:xfrm>
            <a:off x="928800" y="2214720"/>
            <a:ext cx="3643200" cy="4000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9" name="Object 6"/>
              <p:cNvSpPr txBox="1"/>
              <p:nvPr/>
            </p:nvSpPr>
            <p:spPr>
              <a:xfrm>
                <a:off x="5986440" y="2643120"/>
                <a:ext cx="24573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5840" y="1428480"/>
            <a:ext cx="850104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rcRect l="0" t="14562" r="0" b="35912"/>
          <a:stretch/>
        </p:blipFill>
        <p:spPr>
          <a:xfrm>
            <a:off x="500040" y="2143080"/>
            <a:ext cx="3519360" cy="4143600"/>
          </a:xfrm>
          <a:prstGeom prst="rect">
            <a:avLst/>
          </a:prstGeom>
          <a:ln w="0">
            <a:noFill/>
          </a:ln>
        </p:spPr>
      </p:pic>
      <p:sp>
        <p:nvSpPr>
          <p:cNvPr id="103" name="ZoneTexte 6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357120" y="107172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6"/>
              <p:cNvSpPr txBox="1"/>
              <p:nvPr/>
            </p:nvSpPr>
            <p:spPr>
              <a:xfrm>
                <a:off x="1928880" y="1928880"/>
                <a:ext cx="1841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8"/>
              <p:cNvSpPr txBox="1"/>
              <p:nvPr/>
            </p:nvSpPr>
            <p:spPr>
              <a:xfrm>
                <a:off x="5532480" y="1928880"/>
                <a:ext cx="1382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ZoneTexte 8"/>
          <p:cNvSpPr/>
          <p:nvPr/>
        </p:nvSpPr>
        <p:spPr>
          <a:xfrm>
            <a:off x="4172040" y="321480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oneTexte 7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rcRect l="5557" t="7051" r="6943" b="8307"/>
          <a:stretch/>
        </p:blipFill>
        <p:spPr>
          <a:xfrm>
            <a:off x="285840" y="3000240"/>
            <a:ext cx="5500440" cy="31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1680" y="2785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2 × (14 </a:t>
            </a:r>
            <a:r>
              <a:rPr b="1" lang="fr-FR" sz="7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 4 × 3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ZoneTexte 8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2313" t="20834" r="10097" b="10709"/>
          <a:stretch/>
        </p:blipFill>
        <p:spPr>
          <a:xfrm>
            <a:off x="357120" y="3000240"/>
            <a:ext cx="5478480" cy="26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840" y="28573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5 × 6 – 3 ×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554364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6"/>
              <p:cNvSpPr txBox="1"/>
              <p:nvPr/>
            </p:nvSpPr>
            <p:spPr>
              <a:xfrm>
                <a:off x="928800" y="2571840"/>
                <a:ext cx="713556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428760" y="1428840"/>
            <a:ext cx="82864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 est l’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absciss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du point A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134" name="Text Box 150"/>
            <p:cNvSpPr/>
            <p:nvPr/>
          </p:nvSpPr>
          <p:spPr>
            <a:xfrm>
              <a:off x="6151680" y="2623320"/>
              <a:ext cx="48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151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cxnSp>
            <p:nvCxnSpPr>
              <p:cNvPr id="136" name="AutoShape 152"/>
              <p:cNvCxnSpPr/>
              <p:nvPr/>
            </p:nvCxnSpPr>
            <p:spPr>
              <a:xfrm>
                <a:off x="5793480" y="3106800"/>
                <a:ext cx="356040" cy="356040"/>
              </a:xfrm>
              <a:prstGeom prst="straightConnector1">
                <a:avLst/>
              </a:prstGeom>
              <a:ln w="31680">
                <a:solidFill>
                  <a:srgbClr val="000000"/>
                </a:solidFill>
                <a:miter/>
              </a:ln>
            </p:spPr>
          </p:cxnSp>
          <p:cxnSp>
            <p:nvCxnSpPr>
              <p:cNvPr id="137" name="AutoShape 153"/>
              <p:cNvCxnSpPr/>
              <p:nvPr/>
            </p:nvCxnSpPr>
            <p:spPr>
              <a:xfrm flipH="1">
                <a:off x="5793120" y="3106800"/>
                <a:ext cx="356040" cy="356040"/>
              </a:xfrm>
              <a:prstGeom prst="straightConnector1">
                <a:avLst/>
              </a:prstGeom>
              <a:ln w="31680">
                <a:solidFill>
                  <a:srgbClr val="000000"/>
                </a:solidFill>
                <a:miter/>
              </a:ln>
            </p:spPr>
          </p:cxnSp>
          <p:grpSp>
            <p:nvGrpSpPr>
              <p:cNvPr id="138" name="Group 154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139" name="Text Box 155"/>
                <p:cNvSpPr/>
                <p:nvPr/>
              </p:nvSpPr>
              <p:spPr>
                <a:xfrm>
                  <a:off x="4171320" y="4017600"/>
                  <a:ext cx="360720" cy="36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alibri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0" name="Group 156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141" name="Text Box 157"/>
                  <p:cNvSpPr/>
                  <p:nvPr/>
                </p:nvSpPr>
                <p:spPr>
                  <a:xfrm>
                    <a:off x="3810960" y="546048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2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2" name="Group 158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143" name="Text Box 159"/>
                    <p:cNvSpPr/>
                    <p:nvPr/>
                  </p:nvSpPr>
                  <p:spPr>
                    <a:xfrm>
                      <a:off x="3810960" y="4739040"/>
                      <a:ext cx="721440" cy="360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44" name="Group 160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145" name="Text Box 161"/>
                      <p:cNvSpPr/>
                      <p:nvPr/>
                    </p:nvSpPr>
                    <p:spPr>
                      <a:xfrm>
                        <a:off x="3810960" y="2935800"/>
                        <a:ext cx="721440" cy="360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1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46" name="Group 162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147" name="Text Box 163"/>
                        <p:cNvSpPr/>
                        <p:nvPr/>
                      </p:nvSpPr>
                      <p:spPr>
                        <a:xfrm>
                          <a:off x="3810960" y="2214720"/>
                          <a:ext cx="721440" cy="360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2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48" name="Group 164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149" name="Text Box 165"/>
                          <p:cNvSpPr/>
                          <p:nvPr/>
                        </p:nvSpPr>
                        <p:spPr>
                          <a:xfrm>
                            <a:off x="7057080" y="4017600"/>
                            <a:ext cx="72144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4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150" name="Group 166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151" name="Text Box 167"/>
                            <p:cNvSpPr/>
                            <p:nvPr/>
                          </p:nvSpPr>
                          <p:spPr>
                            <a:xfrm>
                              <a:off x="6336000" y="4017600"/>
                              <a:ext cx="72108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3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152" name="Group 168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153" name="Text Box 169"/>
                              <p:cNvSpPr/>
                              <p:nvPr/>
                            </p:nvSpPr>
                            <p:spPr>
                              <a:xfrm>
                                <a:off x="561456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2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154" name="Group 170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155" name="Text Box 171"/>
                                <p:cNvSpPr/>
                                <p:nvPr/>
                              </p:nvSpPr>
                              <p:spPr>
                                <a:xfrm>
                                  <a:off x="4893120" y="4017600"/>
                                  <a:ext cx="72144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+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156" name="Group 172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157" name="Text Box 173"/>
                                  <p:cNvSpPr/>
                                  <p:nvPr/>
                                </p:nvSpPr>
                                <p:spPr>
                                  <a:xfrm>
                                    <a:off x="3450240" y="4017600"/>
                                    <a:ext cx="72108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1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158" name="Group 174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159" name="Text Box 175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2880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2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160" name="Group 176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161" name="Text Box 177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28592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4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162" name="Group 178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163" name="Text Box 179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2007360" y="4017600"/>
                                          <a:ext cx="721440" cy="36072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0" rIns="0" tIns="0" bIns="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spcAft>
                                              <a:spcPts val="1001"/>
                                            </a:spcAft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r>
                                            <a:rPr b="0" lang="fr-FR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ahoma"/>
                                            </a:rPr>
                                            <a:t>(-3)</a:t>
                                          </a: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164" name="Group 180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285920" y="2214720"/>
                                          <a:ext cx="6492960" cy="3606480"/>
                                          <a:chOff x="1285920" y="2214720"/>
                                          <a:chExt cx="6492960" cy="3606480"/>
                                        </a:xfrm>
                                      </p:grpSpPr>
                                      <p:sp>
                                        <p:nvSpPr>
                                          <p:cNvPr id="165" name="Line 18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401760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tail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66" name="Line 18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257508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67" name="Line 18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329652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68" name="Line 18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473904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69" name="Line 18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546048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grpSp>
                                        <p:nvGrpSpPr>
                                          <p:cNvPr id="170" name="Group 186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1646640" y="2214720"/>
                                            <a:ext cx="5771160" cy="3606480"/>
                                            <a:chOff x="1646640" y="2214720"/>
                                            <a:chExt cx="5771160" cy="3606480"/>
                                          </a:xfrm>
                                        </p:grpSpPr>
                                        <p:sp>
                                          <p:nvSpPr>
                                            <p:cNvPr id="171" name="Line 187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453204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316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  <a:headEnd len="med" type="arrow" w="med"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72" name="Line 188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164664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73" name="Line 189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236808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74" name="Line 190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30891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75" name="Line 191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381060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76" name="Line 192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525312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77" name="Line 193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59745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78" name="Line 194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66963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79" name="Line 195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741780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6"/>
              <p:cNvSpPr txBox="1"/>
              <p:nvPr/>
            </p:nvSpPr>
            <p:spPr>
              <a:xfrm>
                <a:off x="1357200" y="2571840"/>
                <a:ext cx="644364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8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8"/>
              <p:cNvSpPr txBox="1"/>
              <p:nvPr/>
            </p:nvSpPr>
            <p:spPr>
              <a:xfrm>
                <a:off x="5141880" y="2428920"/>
                <a:ext cx="20732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3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Pour tracer le cercle circonscrit à un triangle, il faut construire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6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8"/>
              <p:cNvSpPr txBox="1"/>
              <p:nvPr/>
            </p:nvSpPr>
            <p:spPr>
              <a:xfrm>
                <a:off x="5313240" y="2428920"/>
                <a:ext cx="17290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mparer les deux nombres suivants à l’aide de 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6"/>
              <p:cNvSpPr txBox="1"/>
              <p:nvPr/>
            </p:nvSpPr>
            <p:spPr>
              <a:xfrm>
                <a:off x="428760" y="3357720"/>
                <a:ext cx="3001680" cy="15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8"/>
              <p:cNvSpPr txBox="1"/>
              <p:nvPr/>
            </p:nvSpPr>
            <p:spPr>
              <a:xfrm>
                <a:off x="5929200" y="3357720"/>
                <a:ext cx="2428920" cy="15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,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ZoneTexte 8"/>
          <p:cNvSpPr/>
          <p:nvPr/>
        </p:nvSpPr>
        <p:spPr>
          <a:xfrm>
            <a:off x="4357800" y="350028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un triangle, l’orthocentre est le point d’intersection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554508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3 – 2 × 3 +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6"/>
              <p:cNvSpPr txBox="1"/>
              <p:nvPr/>
            </p:nvSpPr>
            <p:spPr>
              <a:xfrm>
                <a:off x="1900080" y="2428920"/>
                <a:ext cx="18399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8"/>
              <p:cNvSpPr txBox="1"/>
              <p:nvPr/>
            </p:nvSpPr>
            <p:spPr>
              <a:xfrm>
                <a:off x="5543640" y="2428920"/>
                <a:ext cx="12682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un triangle, le centre de gravité est le point d’intersection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6"/>
              <p:cNvSpPr txBox="1"/>
              <p:nvPr/>
            </p:nvSpPr>
            <p:spPr>
              <a:xfrm>
                <a:off x="1357200" y="2714760"/>
                <a:ext cx="644364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1428840"/>
            <a:ext cx="82864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 est l’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ordonné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du point B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230" name="Text Box 150"/>
            <p:cNvSpPr/>
            <p:nvPr/>
          </p:nvSpPr>
          <p:spPr>
            <a:xfrm>
              <a:off x="2357640" y="2571480"/>
              <a:ext cx="48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Group 154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sp>
            <p:nvSpPr>
              <p:cNvPr id="232" name="Text Box 155"/>
              <p:cNvSpPr/>
              <p:nvPr/>
            </p:nvSpPr>
            <p:spPr>
              <a:xfrm>
                <a:off x="4171320" y="4017600"/>
                <a:ext cx="360720" cy="3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3" name="Group 156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234" name="Text Box 157"/>
                <p:cNvSpPr/>
                <p:nvPr/>
              </p:nvSpPr>
              <p:spPr>
                <a:xfrm>
                  <a:off x="3810960" y="5460480"/>
                  <a:ext cx="7214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ahoma"/>
                    </a:rPr>
                    <a:t>(-2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Group 158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236" name="Text Box 159"/>
                  <p:cNvSpPr/>
                  <p:nvPr/>
                </p:nvSpPr>
                <p:spPr>
                  <a:xfrm>
                    <a:off x="3810960" y="473904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1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7" name="Group 160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238" name="Text Box 161"/>
                    <p:cNvSpPr/>
                    <p:nvPr/>
                  </p:nvSpPr>
                  <p:spPr>
                    <a:xfrm>
                      <a:off x="3810960" y="2935800"/>
                      <a:ext cx="721440" cy="360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39" name="Group 162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240" name="Text Box 163"/>
                      <p:cNvSpPr/>
                      <p:nvPr/>
                    </p:nvSpPr>
                    <p:spPr>
                      <a:xfrm>
                        <a:off x="3810960" y="2214720"/>
                        <a:ext cx="721440" cy="360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2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41" name="Group 164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242" name="Text Box 165"/>
                        <p:cNvSpPr/>
                        <p:nvPr/>
                      </p:nvSpPr>
                      <p:spPr>
                        <a:xfrm>
                          <a:off x="7057080" y="4017600"/>
                          <a:ext cx="721440" cy="360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4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43" name="Group 166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244" name="Text Box 167"/>
                          <p:cNvSpPr/>
                          <p:nvPr/>
                        </p:nvSpPr>
                        <p:spPr>
                          <a:xfrm>
                            <a:off x="6336000" y="4017600"/>
                            <a:ext cx="72108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3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45" name="Group 168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246" name="Text Box 169"/>
                            <p:cNvSpPr/>
                            <p:nvPr/>
                          </p:nvSpPr>
                          <p:spPr>
                            <a:xfrm>
                              <a:off x="5614560" y="4017600"/>
                              <a:ext cx="72144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2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247" name="Group 170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248" name="Text Box 171"/>
                              <p:cNvSpPr/>
                              <p:nvPr/>
                            </p:nvSpPr>
                            <p:spPr>
                              <a:xfrm>
                                <a:off x="489312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1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249" name="Group 172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250" name="Text Box 173"/>
                                <p:cNvSpPr/>
                                <p:nvPr/>
                              </p:nvSpPr>
                              <p:spPr>
                                <a:xfrm>
                                  <a:off x="3450240" y="4017600"/>
                                  <a:ext cx="72108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-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251" name="Group 174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252" name="Text Box 175"/>
                                  <p:cNvSpPr/>
                                  <p:nvPr/>
                                </p:nvSpPr>
                                <p:spPr>
                                  <a:xfrm>
                                    <a:off x="2728800" y="4017600"/>
                                    <a:ext cx="72144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2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253" name="Group 176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254" name="Text Box 17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28592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4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255" name="Group 178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256" name="Text Box 17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00736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3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257" name="Group 180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258" name="Line 181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01760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316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tailEnd len="med" type="arrow" w="med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59" name="Line 182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25750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60" name="Line 183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329652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61" name="Line 184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73904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62" name="Line 185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54604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263" name="Group 186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646640" y="2214720"/>
                                          <a:ext cx="5771160" cy="3606480"/>
                                          <a:chOff x="1646640" y="2214720"/>
                                          <a:chExt cx="5771160" cy="3606480"/>
                                        </a:xfrm>
                                      </p:grpSpPr>
                                      <p:sp>
                                        <p:nvSpPr>
                                          <p:cNvPr id="264" name="Line 187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45320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head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65" name="Line 188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6466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66" name="Line 189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236808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67" name="Line 190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0891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68" name="Line 19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8106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69" name="Line 19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25312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70" name="Line 19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9745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71" name="Line 19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66963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72" name="Line 19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74178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  <p:sp>
        <p:nvSpPr>
          <p:cNvPr id="273" name="Connecteur droit 96"/>
          <p:cNvSpPr/>
          <p:nvPr/>
        </p:nvSpPr>
        <p:spPr>
          <a:xfrm>
            <a:off x="2928960" y="2428920"/>
            <a:ext cx="35712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onnecteur droit 97"/>
          <p:cNvSpPr/>
          <p:nvPr/>
        </p:nvSpPr>
        <p:spPr>
          <a:xfrm flipH="1">
            <a:off x="2928960" y="2428920"/>
            <a:ext cx="35712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35812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ans la liste de nombres suivante,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quel est le plus petit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mbre relatif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6"/>
              <p:cNvSpPr txBox="1"/>
              <p:nvPr/>
            </p:nvSpPr>
            <p:spPr>
              <a:xfrm>
                <a:off x="642960" y="2786040"/>
                <a:ext cx="242892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,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8"/>
              <p:cNvSpPr txBox="1"/>
              <p:nvPr/>
            </p:nvSpPr>
            <p:spPr>
              <a:xfrm>
                <a:off x="3143160" y="3643200"/>
                <a:ext cx="242892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,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9"/>
              <p:cNvSpPr txBox="1"/>
              <p:nvPr/>
            </p:nvSpPr>
            <p:spPr>
              <a:xfrm>
                <a:off x="5516640" y="4714920"/>
                <a:ext cx="296856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0040" y="19998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Un losange a ses diagonales de même longueurs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6"/>
              <p:cNvSpPr txBox="1"/>
              <p:nvPr/>
            </p:nvSpPr>
            <p:spPr>
              <a:xfrm>
                <a:off x="1071720" y="2643120"/>
                <a:ext cx="701964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nombre  </a:t>
            </a: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est-il solution de l’équation suivan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5"/>
              <p:cNvSpPr txBox="1"/>
              <p:nvPr/>
            </p:nvSpPr>
            <p:spPr>
              <a:xfrm>
                <a:off x="642960" y="3000240"/>
                <a:ext cx="771516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2130480" y="19288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8"/>
              <p:cNvSpPr txBox="1"/>
              <p:nvPr/>
            </p:nvSpPr>
            <p:spPr>
              <a:xfrm>
                <a:off x="5504040" y="19288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ZoneTexte 8"/>
          <p:cNvSpPr/>
          <p:nvPr/>
        </p:nvSpPr>
        <p:spPr>
          <a:xfrm>
            <a:off x="4143240" y="321480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57120" y="107172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357120" y="1214280"/>
            <a:ext cx="84297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6"/>
              <p:cNvSpPr txBox="1"/>
              <p:nvPr/>
            </p:nvSpPr>
            <p:spPr>
              <a:xfrm>
                <a:off x="1714680" y="2071800"/>
                <a:ext cx="540828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642960" y="2428920"/>
            <a:ext cx="4172040" cy="364644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2"/>
          <p:cNvSpPr/>
          <p:nvPr/>
        </p:nvSpPr>
        <p:spPr>
          <a:xfrm>
            <a:off x="357120" y="1000080"/>
            <a:ext cx="84297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Choisis la bonne répons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 périmètre de cette figure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4071960" y="2357280"/>
            <a:ext cx="5072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27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25 + 2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+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9680" y="1285920"/>
            <a:ext cx="82868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les sont les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ordonnée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du point C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298" name="Text Box 150"/>
            <p:cNvSpPr/>
            <p:nvPr/>
          </p:nvSpPr>
          <p:spPr>
            <a:xfrm>
              <a:off x="6000480" y="4786200"/>
              <a:ext cx="48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Group 154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sp>
            <p:nvSpPr>
              <p:cNvPr id="300" name="Text Box 155"/>
              <p:cNvSpPr/>
              <p:nvPr/>
            </p:nvSpPr>
            <p:spPr>
              <a:xfrm>
                <a:off x="4171320" y="4017600"/>
                <a:ext cx="360720" cy="3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1" name="Group 156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302" name="Text Box 157"/>
                <p:cNvSpPr/>
                <p:nvPr/>
              </p:nvSpPr>
              <p:spPr>
                <a:xfrm>
                  <a:off x="3810960" y="5460480"/>
                  <a:ext cx="7214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ahoma"/>
                    </a:rPr>
                    <a:t>(-2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3" name="Group 158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304" name="Text Box 159"/>
                  <p:cNvSpPr/>
                  <p:nvPr/>
                </p:nvSpPr>
                <p:spPr>
                  <a:xfrm>
                    <a:off x="3810960" y="473904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1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5" name="Group 160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306" name="Text Box 161"/>
                    <p:cNvSpPr/>
                    <p:nvPr/>
                  </p:nvSpPr>
                  <p:spPr>
                    <a:xfrm>
                      <a:off x="3810960" y="2935800"/>
                      <a:ext cx="721440" cy="360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7" name="Group 162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308" name="Text Box 163"/>
                      <p:cNvSpPr/>
                      <p:nvPr/>
                    </p:nvSpPr>
                    <p:spPr>
                      <a:xfrm>
                        <a:off x="3810960" y="2214720"/>
                        <a:ext cx="721440" cy="360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2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09" name="Group 164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310" name="Text Box 165"/>
                        <p:cNvSpPr/>
                        <p:nvPr/>
                      </p:nvSpPr>
                      <p:spPr>
                        <a:xfrm>
                          <a:off x="7057080" y="4017600"/>
                          <a:ext cx="721440" cy="360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4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11" name="Group 166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312" name="Text Box 167"/>
                          <p:cNvSpPr/>
                          <p:nvPr/>
                        </p:nvSpPr>
                        <p:spPr>
                          <a:xfrm>
                            <a:off x="6336000" y="4017600"/>
                            <a:ext cx="72108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3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313" name="Group 168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314" name="Text Box 169"/>
                            <p:cNvSpPr/>
                            <p:nvPr/>
                          </p:nvSpPr>
                          <p:spPr>
                            <a:xfrm>
                              <a:off x="5614560" y="4017600"/>
                              <a:ext cx="72144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2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315" name="Group 170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316" name="Text Box 171"/>
                              <p:cNvSpPr/>
                              <p:nvPr/>
                            </p:nvSpPr>
                            <p:spPr>
                              <a:xfrm>
                                <a:off x="489312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1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317" name="Group 172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318" name="Text Box 173"/>
                                <p:cNvSpPr/>
                                <p:nvPr/>
                              </p:nvSpPr>
                              <p:spPr>
                                <a:xfrm>
                                  <a:off x="3450240" y="4017600"/>
                                  <a:ext cx="72108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-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319" name="Group 174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320" name="Text Box 175"/>
                                  <p:cNvSpPr/>
                                  <p:nvPr/>
                                </p:nvSpPr>
                                <p:spPr>
                                  <a:xfrm>
                                    <a:off x="2728800" y="4017600"/>
                                    <a:ext cx="72144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2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321" name="Group 176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322" name="Text Box 17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28592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4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323" name="Group 178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324" name="Text Box 17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00736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3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325" name="Group 180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326" name="Line 181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01760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316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tailEnd len="med" type="arrow" w="med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27" name="Line 182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25750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28" name="Line 183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329652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29" name="Line 184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73904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30" name="Line 185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54604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331" name="Group 186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646640" y="2214720"/>
                                          <a:ext cx="5771160" cy="3606480"/>
                                          <a:chOff x="1646640" y="2214720"/>
                                          <a:chExt cx="5771160" cy="3606480"/>
                                        </a:xfrm>
                                      </p:grpSpPr>
                                      <p:sp>
                                        <p:nvSpPr>
                                          <p:cNvPr id="332" name="Line 187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45320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head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33" name="Line 188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6466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34" name="Line 189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236808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35" name="Line 190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0891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36" name="Line 19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8106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37" name="Line 19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25312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38" name="Line 19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9745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39" name="Line 19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66963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40" name="Line 19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74178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  <p:sp>
        <p:nvSpPr>
          <p:cNvPr id="341" name="Connecteur droit 48"/>
          <p:cNvSpPr/>
          <p:nvPr/>
        </p:nvSpPr>
        <p:spPr>
          <a:xfrm>
            <a:off x="6500880" y="5286240"/>
            <a:ext cx="357120" cy="357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Connecteur droit 49"/>
          <p:cNvSpPr/>
          <p:nvPr/>
        </p:nvSpPr>
        <p:spPr>
          <a:xfrm flipH="1">
            <a:off x="6500880" y="5286240"/>
            <a:ext cx="357120" cy="357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1424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a solution de l’é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5"/>
              <p:cNvSpPr txBox="1"/>
              <p:nvPr/>
            </p:nvSpPr>
            <p:spPr>
              <a:xfrm>
                <a:off x="1643040" y="2000160"/>
                <a:ext cx="5575320" cy="15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" name="Rectangle 2"/>
          <p:cNvSpPr/>
          <p:nvPr/>
        </p:nvSpPr>
        <p:spPr>
          <a:xfrm>
            <a:off x="57168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st-elle  </a:t>
            </a: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ou  </a:t>
            </a: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357120" y="107172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6"/>
              <p:cNvSpPr txBox="1"/>
              <p:nvPr/>
            </p:nvSpPr>
            <p:spPr>
              <a:xfrm>
                <a:off x="2278080" y="2473200"/>
                <a:ext cx="460368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0040" y="214272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Si un parallélogramme a ses diagonales perpendiculaires, alors c’est un rectangle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357120" y="107172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6"/>
              <p:cNvSpPr txBox="1"/>
              <p:nvPr/>
            </p:nvSpPr>
            <p:spPr>
              <a:xfrm>
                <a:off x="357120" y="2357280"/>
                <a:ext cx="8352000" cy="164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357120" y="1214280"/>
            <a:ext cx="84297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6"/>
              <p:cNvSpPr txBox="1"/>
              <p:nvPr/>
            </p:nvSpPr>
            <p:spPr>
              <a:xfrm>
                <a:off x="1657440" y="2071800"/>
                <a:ext cx="5522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357120" y="107172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6"/>
              <p:cNvSpPr txBox="1"/>
              <p:nvPr/>
            </p:nvSpPr>
            <p:spPr>
              <a:xfrm>
                <a:off x="3141720" y="2473200"/>
                <a:ext cx="287640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1424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’égali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5"/>
              <p:cNvSpPr txBox="1"/>
              <p:nvPr/>
            </p:nvSpPr>
            <p:spPr>
              <a:xfrm>
                <a:off x="1928880" y="2071800"/>
                <a:ext cx="5384880" cy="14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Rectangle 2"/>
          <p:cNvSpPr/>
          <p:nvPr/>
        </p:nvSpPr>
        <p:spPr>
          <a:xfrm>
            <a:off x="57168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st-elle vraie qu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   et     </a:t>
            </a: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6"/>
              <p:cNvSpPr txBox="1"/>
              <p:nvPr/>
            </p:nvSpPr>
            <p:spPr>
              <a:xfrm>
                <a:off x="5958000" y="2643120"/>
                <a:ext cx="25146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8" name="Picture 7" descr=""/>
          <p:cNvPicPr/>
          <p:nvPr/>
        </p:nvPicPr>
        <p:blipFill>
          <a:blip r:embed="rId1"/>
          <a:srcRect l="1778" t="7734" r="7362" b="7208"/>
          <a:stretch/>
        </p:blipFill>
        <p:spPr>
          <a:xfrm>
            <a:off x="357120" y="2714760"/>
            <a:ext cx="6458040" cy="32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357120" y="107172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6"/>
              <p:cNvSpPr txBox="1"/>
              <p:nvPr/>
            </p:nvSpPr>
            <p:spPr>
              <a:xfrm>
                <a:off x="668160" y="2473200"/>
                <a:ext cx="782496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571680" y="1500120"/>
            <a:ext cx="81435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ctoriser la somm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6"/>
              <p:cNvSpPr txBox="1"/>
              <p:nvPr/>
            </p:nvSpPr>
            <p:spPr>
              <a:xfrm>
                <a:off x="2292480" y="3129120"/>
                <a:ext cx="448920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571680" y="1357200"/>
            <a:ext cx="81435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velopper le produi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6"/>
              <p:cNvSpPr txBox="1"/>
              <p:nvPr/>
            </p:nvSpPr>
            <p:spPr>
              <a:xfrm>
                <a:off x="2235240" y="2870280"/>
                <a:ext cx="460368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50920" y="333360"/>
            <a:ext cx="439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6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4200" y="1428840"/>
            <a:ext cx="87868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rcRect l="9778" t="20520" r="14512" b="25568"/>
          <a:stretch/>
        </p:blipFill>
        <p:spPr>
          <a:xfrm>
            <a:off x="500040" y="2428920"/>
            <a:ext cx="3672000" cy="378612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a somme des mesures de deux angles complémentaires est égale à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oneTexte 7"/>
          <p:cNvSpPr/>
          <p:nvPr/>
        </p:nvSpPr>
        <p:spPr>
          <a:xfrm>
            <a:off x="1143000" y="2857680"/>
            <a:ext cx="692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90°?       ou       180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rcRect l="9292" t="3991" r="11065" b="6253"/>
          <a:stretch/>
        </p:blipFill>
        <p:spPr>
          <a:xfrm>
            <a:off x="357120" y="2768760"/>
            <a:ext cx="5143680" cy="3857400"/>
          </a:xfrm>
          <a:prstGeom prst="rect">
            <a:avLst/>
          </a:prstGeom>
          <a:ln w="0">
            <a:noFill/>
          </a:ln>
        </p:spPr>
      </p:pic>
      <p:sp>
        <p:nvSpPr>
          <p:cNvPr id="83" name="ZoneTexte 6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5-28T20:47:44Z</dcterms:modified>
  <cp:revision>77</cp:revision>
  <dc:subject/>
  <dc:title>8 x 4</dc:title>
</cp:coreProperties>
</file>