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CA9-569C-4D1C-9D4C-E3523D0AB9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0B52-E2E5-4F91-8DC4-00E6CD6830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B0F-2070-45C6-BEDA-97496930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CD7-CC87-484A-98D4-7269EDC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C27-B135-4C58-AF12-634006CD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48E-D3F1-446E-8B27-B0F01C2A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E64-9797-4DFF-88ED-963B61C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D32-EA84-40BC-B18C-5222BD2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ECB-EA46-4A9F-BB40-48FCDFD3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7AC-9CD8-47ED-B38F-58A727A4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42A-138A-4B8D-A01C-5A2801B2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984-0F55-433D-9EED-EDC3D02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17F-E059-4C7B-83D8-B0A6E78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68F-AB80-4A29-99C7-BC9EA4B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0AA-1873-4E68-9E50-D0DE3CA0A6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3:16Z</dcterms:modified>
  <cp:revision>20</cp:revision>
  <dc:subject/>
  <dc:title>8 x 4</dc:title>
</cp:coreProperties>
</file>