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AD6E-1E59-4AD5-BB0F-6590200964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8736-05BF-41EC-966E-B8A1E4D5F8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24A-5103-4CE2-8769-C3C97AFD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115-D38B-4A1C-83EE-10CF9BDC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7DF-8C1F-4685-9BFC-EEA0DDE4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248-4C16-4D94-95AA-6927FC43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002-B35C-4D47-B868-BACDF5F6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D14-F09A-4ED2-A68E-EBE0D7B1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9E8-D414-48F3-B388-216225BC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6E1-7ED3-424F-BFE7-89202833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905-864F-4FA8-BD60-EE8807D0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525-A856-432B-96E2-C1A32EFD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395-2151-497B-8635-83092E4C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8C9-6522-44CB-A400-277607EB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B724-0035-4190-9F83-3446E662A23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3:04:31Z</dcterms:modified>
  <cp:revision>44</cp:revision>
  <dc:subject/>
  <dc:title>8 x 4</dc:title>
</cp:coreProperties>
</file>