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E512-5A1A-4B76-BB0C-C25E7BA900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7068-9C22-46F1-BF94-3E00969A40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EA1-0267-4369-9C8D-E887FE04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AA7-2257-4F00-BB69-055BD11C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DA9-5C82-48F7-8708-E723E5FA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1FC-6456-4F2D-BE97-7E4B1268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C6E-95F0-4C85-A008-85084EB1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AC3-12C9-4A1F-A268-4DD48F67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C18-8094-46B2-8A6C-2ACA9350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612-B6FB-4D52-A0D3-3B291152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EE6-C716-4F5D-8460-B00FB85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29D-9C21-4A71-8C1B-EA18BA9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0E0-78F2-4B5A-AE43-39924E25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736-A209-4193-84F5-B2CCEC5D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D941-856C-4E56-A2CB-32E8DE32CD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57120" y="3143160"/>
            <a:ext cx="85726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itiation au calcul litté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éveloppements et factor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408400" y="3227400"/>
                <a:ext cx="42591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292480" y="33433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349360" y="3343320"/>
                <a:ext cx="437364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351160" y="3227400"/>
                <a:ext cx="437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2178000" y="3227400"/>
                <a:ext cx="471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12T21:19:00Z</dcterms:modified>
  <cp:revision>33</cp:revision>
  <dc:subject/>
  <dc:title>8 x 4</dc:title>
</cp:coreProperties>
</file>