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7DF-45BE-43A9-9952-BFE90009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BEB-D272-4346-AD63-3C7D94BB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6D9-1C49-4F60-BF40-2C809B04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F1D-3566-45BB-AF4E-1C1D1667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73B-45EC-453A-9905-87400CAB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3CC-5D4C-4A76-9642-2658F830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C2BF-E586-4E0A-9A4F-3E9407A9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99B-73BF-4FE2-8041-E217AF4D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1C6-E0D0-4AF0-9229-836336BB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003-FA7C-4941-909E-60FD1291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6F6-2E78-44B9-B5E3-8D79BC8B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0AF-A86F-4BD1-857C-DFD9A6AC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A795-BE2D-4D24-876E-D8345F95D23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5T06:23:59Z</dcterms:modified>
  <cp:revision>12</cp:revision>
  <dc:subject/>
  <dc:title>Diapositive 1</dc:title>
</cp:coreProperties>
</file>