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26DC-9997-4866-8FC3-379A1B40B7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57F9-97CE-4397-9A39-6347E140EC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CA38-0DDA-402B-BFC8-13C175505B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36DD-32F1-4994-92F1-B8AED51CFB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CD8F-FA28-4478-94E7-D31CD5D50D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1012-F28D-4403-8578-9D4E90A18B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7F2A-8F3F-4BC7-8CC1-551160B694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3FFB-7D6F-465B-A8BB-1D29D7406C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F675-3919-4E81-B2FA-4CE648D81C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38BD-0AEC-4FA5-A352-19DCFC9F25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134E-7921-4277-8AF1-7DB4E57154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CEE3-63BE-482A-8F21-52C216D90A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9039-8194-428C-B212-54E752E30E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DBB-B7C6-4459-99F5-1DF695CEC9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DB15-4E4E-4D42-B811-F3498AFB07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F9E4-22C2-451E-99D5-E978E14E4A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082F-4DCA-4F39-9DEA-F6CF1E2179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B118-E846-4D54-B8B2-DFF8C78A43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1265-AF18-4342-9163-40874E6DAF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89DE-E25D-424C-9009-DD83D22C18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F3C5-FBBF-4111-A30F-99225944FB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14DD-1516-404E-AE41-02F6EFC1A0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A924-1BE5-463C-A6AA-5C665DB749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71B0-23E7-4EF2-9F8C-6B3FF99D24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4B7C-B577-4EDD-8275-0E99B34B4F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AD0-8B3A-4BC2-BADB-6EFBE538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8FB-2D2A-4A2B-BA51-425F4601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793-8D0D-4433-810A-B8942C74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241-9D66-4CCA-83D9-1358F8CF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B09-55C9-42EC-A0FC-501370EA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57E-8C99-4C3E-98FE-F5D2DBBA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DB7-DF0F-43CD-86A0-8A418C17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AE5-BD1C-438E-AD1B-6735E864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F38-DB21-4BFC-82FC-29585CC8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BF2-58F2-4A8D-BE11-CF0C1EF3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40B-627F-4377-A955-7E91430A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C46-4527-4F2E-B4B0-3AB85A31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6440-D343-4CB8-AB4B-4C675BD0914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509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16360" cy="492444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4"/>
          <p:cNvSpPr/>
          <p:nvPr/>
        </p:nvSpPr>
        <p:spPr>
          <a:xfrm>
            <a:off x="4341600" y="1916280"/>
            <a:ext cx="481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graphique d’un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onction affin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ire graphiquement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’image de -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43080" cy="51847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4"/>
          <p:cNvSpPr/>
          <p:nvPr/>
        </p:nvSpPr>
        <p:spPr>
          <a:xfrm>
            <a:off x="4341600" y="1916280"/>
            <a:ext cx="481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graphique d’un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onction affin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ire graphiquement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’image de 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619280" y="2060640"/>
          <a:ext cx="571176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060640"/>
                    <a:ext cx="571176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403280" y="2060640"/>
          <a:ext cx="614376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060640"/>
                    <a:ext cx="614376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2916360" y="2079720"/>
          <a:ext cx="254628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079720"/>
                    <a:ext cx="25462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ZoneTexte 4"/>
          <p:cNvSpPr/>
          <p:nvPr/>
        </p:nvSpPr>
        <p:spPr>
          <a:xfrm>
            <a:off x="1332000" y="1341360"/>
            <a:ext cx="59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cherch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=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ZoneTexte 3"/>
          <p:cNvSpPr/>
          <p:nvPr/>
        </p:nvSpPr>
        <p:spPr>
          <a:xfrm>
            <a:off x="1289880" y="1341360"/>
            <a:ext cx="60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cherch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= 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895480" y="2079720"/>
          <a:ext cx="258768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79720"/>
                    <a:ext cx="25876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26920" y="1989000"/>
          <a:ext cx="7345440" cy="2087640"/>
        </p:xfrm>
        <a:graphic>
          <a:graphicData uri="http://schemas.openxmlformats.org/drawingml/2006/table">
            <a:tbl>
              <a:tblPr/>
              <a:tblGrid>
                <a:gridCol w="1224000"/>
                <a:gridCol w="1225800"/>
                <a:gridCol w="1224000"/>
                <a:gridCol w="122364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34"/>
          <p:cNvSpPr/>
          <p:nvPr/>
        </p:nvSpPr>
        <p:spPr>
          <a:xfrm>
            <a:off x="1262880" y="4653000"/>
            <a:ext cx="51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3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00000" y="1700280"/>
          <a:ext cx="734400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4000"/>
                <a:gridCol w="1224000"/>
                <a:gridCol w="1224000"/>
                <a:gridCol w="1224000"/>
              </a:tblGrid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34"/>
          <p:cNvSpPr/>
          <p:nvPr/>
        </p:nvSpPr>
        <p:spPr>
          <a:xfrm>
            <a:off x="1251720" y="4653000"/>
            <a:ext cx="60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3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1002600" y="1628640"/>
            <a:ext cx="73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affin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1419120" y="5229360"/>
            <a:ext cx="57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2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692360" y="2924280"/>
          <a:ext cx="48956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48956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71640" y="1916280"/>
          <a:ext cx="734544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3640"/>
                <a:gridCol w="1224000"/>
                <a:gridCol w="1225800"/>
                <a:gridCol w="1224000"/>
              </a:tblGrid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34"/>
          <p:cNvSpPr/>
          <p:nvPr/>
        </p:nvSpPr>
        <p:spPr>
          <a:xfrm>
            <a:off x="1262880" y="4653000"/>
            <a:ext cx="51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1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00000" y="1989000"/>
          <a:ext cx="7344000" cy="208764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4000"/>
                <a:gridCol w="122400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9" name="Text Box 34"/>
          <p:cNvSpPr/>
          <p:nvPr/>
        </p:nvSpPr>
        <p:spPr>
          <a:xfrm>
            <a:off x="1267920" y="4653000"/>
            <a:ext cx="64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-1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16360" cy="492444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4"/>
          <p:cNvSpPr/>
          <p:nvPr/>
        </p:nvSpPr>
        <p:spPr>
          <a:xfrm>
            <a:off x="4350240" y="1916280"/>
            <a:ext cx="422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de -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br>
              <a:rPr sz="4000"/>
            </a:b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43080" cy="5184720"/>
          </a:xfrm>
          <a:prstGeom prst="rect">
            <a:avLst/>
          </a:prstGeom>
          <a:ln w="0">
            <a:noFill/>
          </a:ln>
        </p:spPr>
      </p:pic>
      <p:sp>
        <p:nvSpPr>
          <p:cNvPr id="147" name="ZoneTexte 4"/>
          <p:cNvSpPr/>
          <p:nvPr/>
        </p:nvSpPr>
        <p:spPr>
          <a:xfrm>
            <a:off x="4348800" y="1916280"/>
            <a:ext cx="393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de 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br>
              <a:rPr sz="4000"/>
            </a:b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1002600" y="1628640"/>
            <a:ext cx="73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affin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1692360" y="2924280"/>
          <a:ext cx="48956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48956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4"/>
          <p:cNvSpPr/>
          <p:nvPr/>
        </p:nvSpPr>
        <p:spPr>
          <a:xfrm>
            <a:off x="1433880" y="5229360"/>
            <a:ext cx="590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-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1002600" y="1628640"/>
            <a:ext cx="73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affin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1692360" y="2924280"/>
          <a:ext cx="48956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48956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4"/>
          <p:cNvSpPr/>
          <p:nvPr/>
        </p:nvSpPr>
        <p:spPr>
          <a:xfrm>
            <a:off x="1149480" y="5229360"/>
            <a:ext cx="69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antécédent de 14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1002600" y="1628640"/>
            <a:ext cx="73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affin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692360" y="2924280"/>
          <a:ext cx="48956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48956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34"/>
          <p:cNvSpPr/>
          <p:nvPr/>
        </p:nvSpPr>
        <p:spPr>
          <a:xfrm>
            <a:off x="1149120" y="522936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antécédent de -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9"/>
          <p:cNvSpPr/>
          <p:nvPr/>
        </p:nvSpPr>
        <p:spPr>
          <a:xfrm>
            <a:off x="338760" y="1379520"/>
            <a:ext cx="86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affine, voici le tabl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s valeurs de cette fonction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2852640"/>
          <a:ext cx="734544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5800"/>
                <a:gridCol w="1224000"/>
                <a:gridCol w="122364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34"/>
          <p:cNvSpPr/>
          <p:nvPr/>
        </p:nvSpPr>
        <p:spPr>
          <a:xfrm>
            <a:off x="1354680" y="537372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image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3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338760" y="1379520"/>
            <a:ext cx="86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affine, voici le tabl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s valeurs de cette fonction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26920" y="2852640"/>
          <a:ext cx="734544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5800"/>
                <a:gridCol w="1224000"/>
                <a:gridCol w="122364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3" name="Text Box 34"/>
          <p:cNvSpPr/>
          <p:nvPr/>
        </p:nvSpPr>
        <p:spPr>
          <a:xfrm>
            <a:off x="1293480" y="5373720"/>
            <a:ext cx="71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antécédent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3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1290600" y="537372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image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1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826920" y="2852640"/>
          <a:ext cx="734544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5800"/>
                <a:gridCol w="1224000"/>
                <a:gridCol w="122364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8" name="Text Box 39"/>
          <p:cNvSpPr/>
          <p:nvPr/>
        </p:nvSpPr>
        <p:spPr>
          <a:xfrm>
            <a:off x="338760" y="1379520"/>
            <a:ext cx="86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affine, voici le tabl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s valeurs de cette fonction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2852640"/>
          <a:ext cx="734544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5800"/>
                <a:gridCol w="1224000"/>
                <a:gridCol w="122364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39"/>
          <p:cNvSpPr/>
          <p:nvPr/>
        </p:nvSpPr>
        <p:spPr>
          <a:xfrm>
            <a:off x="338760" y="1379520"/>
            <a:ext cx="86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affine, voici le tabl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s valeurs de cette fonction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1295280" y="5373720"/>
            <a:ext cx="729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antécédent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-1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25T05:18:32Z</dcterms:modified>
  <cp:revision>23</cp:revision>
  <dc:subject/>
  <dc:title>Diapositive 1</dc:title>
</cp:coreProperties>
</file>