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E526-75C4-4026-A5E4-9DDDFC0F2FD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EAC9-0775-45D4-B32F-506D7FD6190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7CE9-0677-47F2-994B-ED51E933C22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E1B5-A654-46B4-8486-326AC4AA5AA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7E89-A5F2-475B-BA7E-B3F997FBD19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0968-4309-4EFF-A1EF-311FBFAE5A5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2EF4-8032-43F3-85A7-B99CB93071B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0CDC-575C-4953-A685-BA57AB24CA9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6DC2-4B84-4F78-8487-2C3806BCA9A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E871-0B3D-4BF3-AC9E-9C0F6C65D27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36D7-0D6C-4494-B53D-765B0C086AF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5C7D-7A69-47BE-82A5-840D9E592D3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D2E2-2E1B-4C4A-AFD0-A45DAFB7990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53D8-400F-41C6-8EFA-A7BFCD68867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9E7A-04B7-4D92-ADE0-A23AFF62D47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84BF-B4D6-455D-9E2C-711569ED2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CEA7-4899-4D0E-B19F-4C3C32AD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AF38-E72B-4A48-9F44-35ED140C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1E85-5C5D-47F7-8B7A-024EEEB8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20E4-8B7F-4F00-869C-B2D2BC83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D26C-0828-4165-A0B4-F188CCBC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A21B-1855-4905-AF68-90172EA4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CF9B-4E91-47B1-8296-6D9A9FE1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2E3D-7627-48C0-8AF6-15E62479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01C2-A4F5-4FD8-BCB9-8563EC8F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2CC5-64DF-415A-84C3-911E24D0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497A-E9F3-42DB-BCC3-200739D2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BB89-B014-4DE2-BE4C-B69B8BEE090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41840" y="1484280"/>
            <a:ext cx="835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Géométri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48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8" descr=""/>
          <p:cNvPicPr/>
          <p:nvPr/>
        </p:nvPicPr>
        <p:blipFill>
          <a:blip r:embed="rId1"/>
          <a:stretch/>
        </p:blipFill>
        <p:spPr>
          <a:xfrm>
            <a:off x="201600" y="1341360"/>
            <a:ext cx="8942400" cy="3855960"/>
          </a:xfrm>
          <a:prstGeom prst="rect">
            <a:avLst/>
          </a:prstGeom>
          <a:ln w="0">
            <a:noFill/>
          </a:ln>
        </p:spPr>
      </p:pic>
      <p:sp>
        <p:nvSpPr>
          <p:cNvPr id="91" name="ZoneTexte 6"/>
          <p:cNvSpPr/>
          <p:nvPr/>
        </p:nvSpPr>
        <p:spPr>
          <a:xfrm>
            <a:off x="7387920" y="2781360"/>
            <a:ext cx="11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P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ZoneTexte 7"/>
          <p:cNvSpPr/>
          <p:nvPr/>
        </p:nvSpPr>
        <p:spPr>
          <a:xfrm>
            <a:off x="4579560" y="3933720"/>
            <a:ext cx="11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D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ZoneTexte 8"/>
          <p:cNvSpPr/>
          <p:nvPr/>
        </p:nvSpPr>
        <p:spPr>
          <a:xfrm>
            <a:off x="3705480" y="5877000"/>
            <a:ext cx="28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TANGE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1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9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4471920" cy="4089600"/>
          </a:xfrm>
          <a:prstGeom prst="rect">
            <a:avLst/>
          </a:prstGeom>
          <a:ln w="0">
            <a:noFill/>
          </a:ln>
        </p:spPr>
      </p:pic>
      <p:sp>
        <p:nvSpPr>
          <p:cNvPr id="97" name="ZoneTexte 6"/>
          <p:cNvSpPr/>
          <p:nvPr/>
        </p:nvSpPr>
        <p:spPr>
          <a:xfrm>
            <a:off x="250920" y="4795920"/>
            <a:ext cx="88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ans un triangle, SI un angle inscrit et un angle au centre interceptent le même arc de cercle, ALORS la mesure de l’angle inscrit est égale à la moitié de celle de l’angle au cent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8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-7200" y="54936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8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438800" cy="4148280"/>
          </a:xfrm>
          <a:prstGeom prst="rect">
            <a:avLst/>
          </a:prstGeom>
          <a:ln w="0">
            <a:noFill/>
          </a:ln>
        </p:spPr>
      </p:pic>
      <p:sp>
        <p:nvSpPr>
          <p:cNvPr id="101" name="ZoneTexte 6"/>
          <p:cNvSpPr/>
          <p:nvPr/>
        </p:nvSpPr>
        <p:spPr>
          <a:xfrm>
            <a:off x="250920" y="4795920"/>
            <a:ext cx="88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ans un triangle, SI un angle inscrit et un angle au centre interceptent le même arc de cercle, ALORS la mesure de l’angle inscrit est égale à la moitié de celle de l’angle au cent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25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8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486560" cy="3524400"/>
          </a:xfrm>
          <a:prstGeom prst="rect">
            <a:avLst/>
          </a:prstGeom>
          <a:ln w="0">
            <a:noFill/>
          </a:ln>
        </p:spPr>
      </p:pic>
      <p:sp>
        <p:nvSpPr>
          <p:cNvPr id="105" name="ZoneTexte 6"/>
          <p:cNvSpPr/>
          <p:nvPr/>
        </p:nvSpPr>
        <p:spPr>
          <a:xfrm>
            <a:off x="258480" y="2852640"/>
            <a:ext cx="11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P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ZoneTexte 7"/>
          <p:cNvSpPr/>
          <p:nvPr/>
        </p:nvSpPr>
        <p:spPr>
          <a:xfrm>
            <a:off x="4796280" y="3933720"/>
            <a:ext cx="119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HY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ZoneTexte 8"/>
          <p:cNvSpPr/>
          <p:nvPr/>
        </p:nvSpPr>
        <p:spPr>
          <a:xfrm>
            <a:off x="4006440" y="5589720"/>
            <a:ext cx="164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IN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2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1095480" y="175104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ZoneTexte 5"/>
          <p:cNvSpPr/>
          <p:nvPr/>
        </p:nvSpPr>
        <p:spPr>
          <a:xfrm>
            <a:off x="43920" y="1413000"/>
            <a:ext cx="91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calculer 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mesure de l’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8" descr=""/>
          <p:cNvPicPr/>
          <p:nvPr/>
        </p:nvPicPr>
        <p:blipFill>
          <a:blip r:embed="rId1"/>
          <a:stretch/>
        </p:blipFill>
        <p:spPr>
          <a:xfrm>
            <a:off x="1979640" y="2735280"/>
            <a:ext cx="5710320" cy="412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Object 29"/>
          <p:cNvGraphicFramePr/>
          <p:nvPr/>
        </p:nvGraphicFramePr>
        <p:xfrm>
          <a:off x="3780000" y="1989000"/>
          <a:ext cx="33012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Object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0000" y="1989000"/>
                    <a:ext cx="3301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3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3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ZoneTexte 5"/>
          <p:cNvSpPr/>
          <p:nvPr/>
        </p:nvSpPr>
        <p:spPr>
          <a:xfrm>
            <a:off x="43920" y="1413000"/>
            <a:ext cx="91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calculer 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mesure de l’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8" descr=""/>
          <p:cNvPicPr/>
          <p:nvPr/>
        </p:nvPicPr>
        <p:blipFill>
          <a:blip r:embed="rId1"/>
          <a:stretch/>
        </p:blipFill>
        <p:spPr>
          <a:xfrm>
            <a:off x="201600" y="3002040"/>
            <a:ext cx="8942400" cy="3855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Object 28"/>
          <p:cNvGraphicFramePr/>
          <p:nvPr/>
        </p:nvGraphicFramePr>
        <p:xfrm>
          <a:off x="3780000" y="2060640"/>
          <a:ext cx="330120" cy="53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0000" y="2060640"/>
                    <a:ext cx="3301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3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30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ZoneTexte 5"/>
          <p:cNvSpPr/>
          <p:nvPr/>
        </p:nvSpPr>
        <p:spPr>
          <a:xfrm>
            <a:off x="43920" y="1413000"/>
            <a:ext cx="91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calculer 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mesure de l’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9" descr=""/>
          <p:cNvPicPr/>
          <p:nvPr/>
        </p:nvPicPr>
        <p:blipFill>
          <a:blip r:embed="rId1"/>
          <a:stretch/>
        </p:blipFill>
        <p:spPr>
          <a:xfrm>
            <a:off x="2195640" y="2766960"/>
            <a:ext cx="4471920" cy="409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Object 40"/>
          <p:cNvGraphicFramePr/>
          <p:nvPr/>
        </p:nvGraphicFramePr>
        <p:xfrm>
          <a:off x="3708360" y="2060640"/>
          <a:ext cx="82548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Object 4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08360" y="2060640"/>
                    <a:ext cx="8254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3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3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ZoneTexte 5"/>
          <p:cNvSpPr/>
          <p:nvPr/>
        </p:nvSpPr>
        <p:spPr>
          <a:xfrm>
            <a:off x="43920" y="1413000"/>
            <a:ext cx="91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calculer 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mesure de l’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8" descr=""/>
          <p:cNvPicPr/>
          <p:nvPr/>
        </p:nvPicPr>
        <p:blipFill>
          <a:blip r:embed="rId1"/>
          <a:stretch/>
        </p:blipFill>
        <p:spPr>
          <a:xfrm>
            <a:off x="2266920" y="2708280"/>
            <a:ext cx="4440240" cy="414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Object 29"/>
          <p:cNvGraphicFramePr/>
          <p:nvPr/>
        </p:nvGraphicFramePr>
        <p:xfrm>
          <a:off x="3708360" y="2060640"/>
          <a:ext cx="99072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Object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08360" y="2060640"/>
                    <a:ext cx="9907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3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30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ZoneTexte 5"/>
          <p:cNvSpPr/>
          <p:nvPr/>
        </p:nvSpPr>
        <p:spPr>
          <a:xfrm>
            <a:off x="43920" y="1413000"/>
            <a:ext cx="91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calculer 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mesure de l’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28" descr=""/>
          <p:cNvPicPr/>
          <p:nvPr/>
        </p:nvPicPr>
        <p:blipFill>
          <a:blip r:embed="rId1"/>
          <a:stretch/>
        </p:blipFill>
        <p:spPr>
          <a:xfrm>
            <a:off x="826920" y="2781360"/>
            <a:ext cx="7486920" cy="352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Object 28"/>
          <p:cNvGraphicFramePr/>
          <p:nvPr/>
        </p:nvGraphicFramePr>
        <p:xfrm>
          <a:off x="3780000" y="2060640"/>
          <a:ext cx="330120" cy="53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0000" y="2060640"/>
                    <a:ext cx="3301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3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3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155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1155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115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115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15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1155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115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115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155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1155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8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5710320" cy="4121280"/>
          </a:xfrm>
          <a:prstGeom prst="rect">
            <a:avLst/>
          </a:prstGeom>
          <a:ln w="0">
            <a:noFill/>
          </a:ln>
        </p:spPr>
      </p:pic>
      <p:sp>
        <p:nvSpPr>
          <p:cNvPr id="87" name="ZoneTexte 6"/>
          <p:cNvSpPr/>
          <p:nvPr/>
        </p:nvSpPr>
        <p:spPr>
          <a:xfrm>
            <a:off x="366480" y="5373720"/>
            <a:ext cx="832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somme des mesures des angles d’u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triangle vaut 180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04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2-04-13T05:13:20Z</dcterms:modified>
  <cp:revision>25</cp:revision>
  <dc:subject/>
  <dc:title>Diapositive 1</dc:title>
</cp:coreProperties>
</file>