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78B4-2F7C-4675-A5BD-1F8AEF431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CA05-7DD7-4B09-B6C3-09DA8616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0E11-248C-46D5-9503-4AA6EE2D3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13A8-F4B1-4942-B45F-91E5CD3D9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F011-2FF9-43B5-BEE5-DE79837E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F19B-B93D-497C-9107-84B6028D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DFDD-5513-4108-B265-E0DC382A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71F6-43B2-455E-BA1F-4ED755CF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FCE8-034A-4DF4-A853-F06A4624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562A-ED85-4BA0-B628-88E9EA37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1D0C-394C-4A12-B940-21DC3A87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F4FB-BF71-4280-9943-F10713D2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31B6-D63A-46EA-BB53-9206717C759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5-15T06:23:59Z</dcterms:modified>
  <cp:revision>12</cp:revision>
  <dc:subject/>
  <dc:title>Diapositive 1</dc:title>
</cp:coreProperties>
</file>