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3AA-80B0-4D17-809D-C2F1A4DA5A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113B-F7A3-4AD9-A0D3-8E0733252C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7408-69D0-4E3B-8989-605AAAAC8E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84D-F56E-4696-BE46-0BFB92B7F9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CF77-C428-4E0E-9EBE-7A6B219F07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0C7C-9233-46EB-BDF1-0E047484A1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1F4-A754-45E3-B048-198293F44C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16D-BFF9-443D-83C4-272533BA87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3E34-B22E-4A23-A1A1-3666B3A9B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CD0-0859-4D1A-878C-FA54A4A019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4FC-1EA7-4C58-BA26-09C63263A5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A40-02EA-415E-BAC7-E50EC8DC76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6570-31B5-49D6-8BA2-0A9F0A0D70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644B-555F-461B-BD35-80537B7C60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2CA-74A2-4329-9147-B3A33CC5F8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112-5F2A-4714-B6D6-881E61B0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DA-1D57-4966-AF80-67713905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D97-9E7F-410B-8E8D-BA1892B6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AB0-1512-4771-A53E-D6048486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1CA-85A2-4A67-9895-08CF6DA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3DD-4206-444D-9799-942F765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893-416E-44E5-BE1F-A2889F6F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CFF-4957-481C-A0FB-4546E59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43F-CF83-42C9-8FED-9F8138E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F6A-35E5-4A2E-AEA5-946E972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556-F7DA-4372-AD4B-8484486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5B5-9D22-48D6-AE76-C81FBAD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AC5-545E-49E9-B7FA-B94CFCAE10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2920" y="1484280"/>
            <a:ext cx="85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8840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106200" y="2276640"/>
            <a:ext cx="9037800" cy="1236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640440" y="47242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SIMPLE SOUSTRAC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77440" cy="43146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19720" y="580536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32764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486920" cy="35240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88040" cy="41497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106200" y="3429000"/>
            <a:ext cx="9037800" cy="12366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611280" y="2543040"/>
            <a:ext cx="7777080" cy="4314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2050920" y="2676600"/>
            <a:ext cx="5329440" cy="41814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86920" cy="35240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7:12Z</dcterms:modified>
  <cp:revision>28</cp:revision>
  <dc:subject/>
  <dc:title>Diapositive 1</dc:title>
</cp:coreProperties>
</file>