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7B8-63BA-4A25-B135-57ACB7F814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E1B0-7DE9-4B01-A8D4-CA830068C2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7498-8FB1-4835-9E2F-B745EEFA45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684-7302-4C2D-AA0A-0F20E8DC61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0848-CD3D-46DB-B23A-D6981B1C4C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0CCB-AA46-4C60-9342-D6331159B7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D9D4-56F4-4576-BEFF-AE8DFBB9FE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8FBE-1C0F-470F-8A8C-DA604012FE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4C11-ACFB-426D-8637-2F4D447124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A5B1-84AE-42E7-95E6-29BB2D5E85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C7FE-C616-46A3-AFAF-5E1A81BFD0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E83A-82D7-49ED-93AE-459F88E16C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1550-D681-4341-9151-93F1F9235E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B8B6-3C85-47CC-8592-90EF13CE07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9E53-BAED-4A50-A8EE-5A7408E1A2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BC2-93A7-4ED9-BAEE-F6BF79E2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983-F26E-4876-B313-2F086BC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EE1-6E01-42BC-8A3D-F75DFCBC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E11-8FBF-447D-8528-1728FD3C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0C3-B151-4774-ACF5-AB0987F6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1EA-1F50-4A3C-B528-EB212B44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AFA-6491-4586-963C-E3123ED4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416-5B79-4FB1-BD7A-4BEB22E0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FEC-868D-4A64-B424-CF5AAFA2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B0B-947D-4FC3-8212-2D5C6DBF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D93-2522-4625-ACD3-85F527C6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468-5948-4846-A0A4-533D816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9DFC-1C2A-4E86-A6D0-903FBE3371E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4116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815080" cy="410076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, ALORS toute droite perpendiculaire à l’une est aussi perpendiculaire à l’au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6" descr=""/>
          <p:cNvPicPr/>
          <p:nvPr/>
        </p:nvPicPr>
        <p:blipFill>
          <a:blip r:embed="rId1"/>
          <a:srcRect l="0" t="3970" r="0" b="3176"/>
          <a:stretch/>
        </p:blipFill>
        <p:spPr>
          <a:xfrm>
            <a:off x="1476360" y="1268280"/>
            <a:ext cx="6743880" cy="408492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6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089240" cy="40482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0" y="5229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un triangle est inscrit dans un cercle de diamètre un de ses côtés, ALORS ce triangle est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rcRect l="0" t="2789" r="0" b="4881"/>
          <a:stretch/>
        </p:blipFill>
        <p:spPr>
          <a:xfrm>
            <a:off x="2484360" y="1268280"/>
            <a:ext cx="4354560" cy="42912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4280" y="1484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rcRect l="0" t="5125" r="0" b="4484"/>
          <a:stretch/>
        </p:blipFill>
        <p:spPr>
          <a:xfrm>
            <a:off x="971640" y="2793960"/>
            <a:ext cx="6553080" cy="406404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D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547640" y="2593800"/>
            <a:ext cx="6046920" cy="42642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KP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6" descr=""/>
          <p:cNvPicPr/>
          <p:nvPr/>
        </p:nvPicPr>
        <p:blipFill>
          <a:blip r:embed="rId1"/>
          <a:srcRect l="0" t="3970" r="0" b="3176"/>
          <a:stretch/>
        </p:blipFill>
        <p:spPr>
          <a:xfrm>
            <a:off x="900000" y="2774880"/>
            <a:ext cx="6743880" cy="40831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4280" y="1484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2484360" y="2809800"/>
            <a:ext cx="4087800" cy="40482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KPA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rcRect l="0" t="2789" r="0" b="4881"/>
          <a:stretch/>
        </p:blipFill>
        <p:spPr>
          <a:xfrm>
            <a:off x="2124000" y="2568600"/>
            <a:ext cx="4354560" cy="42894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2" descr=""/>
          <p:cNvPicPr/>
          <p:nvPr/>
        </p:nvPicPr>
        <p:blipFill>
          <a:blip r:embed="rId1"/>
          <a:srcRect l="0" t="5125" r="0" b="4484"/>
          <a:stretch/>
        </p:blipFill>
        <p:spPr>
          <a:xfrm>
            <a:off x="1476360" y="1268280"/>
            <a:ext cx="6553080" cy="40640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1:02Z</dcterms:modified>
  <cp:revision>26</cp:revision>
  <dc:subject/>
  <dc:title>Diapositive 1</dc:title>
</cp:coreProperties>
</file>