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EBDF-D61A-4B5E-AE39-D189EF9B0B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3DE4-D764-4F8E-958B-A0298EE807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ECC-5B0E-42D5-BAE4-E74507AF2D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18FE-508B-4DD6-B4A5-00EA661DE9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A6AD-225E-40D4-A9ED-0A43288EBD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D51B-3172-4F08-A6F2-058F79389E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1970-488A-40EC-8B05-998D8AA80A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584C-E192-492D-8D79-0B5A77EF26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CCE-85D1-4389-A64C-2CC679A205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F45-3BE9-4617-8422-BF2E7F4144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FB89-30ED-4F98-ACB2-7257EBAA52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B836-1876-494C-932E-9BA12802E0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D0EF-6C78-4057-B325-BBF0434533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F42F-E0A8-4AB4-8754-5A67AC3321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17FC-B273-43EE-B0F1-2954708775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032-AD70-4733-9B16-CFE9BBAA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C05-2D13-497F-8440-51D9D85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8C4-2C9E-4886-9FA1-27151F5A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9DA-97DD-4E4E-95D3-30245EBB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566-BE90-4C18-ACCA-6834FB1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D93-45EE-4625-AFC5-1FD8BEA1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858-845F-4A1B-9291-8B12D8A9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045-36CD-4049-B463-26CC402D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4C2-A489-4F32-9CCD-7E3B37F0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B9C-B2A7-4B35-A6C1-3A21930A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74D-E60B-40F7-B718-26493EE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73A-6234-4921-93EC-FE94E2F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3A8B-626B-42C1-9D80-3FBEF1740AD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095880" cy="421956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501480" y="566100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6" descr=""/>
          <p:cNvPicPr/>
          <p:nvPr/>
        </p:nvPicPr>
        <p:blipFill>
          <a:blip r:embed="rId1"/>
          <a:stretch/>
        </p:blipFill>
        <p:spPr>
          <a:xfrm>
            <a:off x="352440" y="1341360"/>
            <a:ext cx="8791560" cy="40608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501480" y="566100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6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751640" cy="424332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334280" cy="415296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d) et (d’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2050920" y="2629080"/>
            <a:ext cx="3948120" cy="42289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ED) et (BC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547640" y="2638440"/>
            <a:ext cx="6096240" cy="4219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ED) et (CB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6" descr=""/>
          <p:cNvPicPr/>
          <p:nvPr/>
        </p:nvPicPr>
        <p:blipFill>
          <a:blip r:embed="rId1"/>
          <a:stretch/>
        </p:blipFill>
        <p:spPr>
          <a:xfrm>
            <a:off x="0" y="2797200"/>
            <a:ext cx="8791560" cy="40608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ZP) et (XR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2050920" y="2612880"/>
            <a:ext cx="4753080" cy="42451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d’) et (d’’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900000" y="2705040"/>
            <a:ext cx="7334280" cy="41529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2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46320" cy="42292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3:58Z</dcterms:modified>
  <cp:revision>30</cp:revision>
  <dc:subject/>
  <dc:title>Diapositive 1</dc:title>
</cp:coreProperties>
</file>