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06AB-3B5F-42B0-985F-F379E2B960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8DB9-AC31-438E-85B6-EF178C9977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D79D-2E1A-4446-A9F5-A58033DA4D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FDEA-9B5D-4806-BB81-D6C2B21E5A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84BE-6D21-4F32-9A85-73F75396AC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5096-C416-4BE2-8939-7A04EF4CFD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0E8C-C26D-4826-BABF-F88C87CAB1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8585-FA3E-4F00-B87E-593B537A5A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FC75-0DCF-4FEE-94EC-C1D949DA4E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1609-8E11-43AC-98AC-594977C3DB7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B047-8951-4189-A818-8BCDD1D77B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59D8-6FDD-4187-BB2B-87F85EEE34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F867-8233-4EC9-B6FB-7F2367CCC7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1B70-47B0-4122-8B49-FBD6844340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E48D-0257-487E-AA65-30E87D5256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DB48-F826-461B-B4AC-80400154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B0FE-93FF-40B9-B906-210BDB1D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5808-083A-40E3-8ADA-9C12185C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3CE-A55B-47B1-9C1B-D956F4C6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2F26-806A-4A4E-B74F-9F125C0A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D7C3-EAB2-4B77-BDEF-81D0462D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909-678B-4A35-AAC8-ED0BE4AC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DC2C-EFCA-4048-8EDA-97F351F0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127-ECE4-4012-A30D-02CCAFF0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E41-C935-479C-B666-E56D6286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F59A-6769-42CD-98F2-8409DD2B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1F0B-AEA6-4801-9314-A0D61B91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C3F8-E79A-46D6-9F7D-A02DAA2462F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2920" y="1484280"/>
            <a:ext cx="856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48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8" descr=""/>
          <p:cNvPicPr/>
          <p:nvPr/>
        </p:nvPicPr>
        <p:blipFill>
          <a:blip r:embed="rId1"/>
          <a:stretch/>
        </p:blipFill>
        <p:spPr>
          <a:xfrm>
            <a:off x="0" y="1341360"/>
            <a:ext cx="8942400" cy="385452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6"/>
          <p:cNvSpPr/>
          <p:nvPr/>
        </p:nvSpPr>
        <p:spPr>
          <a:xfrm>
            <a:off x="1430640" y="5516640"/>
            <a:ext cx="552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 théorème de Pythag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1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6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641920" cy="443412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6"/>
          <p:cNvSpPr/>
          <p:nvPr/>
        </p:nvSpPr>
        <p:spPr>
          <a:xfrm>
            <a:off x="3715920" y="170028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D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ZoneTexte 7"/>
          <p:cNvSpPr/>
          <p:nvPr/>
        </p:nvSpPr>
        <p:spPr>
          <a:xfrm>
            <a:off x="4723920" y="4365720"/>
            <a:ext cx="119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HY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ZoneTexte 8"/>
          <p:cNvSpPr/>
          <p:nvPr/>
        </p:nvSpPr>
        <p:spPr>
          <a:xfrm>
            <a:off x="3218760" y="595008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SIN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8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6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5440" cy="407700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6"/>
          <p:cNvSpPr/>
          <p:nvPr/>
        </p:nvSpPr>
        <p:spPr>
          <a:xfrm>
            <a:off x="475920" y="306864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P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ZoneTexte 7"/>
          <p:cNvSpPr/>
          <p:nvPr/>
        </p:nvSpPr>
        <p:spPr>
          <a:xfrm>
            <a:off x="4363560" y="220500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D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ZoneTexte 8"/>
          <p:cNvSpPr/>
          <p:nvPr/>
        </p:nvSpPr>
        <p:spPr>
          <a:xfrm>
            <a:off x="3057120" y="587700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ANG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25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8" descr=""/>
          <p:cNvPicPr/>
          <p:nvPr/>
        </p:nvPicPr>
        <p:blipFill>
          <a:blip r:embed="rId1"/>
          <a:stretch/>
        </p:blipFill>
        <p:spPr>
          <a:xfrm>
            <a:off x="-114480" y="1268280"/>
            <a:ext cx="9258480" cy="3213360"/>
          </a:xfrm>
          <a:prstGeom prst="rect">
            <a:avLst/>
          </a:prstGeom>
          <a:ln w="0">
            <a:noFill/>
          </a:ln>
        </p:spPr>
      </p:pic>
      <p:sp>
        <p:nvSpPr>
          <p:cNvPr id="97" name="ZoneTexte 6"/>
          <p:cNvSpPr/>
          <p:nvPr/>
        </p:nvSpPr>
        <p:spPr>
          <a:xfrm>
            <a:off x="2215080" y="5732640"/>
            <a:ext cx="482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 théorème de Thalè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2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095480" y="175104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42480" y="1268280"/>
            <a:ext cx="877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longueur A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2" descr=""/>
          <p:cNvPicPr/>
          <p:nvPr/>
        </p:nvPicPr>
        <p:blipFill>
          <a:blip r:embed="rId1"/>
          <a:srcRect l="0" t="2731" r="0" b="0"/>
          <a:stretch/>
        </p:blipFill>
        <p:spPr>
          <a:xfrm>
            <a:off x="826920" y="2562120"/>
            <a:ext cx="7135920" cy="429588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3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42480" y="1268280"/>
            <a:ext cx="877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longueur A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8" descr=""/>
          <p:cNvPicPr/>
          <p:nvPr/>
        </p:nvPicPr>
        <p:blipFill>
          <a:blip r:embed="rId1"/>
          <a:stretch/>
        </p:blipFill>
        <p:spPr>
          <a:xfrm>
            <a:off x="201600" y="3002040"/>
            <a:ext cx="8942400" cy="385596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3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ZoneTexte 5"/>
          <p:cNvSpPr/>
          <p:nvPr/>
        </p:nvSpPr>
        <p:spPr>
          <a:xfrm>
            <a:off x="42480" y="1268280"/>
            <a:ext cx="877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longueur H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6" descr=""/>
          <p:cNvPicPr/>
          <p:nvPr/>
        </p:nvPicPr>
        <p:blipFill>
          <a:blip r:embed="rId1"/>
          <a:stretch/>
        </p:blipFill>
        <p:spPr>
          <a:xfrm>
            <a:off x="3500280" y="2422440"/>
            <a:ext cx="5643720" cy="443556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3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42480" y="1268280"/>
            <a:ext cx="877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longueur B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6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5440" cy="407664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3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ZoneTexte 5"/>
          <p:cNvSpPr/>
          <p:nvPr/>
        </p:nvSpPr>
        <p:spPr>
          <a:xfrm>
            <a:off x="42480" y="1268280"/>
            <a:ext cx="877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longueur A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8" descr=""/>
          <p:cNvPicPr/>
          <p:nvPr/>
        </p:nvPicPr>
        <p:blipFill>
          <a:blip r:embed="rId1"/>
          <a:stretch/>
        </p:blipFill>
        <p:spPr>
          <a:xfrm>
            <a:off x="-114480" y="2781360"/>
            <a:ext cx="9258480" cy="321300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3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15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1155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115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115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15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15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15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155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2" descr=""/>
          <p:cNvPicPr/>
          <p:nvPr/>
        </p:nvPicPr>
        <p:blipFill>
          <a:blip r:embed="rId1"/>
          <a:srcRect l="0" t="2731" r="0" b="0"/>
          <a:stretch/>
        </p:blipFill>
        <p:spPr>
          <a:xfrm>
            <a:off x="1042920" y="1268280"/>
            <a:ext cx="7135920" cy="42958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6"/>
          <p:cNvSpPr/>
          <p:nvPr/>
        </p:nvSpPr>
        <p:spPr>
          <a:xfrm>
            <a:off x="2215080" y="5732640"/>
            <a:ext cx="482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 théorème de Thalè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4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4-13T05:05:51Z</dcterms:modified>
  <cp:revision>28</cp:revision>
  <dc:subject/>
  <dc:title>Diapositive 1</dc:title>
</cp:coreProperties>
</file>