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3FD-8FCC-40C0-9B9C-F0BA4D8C8B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50A3-82C4-4DAF-887F-F5198BFE5B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287D-A833-4B66-B6DC-0E23645BE1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EF9-F303-47C5-8BE0-E563648D8A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68D-6654-4111-94EF-6F2F8FAB48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9DA-779F-465C-AAF7-D8D891741C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D6B6-242A-4C11-BAFA-41FB55C3E4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6D3-38A4-4E59-B57B-31B9A4D7B9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4A6-D936-4C71-9686-6533E14505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C49B-043E-4C8E-92ED-11EAF7D075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D544-0245-436A-801F-F7FE08E3C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280-B991-4E2D-ACFB-DEDC5A4B97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0F78-C363-47C1-8E70-59D4894895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01BA-E8D4-4692-8812-3D854F9E1D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3CF7-09F1-40CE-9E9C-E310230536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F81-8027-4EE0-9343-ECCCBA5E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35A-1908-47F8-8E47-DBB9B8E1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9D3-16EF-4878-AA36-1BAB049A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D62-35A1-4778-A44B-ED5606E8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2A2-D8CE-4F4F-950A-BB49D5D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4DC-D21E-4B08-A9AD-279120D8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87B-E1C6-4C25-8E88-BBADCC6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1A3-E449-4B80-9ADC-2ED047C3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01F-3395-403F-909A-0A33B62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046-5F04-4D1E-96E3-D0D363D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AF4-8730-47BD-A0F7-6EF53F8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548-6EF9-4A5D-AFA5-CE40B96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6FCB-4596-4CC2-85E6-F673941BBD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840" y="148428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73880" cy="224316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464000" cy="42242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250920" y="47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un triangle, SI un angle inscrit et un angle au centre interceptent le même arc de cercle, ALORS la mesure de l’angle inscrit est égale à la moitié de celle de l’angle au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8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88040" cy="4149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6"/>
          <p:cNvSpPr/>
          <p:nvPr/>
        </p:nvSpPr>
        <p:spPr>
          <a:xfrm>
            <a:off x="1483920" y="328464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ZoneTexte 7"/>
          <p:cNvSpPr/>
          <p:nvPr/>
        </p:nvSpPr>
        <p:spPr>
          <a:xfrm>
            <a:off x="3788280" y="501336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3147120" y="614988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8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01080" cy="416736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 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1042920" y="2743200"/>
            <a:ext cx="741672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32"/>
          <p:cNvGraphicFramePr/>
          <p:nvPr/>
        </p:nvGraphicFramePr>
        <p:xfrm>
          <a:off x="3851280" y="2060640"/>
          <a:ext cx="3301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060640"/>
                    <a:ext cx="330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8275320" cy="22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9"/>
          <p:cNvGraphicFramePr/>
          <p:nvPr/>
        </p:nvGraphicFramePr>
        <p:xfrm>
          <a:off x="3800520" y="2060640"/>
          <a:ext cx="43164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0520" y="2060640"/>
                    <a:ext cx="431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556000" y="2633760"/>
            <a:ext cx="4464000" cy="42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27"/>
          <p:cNvGraphicFramePr/>
          <p:nvPr/>
        </p:nvGraphicFramePr>
        <p:xfrm>
          <a:off x="3780000" y="206064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8804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6"/>
          <p:cNvGraphicFramePr/>
          <p:nvPr/>
        </p:nvGraphicFramePr>
        <p:xfrm>
          <a:off x="3780000" y="2060640"/>
          <a:ext cx="31716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317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900000" y="2689200"/>
            <a:ext cx="7201080" cy="41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29"/>
          <p:cNvGraphicFramePr/>
          <p:nvPr/>
        </p:nvGraphicFramePr>
        <p:xfrm>
          <a:off x="3780000" y="1989000"/>
          <a:ext cx="3301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1989000"/>
                    <a:ext cx="330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41672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6"/>
          <p:cNvSpPr/>
          <p:nvPr/>
        </p:nvSpPr>
        <p:spPr>
          <a:xfrm>
            <a:off x="6595560" y="270828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ZoneTexte 7"/>
          <p:cNvSpPr/>
          <p:nvPr/>
        </p:nvSpPr>
        <p:spPr>
          <a:xfrm>
            <a:off x="3211920" y="49417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ZoneTexte 8"/>
          <p:cNvSpPr/>
          <p:nvPr/>
        </p:nvSpPr>
        <p:spPr>
          <a:xfrm>
            <a:off x="3147120" y="614988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7:49Z</dcterms:modified>
  <cp:revision>25</cp:revision>
  <dc:subject/>
  <dc:title>Diapositive 1</dc:title>
</cp:coreProperties>
</file>