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AA4D-4CCF-4C7A-A671-3E369598A0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0209-25CE-4BB8-977D-2C7E31E8C1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4585-3806-473B-829D-531FA14AFB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C359-790D-4B22-838A-6E959B29C2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99B2-C99D-4885-A661-8DA1CB299C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CEEF-D222-4AE3-878D-9C4847E6E7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C8E3-3EC6-4C83-B0A4-D30D0C59F4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B1DE-1665-4DD5-BD1C-EA99A8EAC4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6476-AD95-4D8A-986A-2B48EF3612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CF82-9DB9-40C6-9D4A-71FC4280D7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DB90-23C7-4EDD-B6C9-7BD34DEDD0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30A8-A498-4D49-AA6A-97D1C85561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35C1-0A46-4DCA-AF9C-7C6CE2E986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C585-41DD-47FF-9F87-01627F02B5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0CFA-F75B-4053-94A6-DA9ED52613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685-5C8F-43D8-BD4B-BD9A6F90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FDA-004C-4534-9D0F-CFAA7DD0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D20-8FBA-4A77-8FAE-AB1F53D4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C60C-7E4E-45AD-86D7-5120D7D9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CAAF-E269-43CE-B3D3-6F820138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578-69FD-4789-8D33-63446E66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2B7-8E7A-4DF2-8342-1DC8719E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D99-283B-4447-B2ED-F687DEEC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462-E161-4C3F-AB43-A6275AAF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EB1-3C8D-43DC-AAAD-2AD8C218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FDA0-E27B-4942-9BF2-50B83644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1A2D-09D9-4FDB-9C47-CF0CB824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2475-C881-485E-A5D5-0B31931D13B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641160" y="1484280"/>
            <a:ext cx="8142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48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7440" y="620640"/>
            <a:ext cx="92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 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8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707080" cy="418788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6"/>
          <p:cNvSpPr/>
          <p:nvPr/>
        </p:nvSpPr>
        <p:spPr>
          <a:xfrm>
            <a:off x="250920" y="5103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deux droites sont parallèles, ALORS toute droite perpendiculaire à l’une est aussi perpendiculaire à l’aut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1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9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260960" cy="430056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6"/>
          <p:cNvSpPr/>
          <p:nvPr/>
        </p:nvSpPr>
        <p:spPr>
          <a:xfrm>
            <a:off x="0" y="52293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un triangle est inscrit dans un cercle de diamètre un de ses côtés, ALORS ce triangle est rect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8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8" descr=""/>
          <p:cNvPicPr/>
          <p:nvPr/>
        </p:nvPicPr>
        <p:blipFill>
          <a:blip r:embed="rId1"/>
          <a:stretch/>
        </p:blipFill>
        <p:spPr>
          <a:xfrm>
            <a:off x="0" y="1268280"/>
            <a:ext cx="9201240" cy="413712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6"/>
          <p:cNvSpPr/>
          <p:nvPr/>
        </p:nvSpPr>
        <p:spPr>
          <a:xfrm>
            <a:off x="365040" y="5732640"/>
            <a:ext cx="84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réciproque du théorème de Pythag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5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8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559120" cy="425448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6"/>
          <p:cNvSpPr/>
          <p:nvPr/>
        </p:nvSpPr>
        <p:spPr>
          <a:xfrm>
            <a:off x="366480" y="5373720"/>
            <a:ext cx="832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somme des mesures des angles d’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iangle vaut 180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2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095480" y="175104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THE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8" descr=""/>
          <p:cNvPicPr/>
          <p:nvPr/>
        </p:nvPicPr>
        <p:blipFill>
          <a:blip r:embed="rId1"/>
          <a:stretch/>
        </p:blipFill>
        <p:spPr>
          <a:xfrm>
            <a:off x="57240" y="2647800"/>
            <a:ext cx="9086760" cy="421020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3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BC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8" descr=""/>
          <p:cNvPicPr/>
          <p:nvPr/>
        </p:nvPicPr>
        <p:blipFill>
          <a:blip r:embed="rId1"/>
          <a:stretch/>
        </p:blipFill>
        <p:spPr>
          <a:xfrm>
            <a:off x="1258920" y="2670120"/>
            <a:ext cx="5708520" cy="418788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3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KPA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9" descr=""/>
          <p:cNvPicPr/>
          <p:nvPr/>
        </p:nvPicPr>
        <p:blipFill>
          <a:blip r:embed="rId1"/>
          <a:stretch/>
        </p:blipFill>
        <p:spPr>
          <a:xfrm>
            <a:off x="2340000" y="2557440"/>
            <a:ext cx="4260960" cy="430056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3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8" descr=""/>
          <p:cNvPicPr/>
          <p:nvPr/>
        </p:nvPicPr>
        <p:blipFill>
          <a:blip r:embed="rId1"/>
          <a:stretch/>
        </p:blipFill>
        <p:spPr>
          <a:xfrm>
            <a:off x="-57240" y="2722680"/>
            <a:ext cx="9201240" cy="413532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3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BC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8" descr=""/>
          <p:cNvPicPr/>
          <p:nvPr/>
        </p:nvPicPr>
        <p:blipFill>
          <a:blip r:embed="rId1"/>
          <a:stretch/>
        </p:blipFill>
        <p:spPr>
          <a:xfrm>
            <a:off x="1619280" y="2603520"/>
            <a:ext cx="5559480" cy="425448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3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15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155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15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15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15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15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8" descr=""/>
          <p:cNvPicPr/>
          <p:nvPr/>
        </p:nvPicPr>
        <p:blipFill>
          <a:blip r:embed="rId1"/>
          <a:stretch/>
        </p:blipFill>
        <p:spPr>
          <a:xfrm>
            <a:off x="57240" y="1341360"/>
            <a:ext cx="9086760" cy="421020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6"/>
          <p:cNvSpPr/>
          <p:nvPr/>
        </p:nvSpPr>
        <p:spPr>
          <a:xfrm>
            <a:off x="366480" y="5373720"/>
            <a:ext cx="832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somme des mesures des angles d’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iangle vaut 180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4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4-13T05:03:17Z</dcterms:modified>
  <cp:revision>26</cp:revision>
  <dc:subject/>
  <dc:title>Diapositive 1</dc:title>
</cp:coreProperties>
</file>