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003A-9EA8-4E4C-A82B-E0C202D2A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6285-D6E0-49D6-8C93-0E6CAADB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51BB-661E-427C-B82D-8939CEF33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8751-4AEC-4A8C-AC96-E3E60F5EE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44F4-7CF8-415A-86ED-62EF09AF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8822-FD32-46CC-A22F-FF8C1D84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D6F5-8784-495A-9F00-4F7D688A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63BE-C9A0-4D81-B5FF-C0149985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E7B1-6A06-49A8-A839-FE857F2C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BBF9-A432-450C-B079-B27CB83F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5696-A45D-4EC6-BACD-21620122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BE5A-A14C-43AA-B4D2-8126E420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3A8C-7AFE-4B33-95CD-CB850AFC048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5-15T06:23:59Z</dcterms:modified>
  <cp:revision>12</cp:revision>
  <dc:subject/>
  <dc:title>Diapositive 1</dc:title>
</cp:coreProperties>
</file>