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A461-A3B5-4A9B-9458-8FE1F335D4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D04A-41B5-4CF9-BB7F-AE6B37DE080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EF91-E1E0-4DB2-B5BD-D837A20F0B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3AC9-0DCB-4D4E-8FE8-E89AA8FEC33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29BA-4885-40FB-8EAA-E434411CE9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4E8D-3132-4A61-950F-59DEFA41F2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8980-62BE-428B-802A-FE0F028BA7E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AF16-42E2-44A9-A097-68F547B160B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8C4D-D187-4FC4-9C97-1FAC55A7F9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4CB1-BF2C-4C64-87FD-FFF07CE4B0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7A11-ACC5-4219-A3C8-F6C17A0C03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AA1C-2D7E-4658-9EEA-871CC91020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B9B9-475B-4DED-A287-D5903635024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B9A4-2CD3-42D0-93A7-6AA74A691ED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3D07-24A6-49DE-A494-320539D3AD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AF3-D4C2-443E-B13F-D00403DA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7A76-2940-45AA-AD9D-8F3F455A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13F5-BF7B-4F45-8220-D8E9396C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165B-E6B2-4F5A-B326-D599F454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1D19-2A95-40A5-BF91-FB9340A2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90EA-DF0E-4AE2-8708-4D2816A0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84A4-4460-4B99-A582-8239C810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E195-ABB8-4CBF-9F8C-826A7974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2710-9DFF-4D4F-83C6-28DDC1F1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2F2D-9529-4695-869E-779D5209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EB4A-DAF9-409F-881D-303981C5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8A7C-3B92-49BF-9537-02F37F39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C497-4C4E-497F-8582-BDBAE66E092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1120" y="1484280"/>
            <a:ext cx="8142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48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8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048720" cy="435132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6"/>
          <p:cNvSpPr/>
          <p:nvPr/>
        </p:nvSpPr>
        <p:spPr>
          <a:xfrm>
            <a:off x="179280" y="510372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SI deux droites sont perpendiculaires à une même droite, ALORS ces deux droites sont parallèles entre el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1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9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321156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6"/>
          <p:cNvSpPr/>
          <p:nvPr/>
        </p:nvSpPr>
        <p:spPr>
          <a:xfrm>
            <a:off x="501480" y="5661000"/>
            <a:ext cx="77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réciproque du théorème de Thalè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8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8" descr=""/>
          <p:cNvPicPr/>
          <p:nvPr/>
        </p:nvPicPr>
        <p:blipFill>
          <a:blip r:embed="rId1"/>
          <a:stretch/>
        </p:blipFill>
        <p:spPr>
          <a:xfrm>
            <a:off x="2987640" y="1268280"/>
            <a:ext cx="2808360" cy="438156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6"/>
          <p:cNvSpPr/>
          <p:nvPr/>
        </p:nvSpPr>
        <p:spPr>
          <a:xfrm>
            <a:off x="179280" y="510372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SI deux droites sont perpendiculaires à une même droite, ALORS ces deux droites sont parallèles entre el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25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8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679560" cy="419580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6"/>
          <p:cNvSpPr/>
          <p:nvPr/>
        </p:nvSpPr>
        <p:spPr>
          <a:xfrm>
            <a:off x="179280" y="510372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SI deux droites sont perpendiculaires à une même droite, ALORS ces deux droites sont parallèles entre el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2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1095480" y="175104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44280" y="126828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les droites (CB) et (ED) sont parallè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8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4457520" cy="429264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3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ZoneTexte 5"/>
          <p:cNvSpPr/>
          <p:nvPr/>
        </p:nvSpPr>
        <p:spPr>
          <a:xfrm>
            <a:off x="44280" y="126828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les droites (PZ) et (XR) sont parallè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8" descr=""/>
          <p:cNvPicPr/>
          <p:nvPr/>
        </p:nvPicPr>
        <p:blipFill>
          <a:blip r:embed="rId1"/>
          <a:stretch/>
        </p:blipFill>
        <p:spPr>
          <a:xfrm>
            <a:off x="1476360" y="2506680"/>
            <a:ext cx="6048360" cy="435132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3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ZoneTexte 5"/>
          <p:cNvSpPr/>
          <p:nvPr/>
        </p:nvSpPr>
        <p:spPr>
          <a:xfrm>
            <a:off x="44280" y="126828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les droites (DE) et (CB) sont parallè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9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321156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3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44280" y="126828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les droites (PZ) et (XR) sont parallè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8" descr=""/>
          <p:cNvPicPr/>
          <p:nvPr/>
        </p:nvPicPr>
        <p:blipFill>
          <a:blip r:embed="rId1"/>
          <a:stretch/>
        </p:blipFill>
        <p:spPr>
          <a:xfrm>
            <a:off x="3132000" y="2476440"/>
            <a:ext cx="2808360" cy="438156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3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ZoneTexte 5"/>
          <p:cNvSpPr/>
          <p:nvPr/>
        </p:nvSpPr>
        <p:spPr>
          <a:xfrm>
            <a:off x="44280" y="126828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les droites (d) et (d’) sont parallè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8" descr=""/>
          <p:cNvPicPr/>
          <p:nvPr/>
        </p:nvPicPr>
        <p:blipFill>
          <a:blip r:embed="rId1"/>
          <a:stretch/>
        </p:blipFill>
        <p:spPr>
          <a:xfrm>
            <a:off x="2195640" y="2664000"/>
            <a:ext cx="3681360" cy="419400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3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155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1155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115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115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15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15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115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115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15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1155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115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115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8" descr=""/>
          <p:cNvPicPr/>
          <p:nvPr/>
        </p:nvPicPr>
        <p:blipFill>
          <a:blip r:embed="rId1"/>
          <a:stretch/>
        </p:blipFill>
        <p:spPr>
          <a:xfrm>
            <a:off x="2340000" y="1341360"/>
            <a:ext cx="4457520" cy="429264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6"/>
          <p:cNvSpPr/>
          <p:nvPr/>
        </p:nvSpPr>
        <p:spPr>
          <a:xfrm>
            <a:off x="501480" y="5661000"/>
            <a:ext cx="77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réciproque du théorème de Thalè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04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4-13T05:05:23Z</dcterms:modified>
  <cp:revision>29</cp:revision>
  <dc:subject/>
  <dc:title>Diapositive 1</dc:title>
</cp:coreProperties>
</file>