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3AA-4658-4A28-9D06-007CC53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AFB-86E0-4B99-8612-0247652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CEE-7024-4413-A5C3-8C14FB86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AD0-ECE8-4A2F-842C-A9DAA056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AFA-BC2A-45B9-8FAB-54B2887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5E3-7FE1-4301-8807-69704DB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E75-59AE-47D6-B940-2D61AD0F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4EC-1855-420F-873C-0655E4A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846-1FAF-4070-BAEB-8687F7A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82D-C205-46C6-BC15-06DA447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2F0-2A71-470E-9D69-39B4C76F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45A-F039-4230-B191-98B812D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5377-B423-42E9-8464-981CA7CC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0880" y="1787400"/>
            <a:ext cx="785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ris à l’aide de symboles mathéma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8520" y="1284120"/>
            <a:ext cx="69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EF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4364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1341360"/>
            <a:ext cx="54338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241128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1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58640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268360" y="5156280"/>
          <a:ext cx="473724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7372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16560" cy="396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268360" y="5156280"/>
          <a:ext cx="4584960" cy="17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156280"/>
                    <a:ext cx="4584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0160" cy="449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91240" y="587700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486320" cy="4843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9960" y="602136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BC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ocè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07080" cy="450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6000" y="5734080"/>
            <a:ext cx="90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 droite (d) est l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édiatric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u segment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89600" y="2003400"/>
            <a:ext cx="71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 La droite (ST) est perpendiculaire 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GH) 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71640" y="3933720"/>
          <a:ext cx="410220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41022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464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35960" y="595008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FG est un triang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tangle en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1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440" y="14130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4520" y="1355760"/>
            <a:ext cx="76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2894" r="0" b="12894"/>
          <a:stretch/>
        </p:blipFill>
        <p:spPr>
          <a:xfrm>
            <a:off x="1692360" y="2637000"/>
            <a:ext cx="5757840" cy="403992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86400" cy="3814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413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une configuration de Thalès, écr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égalités de rapport correspond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416560" cy="39668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3710160" cy="44942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880" y="1355760"/>
            <a:ext cx="70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lle est la nature du triangle AB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2014560"/>
            <a:ext cx="4486320" cy="4843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07080" cy="450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1427040"/>
            <a:ext cx="925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Que représente la droite (d) pour le segment [AB]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18:33:38Z</dcterms:modified>
  <cp:revision>27</cp:revision>
  <dc:subject/>
  <dc:title>Diapositive 1</dc:title>
</cp:coreProperties>
</file>