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97BA-7663-4624-80FB-7435230427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AA0-5E36-4306-BA40-4371885B2B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7EFA-E51F-4BBC-8C9E-F0FE16BEE8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5B3-18E6-4FB2-B188-44501575E9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5DE0-CB58-4859-A02B-97C2707105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9B0-FF2E-413D-BBFB-E8F770DE31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C1F-E02A-4947-A278-FB698B96CF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8B4B-A2E7-40F4-83B6-041168C8C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A15-B2D1-4D2A-B9DD-2F0EF19AC4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1B73-EEA7-4D4B-B52D-85DBCFACF5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7E7-5815-4836-AEF9-A9CA082FD0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8ED-C37E-46FD-8B0B-CC64698501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E00-9EB0-48A1-A224-23E4558A18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05A-1BB7-42FD-8360-AA1C054ADE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48D-F5B2-4816-8438-A5C3D351AA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B51-FAA6-4EDC-89DD-02F6B15752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6A6B-EE56-4F9E-A6FD-E8986AFB15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BF5-E961-4329-A837-E2CFFD71A4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0789-C675-4757-B253-A29734B4E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24DD-7D12-495B-BCB8-E9C1470232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305-66D1-4A3D-9DCA-E662446AD9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43AB-89D4-4A15-B69A-BF65E4FBAF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CE81-3A06-4DF6-ACAC-590D7191CE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FC2-5A0C-4D4E-B272-479DD76CBF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5D5-1905-4154-9C10-9C859D8568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4F50-533C-4D24-8ED8-D3652971C2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E96-622A-4392-A01F-B0940E1A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510-C98D-4DBB-8319-EF72AB2F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685-D3ED-45F1-A69B-25F196D0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65B-072C-46A3-AC80-64368668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56B-DD06-4973-BAAC-10F40B0A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5FD-31B2-47B2-B50A-8C27D7B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D2F-25A2-4DF9-9C26-D4B5AFF2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509-6D1E-46F2-9EFE-F970C64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C37-1D94-4FB7-BE12-786ED06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834-B290-4E00-9B0B-9336B72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5D8-2EA7-4D1D-9A49-6EAB209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C80-EF1B-4D53-A399-112D2A5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D742-19BF-43AA-8F3F-D9FE149A5D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716360" y="1557360"/>
          <a:ext cx="1003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1003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800600" y="3573360"/>
          <a:ext cx="97776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73360"/>
                    <a:ext cx="9777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162320" y="1989000"/>
          <a:ext cx="24764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2320" y="1989000"/>
                    <a:ext cx="2476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168800" y="4076640"/>
          <a:ext cx="24638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4076640"/>
                    <a:ext cx="2463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572000" y="1916280"/>
          <a:ext cx="58428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584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716360" y="4076640"/>
          <a:ext cx="5716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76640"/>
                    <a:ext cx="5716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286080" y="2054160"/>
          <a:ext cx="2997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4160"/>
                    <a:ext cx="2997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65640" y="4149720"/>
          <a:ext cx="2946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4149720"/>
                    <a:ext cx="2946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41964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419640" y="4149720"/>
          <a:ext cx="387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87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78200" y="1628640"/>
          <a:ext cx="26668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628640"/>
                    <a:ext cx="26668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30720" y="3573360"/>
          <a:ext cx="39240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0720" y="3573360"/>
                    <a:ext cx="3924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797280" y="1557360"/>
          <a:ext cx="29718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7280" y="1557360"/>
                    <a:ext cx="29718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670200" y="3645000"/>
          <a:ext cx="32004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3645000"/>
                    <a:ext cx="32004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427640" y="1557360"/>
          <a:ext cx="186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186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495680" y="3645000"/>
          <a:ext cx="1854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645000"/>
                    <a:ext cx="1854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151080" y="1989000"/>
          <a:ext cx="41403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989000"/>
                    <a:ext cx="41403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16240" y="414972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6240" y="414972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151080" y="1773360"/>
          <a:ext cx="41022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73360"/>
                    <a:ext cx="4102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151080" y="3789360"/>
          <a:ext cx="41148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3789360"/>
                    <a:ext cx="411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84760" y="1557360"/>
          <a:ext cx="26668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55736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68640" y="3573360"/>
          <a:ext cx="264168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3573360"/>
                    <a:ext cx="26416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348000" y="1989000"/>
          <a:ext cx="41911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41911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305160" y="4076640"/>
          <a:ext cx="4191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4076640"/>
                    <a:ext cx="4191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90800" y="1916280"/>
          <a:ext cx="21463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916280"/>
                    <a:ext cx="2146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4149720"/>
          <a:ext cx="2133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33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9"/>
          <p:cNvGraphicFramePr/>
          <p:nvPr/>
        </p:nvGraphicFramePr>
        <p:xfrm>
          <a:off x="3851280" y="2060640"/>
          <a:ext cx="186696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18669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0"/>
          <p:cNvGraphicFramePr/>
          <p:nvPr/>
        </p:nvGraphicFramePr>
        <p:xfrm>
          <a:off x="3924360" y="4149720"/>
          <a:ext cx="18288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182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851280" y="2060640"/>
          <a:ext cx="2387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3851280" y="4221000"/>
          <a:ext cx="2387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387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1628640"/>
          <a:ext cx="151128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28640"/>
                    <a:ext cx="15112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3573360"/>
          <a:ext cx="1473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473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1557360"/>
          <a:ext cx="1422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7360"/>
                    <a:ext cx="1422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438800" y="3645000"/>
          <a:ext cx="16635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3645000"/>
                    <a:ext cx="1663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564000" y="1557360"/>
          <a:ext cx="38606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3860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498840" y="3645000"/>
          <a:ext cx="38480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64500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995640" y="1989000"/>
          <a:ext cx="24512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4512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067280" y="4149720"/>
          <a:ext cx="24890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489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211640" y="1773360"/>
          <a:ext cx="19810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81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211640" y="3789360"/>
          <a:ext cx="19940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199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8-29T16:21:25Z</dcterms:modified>
  <cp:revision>19</cp:revision>
  <dc:subject/>
  <dc:title>Diapositive 1</dc:title>
</cp:coreProperties>
</file>