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F850-74AA-4939-AD12-15E3DFE04C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6B29-0659-4437-ADE7-C1D1CDE496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6736-3CE2-45DE-99B6-8AF4B1A1AC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337C-3DEC-45BF-B709-6F74F99AA6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2B45-A4F6-423E-861D-2C1A2C792C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330C-26C4-4F24-8B09-0855BC02E1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D8B0-E5BA-4F37-94DD-E34F24F4A5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79BD-6D27-4E96-804B-B7EF92B945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AA21-FFD7-4DCF-A8DC-8E643853A2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9D25-F662-44D3-970D-A1E8EA0EBC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DA6B-D042-46D1-AAA2-FD490F8AB1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6AFA-D0D7-4AAB-AA7B-6CB9E85F28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A641-AD69-436B-912B-71A77DC901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07C0-3F1A-460D-A068-8BD1CC4E5E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78C5-5DD8-4245-A371-932B5F19AE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58C9-5F3B-461A-9D6C-47D7EC58D1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89CA-9B21-44EA-B2B1-E254FA4253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9137-704B-4A84-B6C7-CCB1938304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4442-8E80-4A75-8611-524CDFBCB2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ECEC-48FA-4898-BD55-EA221B9B26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7ED0-7606-4F22-A67C-7BF3A27640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3056-BDDF-43FF-B877-8E703334E8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5595-A7FD-41FB-B24C-7FAE7CFAE6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0F7B-0FAE-4C48-9FF9-958C319252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169D-2507-46EE-9FA7-6E81EF1C58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6F5-647C-4914-B1C3-BDEB7061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495-7F08-434B-B8A2-C275AF67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7D5A-AD0A-43A0-9920-6DE5C3B3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44D-B34B-4C83-B2FD-318E8EDE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CFF-41D3-437E-8A2F-F7681A4B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26D-1510-40C1-978F-0B4D6ABE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A8C7-948F-483A-850E-ABE4B967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80B-09F4-41A9-AB0B-4E4B07DA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060-9A43-4DA9-87D7-6F078881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826-5B32-447B-8078-865E3C65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A42-717E-4594-B8A5-4E3AADF3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E21-B226-4288-8C46-A7253CB7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587A-48C7-4DD1-8B1C-A46908F9B80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3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28"/>
          <p:cNvGraphicFramePr/>
          <p:nvPr/>
        </p:nvGraphicFramePr>
        <p:xfrm>
          <a:off x="5076720" y="6021360"/>
          <a:ext cx="3812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33"/>
          <p:cNvSpPr/>
          <p:nvPr/>
        </p:nvSpPr>
        <p:spPr>
          <a:xfrm>
            <a:off x="1636920" y="587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ta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9"/>
          <p:cNvSpPr/>
          <p:nvPr/>
        </p:nvSpPr>
        <p:spPr>
          <a:xfrm>
            <a:off x="250920" y="134136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TP est un triangle rectangle en T, écr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8" descr=""/>
          <p:cNvPicPr/>
          <p:nvPr/>
        </p:nvPicPr>
        <p:blipFill>
          <a:blip r:embed="rId1"/>
          <a:stretch/>
        </p:blipFill>
        <p:spPr>
          <a:xfrm>
            <a:off x="2700360" y="2617920"/>
            <a:ext cx="3645000" cy="4240080"/>
          </a:xfrm>
          <a:prstGeom prst="rect">
            <a:avLst/>
          </a:prstGeom>
          <a:ln w="0">
            <a:noFill/>
          </a:ln>
        </p:spPr>
      </p:pic>
    </p:spTree>
  </p:cSld>
  <p:transition spd="med" advTm="2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4"/>
          <p:cNvGraphicFramePr/>
          <p:nvPr/>
        </p:nvGraphicFramePr>
        <p:xfrm>
          <a:off x="3132000" y="5445000"/>
          <a:ext cx="210816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5445000"/>
                    <a:ext cx="21081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954160" y="5589720"/>
          <a:ext cx="2032200" cy="104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4160" y="5589720"/>
                    <a:ext cx="20322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32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4"/>
          <p:cNvGraphicFramePr/>
          <p:nvPr/>
        </p:nvGraphicFramePr>
        <p:xfrm>
          <a:off x="2922480" y="5589720"/>
          <a:ext cx="2095560" cy="104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22480" y="5589720"/>
                    <a:ext cx="209556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4"/>
          <p:cNvGraphicFramePr/>
          <p:nvPr/>
        </p:nvGraphicFramePr>
        <p:xfrm>
          <a:off x="3059280" y="5516640"/>
          <a:ext cx="204444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5516640"/>
                    <a:ext cx="20444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4"/>
          <p:cNvGraphicFramePr/>
          <p:nvPr/>
        </p:nvGraphicFramePr>
        <p:xfrm>
          <a:off x="3078000" y="5516640"/>
          <a:ext cx="200664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78000" y="5516640"/>
                    <a:ext cx="20066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Object 4"/>
          <p:cNvGraphicFramePr/>
          <p:nvPr/>
        </p:nvGraphicFramePr>
        <p:xfrm>
          <a:off x="2843280" y="5516640"/>
          <a:ext cx="204480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5516640"/>
                    <a:ext cx="20448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3"/>
          <p:cNvSpPr/>
          <p:nvPr/>
        </p:nvSpPr>
        <p:spPr>
          <a:xfrm>
            <a:off x="1637640" y="58770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cos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34"/>
          <p:cNvGraphicFramePr/>
          <p:nvPr/>
        </p:nvGraphicFramePr>
        <p:xfrm>
          <a:off x="5076720" y="595008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595008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4"/>
          <p:cNvGraphicFramePr/>
          <p:nvPr/>
        </p:nvGraphicFramePr>
        <p:xfrm>
          <a:off x="3276720" y="5373720"/>
          <a:ext cx="215892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5373720"/>
                    <a:ext cx="21589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Object 4"/>
          <p:cNvGraphicFramePr/>
          <p:nvPr/>
        </p:nvGraphicFramePr>
        <p:xfrm>
          <a:off x="3308400" y="5373720"/>
          <a:ext cx="209556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8400" y="5373720"/>
                    <a:ext cx="20955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4"/>
          <p:cNvGraphicFramePr/>
          <p:nvPr/>
        </p:nvGraphicFramePr>
        <p:xfrm>
          <a:off x="3289320" y="5373720"/>
          <a:ext cx="213372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9320" y="5373720"/>
                    <a:ext cx="21337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2748960" y="5661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P² = RT² + TP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6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645000" cy="424044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3"/>
          <p:cNvSpPr/>
          <p:nvPr/>
        </p:nvSpPr>
        <p:spPr>
          <a:xfrm>
            <a:off x="1637280" y="58770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si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8"/>
          <p:cNvGraphicFramePr/>
          <p:nvPr/>
        </p:nvGraphicFramePr>
        <p:xfrm>
          <a:off x="5076720" y="595008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595008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73960" cy="433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26"/>
          <p:cNvGraphicFramePr/>
          <p:nvPr/>
        </p:nvGraphicFramePr>
        <p:xfrm>
          <a:off x="5076720" y="595008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595008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33"/>
          <p:cNvSpPr/>
          <p:nvPr/>
        </p:nvSpPr>
        <p:spPr>
          <a:xfrm>
            <a:off x="1636920" y="587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ta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645000" cy="4240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3"/>
          <p:cNvSpPr/>
          <p:nvPr/>
        </p:nvSpPr>
        <p:spPr>
          <a:xfrm>
            <a:off x="1638360" y="5877000"/>
            <a:ext cx="36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cos 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26"/>
          <p:cNvGraphicFramePr/>
          <p:nvPr/>
        </p:nvGraphicFramePr>
        <p:xfrm>
          <a:off x="5076720" y="602136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64464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Object 28"/>
          <p:cNvGraphicFramePr/>
          <p:nvPr/>
        </p:nvGraphicFramePr>
        <p:xfrm>
          <a:off x="5076720" y="602136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33"/>
          <p:cNvSpPr/>
          <p:nvPr/>
        </p:nvSpPr>
        <p:spPr>
          <a:xfrm>
            <a:off x="1637280" y="58770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si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364500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28"/>
          <p:cNvGraphicFramePr/>
          <p:nvPr/>
        </p:nvGraphicFramePr>
        <p:xfrm>
          <a:off x="5076720" y="6021360"/>
          <a:ext cx="3304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3"/>
          <p:cNvSpPr/>
          <p:nvPr/>
        </p:nvSpPr>
        <p:spPr>
          <a:xfrm>
            <a:off x="1636920" y="587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ta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3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3"/>
          <p:cNvSpPr/>
          <p:nvPr/>
        </p:nvSpPr>
        <p:spPr>
          <a:xfrm>
            <a:off x="1638360" y="5877000"/>
            <a:ext cx="36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cos d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28"/>
          <p:cNvGraphicFramePr/>
          <p:nvPr/>
        </p:nvGraphicFramePr>
        <p:xfrm>
          <a:off x="5076720" y="6021360"/>
          <a:ext cx="3812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01488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39"/>
          <p:cNvGraphicFramePr/>
          <p:nvPr/>
        </p:nvGraphicFramePr>
        <p:xfrm>
          <a:off x="5076720" y="6021360"/>
          <a:ext cx="3812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6021360"/>
                    <a:ext cx="38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33"/>
          <p:cNvSpPr/>
          <p:nvPr/>
        </p:nvSpPr>
        <p:spPr>
          <a:xfrm>
            <a:off x="1637280" y="587700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e si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0-11-19T02:33:06Z</dcterms:modified>
  <cp:revision>21</cp:revision>
  <dc:subject/>
  <dc:title>Diapositive 1</dc:title>
</cp:coreProperties>
</file>