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23FB-FAE3-4D04-9347-9F7C5B08E2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56A3-3A2B-4A74-90D0-DC477D087C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EC6A-03C8-4D8C-84C7-E1339E3E33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52C-902D-40C6-97CF-8A43E12305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D554-F8DB-4989-ABCA-7463EDD9F1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5244-B341-4A52-B169-A8116985F1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4E1-1223-48A8-969B-5E537BD4C3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0DC6-B565-45D7-B66D-59E090B7C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BDF7-18AA-49CA-B31E-932B0E2BF1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CC92-B839-4A0A-A5A2-C20A9106FA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209A-10A5-4E52-B469-F39B8D298F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537C-5301-4EDF-B69C-A7E4392855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8F3E-6A24-4A1A-BB00-97E99A0518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DCB6-AB46-48A9-9A3C-6ADD7C946C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EA9-6E2D-44B3-B010-E2C2EB22EE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EB0E-32C7-46BB-8FAF-9B6D68C9B6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AD2-52BA-46D8-9212-8E290CCD55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2C8F-C8AB-46DC-81C2-FFEE245A71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74D-328C-4F08-8C67-99CE775E57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0805-1257-498D-818C-963F8370C8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2A03-2D52-4D07-BCC2-388DF4BD30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A79E-2D11-4CD1-AB5E-6ECFB3FFD0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5B7D-7EEF-4567-BFAC-A1E98DC34A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764-F8FA-40AD-9CD3-5FE2BEA6F8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47F-6A0A-4B52-832C-FBD451D6E1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972-620E-4717-86DC-BCBCC249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47A-AC16-4F38-AF1D-723FB304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C94-A42C-44BF-8246-58B8E2B2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22C-4CC7-430B-9BD7-D0EDDFA7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120-C4A9-4216-B79E-6095672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0B1-76F1-439C-A816-9F41A17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E66-0215-4139-831F-BEE31377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48E-ABBE-4822-9D6F-FB34C12F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1A6-4D39-4338-85CC-46C8C2EF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704-893C-42FB-B835-86B2E3D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96E-2C98-44BC-B7D8-02155DB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F89-6763-477D-9D94-9AF6565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3CBF-7786-4710-BD08-4BB5FD0AA0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692360" y="2465280"/>
            <a:ext cx="516096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979640" y="2825640"/>
            <a:ext cx="4773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4"/>
          <p:cNvSpPr/>
          <p:nvPr/>
        </p:nvSpPr>
        <p:spPr>
          <a:xfrm>
            <a:off x="222480" y="1773360"/>
            <a:ext cx="80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l’angle         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732720" y="177336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77336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2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305680" cy="39243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4"/>
          <p:cNvSpPr/>
          <p:nvPr/>
        </p:nvSpPr>
        <p:spPr>
          <a:xfrm>
            <a:off x="25200" y="580536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5724360" y="5877000"/>
          <a:ext cx="9399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877000"/>
                    <a:ext cx="939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5"/>
          <p:cNvGraphicFramePr/>
          <p:nvPr/>
        </p:nvGraphicFramePr>
        <p:xfrm>
          <a:off x="7380360" y="587700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87700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30524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4"/>
          <p:cNvSpPr/>
          <p:nvPr/>
        </p:nvSpPr>
        <p:spPr>
          <a:xfrm>
            <a:off x="19800" y="5445000"/>
            <a:ext cx="80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gle au centre associé à         es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580000" y="5516640"/>
          <a:ext cx="9907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5516640"/>
                    <a:ext cx="990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7380360" y="5516640"/>
          <a:ext cx="9396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551664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01948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4"/>
          <p:cNvGraphicFramePr/>
          <p:nvPr/>
        </p:nvGraphicFramePr>
        <p:xfrm>
          <a:off x="3780000" y="5732640"/>
          <a:ext cx="200628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5732640"/>
                    <a:ext cx="2006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6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238720" cy="48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5312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4"/>
          <p:cNvGraphicFramePr/>
          <p:nvPr/>
        </p:nvGraphicFramePr>
        <p:xfrm>
          <a:off x="3451320" y="6054840"/>
          <a:ext cx="24382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1320" y="6054840"/>
                    <a:ext cx="24382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4"/>
          <p:cNvGraphicFramePr/>
          <p:nvPr/>
        </p:nvGraphicFramePr>
        <p:xfrm>
          <a:off x="3635280" y="6093000"/>
          <a:ext cx="207036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6093000"/>
                    <a:ext cx="207036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305320" cy="39243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3"/>
          <p:cNvGraphicFramePr/>
          <p:nvPr/>
        </p:nvGraphicFramePr>
        <p:xfrm>
          <a:off x="7308720" y="1916280"/>
          <a:ext cx="1079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916280"/>
                    <a:ext cx="1079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114800" cy="428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4"/>
          <p:cNvGraphicFramePr/>
          <p:nvPr/>
        </p:nvGraphicFramePr>
        <p:xfrm>
          <a:off x="3457440" y="6054840"/>
          <a:ext cx="242568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7440" y="6054840"/>
                    <a:ext cx="24256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533840" cy="451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4"/>
          <p:cNvGraphicFramePr/>
          <p:nvPr/>
        </p:nvGraphicFramePr>
        <p:xfrm>
          <a:off x="3641760" y="6093000"/>
          <a:ext cx="2057400" cy="54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1760" y="6093000"/>
                    <a:ext cx="20574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0" t="0" r="57663" b="33867"/>
          <a:stretch/>
        </p:blipFill>
        <p:spPr>
          <a:xfrm>
            <a:off x="1979640" y="1268280"/>
            <a:ext cx="516240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4"/>
          <p:cNvGraphicFramePr/>
          <p:nvPr/>
        </p:nvGraphicFramePr>
        <p:xfrm>
          <a:off x="3708360" y="5805360"/>
          <a:ext cx="20192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805360"/>
                    <a:ext cx="2019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77360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4"/>
          <p:cNvGraphicFramePr/>
          <p:nvPr/>
        </p:nvGraphicFramePr>
        <p:xfrm>
          <a:off x="3714840" y="5805360"/>
          <a:ext cx="20066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14840" y="5805360"/>
                    <a:ext cx="2006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8960" y="1916280"/>
            <a:ext cx="91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gle au centre associé à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30524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9"/>
          <p:cNvGraphicFramePr/>
          <p:nvPr/>
        </p:nvGraphicFramePr>
        <p:xfrm>
          <a:off x="7380360" y="184464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184464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6" descr=""/>
          <p:cNvPicPr/>
          <p:nvPr/>
        </p:nvPicPr>
        <p:blipFill>
          <a:blip r:embed="rId1"/>
          <a:stretch/>
        </p:blipFill>
        <p:spPr>
          <a:xfrm>
            <a:off x="2124000" y="2695680"/>
            <a:ext cx="5019840" cy="41623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1011600" y="1557360"/>
            <a:ext cx="71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7"/>
          <p:cNvGraphicFramePr/>
          <p:nvPr/>
        </p:nvGraphicFramePr>
        <p:xfrm>
          <a:off x="6227640" y="1557360"/>
          <a:ext cx="107964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1079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979640" y="2028960"/>
            <a:ext cx="523872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2943360"/>
            <a:ext cx="4352760" cy="39146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627280" y="3162240"/>
            <a:ext cx="367668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484360" y="2571840"/>
            <a:ext cx="4114800" cy="42861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95640" y="2343240"/>
            <a:ext cx="4533840" cy="45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7"/>
          <p:cNvGraphicFramePr/>
          <p:nvPr/>
        </p:nvGraphicFramePr>
        <p:xfrm>
          <a:off x="5940360" y="1341360"/>
          <a:ext cx="1143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341360"/>
                    <a:ext cx="1143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ZoneTexte 6"/>
          <p:cNvSpPr/>
          <p:nvPr/>
        </p:nvSpPr>
        <p:spPr>
          <a:xfrm>
            <a:off x="1008000" y="134136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mesure de         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18:15:30Z</dcterms:modified>
  <cp:revision>27</cp:revision>
  <dc:subject/>
  <dc:title>Diapositive 1</dc:title>
</cp:coreProperties>
</file>