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png" ContentType="image/png"/>
  <Override PartName="/ppt/media/image1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0713-D841-404A-9908-CD4EDA3FA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C56A-7DC3-4894-8196-6FB01168F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329E-6A6B-4C4C-80B5-A4C867D2D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D56F-3A73-408F-8625-80BA375F7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9824-4560-40BE-A606-692458338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72C1-7232-4198-9E7E-8A583ADF2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CC2D-6D13-48B6-8252-6D2C80B71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FC1E-531B-4778-8824-BD34ED983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8D26-FE74-4409-8B50-22916EDD8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3C08-ED4E-4DA0-A55F-EA9B11F2B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673E-5897-4399-BE4E-DB8050B02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6E66-3F31-466A-8F58-AE2A6972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C367A-34B8-4402-A5B1-E0FCBD8F78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0800" y="1484280"/>
            <a:ext cx="898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Activités mentales 3</a:t>
            </a:r>
            <a:r>
              <a:rPr b="1" lang="en-US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 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52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692360" y="1989000"/>
            <a:ext cx="5218200" cy="4697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29040" y="1413000"/>
            <a:ext cx="827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elle est la nature du quadrilatère ANB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7" dur="10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843280" y="2060640"/>
            <a:ext cx="3894120" cy="46940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51080" y="1284120"/>
            <a:ext cx="77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elles sont les coordonnées du point 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4" dur="10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155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1155" fill="hold"/>
                                        <p:tgtEl>
                                          <p:spTgt spid="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115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115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692360" y="1341360"/>
            <a:ext cx="6014880" cy="41148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774520" y="5661000"/>
            <a:ext cx="400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DE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t l’hypoténu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9" dur="5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63640" y="1341360"/>
            <a:ext cx="6015240" cy="4114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751480" y="5460840"/>
            <a:ext cx="339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DE² = DC² + CE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cover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6" dur="15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771640" y="1413000"/>
            <a:ext cx="3645000" cy="42400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702520" y="5661000"/>
            <a:ext cx="38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RP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est l’hypotén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3" dur="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700360" y="1341360"/>
            <a:ext cx="3645000" cy="42404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916360" y="5661000"/>
            <a:ext cx="324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RP² = RT² + TP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cover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0" dur="15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556000" y="1268280"/>
            <a:ext cx="3616200" cy="3791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2268360" y="5168880"/>
          <a:ext cx="4712040" cy="1689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68360" y="5168880"/>
                    <a:ext cx="4712040" cy="16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7" dur="1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547640" y="1268280"/>
            <a:ext cx="6002640" cy="3981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5" name=""/>
          <p:cNvGraphicFramePr/>
          <p:nvPr/>
        </p:nvGraphicFramePr>
        <p:xfrm>
          <a:off x="2340000" y="5168880"/>
          <a:ext cx="4825800" cy="1689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40000" y="5168880"/>
                    <a:ext cx="4825800" cy="16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4" dur="15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63640" y="2565360"/>
            <a:ext cx="6015240" cy="4114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3080" y="1139760"/>
            <a:ext cx="8908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DE est un triangle rectangle en C, quelle est l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ypoténus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" dur="10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3592" r="0" b="0"/>
          <a:stretch/>
        </p:blipFill>
        <p:spPr>
          <a:xfrm>
            <a:off x="1547640" y="1268280"/>
            <a:ext cx="6356520" cy="45594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06000" y="5891040"/>
            <a:ext cx="481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’angle         mesure </a:t>
            </a: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65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835280" y="5950080"/>
          <a:ext cx="1008000" cy="492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35280" y="5950080"/>
                    <a:ext cx="100800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1" dur="10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619280" y="1268280"/>
            <a:ext cx="5938920" cy="4157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61640" y="5386320"/>
            <a:ext cx="447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’angle      mesure </a:t>
            </a: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41°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3080" y="6021360"/>
            <a:ext cx="576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r 75+64=139 et 180-139=4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692360" y="5445000"/>
          <a:ext cx="520560" cy="43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92360" y="5445000"/>
                    <a:ext cx="52056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8" dur="5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050920" y="1268280"/>
            <a:ext cx="5218200" cy="46976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342160" y="5950080"/>
            <a:ext cx="46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ANBM est un 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rectang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9" dur="10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843280" y="1268280"/>
            <a:ext cx="3894120" cy="46944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880" y="5805360"/>
            <a:ext cx="89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s coordonnées de A sont 1; 2. On note </a:t>
            </a: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A(1;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6" dur="10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45040" y="1341360"/>
            <a:ext cx="764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DE est un triangle rectangle en C, écr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’égalité de Pythagore correspondan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63640" y="2565360"/>
            <a:ext cx="6015240" cy="4114800"/>
          </a:xfrm>
          <a:prstGeom prst="rect">
            <a:avLst/>
          </a:prstGeom>
          <a:ln w="0">
            <a:noFill/>
          </a:ln>
        </p:spPr>
      </p:pic>
    </p:spTree>
  </p:cSld>
  <p:transition advTm="23000">
    <p:cover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" dur="20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627280" y="2421000"/>
            <a:ext cx="3645000" cy="4240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24200" y="1139760"/>
            <a:ext cx="880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RTP est un triangle rectangle en T, quelle est l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hypoténus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" dur="10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700360" y="2617920"/>
            <a:ext cx="3645000" cy="42400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50920" y="1341360"/>
            <a:ext cx="86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TP est un triangle rectangle en T, écr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’égalité de Pythagore correspondan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3000">
    <p:cover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2" dur="20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9400" y="126828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ici une configuration de Thalès, écris 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égalités de rapport correspondan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556000" y="2529000"/>
            <a:ext cx="4128840" cy="4329000"/>
          </a:xfrm>
          <a:prstGeom prst="rect">
            <a:avLst/>
          </a:prstGeom>
          <a:ln w="0">
            <a:noFill/>
          </a:ln>
        </p:spPr>
      </p:pic>
    </p:spTree>
  </p:cSld>
  <p:transition advTm="23000">
    <p:cover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" dur="20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9400" y="126828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ici une configuration de Thalès, écris 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égalités de rapport correspondan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763640" y="2492280"/>
            <a:ext cx="6218280" cy="412452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rcRect l="0" t="3592" r="0" b="0"/>
          <a:stretch/>
        </p:blipFill>
        <p:spPr>
          <a:xfrm>
            <a:off x="1619280" y="2298600"/>
            <a:ext cx="6356160" cy="4559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29040" y="1484280"/>
            <a:ext cx="728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elle est la mesure de l’angle          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156360" y="1484280"/>
          <a:ext cx="1008000" cy="492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56360" y="1484280"/>
                    <a:ext cx="100800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3" dur="15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619280" y="2276640"/>
            <a:ext cx="6453000" cy="451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81240" y="1355760"/>
            <a:ext cx="659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elle est la mesure de l’angle    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227640" y="1413000"/>
          <a:ext cx="520920" cy="43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27640" y="1413000"/>
                    <a:ext cx="52092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23000">
    <p:cover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0" dur="20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JESS</cp:lastModifiedBy>
  <dcterms:modified xsi:type="dcterms:W3CDTF">2010-05-18T01:11:39Z</dcterms:modified>
  <cp:revision>23</cp:revision>
  <dc:subject/>
  <dc:title>Diapositive 1</dc:title>
</cp:coreProperties>
</file>