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B80-649C-49EE-8454-3F4616BD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CA4-C6E9-4F6F-A4C5-F0E16D40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2AE-AEB3-44CF-917E-D7A39BF9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04E-5611-4615-B6E9-D97C3819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801-DC85-4554-9ACB-52973633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17D-E1B2-4243-8899-8E6D0B6C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896-9D39-4FD7-9FFA-C0BFB766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135-9621-4473-9CB2-3F8D6623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D59-C582-48B2-BD8C-33D6D109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B47-4B05-4749-BD9E-BCDEEC1A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737-AFC7-4F0F-8831-85939767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140-8D90-48F6-A766-4693BC6B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5B3E-D0FB-4C33-884E-31BCC3D87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51280" y="1989000"/>
          <a:ext cx="2628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62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924360" y="4076640"/>
          <a:ext cx="23241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3241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64000" y="2133720"/>
          <a:ext cx="31622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133720"/>
                    <a:ext cx="3162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479760" y="4076640"/>
          <a:ext cx="318780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9760" y="4076640"/>
                    <a:ext cx="31878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708360" y="2133720"/>
          <a:ext cx="2679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679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635280" y="4149720"/>
          <a:ext cx="2629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629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2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780000" y="1557360"/>
          <a:ext cx="29588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557360"/>
                    <a:ext cx="29588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780000" y="3645000"/>
          <a:ext cx="265428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645000"/>
                    <a:ext cx="2654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492360" y="2060640"/>
          <a:ext cx="3772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772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348000" y="4221000"/>
          <a:ext cx="38610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8610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92360" y="1844640"/>
          <a:ext cx="36324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44640"/>
                    <a:ext cx="36324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276720" y="4149720"/>
          <a:ext cx="41400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1400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2004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1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42 sont 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6, 7, 14, 21, 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48 sont 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4, 6, 8, 12, 16, 24, 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0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03640" y="1989000"/>
          <a:ext cx="45082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5082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348000" y="4149720"/>
          <a:ext cx="37465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7465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132000" y="2205000"/>
          <a:ext cx="4521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205000"/>
                    <a:ext cx="452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132000" y="4221000"/>
          <a:ext cx="4546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221000"/>
                    <a:ext cx="4546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9528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655640"/>
                <a:gridCol w="6842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84360" y="1989000"/>
          <a:ext cx="565164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989000"/>
                    <a:ext cx="56516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771640" y="4005360"/>
          <a:ext cx="50166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4005360"/>
                    <a:ext cx="5016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8000" y="1916280"/>
          <a:ext cx="68328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16280"/>
                    <a:ext cx="6832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5640" y="4076640"/>
          <a:ext cx="62229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62229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03640" y="2060640"/>
          <a:ext cx="43052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060640"/>
                    <a:ext cx="4305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203640" y="4149720"/>
          <a:ext cx="42796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2796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1397160"/>
          <a:ext cx="628812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680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132000" y="2060640"/>
          <a:ext cx="4559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4559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203640" y="4149720"/>
          <a:ext cx="4521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52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27640" y="1700280"/>
          <a:ext cx="14983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700280"/>
                    <a:ext cx="1498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356000" y="3573360"/>
          <a:ext cx="15112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511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067280" y="2133720"/>
          <a:ext cx="2361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133720"/>
                    <a:ext cx="2361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95640" y="4149720"/>
          <a:ext cx="2730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84720" y="1844640"/>
          <a:ext cx="17650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844640"/>
                    <a:ext cx="1765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851280" y="4149720"/>
          <a:ext cx="24512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4512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4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4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2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067280" y="1989000"/>
          <a:ext cx="23367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89000"/>
                    <a:ext cx="23367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995640" y="4149720"/>
          <a:ext cx="20448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044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635280" y="2060640"/>
          <a:ext cx="2756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275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635280" y="4292640"/>
          <a:ext cx="2756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292640"/>
                    <a:ext cx="275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95640" y="1844640"/>
          <a:ext cx="27687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844640"/>
                    <a:ext cx="27687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995640" y="4076640"/>
          <a:ext cx="246384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76640"/>
                    <a:ext cx="24638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6T18:36:17Z</dcterms:modified>
  <cp:revision>18</cp:revision>
  <dc:subject/>
  <dc:title>Diapositive 1</dc:title>
</cp:coreProperties>
</file>