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93A-2441-4822-BEAC-A26E2E9786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44AF-817B-4648-A5E2-E97C4413C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59F-9C44-4E02-BC51-17050252CF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CF1-6E6F-46CE-A126-10A5DBE918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C756-CC3B-4A9F-AD99-60E1AB8C38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15FC-4EAF-46FA-B9A3-B50F60EE35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20D-41C6-4215-8962-5903615A35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4EA-1D4D-40E4-89E3-C0698B2165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1751-6812-41A3-A4A1-BE2D87B4A1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5A68-E031-4E68-8B7F-1BE5CFE815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06A-6178-4B93-AE8F-24C4044894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BC3-48AA-467F-83CE-6B2059BC6D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6426-224D-47A7-A82E-87DD29519D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E8A-E340-4214-9FE4-C9379CB13E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862-E5F5-417C-BA4C-BC0F15BCC9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746-6DCD-48B0-A324-D04D09E57D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C19-80AE-405F-96F4-D63C753F5C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3ADF-7671-45C3-B9B4-DD218E4A2C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DE7D-9080-4564-A8F0-E5EC79992C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BA4-2CA5-41ED-8A0C-DACFB968AC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210A-6113-4184-9CD9-18E7960BCD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59F-B3F2-45FE-90E2-2CBCF08BBF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A77-D50C-4C86-839F-2F05B86ECC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B9B1-805F-4423-92E1-C75E6EE8C7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4796-EDB6-4F77-A30E-F465E9702F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A89-3DED-4CAE-A313-C530C4CBB7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8F3-BC5A-440A-981B-05D8E53A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A4B-4A14-404E-80C0-9416868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70B-03BC-472C-81DE-450B7F1A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522-CCEC-4DBE-8F69-AA9E5B1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1C0-0DC4-437F-B10E-8DE274A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2DD-5DD6-4747-A3F6-0A6A26C2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526-110D-4C3C-8188-8DDEDAE5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D2A-6CC6-48EE-9B41-104950D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B4D-7689-4F34-9119-51D3DF33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B91-81CB-4B79-8B1A-0E7060D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DD1-577C-4BC7-968D-94DAD27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F1D-6AAB-4B2C-9A78-626E43A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123-DEE6-4021-834A-16543B7170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635280" y="2133720"/>
          <a:ext cx="34419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34419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8"/>
          <p:cNvGraphicFramePr/>
          <p:nvPr/>
        </p:nvGraphicFramePr>
        <p:xfrm>
          <a:off x="3419640" y="4149720"/>
          <a:ext cx="34542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4542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397160"/>
          <a:ext cx="6096240" cy="413532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2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iser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8"/>
          <p:cNvGraphicFramePr/>
          <p:nvPr/>
        </p:nvGraphicFramePr>
        <p:xfrm>
          <a:off x="4427640" y="2492280"/>
          <a:ext cx="1752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92280"/>
                    <a:ext cx="1752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1"/>
          <p:cNvGraphicFramePr/>
          <p:nvPr/>
        </p:nvGraphicFramePr>
        <p:xfrm>
          <a:off x="4427640" y="4581360"/>
          <a:ext cx="172692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581360"/>
                    <a:ext cx="1726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3924360" y="1916280"/>
          <a:ext cx="22860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16280"/>
                    <a:ext cx="22860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8"/>
          <p:cNvGraphicFramePr/>
          <p:nvPr/>
        </p:nvGraphicFramePr>
        <p:xfrm>
          <a:off x="3851280" y="4005360"/>
          <a:ext cx="21844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1844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397160"/>
          <a:ext cx="7632720" cy="4063680"/>
        </p:xfrm>
        <a:graphic>
          <a:graphicData uri="http://schemas.openxmlformats.org/drawingml/2006/table">
            <a:tbl>
              <a:tblPr/>
              <a:tblGrid>
                <a:gridCol w="1873080"/>
                <a:gridCol w="5759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+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=a²-2ab+b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397160"/>
          <a:ext cx="820908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337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5"/>
          <p:cNvGraphicFramePr/>
          <p:nvPr/>
        </p:nvGraphicFramePr>
        <p:xfrm>
          <a:off x="2195640" y="1989000"/>
          <a:ext cx="59814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98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20"/>
          <p:cNvGraphicFramePr/>
          <p:nvPr/>
        </p:nvGraphicFramePr>
        <p:xfrm>
          <a:off x="2195640" y="4076640"/>
          <a:ext cx="59562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5956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050920" y="1916280"/>
          <a:ext cx="679464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79464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0"/>
          <p:cNvGraphicFramePr/>
          <p:nvPr/>
        </p:nvGraphicFramePr>
        <p:xfrm>
          <a:off x="1835280" y="4005360"/>
          <a:ext cx="70610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05360"/>
                    <a:ext cx="706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1"/>
          <p:cNvGraphicFramePr/>
          <p:nvPr/>
        </p:nvGraphicFramePr>
        <p:xfrm>
          <a:off x="2050920" y="1989000"/>
          <a:ext cx="67438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7438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2195640" y="4076640"/>
          <a:ext cx="62989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076640"/>
                    <a:ext cx="62989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655640"/>
                <a:gridCol w="56404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5"/>
          <p:cNvGraphicFramePr/>
          <p:nvPr/>
        </p:nvGraphicFramePr>
        <p:xfrm>
          <a:off x="2195640" y="1989000"/>
          <a:ext cx="52956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529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8"/>
          <p:cNvGraphicFramePr/>
          <p:nvPr/>
        </p:nvGraphicFramePr>
        <p:xfrm>
          <a:off x="2111400" y="4076640"/>
          <a:ext cx="53211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1400" y="4076640"/>
                    <a:ext cx="532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397160"/>
          <a:ext cx="7704000" cy="4063680"/>
        </p:xfrm>
        <a:graphic>
          <a:graphicData uri="http://schemas.openxmlformats.org/drawingml/2006/table">
            <a:tbl>
              <a:tblPr/>
              <a:tblGrid>
                <a:gridCol w="1727280"/>
                <a:gridCol w="597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5"/>
          <p:cNvGraphicFramePr/>
          <p:nvPr/>
        </p:nvGraphicFramePr>
        <p:xfrm>
          <a:off x="2627280" y="1989000"/>
          <a:ext cx="52070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5207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1"/>
          <p:cNvGraphicFramePr/>
          <p:nvPr/>
        </p:nvGraphicFramePr>
        <p:xfrm>
          <a:off x="2627280" y="4149720"/>
          <a:ext cx="51562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5156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1979640" y="1916280"/>
          <a:ext cx="6946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2"/>
          <p:cNvGraphicFramePr/>
          <p:nvPr/>
        </p:nvGraphicFramePr>
        <p:xfrm>
          <a:off x="1979640" y="4005360"/>
          <a:ext cx="6946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05360"/>
                    <a:ext cx="6946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397160"/>
          <a:ext cx="8785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19"/>
          <p:cNvGraphicFramePr/>
          <p:nvPr/>
        </p:nvGraphicFramePr>
        <p:xfrm>
          <a:off x="2124000" y="1557360"/>
          <a:ext cx="6840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6840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0"/>
          <p:cNvGraphicFramePr/>
          <p:nvPr/>
        </p:nvGraphicFramePr>
        <p:xfrm>
          <a:off x="2050920" y="3716280"/>
          <a:ext cx="684216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716280"/>
                    <a:ext cx="6842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1397160"/>
          <a:ext cx="828180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624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1979640" y="1989000"/>
          <a:ext cx="63500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6350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9"/>
          <p:cNvGraphicFramePr/>
          <p:nvPr/>
        </p:nvGraphicFramePr>
        <p:xfrm>
          <a:off x="1922400" y="3933720"/>
          <a:ext cx="64645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3933720"/>
                    <a:ext cx="646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20"/>
          <p:cNvGraphicFramePr/>
          <p:nvPr/>
        </p:nvGraphicFramePr>
        <p:xfrm>
          <a:off x="2124000" y="1844640"/>
          <a:ext cx="6566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44640"/>
                    <a:ext cx="6566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979640" y="4076640"/>
          <a:ext cx="68961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076640"/>
                    <a:ext cx="6896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-b)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4140360" y="1916280"/>
          <a:ext cx="208260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20826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4211640" y="4005360"/>
          <a:ext cx="207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05360"/>
                    <a:ext cx="207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067280" y="1916280"/>
          <a:ext cx="2514600" cy="100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2514600" cy="10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3924360" y="4076640"/>
          <a:ext cx="267948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679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2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851280" y="1773360"/>
          <a:ext cx="24890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73360"/>
                    <a:ext cx="2489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851280" y="3933720"/>
          <a:ext cx="22734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933720"/>
                    <a:ext cx="2273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3995640" y="1989000"/>
          <a:ext cx="2400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3989520" y="4005360"/>
          <a:ext cx="24127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4005360"/>
                    <a:ext cx="24127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4067280" y="1989000"/>
          <a:ext cx="23493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89000"/>
                    <a:ext cx="23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8"/>
          <p:cNvGraphicFramePr/>
          <p:nvPr/>
        </p:nvGraphicFramePr>
        <p:xfrm>
          <a:off x="3851280" y="4149720"/>
          <a:ext cx="2362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362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17"/>
          <p:cNvGraphicFramePr/>
          <p:nvPr/>
        </p:nvGraphicFramePr>
        <p:xfrm>
          <a:off x="4140360" y="1989000"/>
          <a:ext cx="19810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19810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8"/>
          <p:cNvGraphicFramePr/>
          <p:nvPr/>
        </p:nvGraphicFramePr>
        <p:xfrm>
          <a:off x="4140360" y="4076640"/>
          <a:ext cx="1981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76640"/>
                    <a:ext cx="1981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5T20:15:17Z</dcterms:modified>
  <cp:revision>22</cp:revision>
  <dc:subject/>
  <dc:title>Diapositive 1</dc:title>
</cp:coreProperties>
</file>