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81B-9E46-4E7F-934A-99848CE0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E93-43AF-44B1-978B-29220EE1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B12-1D76-4433-B443-0D05CDA1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203-13CB-4E20-9B3C-C3D2ECA8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049-D386-4016-89FB-8790DA79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FB3-DC2A-470B-A327-FCC9300B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E8E-E2DF-4ED3-A950-DA91C955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F11-4205-4553-9A66-5EB4E86F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45A-E527-4979-8020-C4311E55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597-4EC9-4492-A899-E426785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C40-1369-4C4D-AE5B-7D53FF7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E57-417B-4760-B35F-830FCDA9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6AEA-2ADC-4BED-97A1-A6CD09004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2, 1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0, 1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6,8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4,5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67280" y="2060640"/>
          <a:ext cx="1701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701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851280" y="4221000"/>
          <a:ext cx="17780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17780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03640" y="1628640"/>
          <a:ext cx="43560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4356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64000" y="3573360"/>
          <a:ext cx="347976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73360"/>
                    <a:ext cx="34797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19640" y="2060640"/>
          <a:ext cx="387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7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203640" y="4149720"/>
          <a:ext cx="4190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149720"/>
                    <a:ext cx="419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1397160"/>
          <a:ext cx="892980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738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54360" y="4221000"/>
          <a:ext cx="72896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4221000"/>
                    <a:ext cx="7289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68360" y="1484280"/>
          <a:ext cx="461016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484280"/>
                    <a:ext cx="4610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5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3, 5 et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6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4, 8, 16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32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4, 8, 16, 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33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3, 11 et 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133720"/>
          <a:ext cx="2933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93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851280" y="4149720"/>
          <a:ext cx="288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0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5, 10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diviseurs de 12 sont </a:t>
                      </a:r>
                      <a:r>
                        <a:rPr b="0" lang="en-US" sz="4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, 2, 3, 4, 6, 1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2 ,15)=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10 ,15)=</a:t>
                      </a:r>
                      <a:r>
                        <a:rPr b="0" lang="en-US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6,8)=</a:t>
                      </a:r>
                      <a:r>
                        <a:rPr b="0" lang="en-US" sz="4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CD(4,5)=</a:t>
                      </a:r>
                      <a:r>
                        <a:rPr b="0" lang="en-US" sz="4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24360" y="206064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924360" y="4076640"/>
          <a:ext cx="2870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2870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067280" y="1557360"/>
          <a:ext cx="2197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57360"/>
                    <a:ext cx="2197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3573360"/>
          <a:ext cx="19051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9051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40360" y="2060640"/>
          <a:ext cx="2374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08360" y="4149720"/>
          <a:ext cx="281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57720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9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348000" y="1989000"/>
          <a:ext cx="46101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46101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276720" y="4149720"/>
          <a:ext cx="462276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6227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es diviseurs de 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es diviseurs de 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3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33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4036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211640" y="4076640"/>
          <a:ext cx="1739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1739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10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tous les diviseurs de 12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20T20:56:10Z</dcterms:modified>
  <cp:revision>20</cp:revision>
  <dc:subject/>
  <dc:title>Diapositive 1</dc:title>
</cp:coreProperties>
</file>