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D62-3E5B-48CB-A3AB-6492D200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86FF-ED22-4B8B-B6AA-FD8EE42E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586-D70A-4003-8045-003B5F04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D1D-DAD3-448E-9318-BDBBE1E2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303-FB9E-4EA3-978F-5DFC1B0C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FE56-A717-465A-B6A6-1FE450AF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EFF1-A6E5-4FA3-B0B0-BC24A202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3E88-B150-4E77-9B31-FAA21A36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7F46-EAF6-41AB-A14C-82F2492F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65AD-59B9-4C0B-A18C-A0C7B790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EFD-F4A6-470D-B9FA-BE3FEA8B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A791-951B-4E2C-80B6-87DEF6AC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22F1-99A0-428F-B75A-3506E1262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720" y="141300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4360" y="2492280"/>
          <a:ext cx="763272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6327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3800" y="1413000"/>
            <a:ext cx="633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ris le résultat sous la for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659640" y="1341360"/>
          <a:ext cx="193032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1341360"/>
                    <a:ext cx="19303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979640" y="2637000"/>
          <a:ext cx="5256360" cy="23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2637000"/>
                    <a:ext cx="5256360" cy="23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965480" cy="4560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81040" y="6021360"/>
            <a:ext cx="66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 triangle PCB es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ctangle en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965840" cy="4560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51960" y="5950080"/>
            <a:ext cx="58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 triangle PIB es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ocèle e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937040" cy="386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268360" y="5156280"/>
          <a:ext cx="467388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156280"/>
                    <a:ext cx="46738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1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757760" cy="387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2556000" y="5156280"/>
          <a:ext cx="445752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5156280"/>
                    <a:ext cx="44575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1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059360" cy="392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124000" y="5156280"/>
          <a:ext cx="505476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5156280"/>
                    <a:ext cx="50547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1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5776920" cy="3984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59600" y="556416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s droites (d) et (d’) son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rallè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965840" cy="4560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7640" y="1341360"/>
            <a:ext cx="774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nature du triangle PC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00360" y="2276640"/>
          <a:ext cx="4032360" cy="24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76640"/>
                    <a:ext cx="403236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2565360"/>
          <a:ext cx="889308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65360"/>
                    <a:ext cx="889308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708280"/>
          <a:ext cx="914400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91440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93760" y="2637000"/>
          <a:ext cx="8628120" cy="23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2637000"/>
                    <a:ext cx="8628120" cy="23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10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0560" y="1308240"/>
            <a:ext cx="75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nature du triangle PI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965840" cy="45608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2558880"/>
            <a:ext cx="5487840" cy="429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2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5333760" cy="43401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9400" y="1268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4470480" cy="43275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816960" cy="470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3960" y="1341360"/>
            <a:ext cx="74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 peut-on dire des droites (d) et (d’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708360" y="2852640"/>
          <a:ext cx="172728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852640"/>
                    <a:ext cx="17272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047600" y="1413000"/>
            <a:ext cx="67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cris le résultat sous la forme d’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720" y="141300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47640" y="2276640"/>
          <a:ext cx="590400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76640"/>
                    <a:ext cx="590400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6T18:40:31Z</dcterms:modified>
  <cp:revision>24</cp:revision>
  <dc:subject/>
  <dc:title>Diapositive 1</dc:title>
</cp:coreProperties>
</file>