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E85-A7D5-477F-B291-102819FE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71C-FEFA-4A3F-AE7D-BAC018B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764-FFE9-4929-ACFC-447FDE39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695-8B02-4B74-A036-7F5924AA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304-0F68-42D8-A0C5-EC58D38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416-35E1-428D-BA3A-2A6910D8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E64-463D-4FFD-A46D-1796D0E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43F-B99E-4651-8944-B417E5A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1D1-0F72-47DD-8F39-1D9055CA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17E-D9DC-4252-AE56-88CDCBF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B78-75B9-4165-9DCF-7BF4AB3E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071-C3BB-4146-A9D4-70C23652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C53-CD52-4BA2-B246-126219A3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32000" y="2565360"/>
          <a:ext cx="30862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565360"/>
                    <a:ext cx="3086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52560" y="4260960"/>
            <a:ext cx="48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-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2421000"/>
          <a:ext cx="414000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421000"/>
                    <a:ext cx="4140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60360" y="407664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49640" y="433224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32920" y="4405320"/>
            <a:ext cx="84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902520" y="4437000"/>
            <a:ext cx="764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-2 par la fonction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94360" y="2387520"/>
            <a:ext cx="39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82000" y="24606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457280"/>
            <a:ext cx="375768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49280" y="26049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3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52360" y="4437000"/>
            <a:ext cx="86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3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428840"/>
            <a:ext cx="3772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440" y="234936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ntécédent de 5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40000" y="141300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692360" y="3284640"/>
          <a:ext cx="575316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284640"/>
                    <a:ext cx="575316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11240" y="537372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03640" y="1773360"/>
          <a:ext cx="3085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73360"/>
                    <a:ext cx="3085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63640" y="2781360"/>
          <a:ext cx="5334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781360"/>
                    <a:ext cx="533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61280" y="4116240"/>
            <a:ext cx="84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de de -2 par la fonction carré est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0000" y="1916280"/>
          <a:ext cx="4140000" cy="77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14000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2924280"/>
          <a:ext cx="55501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924280"/>
                    <a:ext cx="555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198520" y="4221000"/>
            <a:ext cx="515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3 par f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31840" y="4621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548240"/>
            <a:ext cx="867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’antécédent de 5, par la fo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2960" y="1340640"/>
            <a:ext cx="888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f une fonction. On considère le tableau de va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a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421000"/>
          <a:ext cx="8569080" cy="1360440"/>
        </p:xfrm>
        <a:graphic>
          <a:graphicData uri="http://schemas.openxmlformats.org/drawingml/2006/table">
            <a:tbl>
              <a:tblPr/>
              <a:tblGrid>
                <a:gridCol w="1428480"/>
                <a:gridCol w="1427400"/>
                <a:gridCol w="1428480"/>
                <a:gridCol w="1428840"/>
                <a:gridCol w="1427400"/>
                <a:gridCol w="142848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60560" y="4332240"/>
            <a:ext cx="88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’image de -2, par la fonction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4920" y="274788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4920" y="2892600"/>
            <a:ext cx="44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image de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471680"/>
            <a:ext cx="3786120" cy="5386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3440" y="135576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que de la fonction 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4920" y="3108240"/>
            <a:ext cx="433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re graphique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antécédent de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120" y="1596960"/>
            <a:ext cx="60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f la fonction définie pa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40000" y="2276640"/>
          <a:ext cx="37717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276640"/>
                    <a:ext cx="37717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52000" y="450864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’image d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13T06:24:13Z</dcterms:modified>
  <cp:revision>18</cp:revision>
  <dc:subject/>
  <dc:title>Diapositive 1</dc:title>
</cp:coreProperties>
</file>