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07E-723A-4824-BB75-984D2C3B91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A0B-FCFB-402F-8FB1-16639EEF81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9F24-CCC1-4C76-ACC6-F3DC7D99E6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F6F3-B1BC-43FE-8B8C-B5145A1260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BE9-64C4-4C84-9664-4AC8208F70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006-F77B-41B9-A9EF-9AE1D909E2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71E-3D8F-4DBC-835F-3F1EFE55D9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E54-CC13-4371-A7D5-B9048F176F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89C-818F-4174-9106-A1660E8E4F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4D4B-88FD-446E-9A17-5173512C0E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FC62-D689-48B2-9086-758D372803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B63-7893-4C81-AC01-2348FAA8B2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7056-BAC9-4C1F-AAD1-330ADA8287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4EAD-D2A0-46E5-9B09-A47538D3C9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4C8-E175-4577-97CF-BC14C1D8E6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89C-5DEF-4441-9F30-11FB68918E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B30-1337-4A21-AF2A-2993055F46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200-841A-4483-84B3-C606314A61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8C6-CBF2-41CA-9F76-CFC58B971C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20BC-FF0C-44FC-9F38-B41BC8DE00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94D6-B715-4BEE-B2A4-AF0DE1E7AF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0964-BE5B-4A24-9456-F14D7C6C63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B50-176A-486D-A2E3-2ABEF7D5B3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3DC-9242-4750-91A3-0541C5E638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0B79-98B4-45D1-BC7B-87FBED6DC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3B8-C74E-4541-97A4-19825887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78A-B773-4EAD-A625-9C44AE20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0E3-071E-4D71-A7FA-CC10B148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0AB-2481-4C50-B4E1-0DC72083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E5C-FFB8-47DB-83F8-FFFF972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00D-262A-4696-BF8C-0C38F27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8BF-86E6-4FE7-891D-DC475F4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1B3-68B2-4003-BCC4-10CB747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78B-BB5C-4B71-99C0-AEAF101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02F-1161-472E-A470-F27A12D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FE7-319A-4AC0-BD40-C300A97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C08-BD2B-4FF7-A1AC-D628528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D9F-600A-46BB-BF51-52475C6829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46"/>
          <p:cNvSpPr/>
          <p:nvPr/>
        </p:nvSpPr>
        <p:spPr>
          <a:xfrm>
            <a:off x="303120" y="397188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03480" y="1379520"/>
            <a:ext cx="575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f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519120" y="3900600"/>
            <a:ext cx="59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’antécédent de 1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6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835280" y="3645000"/>
          <a:ext cx="46735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645000"/>
                    <a:ext cx="4673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7"/>
          <p:cNvGraphicFramePr/>
          <p:nvPr/>
        </p:nvGraphicFramePr>
        <p:xfrm>
          <a:off x="1258920" y="4221000"/>
          <a:ext cx="54608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221000"/>
                    <a:ext cx="546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6"/>
          <p:cNvGraphicFramePr/>
          <p:nvPr/>
        </p:nvGraphicFramePr>
        <p:xfrm>
          <a:off x="2627280" y="1916280"/>
          <a:ext cx="3213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213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7"/>
          <p:cNvGraphicFramePr/>
          <p:nvPr/>
        </p:nvGraphicFramePr>
        <p:xfrm>
          <a:off x="2050920" y="3284640"/>
          <a:ext cx="44452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84640"/>
                    <a:ext cx="44452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7"/>
          <p:cNvGraphicFramePr/>
          <p:nvPr/>
        </p:nvGraphicFramePr>
        <p:xfrm>
          <a:off x="2700360" y="1268280"/>
          <a:ext cx="321300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2130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7"/>
          <p:cNvGraphicFramePr/>
          <p:nvPr/>
        </p:nvGraphicFramePr>
        <p:xfrm>
          <a:off x="2627280" y="1268280"/>
          <a:ext cx="36194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194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17760" cy="503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5868360" y="342900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33984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3"/>
          <p:cNvGraphicFramePr/>
          <p:nvPr/>
        </p:nvGraphicFramePr>
        <p:xfrm>
          <a:off x="2484360" y="249228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4"/>
          <p:cNvSpPr/>
          <p:nvPr/>
        </p:nvSpPr>
        <p:spPr>
          <a:xfrm>
            <a:off x="1274760" y="393372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7"/>
          <p:cNvSpPr/>
          <p:nvPr/>
        </p:nvSpPr>
        <p:spPr>
          <a:xfrm>
            <a:off x="5129280" y="2820960"/>
            <a:ext cx="13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imes New Roman"/>
              </a:rPr>
              <a:t>y=-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43"/>
          <p:cNvSpPr/>
          <p:nvPr/>
        </p:nvSpPr>
        <p:spPr>
          <a:xfrm>
            <a:off x="896040" y="397188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5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3"/>
          <p:cNvSpPr/>
          <p:nvPr/>
        </p:nvSpPr>
        <p:spPr>
          <a:xfrm>
            <a:off x="606960" y="390060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30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3"/>
          <p:cNvSpPr/>
          <p:nvPr/>
        </p:nvSpPr>
        <p:spPr>
          <a:xfrm>
            <a:off x="1764360" y="4076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de 15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9"/>
          <p:cNvGraphicFramePr/>
          <p:nvPr/>
        </p:nvGraphicFramePr>
        <p:xfrm>
          <a:off x="2124000" y="2781360"/>
          <a:ext cx="36324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3632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0"/>
          <p:cNvSpPr/>
          <p:nvPr/>
        </p:nvSpPr>
        <p:spPr>
          <a:xfrm>
            <a:off x="520560" y="45482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53880" y="1523880"/>
            <a:ext cx="76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linéair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7"/>
          <p:cNvGraphicFramePr/>
          <p:nvPr/>
        </p:nvGraphicFramePr>
        <p:xfrm>
          <a:off x="2556000" y="2565360"/>
          <a:ext cx="3213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65360"/>
                    <a:ext cx="321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8"/>
          <p:cNvSpPr/>
          <p:nvPr/>
        </p:nvSpPr>
        <p:spPr>
          <a:xfrm>
            <a:off x="375840" y="390060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un antécédent de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30840" y="2708280"/>
            <a:ext cx="88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3)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31560" y="3068640"/>
            <a:ext cx="87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-1)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’expression d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4146480" cy="5427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502080" cy="50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9"/>
          <p:cNvSpPr/>
          <p:nvPr/>
        </p:nvSpPr>
        <p:spPr>
          <a:xfrm>
            <a:off x="4624560" y="2171880"/>
            <a:ext cx="44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é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cette droi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17160" y="137952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linéai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2205000"/>
          <a:ext cx="5848560" cy="115884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2320"/>
                <a:gridCol w="1461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5"/>
          <p:cNvSpPr/>
          <p:nvPr/>
        </p:nvSpPr>
        <p:spPr>
          <a:xfrm>
            <a:off x="449280" y="3828960"/>
            <a:ext cx="51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de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47Z</dcterms:modified>
  <cp:revision>28</cp:revision>
  <dc:subject/>
  <dc:title>Diapositive 1</dc:title>
</cp:coreProperties>
</file>