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C50-81CC-4118-86EF-FC3A6E79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BFD-59D0-4518-9F17-9216E2B0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8CC-68E0-4A55-8A1E-A17AD4C6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88A-EEF3-414A-B926-24CB8EA9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D9D-4B8A-461D-9912-CE1AF24B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5A5-78EA-4C24-B444-FBCACBF5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E01-4972-413E-A467-0FFBB31B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AEB-AB32-4595-A306-466B75CD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49B-41CC-4063-B79F-95E5369C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8EB-46F6-4582-8D64-72CFFE09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434-77E2-448D-9973-16839CE2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F6E-6EDE-49F6-A006-E928862B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4EAE-BDEC-4FC1-ABDB-9B66BC1F6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00" y="126828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896160" cy="3646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40" y="6203880"/>
            <a:ext cx="84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en d’élèves ont répondu à ce sond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00" y="126828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896160" cy="3646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02600" y="6014880"/>
            <a:ext cx="86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lle est la fréquence des élèves ayant vu 4 fil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3645000"/>
          <a:ext cx="33778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645000"/>
                    <a:ext cx="3377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33240" y="4332240"/>
            <a:ext cx="67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n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3573360"/>
          <a:ext cx="3797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73360"/>
                    <a:ext cx="3797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33600" y="4260960"/>
            <a:ext cx="84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remier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3280" y="28209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11 valeurs: N=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3500280"/>
          <a:ext cx="373392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00280"/>
                    <a:ext cx="373392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43800" y="5052960"/>
            <a:ext cx="86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troisième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4240" y="1523880"/>
            <a:ext cx="84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71640" y="3429000"/>
          <a:ext cx="64515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29000"/>
                    <a:ext cx="6451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429000"/>
          <a:ext cx="2514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2514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20560" y="3971880"/>
            <a:ext cx="847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ne est un nombre compris 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 et 25: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3429000"/>
          <a:ext cx="30099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3009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88880" y="404496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remier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4240" y="1523880"/>
            <a:ext cx="846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une médian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11280" y="3429000"/>
          <a:ext cx="31240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429000"/>
                    <a:ext cx="3124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88160" y="5268960"/>
            <a:ext cx="85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troisième quartile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cc0000"/>
                </a:solidFill>
                <a:latin typeface="Times New Roman"/>
              </a:rPr>
              <a:t>èm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valeur: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8920" y="1523880"/>
            <a:ext cx="560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0920" y="2676600"/>
            <a:ext cx="43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l y a 6valeurs: N=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1280" y="3500280"/>
          <a:ext cx="65530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500280"/>
                    <a:ext cx="6553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896160" cy="36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250920" y="5300640"/>
          <a:ext cx="850896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300640"/>
                    <a:ext cx="850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896160" cy="36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1476360" y="4941720"/>
          <a:ext cx="623556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4941720"/>
                    <a:ext cx="62355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523880"/>
            <a:ext cx="84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premier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920" y="1523880"/>
            <a:ext cx="880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troisième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4240" y="1523880"/>
            <a:ext cx="846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; 13; 13; 15; 16; 16; 16; 17; 17; 19;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’étendu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8920" y="1523880"/>
            <a:ext cx="732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une médian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1523880"/>
            <a:ext cx="849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premier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920" y="1523880"/>
            <a:ext cx="880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e troisième quartil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8920" y="1523880"/>
            <a:ext cx="663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ici une série de valeu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; 24; 24; 25; 26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’étendue de cette sér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6T20:17:49Z</dcterms:modified>
  <cp:revision>21</cp:revision>
  <dc:subject/>
  <dc:title>Diapositive 1</dc:title>
</cp:coreProperties>
</file>