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B23-BC9A-4BB4-AFD3-BDD3045D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5E6-F59A-468E-80D1-2EB1280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28E-5D26-4DDF-9AB5-892A0AB1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801-CEB2-4614-8934-09A99CC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618-01FD-4728-9DC5-94EAB458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7F6-DFAA-4A6F-8E09-BCAB114B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D7A-5DD3-431E-A286-210EF8FE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1FE-D945-4581-8DFA-D16D0A1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781-C37E-401E-90A4-27F6854B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C53-9651-4BF2-8BE4-C4DDA6B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438-7C16-47D9-8B08-73211CDC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17A-6593-4AE7-933C-E46F99A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A525-1A7A-49B0-9482-8FE20FD0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916280"/>
          <a:ext cx="3886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1628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005360"/>
          <a:ext cx="38862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3886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780000" y="1989000"/>
          <a:ext cx="2654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65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635280" y="3933720"/>
          <a:ext cx="24004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933720"/>
                    <a:ext cx="2400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1989000"/>
          <a:ext cx="26668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51280" y="4005360"/>
          <a:ext cx="264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4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03640" y="2205000"/>
          <a:ext cx="5168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516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348000" y="4149720"/>
          <a:ext cx="487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487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92360" y="1628640"/>
          <a:ext cx="31752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628640"/>
                    <a:ext cx="3175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3573360"/>
          <a:ext cx="28191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2819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3640" y="1989000"/>
          <a:ext cx="43815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81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500280"/>
          <a:ext cx="28447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8447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348000" y="1989000"/>
          <a:ext cx="3898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98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34800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413000"/>
          <a:ext cx="82803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672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24000" y="2060640"/>
          <a:ext cx="6121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6121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0920" y="4149720"/>
          <a:ext cx="6502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149720"/>
                    <a:ext cx="6502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341360"/>
          <a:ext cx="806616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4580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0920" y="1844640"/>
          <a:ext cx="57024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44640"/>
                    <a:ext cx="5702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000160" y="4076640"/>
          <a:ext cx="6147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076640"/>
                    <a:ext cx="614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484280"/>
          <a:ext cx="79214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63133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2133720"/>
          <a:ext cx="6045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6045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68360" y="4149720"/>
          <a:ext cx="4864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149720"/>
                    <a:ext cx="4864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397160"/>
          <a:ext cx="7993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26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195640" y="1773360"/>
          <a:ext cx="567684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567684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195640" y="3573360"/>
          <a:ext cx="567684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573360"/>
                    <a:ext cx="56768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397160"/>
          <a:ext cx="7848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120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484360" y="2060640"/>
          <a:ext cx="55627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5562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4149720"/>
          <a:ext cx="53085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49720"/>
                    <a:ext cx="5308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397160"/>
          <a:ext cx="729612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5496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40000" y="1989000"/>
          <a:ext cx="48006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9000"/>
                    <a:ext cx="48006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340000" y="4149720"/>
          <a:ext cx="50036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5003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76720" y="2133720"/>
          <a:ext cx="374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374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348000" y="4149720"/>
          <a:ext cx="344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44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11640" y="1628640"/>
          <a:ext cx="1727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628640"/>
                    <a:ext cx="1727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84720" y="3573360"/>
          <a:ext cx="17143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7143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1989000"/>
          <a:ext cx="267948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89000"/>
                    <a:ext cx="2679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067280" y="2060640"/>
          <a:ext cx="2146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995640" y="4005360"/>
          <a:ext cx="2222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2222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19640" y="2060640"/>
          <a:ext cx="3301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301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92360" y="4149720"/>
          <a:ext cx="3238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238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08360" y="1916280"/>
          <a:ext cx="28195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16280"/>
                    <a:ext cx="281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708360" y="3860640"/>
          <a:ext cx="28828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3860640"/>
                    <a:ext cx="28828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51280" y="1916280"/>
          <a:ext cx="28573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2857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24360" y="4076640"/>
          <a:ext cx="23367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336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1:13:20Z</dcterms:modified>
  <cp:revision>22</cp:revision>
  <dc:subject/>
  <dc:title>Diapositive 1</dc:title>
</cp:coreProperties>
</file>