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D3E-A568-4B55-BA05-C47E60C4F1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202-C06F-43C9-BAE0-E823556BDB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F097-0C8C-4087-8EF6-F6FC8B10EB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5374-E951-47B0-9B1F-C5D417ACDA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FF27-0B3F-48D8-B0D0-F82E6882C6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A86B-DF62-486D-AD84-ABBCB92CCE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D59-0F49-4EE5-BE1A-C06747F856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9F6-B0B3-4A9E-99BF-39B5217417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38B7-8168-4ADF-BBC0-3276219352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6576-4BE0-4787-B242-5A812EE430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0F40-693E-4821-9B34-B2A51E2451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5C7F-D175-4D7D-A88A-9131485ACC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FBF-9A6B-4CA6-A90E-B1332FCD5A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64B-C0BF-4F3C-99F4-D2789CDA2E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845D-C6DF-4336-A599-D297E20C93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848-A011-40D9-BE14-821C8AE00A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9BD1-9B82-4833-99A8-876D5B329C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C45-F808-4EDE-AD6A-EB4AC1D6BB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FBBE-76A7-4FED-B320-7D81B1961D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142-6BFC-4FB4-B32E-0D56D26669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66FA-FD68-448F-805B-5F9D90E3DB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A0C-71DF-4880-BDD2-9EC1A40F28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B21-62A0-4382-AC56-91396865BD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10A-DD71-4A1C-AA13-98789CF365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9EB-8F27-4E66-9EFD-B8EEC8CBC2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885-C726-4243-93DE-A3799AAAE9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0DE-9EE0-484D-B6D9-A4A8AD43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C55-EB43-4D36-B757-69B1C5FC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AA7-15D9-4AC0-AAF2-813F8BFD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E1F-BFFE-4EFF-8778-05BD72A8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2FF-062B-4B3E-A0DA-A82E382B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D8E-B3AD-4518-ABD6-EA05451C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402-996D-4F58-8D38-A9C2FC8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7A7-69E6-438F-86BC-895762D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CB6-C829-4475-977D-F38B67B3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184-32D3-4F2D-9D07-5440893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C53-71A0-4449-B210-5C6FF4C2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ED9-2186-42D2-8620-9852E037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671-A70C-4A63-B401-15A771D3E1C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716360" y="1557360"/>
          <a:ext cx="1003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003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800600" y="3573360"/>
          <a:ext cx="97776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73360"/>
                    <a:ext cx="9777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162320" y="1989000"/>
          <a:ext cx="24764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2320" y="1989000"/>
                    <a:ext cx="2476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168800" y="4076640"/>
          <a:ext cx="24638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4076640"/>
                    <a:ext cx="2463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572000" y="1916280"/>
          <a:ext cx="5842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584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716360" y="4076640"/>
          <a:ext cx="57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76640"/>
                    <a:ext cx="57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286080" y="2054160"/>
          <a:ext cx="2997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4160"/>
                    <a:ext cx="2997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65640" y="4149720"/>
          <a:ext cx="2946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4149720"/>
                    <a:ext cx="2946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41964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419640" y="4149720"/>
          <a:ext cx="387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78200" y="1628640"/>
          <a:ext cx="26668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628640"/>
                    <a:ext cx="26668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30720" y="3573360"/>
          <a:ext cx="39240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0720" y="3573360"/>
                    <a:ext cx="3924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797280" y="1557360"/>
          <a:ext cx="29718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1557360"/>
                    <a:ext cx="2971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670200" y="3645000"/>
          <a:ext cx="32004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645000"/>
                    <a:ext cx="32004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427640" y="1557360"/>
          <a:ext cx="186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186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495680" y="3645000"/>
          <a:ext cx="1854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645000"/>
                    <a:ext cx="1854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151080" y="1989000"/>
          <a:ext cx="41403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989000"/>
                    <a:ext cx="4140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16240" y="414972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6240" y="414972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151080" y="1773360"/>
          <a:ext cx="41022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73360"/>
                    <a:ext cx="4102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151080" y="3789360"/>
          <a:ext cx="41148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789360"/>
                    <a:ext cx="4114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84760" y="1557360"/>
          <a:ext cx="26668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155736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68640" y="3573360"/>
          <a:ext cx="26416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8640" y="3573360"/>
                    <a:ext cx="2641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348000" y="1989000"/>
          <a:ext cx="4191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191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305160" y="407664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407664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90800" y="1916280"/>
          <a:ext cx="2146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916280"/>
                    <a:ext cx="2146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4149720"/>
          <a:ext cx="2133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33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9"/>
          <p:cNvGraphicFramePr/>
          <p:nvPr/>
        </p:nvGraphicFramePr>
        <p:xfrm>
          <a:off x="3851280" y="2060640"/>
          <a:ext cx="186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186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0"/>
          <p:cNvGraphicFramePr/>
          <p:nvPr/>
        </p:nvGraphicFramePr>
        <p:xfrm>
          <a:off x="3924360" y="4149720"/>
          <a:ext cx="182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182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851280" y="2060640"/>
          <a:ext cx="2387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3851280" y="4221000"/>
          <a:ext cx="2387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387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1628640"/>
          <a:ext cx="15112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5112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3573360"/>
          <a:ext cx="1473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473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438800" y="3645000"/>
          <a:ext cx="16635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3645000"/>
                    <a:ext cx="16635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564000" y="1557360"/>
          <a:ext cx="38606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38606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498840" y="3645000"/>
          <a:ext cx="384804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3645000"/>
                    <a:ext cx="38480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995640" y="1989000"/>
          <a:ext cx="24512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51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067280" y="4149720"/>
          <a:ext cx="24890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489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211640" y="1773360"/>
          <a:ext cx="1981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81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211640" y="3789360"/>
          <a:ext cx="19940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1994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8-29T16:21:25Z</dcterms:modified>
  <cp:revision>19</cp:revision>
  <dc:subject/>
  <dc:title>Diapositive 1</dc:title>
</cp:coreProperties>
</file>