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663-44FC-45FC-87CA-EAAACDA3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ECD-590B-45CE-BCFA-07E3529F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D1C-FC30-42EC-87F5-ECC69BAF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584-C15D-428C-9AF4-5BD1CBB0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21A-B113-4579-A370-FE0DA772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B2F-1198-4358-A7B5-C940A5D4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C60-49BE-4B2F-BD78-E3B71104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66C-673F-4AD9-A5CA-666881E8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C23-B169-44BE-B023-415F7704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197-9502-4F87-9187-531B7ACE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D70-0CD0-48BE-9F54-42F50A7C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08F-A836-447C-8345-27698DB8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B958-8406-4AE1-A49B-76CB20048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9120" y="1596960"/>
            <a:ext cx="60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f la fonction définie p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132000" y="2565360"/>
          <a:ext cx="30862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565360"/>
                    <a:ext cx="3086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952560" y="4260960"/>
            <a:ext cx="486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’image de -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9120" y="1596960"/>
            <a:ext cx="60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f la fonction définie p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195640" y="2421000"/>
          <a:ext cx="4140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421000"/>
                    <a:ext cx="4140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260360" y="4076640"/>
            <a:ext cx="46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’image de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449640" y="4332240"/>
            <a:ext cx="74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3 par la fonction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32920" y="4405320"/>
            <a:ext cx="84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ntécédent de 5 par la fonction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902520" y="4437000"/>
            <a:ext cx="76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-2 par la fonction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194360" y="2387520"/>
            <a:ext cx="396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0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428840"/>
            <a:ext cx="3772080" cy="5429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82000" y="2460600"/>
            <a:ext cx="40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2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457280"/>
            <a:ext cx="3757680" cy="540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49280" y="260496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ntécédent de 3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-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2960" y="1340640"/>
            <a:ext cx="88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f une fonction. On considère le tableau de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a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52360" y="4437000"/>
            <a:ext cx="86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’image de 3, par la fonction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1428840"/>
            <a:ext cx="3772080" cy="5429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440" y="234936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ntécédent de 5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-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340000" y="1413000"/>
          <a:ext cx="37717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413000"/>
                    <a:ext cx="37717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692360" y="3284640"/>
          <a:ext cx="575316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3284640"/>
                    <a:ext cx="575316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911240" y="5373720"/>
            <a:ext cx="515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2 par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03640" y="1773360"/>
          <a:ext cx="30859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773360"/>
                    <a:ext cx="30859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763640" y="2781360"/>
          <a:ext cx="53341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781360"/>
                    <a:ext cx="5334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61280" y="4116240"/>
            <a:ext cx="84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de de -2 par la fonction carré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340000" y="1916280"/>
          <a:ext cx="4140000" cy="77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16280"/>
                    <a:ext cx="414000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763640" y="2924280"/>
          <a:ext cx="55501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924280"/>
                    <a:ext cx="5550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198520" y="4221000"/>
            <a:ext cx="515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3 par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2960" y="1340640"/>
            <a:ext cx="88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f une fonction. On considère le tableau de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a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31840" y="46213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548240"/>
            <a:ext cx="867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’antécédent de 5, par la fo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2960" y="1340640"/>
            <a:ext cx="88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f une fonction. On considère le tableau de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a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60560" y="4332240"/>
            <a:ext cx="880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’image de -2, par la fonction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4920" y="2747880"/>
            <a:ext cx="44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4920" y="2892600"/>
            <a:ext cx="44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4920" y="3108240"/>
            <a:ext cx="43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antécédent de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64920" y="3108240"/>
            <a:ext cx="43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antécédent de 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9120" y="1596960"/>
            <a:ext cx="60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f la fonction définie p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340000" y="2276640"/>
          <a:ext cx="37717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276640"/>
                    <a:ext cx="37717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052000" y="450864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’image d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8-13T06:24:13Z</dcterms:modified>
  <cp:revision>18</cp:revision>
  <dc:subject/>
  <dc:title>Diapositive 1</dc:title>
</cp:coreProperties>
</file>