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0A5-5D23-43BC-A784-3FAE81DAAD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B751-A90F-4FBF-BA28-193F1EF00F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575-0E51-4913-B3ED-42A077F0F6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5DC4-2587-443D-9D04-8F60CDFB60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53F-3F30-4E1A-BCC9-0BEB2ECF51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FFA3-551E-40D2-8C0E-CE6C1E828D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A67-92CC-4F9B-A236-E05B6DF053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6BC3-5651-4448-88E5-8009B08765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5142-F47F-4952-9D46-9E211540E3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C344-AEF2-4C8D-BC71-F06AF0962F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1BA-0B04-4B47-A3D1-1FDED1E426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FB5-BAF7-4746-BFCA-20B5CD7CB3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3A55-C1D9-4F14-A9C6-10F54C4C53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D31B-2B68-4B90-B7D4-85CE0C4373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B241-1761-4DE7-B3FF-286359A9FC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4A51-CFBF-4A13-AF3E-C6D89B2DE2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14D7-E4D6-462E-B3D2-329290098F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850E-DD32-41B6-B1AB-1F4BE61FC5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7E37-66F3-43ED-8510-A944E44CD2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5250-B00E-45E7-91CA-E7629C0642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3294-E547-4291-A2EF-CDA2D7F1A2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F4A5-B30C-41C2-A93E-BE43A660C8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25CB-E2D0-459D-8C1B-391C6919CB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FD2B-9123-4EC4-B27D-D684E0C551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D8E6-A0A4-4983-A09B-C5ABD08933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F2C-BA03-4DC5-8169-7D45E8F0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440-A756-424A-9D29-56722B3B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B19-F06A-4F8C-A747-05CBF6AE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AF9-62B5-4427-8175-39AB03E7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F7C-8F33-4AA1-97C2-29E281F5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D33-F3BF-42B9-A706-44FBE434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FEA-08E5-4690-AE69-0C91DAD1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C57-6EC9-4F26-B104-90C5E675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30B-829B-4722-8856-1CE650C2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AFD-851A-43D2-B421-58198D5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7B0-38DD-4842-8FF4-824B8FD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A85-84D5-4C78-994B-91EAF438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60BE-7DCB-4337-973C-26D65C1A79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692360" y="2465280"/>
            <a:ext cx="516096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79640" y="2825640"/>
            <a:ext cx="4773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4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2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305680" cy="39243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4"/>
          <p:cNvSpPr/>
          <p:nvPr/>
        </p:nvSpPr>
        <p:spPr>
          <a:xfrm>
            <a:off x="25200" y="580536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5724360" y="5877000"/>
          <a:ext cx="9399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877000"/>
                    <a:ext cx="939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5"/>
          <p:cNvGraphicFramePr/>
          <p:nvPr/>
        </p:nvGraphicFramePr>
        <p:xfrm>
          <a:off x="7380360" y="587700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87700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30524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4"/>
          <p:cNvSpPr/>
          <p:nvPr/>
        </p:nvSpPr>
        <p:spPr>
          <a:xfrm>
            <a:off x="19800" y="5445000"/>
            <a:ext cx="80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580000" y="5516640"/>
          <a:ext cx="9907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5516640"/>
                    <a:ext cx="990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7380360" y="551664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51664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01948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4"/>
          <p:cNvGraphicFramePr/>
          <p:nvPr/>
        </p:nvGraphicFramePr>
        <p:xfrm>
          <a:off x="3780000" y="5732640"/>
          <a:ext cx="200628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5732640"/>
                    <a:ext cx="2006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6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238720" cy="48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5312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4"/>
          <p:cNvGraphicFramePr/>
          <p:nvPr/>
        </p:nvGraphicFramePr>
        <p:xfrm>
          <a:off x="3451320" y="6054840"/>
          <a:ext cx="24382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1320" y="6054840"/>
                    <a:ext cx="24382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305320" cy="39243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3"/>
          <p:cNvGraphicFramePr/>
          <p:nvPr/>
        </p:nvGraphicFramePr>
        <p:xfrm>
          <a:off x="7308720" y="1916280"/>
          <a:ext cx="1079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916280"/>
                    <a:ext cx="1079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114800" cy="428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4"/>
          <p:cNvGraphicFramePr/>
          <p:nvPr/>
        </p:nvGraphicFramePr>
        <p:xfrm>
          <a:off x="3457440" y="6054840"/>
          <a:ext cx="24256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7440" y="6054840"/>
                    <a:ext cx="24256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533840" cy="451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4"/>
          <p:cNvGraphicFramePr/>
          <p:nvPr/>
        </p:nvGraphicFramePr>
        <p:xfrm>
          <a:off x="3641760" y="6093000"/>
          <a:ext cx="205740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1760" y="6093000"/>
                    <a:ext cx="20574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979640" y="1268280"/>
            <a:ext cx="516240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4"/>
          <p:cNvGraphicFramePr/>
          <p:nvPr/>
        </p:nvGraphicFramePr>
        <p:xfrm>
          <a:off x="3708360" y="5805360"/>
          <a:ext cx="20192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805360"/>
                    <a:ext cx="2019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77360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4"/>
          <p:cNvGraphicFramePr/>
          <p:nvPr/>
        </p:nvGraphicFramePr>
        <p:xfrm>
          <a:off x="3714840" y="5805360"/>
          <a:ext cx="20066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4840" y="5805360"/>
                    <a:ext cx="2006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30524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9"/>
          <p:cNvGraphicFramePr/>
          <p:nvPr/>
        </p:nvGraphicFramePr>
        <p:xfrm>
          <a:off x="7380360" y="184464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184464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6" descr=""/>
          <p:cNvPicPr/>
          <p:nvPr/>
        </p:nvPicPr>
        <p:blipFill>
          <a:blip r:embed="rId1"/>
          <a:stretch/>
        </p:blipFill>
        <p:spPr>
          <a:xfrm>
            <a:off x="2124000" y="2695680"/>
            <a:ext cx="5019840" cy="41623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1011600" y="1557360"/>
            <a:ext cx="71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7"/>
          <p:cNvGraphicFramePr/>
          <p:nvPr/>
        </p:nvGraphicFramePr>
        <p:xfrm>
          <a:off x="6227640" y="1557360"/>
          <a:ext cx="10796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1079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979640" y="2028960"/>
            <a:ext cx="523872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2943360"/>
            <a:ext cx="4352760" cy="39146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627280" y="316224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484360" y="2571840"/>
            <a:ext cx="4114800" cy="42861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95640" y="2343240"/>
            <a:ext cx="4533840" cy="45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18:15:30Z</dcterms:modified>
  <cp:revision>27</cp:revision>
  <dc:subject/>
  <dc:title>Diapositive 1</dc:title>
</cp:coreProperties>
</file>