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ADB-D22C-461F-8940-995C7688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174-22F0-4E9D-81CA-F9D68908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D96-D36B-4D7E-B82F-FF43C952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046-3B10-4754-A557-8C17E22F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8E9-90C9-4CB3-90F4-31C6EDA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9F2-6C06-4144-98D8-BDB707C0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CEF-B3BD-4196-975B-06CC6A8A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868-E2E6-43C7-A6D2-3F2E68B9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416-8580-4E23-9568-DF3005C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EAC-ACCA-4B8C-9817-D1D5111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208-7166-4AD1-88E6-91E3EA3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969-8C03-46B3-B9E3-31C7936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A6A-ED76-4C4A-8F38-7283C2AB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16200" cy="37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268360" y="5168880"/>
          <a:ext cx="471204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68880"/>
                    <a:ext cx="47120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02640" cy="39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340000" y="5168880"/>
          <a:ext cx="48258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68880"/>
                    <a:ext cx="48258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529000"/>
            <a:ext cx="4128840" cy="4329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218280" cy="4124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8T01:11:39Z</dcterms:modified>
  <cp:revision>23</cp:revision>
  <dc:subject/>
  <dc:title>Diapositive 1</dc:title>
</cp:coreProperties>
</file>