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707-D9C3-4025-9D1B-26A92353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24F-B95D-4ED8-B33E-EB704A35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2264-43B2-40DD-8416-9002032D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E8D-5BCC-4F46-9FB8-64493B25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AF2-0AAB-4F5C-8F02-4054E320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5B8-7C19-4FC2-97FA-56F01E40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EE9-8594-4523-9D19-70C8B49D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F4A-02B3-437B-BE5B-D66A5827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2D4-2095-4296-825F-D82F516A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E51-D211-4F78-A312-583DCEC0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8A8-16A9-4610-81AF-AB4378C1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EFD-6FE5-4155-A9CB-212902F8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7632-69FB-4F15-A7D9-54CCF5970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1916280"/>
          <a:ext cx="38862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16280"/>
                    <a:ext cx="3886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76720" y="4005360"/>
          <a:ext cx="38862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005360"/>
                    <a:ext cx="3886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780000" y="1989000"/>
          <a:ext cx="2654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654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635280" y="3933720"/>
          <a:ext cx="24004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933720"/>
                    <a:ext cx="2400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51280" y="1989000"/>
          <a:ext cx="26668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6668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51280" y="4005360"/>
          <a:ext cx="2641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641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03640" y="2205000"/>
          <a:ext cx="5168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205000"/>
                    <a:ext cx="5168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348000" y="4149720"/>
          <a:ext cx="4876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487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492360" y="1628640"/>
          <a:ext cx="317520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628640"/>
                    <a:ext cx="3175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564000" y="3573360"/>
          <a:ext cx="281916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73360"/>
                    <a:ext cx="28191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03640" y="1989000"/>
          <a:ext cx="43815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381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51280" y="3500280"/>
          <a:ext cx="28447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00280"/>
                    <a:ext cx="28447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348000" y="1989000"/>
          <a:ext cx="38988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38988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348000" y="4149720"/>
          <a:ext cx="3733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733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413000"/>
          <a:ext cx="828036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6722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124000" y="2060640"/>
          <a:ext cx="6121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060640"/>
                    <a:ext cx="6121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050920" y="4149720"/>
          <a:ext cx="6502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4149720"/>
                    <a:ext cx="6502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1341360"/>
          <a:ext cx="806616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45804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050920" y="1844640"/>
          <a:ext cx="570240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844640"/>
                    <a:ext cx="57024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000160" y="4076640"/>
          <a:ext cx="6147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4076640"/>
                    <a:ext cx="6147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10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484280"/>
          <a:ext cx="792144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31332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195640" y="2133720"/>
          <a:ext cx="6045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6045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68360" y="4149720"/>
          <a:ext cx="486432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4149720"/>
                    <a:ext cx="48643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1397160"/>
          <a:ext cx="799308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264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195640" y="1773360"/>
          <a:ext cx="5676840" cy="16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773360"/>
                    <a:ext cx="567684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195640" y="3573360"/>
          <a:ext cx="567684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573360"/>
                    <a:ext cx="567684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397160"/>
          <a:ext cx="784872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120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484360" y="2060640"/>
          <a:ext cx="55627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5562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11280" y="4149720"/>
          <a:ext cx="53085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149720"/>
                    <a:ext cx="5308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1397160"/>
          <a:ext cx="7296120" cy="4063680"/>
        </p:xfrm>
        <a:graphic>
          <a:graphicData uri="http://schemas.openxmlformats.org/drawingml/2006/table">
            <a:tbl>
              <a:tblPr/>
              <a:tblGrid>
                <a:gridCol w="1800000"/>
                <a:gridCol w="5496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340000" y="1989000"/>
          <a:ext cx="48006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89000"/>
                    <a:ext cx="48006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340000" y="4149720"/>
          <a:ext cx="50036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149720"/>
                    <a:ext cx="50036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76720" y="2133720"/>
          <a:ext cx="3746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3746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348000" y="4149720"/>
          <a:ext cx="3441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44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11640" y="1628640"/>
          <a:ext cx="17272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628640"/>
                    <a:ext cx="1727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284720" y="3573360"/>
          <a:ext cx="17143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17143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24360" y="1989000"/>
          <a:ext cx="26794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89000"/>
                    <a:ext cx="26794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3280" y="3573360"/>
          <a:ext cx="10033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573360"/>
                    <a:ext cx="1003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067280" y="2060640"/>
          <a:ext cx="2146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2146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995640" y="4005360"/>
          <a:ext cx="2222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005360"/>
                    <a:ext cx="2222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419640" y="2060640"/>
          <a:ext cx="3301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301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492360" y="4149720"/>
          <a:ext cx="3238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238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708360" y="1916280"/>
          <a:ext cx="28195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16280"/>
                    <a:ext cx="281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708360" y="3860640"/>
          <a:ext cx="288288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3860640"/>
                    <a:ext cx="28828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51280" y="1916280"/>
          <a:ext cx="28573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16280"/>
                    <a:ext cx="28573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924360" y="4076640"/>
          <a:ext cx="23367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3367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0T21:13:20Z</dcterms:modified>
  <cp:revision>22</cp:revision>
  <dc:subject/>
  <dc:title>Diapositive 1</dc:title>
</cp:coreProperties>
</file>