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27D-AE6C-41DC-A918-81C08A48E1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681D-4361-4085-A2CD-ECE98D5673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9D6D-3F94-4B4F-A737-3E839BF25B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440B-834B-4560-9232-8249477663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B7DE-BECA-41E5-9794-C14E8AF4E6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A290-22B4-46C3-95A6-298D31CBFF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08E1-0A3D-43B1-9CE9-AF54C65B8E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4FCF-7EFB-4A86-9D3C-D28B12B6FC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354C-6505-4DE4-AFA9-0794FC6F02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8102-EE14-4EF2-854B-0EE906522B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44C5-338C-42C3-9BA4-5507F0E42A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9792-C186-4A24-B39A-51C330F91A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0936-F683-45FE-A2BE-BD919D6C25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C194-8877-4A53-8E47-A92D2E1E19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B073-EE5F-408E-B839-0F3F6B3772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AAE1-DD99-4E14-826E-95F6C9929F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9FD6-B14E-4834-A73B-98787CD0C9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B2CB-F17C-4AC2-984A-D9A5D25101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7049-E2D6-4DEE-87F2-4A6E40F36E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83C0-C96F-4A1A-8B09-FB606EE763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31C5-0EDE-4F00-AA74-0F40CEEEDE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752F-FBDF-47AE-A704-2F2BB9CBC2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E4A6-E378-4B30-A4D0-392AD067BD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504B-E5DD-4C04-B6AD-9D34129199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E6B1-9035-4E59-95D6-8231AAFEB7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4A6-18A4-4764-ABD5-17BD7D84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C5C-945D-4850-9C3F-D79AB42C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053-C8B1-488C-8C84-108A14D7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3B5-C986-43A3-885B-F63B4BD4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1E8-75E7-437B-A82B-9320B955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46D-3CB0-404A-8B21-4D1BCE4E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636-3592-4D12-8B8E-DC8A2207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9D5-689E-495B-93B0-F8ADD29F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525-3769-4B96-8063-21F84CD5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5E5-FC39-445A-AD9E-9A22A2AB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6A5-25BE-4C62-89C8-078BC35E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70B-8DA5-4B31-A6DD-E3CA5B4B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4DA3-76ED-4E83-A2F9-40F798E25A3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17160" y="137952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46"/>
          <p:cNvSpPr/>
          <p:nvPr/>
        </p:nvSpPr>
        <p:spPr>
          <a:xfrm>
            <a:off x="303120" y="3971880"/>
            <a:ext cx="59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técédent de 3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303480" y="1379520"/>
            <a:ext cx="57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f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519120" y="3900600"/>
            <a:ext cx="59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técédent de 1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6"/>
          <p:cNvGraphicFramePr/>
          <p:nvPr/>
        </p:nvGraphicFramePr>
        <p:xfrm>
          <a:off x="2484360" y="249228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7"/>
          <p:cNvGraphicFramePr/>
          <p:nvPr/>
        </p:nvGraphicFramePr>
        <p:xfrm>
          <a:off x="1835280" y="3645000"/>
          <a:ext cx="46735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645000"/>
                    <a:ext cx="4673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6"/>
          <p:cNvGraphicFramePr/>
          <p:nvPr/>
        </p:nvGraphicFramePr>
        <p:xfrm>
          <a:off x="2124000" y="2781360"/>
          <a:ext cx="36324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3632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7"/>
          <p:cNvGraphicFramePr/>
          <p:nvPr/>
        </p:nvGraphicFramePr>
        <p:xfrm>
          <a:off x="1258920" y="4221000"/>
          <a:ext cx="546084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221000"/>
                    <a:ext cx="5460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26"/>
          <p:cNvGraphicFramePr/>
          <p:nvPr/>
        </p:nvGraphicFramePr>
        <p:xfrm>
          <a:off x="2627280" y="1916280"/>
          <a:ext cx="321300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321300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7"/>
          <p:cNvGraphicFramePr/>
          <p:nvPr/>
        </p:nvGraphicFramePr>
        <p:xfrm>
          <a:off x="2050920" y="3284640"/>
          <a:ext cx="4445280" cy="27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284640"/>
                    <a:ext cx="444528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7"/>
          <p:cNvGraphicFramePr/>
          <p:nvPr/>
        </p:nvGraphicFramePr>
        <p:xfrm>
          <a:off x="2700360" y="1268280"/>
          <a:ext cx="321300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21300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37"/>
          <p:cNvGraphicFramePr/>
          <p:nvPr/>
        </p:nvGraphicFramePr>
        <p:xfrm>
          <a:off x="2627280" y="1268280"/>
          <a:ext cx="361944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6194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17760" cy="5038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6"/>
          <p:cNvSpPr/>
          <p:nvPr/>
        </p:nvSpPr>
        <p:spPr>
          <a:xfrm>
            <a:off x="5868360" y="3429000"/>
            <a:ext cx="12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y=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33984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3"/>
          <p:cNvGraphicFramePr/>
          <p:nvPr/>
        </p:nvGraphicFramePr>
        <p:xfrm>
          <a:off x="2484360" y="249228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4"/>
          <p:cNvSpPr/>
          <p:nvPr/>
        </p:nvSpPr>
        <p:spPr>
          <a:xfrm>
            <a:off x="1274760" y="3933720"/>
            <a:ext cx="57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2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6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214880" cy="5040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7"/>
          <p:cNvSpPr/>
          <p:nvPr/>
        </p:nvSpPr>
        <p:spPr>
          <a:xfrm>
            <a:off x="5129280" y="2820960"/>
            <a:ext cx="13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y=-2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43"/>
          <p:cNvSpPr/>
          <p:nvPr/>
        </p:nvSpPr>
        <p:spPr>
          <a:xfrm>
            <a:off x="896040" y="3971880"/>
            <a:ext cx="53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de 5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3"/>
          <p:cNvSpPr/>
          <p:nvPr/>
        </p:nvSpPr>
        <p:spPr>
          <a:xfrm>
            <a:off x="606960" y="390060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de 30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3"/>
          <p:cNvSpPr/>
          <p:nvPr/>
        </p:nvSpPr>
        <p:spPr>
          <a:xfrm>
            <a:off x="1764360" y="4076640"/>
            <a:ext cx="52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de 15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35388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29"/>
          <p:cNvGraphicFramePr/>
          <p:nvPr/>
        </p:nvGraphicFramePr>
        <p:xfrm>
          <a:off x="2124000" y="2781360"/>
          <a:ext cx="36324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3632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0"/>
          <p:cNvSpPr/>
          <p:nvPr/>
        </p:nvSpPr>
        <p:spPr>
          <a:xfrm>
            <a:off x="520560" y="454824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5388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7"/>
          <p:cNvGraphicFramePr/>
          <p:nvPr/>
        </p:nvGraphicFramePr>
        <p:xfrm>
          <a:off x="2556000" y="256536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56536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28"/>
          <p:cNvSpPr/>
          <p:nvPr/>
        </p:nvSpPr>
        <p:spPr>
          <a:xfrm>
            <a:off x="375840" y="3900600"/>
            <a:ext cx="62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un antécédent de 1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30840" y="2708280"/>
            <a:ext cx="88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fonction linéaire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3)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’expression d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331560" y="3068640"/>
            <a:ext cx="87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-1)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’expression d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0" y="1268280"/>
            <a:ext cx="4146480" cy="5427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9"/>
          <p:cNvSpPr/>
          <p:nvPr/>
        </p:nvSpPr>
        <p:spPr>
          <a:xfrm>
            <a:off x="4624560" y="2171880"/>
            <a:ext cx="44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é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cette dro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502080" cy="503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9"/>
          <p:cNvSpPr/>
          <p:nvPr/>
        </p:nvSpPr>
        <p:spPr>
          <a:xfrm>
            <a:off x="4624560" y="2171880"/>
            <a:ext cx="44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é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cette dro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317160" y="137952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15"/>
          <p:cNvSpPr/>
          <p:nvPr/>
        </p:nvSpPr>
        <p:spPr>
          <a:xfrm>
            <a:off x="449280" y="3828960"/>
            <a:ext cx="51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image de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25T05:18:47Z</dcterms:modified>
  <cp:revision>28</cp:revision>
  <dc:subject/>
  <dc:title>Diapositive 1</dc:title>
</cp:coreProperties>
</file>