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439-5298-43DA-9CF8-BFF7DC82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D0BB-257C-4570-8701-6C980CFC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84E-8F29-4A11-B1E1-694C1941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053-9DC3-4B3E-BF32-7488D9D9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20F-D6FF-4D4B-AE77-DBD0831B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974B-3FA1-4BEB-8DB5-899CABF2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59F2-8929-417F-A0EA-83D75BA4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690-7C2C-4403-9716-BEB52A0D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DEB-2EDA-4810-9518-F52E0C56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035-8A42-4DB0-B12B-82B530E2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AA0B-4773-4464-B14A-F067DB1E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E22-0061-4DE9-BCF2-762AAF84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0261-47E8-4F53-AF11-D39F3936B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51280" y="1989000"/>
          <a:ext cx="2628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628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924360" y="4076640"/>
          <a:ext cx="23241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3241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564000" y="2133720"/>
          <a:ext cx="31622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133720"/>
                    <a:ext cx="31622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479760" y="4076640"/>
          <a:ext cx="318780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9760" y="4076640"/>
                    <a:ext cx="31878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708360" y="2133720"/>
          <a:ext cx="2679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133720"/>
                    <a:ext cx="2679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635280" y="4149720"/>
          <a:ext cx="2629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629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20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780000" y="1557360"/>
          <a:ext cx="295884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557360"/>
                    <a:ext cx="29588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780000" y="3645000"/>
          <a:ext cx="265428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645000"/>
                    <a:ext cx="26542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492360" y="2060640"/>
          <a:ext cx="3772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772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348000" y="4221000"/>
          <a:ext cx="38610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8610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492360" y="1844640"/>
          <a:ext cx="36324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844640"/>
                    <a:ext cx="36324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276720" y="4149720"/>
          <a:ext cx="41400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149720"/>
                    <a:ext cx="41400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2004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1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42 sont 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3, 6, 7, 14, 21, 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48 sont 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3, 4, 6, 8, 12, 16, 24, 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0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03640" y="1989000"/>
          <a:ext cx="45082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5082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348000" y="4149720"/>
          <a:ext cx="37465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7465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132000" y="2205000"/>
          <a:ext cx="4521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205000"/>
                    <a:ext cx="4521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132000" y="4221000"/>
          <a:ext cx="45468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221000"/>
                    <a:ext cx="45468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95280" y="1397160"/>
          <a:ext cx="8497800" cy="4063680"/>
        </p:xfrm>
        <a:graphic>
          <a:graphicData uri="http://schemas.openxmlformats.org/drawingml/2006/table">
            <a:tbl>
              <a:tblPr/>
              <a:tblGrid>
                <a:gridCol w="1655640"/>
                <a:gridCol w="6842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84360" y="1989000"/>
          <a:ext cx="565164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989000"/>
                    <a:ext cx="56516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771640" y="4005360"/>
          <a:ext cx="501660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4005360"/>
                    <a:ext cx="50166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8000" y="1916280"/>
          <a:ext cx="683280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916280"/>
                    <a:ext cx="68328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5640" y="4076640"/>
          <a:ext cx="62229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076640"/>
                    <a:ext cx="62229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0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03640" y="2060640"/>
          <a:ext cx="43052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060640"/>
                    <a:ext cx="43052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203640" y="4149720"/>
          <a:ext cx="42796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149720"/>
                    <a:ext cx="42796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1397160"/>
          <a:ext cx="628812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680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132000" y="2060640"/>
          <a:ext cx="4559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4559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203640" y="4149720"/>
          <a:ext cx="4521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149720"/>
                    <a:ext cx="4521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27640" y="1700280"/>
          <a:ext cx="14983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700280"/>
                    <a:ext cx="14983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356000" y="3573360"/>
          <a:ext cx="15112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73360"/>
                    <a:ext cx="15112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067280" y="2133720"/>
          <a:ext cx="2361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133720"/>
                    <a:ext cx="2361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995640" y="4149720"/>
          <a:ext cx="2730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730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84720" y="1844640"/>
          <a:ext cx="176508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844640"/>
                    <a:ext cx="17650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851280" y="4149720"/>
          <a:ext cx="24512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4512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4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4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2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067280" y="1989000"/>
          <a:ext cx="23367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89000"/>
                    <a:ext cx="23367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995640" y="4149720"/>
          <a:ext cx="20448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044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635280" y="2060640"/>
          <a:ext cx="2756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060640"/>
                    <a:ext cx="2756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635280" y="4292640"/>
          <a:ext cx="2756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292640"/>
                    <a:ext cx="2756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95640" y="1844640"/>
          <a:ext cx="276876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844640"/>
                    <a:ext cx="27687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995640" y="4076640"/>
          <a:ext cx="246384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076640"/>
                    <a:ext cx="24638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26T18:36:17Z</dcterms:modified>
  <cp:revision>18</cp:revision>
  <dc:subject/>
  <dc:title>Diapositive 1</dc:title>
</cp:coreProperties>
</file>