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813-157E-418F-A544-75FD21C7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375-2F8B-4553-B19E-659EFB4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FCD-5E3F-4565-9611-62C89E71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CF3-8A41-421D-B028-18A63D17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31B-44AC-41ED-A680-5430FB9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DAC-C284-4FFE-830C-E37DC20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4CB-B8C3-4D05-94D4-5CC73661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F44-2BBE-4CF2-8CE1-07275D4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03F-94CE-4D72-A9BB-06E59E0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C52-D399-4A34-849F-F911B87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65C-8449-4215-98FD-FE1F239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913-E373-4EAF-8353-9E824A8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9244-755D-4EA7-9DE0-FB7D50275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880" y="1787400"/>
            <a:ext cx="78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à l’aide de symbo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520" y="12841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EF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4364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1341360"/>
            <a:ext cx="54338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41128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58640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26836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16560" cy="39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268360" y="5156280"/>
          <a:ext cx="45849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584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0160" cy="449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91240" y="587700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86320" cy="484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9960" y="602136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07080" cy="450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6000" y="5734080"/>
            <a:ext cx="90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 droite (d) est l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édiatric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u segment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89600" y="2003400"/>
            <a:ext cx="71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71640" y="3933720"/>
          <a:ext cx="410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410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464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35960" y="59500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FG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4520" y="1355760"/>
            <a:ext cx="76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2637000"/>
            <a:ext cx="5757840" cy="403992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86400" cy="3814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16560" cy="39668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710160" cy="44942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2014560"/>
            <a:ext cx="4486320" cy="4843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0708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1427040"/>
            <a:ext cx="925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 représente la droite (d) pour le segment [AB]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33:38Z</dcterms:modified>
  <cp:revision>27</cp:revision>
  <dc:subject/>
  <dc:title>Diapositive 1</dc:title>
</cp:coreProperties>
</file>