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4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856C-D852-404F-89CF-2445E2A4713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B2D0-B492-484B-9C80-F4EBCA04779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2287-F34C-4A35-860F-1C52EBC5925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2091-0188-4154-B8DC-CFD3963E002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7580-EA88-42E8-90CE-AB0DCA3D69D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7347-6D3D-40D4-92B4-5BDB20B2EE1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0BFE-2C73-4E11-8421-A6606A4106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D030-6854-4FE5-88AA-2A457AC6D81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B503-7962-4AB0-85F8-15D801FF9AD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C019-2292-4DDF-AAAE-954FF4C2F58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EEC9-8F71-4DA1-9186-0E3A978B454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DD90-0FE9-432C-BB87-AB929680691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D9C4-B565-4BC9-A43D-51CC00CF69F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96C7-624F-491B-ABAB-F06470D4154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F030-99E1-4A47-A282-A543CA961D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629D-3E2A-4946-A0B1-3A5C4342326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3C5A-2401-478F-9E42-A10D2DF5411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AC5A-50EC-4C5D-959A-C0FAD4A9F7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2DEA-C3DD-48AB-9E94-DB9B7A68A8A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610D-584E-42CC-BEA4-9FC8F784C84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5EA4-B4E4-4D74-B3A0-F76A060C2A8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7587-3366-4AAC-9FD4-0C47D0B6084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BF78-A7B9-487A-9728-4DF67400C4B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723D-D428-43D4-BDE0-C854CA4E747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F275-CA45-4A5C-919F-97653B15434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604A-FFC2-46C5-9D68-EDF6C8D4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2BCA-E659-49CD-A7C1-FB847791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0FE3-8B0A-49C6-8273-CAED4731D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0301-858F-416B-9D5E-E40C4E295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C280-875F-41F5-93AD-A58C12F3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753D-F31B-4006-8AFA-DC5539E2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E033-2095-4B20-B6C1-45217082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F363-1775-4166-8260-94DEDCE2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5A35-0856-491D-B6C6-CE7C36A2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B835-8A93-4226-8D32-37FE7882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63F0-1E57-4714-AB97-2A609283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3C91-441B-48E4-9FE3-296CF7E3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CD65-D622-4B51-8D7A-DF9C47AF733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33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601524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Object 28"/>
          <p:cNvGraphicFramePr/>
          <p:nvPr/>
        </p:nvGraphicFramePr>
        <p:xfrm>
          <a:off x="5076720" y="6021360"/>
          <a:ext cx="38124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6021360"/>
                    <a:ext cx="3812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33"/>
          <p:cNvSpPr/>
          <p:nvPr/>
        </p:nvSpPr>
        <p:spPr>
          <a:xfrm>
            <a:off x="1636920" y="5877000"/>
            <a:ext cx="351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ta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9"/>
          <p:cNvSpPr/>
          <p:nvPr/>
        </p:nvSpPr>
        <p:spPr>
          <a:xfrm>
            <a:off x="250920" y="134136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RTP est un triangle rectangle en T, écr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égalité de Pythagore correspondan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8" descr=""/>
          <p:cNvPicPr/>
          <p:nvPr/>
        </p:nvPicPr>
        <p:blipFill>
          <a:blip r:embed="rId1"/>
          <a:stretch/>
        </p:blipFill>
        <p:spPr>
          <a:xfrm>
            <a:off x="2700360" y="2617920"/>
            <a:ext cx="3645000" cy="4240080"/>
          </a:xfrm>
          <a:prstGeom prst="rect">
            <a:avLst/>
          </a:prstGeom>
          <a:ln w="0">
            <a:noFill/>
          </a:ln>
        </p:spPr>
      </p:pic>
    </p:spTree>
  </p:cSld>
  <p:transition spd="med" advTm="2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373960" cy="433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Object 4"/>
          <p:cNvGraphicFramePr/>
          <p:nvPr/>
        </p:nvGraphicFramePr>
        <p:xfrm>
          <a:off x="3132000" y="5445000"/>
          <a:ext cx="2108160" cy="104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5445000"/>
                    <a:ext cx="21081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4"/>
          <p:cNvGraphicFramePr/>
          <p:nvPr/>
        </p:nvGraphicFramePr>
        <p:xfrm>
          <a:off x="2954160" y="5589720"/>
          <a:ext cx="2032200" cy="104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4160" y="5589720"/>
                    <a:ext cx="2032200" cy="10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32" descr=""/>
          <p:cNvPicPr/>
          <p:nvPr/>
        </p:nvPicPr>
        <p:blipFill>
          <a:blip r:embed="rId3"/>
          <a:stretch/>
        </p:blipFill>
        <p:spPr>
          <a:xfrm>
            <a:off x="468360" y="1341360"/>
            <a:ext cx="8373960" cy="433548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373960" cy="433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Object 4"/>
          <p:cNvGraphicFramePr/>
          <p:nvPr/>
        </p:nvGraphicFramePr>
        <p:xfrm>
          <a:off x="2922480" y="5589720"/>
          <a:ext cx="2095560" cy="104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22480" y="5589720"/>
                    <a:ext cx="2095560" cy="10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3645000" cy="424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Object 4"/>
          <p:cNvGraphicFramePr/>
          <p:nvPr/>
        </p:nvGraphicFramePr>
        <p:xfrm>
          <a:off x="3059280" y="5516640"/>
          <a:ext cx="2044440" cy="104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59280" y="5516640"/>
                    <a:ext cx="204444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3645000" cy="424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4"/>
          <p:cNvGraphicFramePr/>
          <p:nvPr/>
        </p:nvGraphicFramePr>
        <p:xfrm>
          <a:off x="3078000" y="5516640"/>
          <a:ext cx="2006640" cy="104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78000" y="5516640"/>
                    <a:ext cx="200664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3645000" cy="424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Object 4"/>
          <p:cNvGraphicFramePr/>
          <p:nvPr/>
        </p:nvGraphicFramePr>
        <p:xfrm>
          <a:off x="2843280" y="5516640"/>
          <a:ext cx="2044800" cy="104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3280" y="5516640"/>
                    <a:ext cx="204480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373960" cy="4335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3"/>
          <p:cNvSpPr/>
          <p:nvPr/>
        </p:nvSpPr>
        <p:spPr>
          <a:xfrm>
            <a:off x="1637640" y="5877000"/>
            <a:ext cx="35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e cos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Object 34"/>
          <p:cNvGraphicFramePr/>
          <p:nvPr/>
        </p:nvGraphicFramePr>
        <p:xfrm>
          <a:off x="5076720" y="5950080"/>
          <a:ext cx="3304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Object 3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5950080"/>
                    <a:ext cx="330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2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3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601524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Object 4"/>
          <p:cNvGraphicFramePr/>
          <p:nvPr/>
        </p:nvGraphicFramePr>
        <p:xfrm>
          <a:off x="3276720" y="5373720"/>
          <a:ext cx="2158920" cy="104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5373720"/>
                    <a:ext cx="215892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33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601524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Object 4"/>
          <p:cNvGraphicFramePr/>
          <p:nvPr/>
        </p:nvGraphicFramePr>
        <p:xfrm>
          <a:off x="3308400" y="5373720"/>
          <a:ext cx="2095560" cy="104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8400" y="5373720"/>
                    <a:ext cx="20955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33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601524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Object 4"/>
          <p:cNvGraphicFramePr/>
          <p:nvPr/>
        </p:nvGraphicFramePr>
        <p:xfrm>
          <a:off x="3289320" y="5373720"/>
          <a:ext cx="2133720" cy="104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89320" y="5373720"/>
                    <a:ext cx="213372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7"/>
          <p:cNvSpPr/>
          <p:nvPr/>
        </p:nvSpPr>
        <p:spPr>
          <a:xfrm>
            <a:off x="2748960" y="5661000"/>
            <a:ext cx="357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P² = RT² + TP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6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3645000" cy="424044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373960" cy="43354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3"/>
          <p:cNvSpPr/>
          <p:nvPr/>
        </p:nvSpPr>
        <p:spPr>
          <a:xfrm>
            <a:off x="1637280" y="5877000"/>
            <a:ext cx="348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e si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28"/>
          <p:cNvGraphicFramePr/>
          <p:nvPr/>
        </p:nvGraphicFramePr>
        <p:xfrm>
          <a:off x="5076720" y="5950080"/>
          <a:ext cx="3304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5950080"/>
                    <a:ext cx="330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2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373960" cy="433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Object 26"/>
          <p:cNvGraphicFramePr/>
          <p:nvPr/>
        </p:nvGraphicFramePr>
        <p:xfrm>
          <a:off x="5076720" y="5950080"/>
          <a:ext cx="3304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Object 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5950080"/>
                    <a:ext cx="330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33"/>
          <p:cNvSpPr/>
          <p:nvPr/>
        </p:nvSpPr>
        <p:spPr>
          <a:xfrm>
            <a:off x="1636920" y="5877000"/>
            <a:ext cx="351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ta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3645000" cy="42404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3"/>
          <p:cNvSpPr/>
          <p:nvPr/>
        </p:nvSpPr>
        <p:spPr>
          <a:xfrm>
            <a:off x="1638360" y="5877000"/>
            <a:ext cx="369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e cos d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Object 26"/>
          <p:cNvGraphicFramePr/>
          <p:nvPr/>
        </p:nvGraphicFramePr>
        <p:xfrm>
          <a:off x="5076720" y="6021360"/>
          <a:ext cx="3304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Object 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6021360"/>
                    <a:ext cx="330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2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3644640" cy="424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Object 28"/>
          <p:cNvGraphicFramePr/>
          <p:nvPr/>
        </p:nvGraphicFramePr>
        <p:xfrm>
          <a:off x="5076720" y="6021360"/>
          <a:ext cx="3304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6021360"/>
                    <a:ext cx="330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Text Box 33"/>
          <p:cNvSpPr/>
          <p:nvPr/>
        </p:nvSpPr>
        <p:spPr>
          <a:xfrm>
            <a:off x="1637280" y="5877000"/>
            <a:ext cx="348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e si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2627280" y="1341360"/>
            <a:ext cx="3645000" cy="424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Object 28"/>
          <p:cNvGraphicFramePr/>
          <p:nvPr/>
        </p:nvGraphicFramePr>
        <p:xfrm>
          <a:off x="5076720" y="6021360"/>
          <a:ext cx="3304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6021360"/>
                    <a:ext cx="330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33"/>
          <p:cNvSpPr/>
          <p:nvPr/>
        </p:nvSpPr>
        <p:spPr>
          <a:xfrm>
            <a:off x="1636920" y="5877000"/>
            <a:ext cx="351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ta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3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6015240" cy="41148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3"/>
          <p:cNvSpPr/>
          <p:nvPr/>
        </p:nvSpPr>
        <p:spPr>
          <a:xfrm>
            <a:off x="1638360" y="5877000"/>
            <a:ext cx="369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e cos d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28"/>
          <p:cNvGraphicFramePr/>
          <p:nvPr/>
        </p:nvGraphicFramePr>
        <p:xfrm>
          <a:off x="5076720" y="6021360"/>
          <a:ext cx="38124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6021360"/>
                    <a:ext cx="3812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2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3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01488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Object 39"/>
          <p:cNvGraphicFramePr/>
          <p:nvPr/>
        </p:nvGraphicFramePr>
        <p:xfrm>
          <a:off x="5076720" y="6021360"/>
          <a:ext cx="38124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6021360"/>
                    <a:ext cx="3812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Text Box 33"/>
          <p:cNvSpPr/>
          <p:nvPr/>
        </p:nvSpPr>
        <p:spPr>
          <a:xfrm>
            <a:off x="1637280" y="5877000"/>
            <a:ext cx="348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e si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0-11-19T02:33:06Z</dcterms:modified>
  <cp:revision>21</cp:revision>
  <dc:subject/>
  <dc:title>Diapositive 1</dc:title>
</cp:coreProperties>
</file>