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292-AFB1-4F16-B61E-B4A6AF64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02D-C8F3-43DA-AF3C-5DEAE865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4F0-01F0-4D75-8D7B-023F4322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5E0-5830-4248-A61E-FFD7FC6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927-F052-487A-AF2B-D2B93C5F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107-8151-43B8-BC63-87ADF9C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700-0FC7-416A-B8C5-E44253A6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288-F4EC-4BE3-924A-9A1ADAC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A31-7BC4-4CD5-AF85-0A691FC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D90-702B-4929-9BA8-9BEA079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EB9-CA49-487C-A014-BC790A8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1F5-7C82-4809-9D1F-C43AC9E0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7FEA-05CA-44E6-AC34-C646BB8D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2492280"/>
          <a:ext cx="7632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32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800" y="1413000"/>
            <a:ext cx="63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s le résultat sous la fo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9640" y="1341360"/>
          <a:ext cx="1930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34136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2637000"/>
          <a:ext cx="525636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52563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96548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1040" y="6021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C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1960" y="595008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I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37040" cy="38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68360" y="5156280"/>
          <a:ext cx="467388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673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776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556000" y="5156280"/>
          <a:ext cx="445752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156280"/>
                    <a:ext cx="445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059360" cy="39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24000" y="5156280"/>
          <a:ext cx="50547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5156280"/>
                    <a:ext cx="5054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776920" cy="39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9600" y="5564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s droites (d) et (d’) so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7640" y="134136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C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00360" y="2276640"/>
          <a:ext cx="40323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032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65360"/>
          <a:ext cx="8893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88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8280"/>
          <a:ext cx="91440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3760" y="2637000"/>
          <a:ext cx="8628120" cy="23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637000"/>
                    <a:ext cx="86281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0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560" y="1308240"/>
            <a:ext cx="75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I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558880"/>
            <a:ext cx="54878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333760" cy="43401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470480" cy="4327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81696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960" y="134136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 peut-on dire des droites (d) et (d’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08360" y="2852640"/>
          <a:ext cx="17272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172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47600" y="141300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le résultat sous la forme d’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47640" y="2276640"/>
          <a:ext cx="59040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5904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40:31Z</dcterms:modified>
  <cp:revision>24</cp:revision>
  <dc:subject/>
  <dc:title>Diapositive 1</dc:title>
</cp:coreProperties>
</file>