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46F1-1782-4DAE-8890-144D2E1785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27D8-3F53-4FF3-8A5B-863D2E9F4C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A7A9-F3FC-442F-846F-C4F3C2CAE9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D8B7-FCCA-49F3-9041-0A461E33E7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4B43-8A38-445C-BE89-365427043B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9E63-E41D-4C4D-9527-8C1F7EEF6D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CBF2-83C1-4678-91CA-70BAC76D2A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8FA2-B056-48B0-B78C-9568191D47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4FB0-509F-4DE1-8813-2A288F4DF8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992D-518A-4D24-AAC4-92CEF96F7F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F335-1CE7-43FA-804E-E2A35590F7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6F05-8EE5-4712-AFF2-76CE38EA20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6F7C-BE5B-4814-96BF-A6BE3B9B44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BC3A-D38B-40EE-8AD4-A40D331803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6421-312D-4893-8045-BDE1A3A24D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3B3F-BD23-402B-AFE7-3114083B93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CD13-C83C-45E1-8D3C-E6583A9B70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13C8-E120-49E8-8085-73A6A9F3F7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6495-C237-4019-AE96-58B082AB29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E78C-BEF5-492F-B16A-6DD3F8BFF5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9C16-57BB-47F2-A7DE-A31B9CAD05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11E2-F0F9-418F-BEE8-849FE7ED83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8D43-216D-418B-9BD7-18236940C0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3590-95D1-4ADC-92CD-77B80622F3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A613-9FF9-4294-9EE9-507DD4020D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FB4D-0A4D-417D-A87A-99B8C189CA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5031-BAA4-4DBB-8D89-670AAD8A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9B7-20BA-427C-A885-59EF30BF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FF7A-F2F6-4D31-87EE-6E93EB74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4EC-3815-4C61-BC9D-43884460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B77-EE60-4C1C-A044-498098CB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C20-C900-489C-84C6-E200DCF0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F4F-78A6-4F3D-AE42-303D667C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90DA-12A4-4C62-882E-C1B30D05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E2F-C8C4-45FF-ACAF-FA9E26F7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CCF9-6BC2-46C8-9CCA-8916B9CE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6BB-BE71-4FBC-B5C4-4A43BF3D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3FBA-14F6-430E-921D-CBD7ED07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3B0C-EB87-4102-AF9F-81A8AF0D907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17"/>
          <p:cNvGraphicFramePr/>
          <p:nvPr/>
        </p:nvGraphicFramePr>
        <p:xfrm>
          <a:off x="3635280" y="2133720"/>
          <a:ext cx="344196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133720"/>
                    <a:ext cx="34419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8"/>
          <p:cNvGraphicFramePr/>
          <p:nvPr/>
        </p:nvGraphicFramePr>
        <p:xfrm>
          <a:off x="3419640" y="4149720"/>
          <a:ext cx="34542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4542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1397160"/>
          <a:ext cx="6096240" cy="413532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2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iser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iser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18"/>
          <p:cNvGraphicFramePr/>
          <p:nvPr/>
        </p:nvGraphicFramePr>
        <p:xfrm>
          <a:off x="4427640" y="2492280"/>
          <a:ext cx="17524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492280"/>
                    <a:ext cx="17524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1"/>
          <p:cNvGraphicFramePr/>
          <p:nvPr/>
        </p:nvGraphicFramePr>
        <p:xfrm>
          <a:off x="4427640" y="4581360"/>
          <a:ext cx="172692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581360"/>
                    <a:ext cx="17269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17"/>
          <p:cNvGraphicFramePr/>
          <p:nvPr/>
        </p:nvGraphicFramePr>
        <p:xfrm>
          <a:off x="3924360" y="1916280"/>
          <a:ext cx="2286000" cy="100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916280"/>
                    <a:ext cx="2286000" cy="100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18"/>
          <p:cNvGraphicFramePr/>
          <p:nvPr/>
        </p:nvGraphicFramePr>
        <p:xfrm>
          <a:off x="3851280" y="4005360"/>
          <a:ext cx="218448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005360"/>
                    <a:ext cx="21844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1397160"/>
          <a:ext cx="7632720" cy="4063680"/>
        </p:xfrm>
        <a:graphic>
          <a:graphicData uri="http://schemas.openxmlformats.org/drawingml/2006/table">
            <a:tbl>
              <a:tblPr/>
              <a:tblGrid>
                <a:gridCol w="1873080"/>
                <a:gridCol w="5759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²</a:t>
                      </a: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=a²+2ab+b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-b)²</a:t>
                      </a: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=a²-2ab+b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10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397160"/>
          <a:ext cx="8209080" cy="4063680"/>
        </p:xfrm>
        <a:graphic>
          <a:graphicData uri="http://schemas.openxmlformats.org/drawingml/2006/table">
            <a:tbl>
              <a:tblPr/>
              <a:tblGrid>
                <a:gridCol w="1871640"/>
                <a:gridCol w="6337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15"/>
          <p:cNvGraphicFramePr/>
          <p:nvPr/>
        </p:nvGraphicFramePr>
        <p:xfrm>
          <a:off x="2195640" y="1989000"/>
          <a:ext cx="598140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59814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20"/>
          <p:cNvGraphicFramePr/>
          <p:nvPr/>
        </p:nvGraphicFramePr>
        <p:xfrm>
          <a:off x="2195640" y="4076640"/>
          <a:ext cx="595620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076640"/>
                    <a:ext cx="59562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10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397160"/>
          <a:ext cx="871380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7056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19"/>
          <p:cNvGraphicFramePr/>
          <p:nvPr/>
        </p:nvGraphicFramePr>
        <p:xfrm>
          <a:off x="2050920" y="1916280"/>
          <a:ext cx="6794640" cy="100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16280"/>
                    <a:ext cx="6794640" cy="100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0"/>
          <p:cNvGraphicFramePr/>
          <p:nvPr/>
        </p:nvGraphicFramePr>
        <p:xfrm>
          <a:off x="1835280" y="4005360"/>
          <a:ext cx="706104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005360"/>
                    <a:ext cx="70610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1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1397160"/>
          <a:ext cx="8856720" cy="4063680"/>
        </p:xfrm>
        <a:graphic>
          <a:graphicData uri="http://schemas.openxmlformats.org/drawingml/2006/table">
            <a:tbl>
              <a:tblPr/>
              <a:tblGrid>
                <a:gridCol w="1656000"/>
                <a:gridCol w="7200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21"/>
          <p:cNvGraphicFramePr/>
          <p:nvPr/>
        </p:nvGraphicFramePr>
        <p:xfrm>
          <a:off x="2050920" y="1989000"/>
          <a:ext cx="67438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89000"/>
                    <a:ext cx="67438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2"/>
          <p:cNvGraphicFramePr/>
          <p:nvPr/>
        </p:nvGraphicFramePr>
        <p:xfrm>
          <a:off x="2195640" y="4076640"/>
          <a:ext cx="629892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076640"/>
                    <a:ext cx="62989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1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397160"/>
          <a:ext cx="7296120" cy="4063680"/>
        </p:xfrm>
        <a:graphic>
          <a:graphicData uri="http://schemas.openxmlformats.org/drawingml/2006/table">
            <a:tbl>
              <a:tblPr/>
              <a:tblGrid>
                <a:gridCol w="1655640"/>
                <a:gridCol w="56404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15"/>
          <p:cNvGraphicFramePr/>
          <p:nvPr/>
        </p:nvGraphicFramePr>
        <p:xfrm>
          <a:off x="2195640" y="1989000"/>
          <a:ext cx="52956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52956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8"/>
          <p:cNvGraphicFramePr/>
          <p:nvPr/>
        </p:nvGraphicFramePr>
        <p:xfrm>
          <a:off x="2111400" y="4076640"/>
          <a:ext cx="532116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1400" y="4076640"/>
                    <a:ext cx="53211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68360" y="1397160"/>
          <a:ext cx="7704000" cy="4063680"/>
        </p:xfrm>
        <a:graphic>
          <a:graphicData uri="http://schemas.openxmlformats.org/drawingml/2006/table">
            <a:tbl>
              <a:tblPr/>
              <a:tblGrid>
                <a:gridCol w="1727280"/>
                <a:gridCol w="5976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15"/>
          <p:cNvGraphicFramePr/>
          <p:nvPr/>
        </p:nvGraphicFramePr>
        <p:xfrm>
          <a:off x="2627280" y="1989000"/>
          <a:ext cx="520704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89000"/>
                    <a:ext cx="52070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1"/>
          <p:cNvGraphicFramePr/>
          <p:nvPr/>
        </p:nvGraphicFramePr>
        <p:xfrm>
          <a:off x="2627280" y="4149720"/>
          <a:ext cx="515628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4149720"/>
                    <a:ext cx="51562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913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15"/>
          <p:cNvGraphicFramePr/>
          <p:nvPr/>
        </p:nvGraphicFramePr>
        <p:xfrm>
          <a:off x="1979640" y="1916280"/>
          <a:ext cx="69469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16280"/>
                    <a:ext cx="6946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22"/>
          <p:cNvGraphicFramePr/>
          <p:nvPr/>
        </p:nvGraphicFramePr>
        <p:xfrm>
          <a:off x="1979640" y="4005360"/>
          <a:ext cx="69469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4005360"/>
                    <a:ext cx="6946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0920" y="1397160"/>
          <a:ext cx="878508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7056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Object 19"/>
          <p:cNvGraphicFramePr/>
          <p:nvPr/>
        </p:nvGraphicFramePr>
        <p:xfrm>
          <a:off x="2124000" y="1557360"/>
          <a:ext cx="684072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7360"/>
                    <a:ext cx="68407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20"/>
          <p:cNvGraphicFramePr/>
          <p:nvPr/>
        </p:nvGraphicFramePr>
        <p:xfrm>
          <a:off x="2050920" y="3716280"/>
          <a:ext cx="6842160" cy="14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716280"/>
                    <a:ext cx="684216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1397160"/>
          <a:ext cx="828180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6624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15"/>
          <p:cNvGraphicFramePr/>
          <p:nvPr/>
        </p:nvGraphicFramePr>
        <p:xfrm>
          <a:off x="1979640" y="1989000"/>
          <a:ext cx="63500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89000"/>
                    <a:ext cx="6350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9"/>
          <p:cNvGraphicFramePr/>
          <p:nvPr/>
        </p:nvGraphicFramePr>
        <p:xfrm>
          <a:off x="1922400" y="3933720"/>
          <a:ext cx="64645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2400" y="3933720"/>
                    <a:ext cx="64645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6985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20"/>
          <p:cNvGraphicFramePr/>
          <p:nvPr/>
        </p:nvGraphicFramePr>
        <p:xfrm>
          <a:off x="2124000" y="1844640"/>
          <a:ext cx="656604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844640"/>
                    <a:ext cx="65660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21"/>
          <p:cNvGraphicFramePr/>
          <p:nvPr/>
        </p:nvGraphicFramePr>
        <p:xfrm>
          <a:off x="1979640" y="4076640"/>
          <a:ext cx="689616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4076640"/>
                    <a:ext cx="6896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-b)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17"/>
          <p:cNvGraphicFramePr/>
          <p:nvPr/>
        </p:nvGraphicFramePr>
        <p:xfrm>
          <a:off x="4140360" y="1916280"/>
          <a:ext cx="2082600" cy="86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916280"/>
                    <a:ext cx="208260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18"/>
          <p:cNvGraphicFramePr/>
          <p:nvPr/>
        </p:nvGraphicFramePr>
        <p:xfrm>
          <a:off x="4211640" y="4005360"/>
          <a:ext cx="207000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005360"/>
                    <a:ext cx="2070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2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5"/>
          <p:cNvGraphicFramePr/>
          <p:nvPr/>
        </p:nvGraphicFramePr>
        <p:xfrm>
          <a:off x="4067280" y="1916280"/>
          <a:ext cx="2514600" cy="100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16280"/>
                    <a:ext cx="2514600" cy="100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6"/>
          <p:cNvGraphicFramePr/>
          <p:nvPr/>
        </p:nvGraphicFramePr>
        <p:xfrm>
          <a:off x="3924360" y="4076640"/>
          <a:ext cx="267948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679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2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15"/>
          <p:cNvGraphicFramePr/>
          <p:nvPr/>
        </p:nvGraphicFramePr>
        <p:xfrm>
          <a:off x="3851280" y="1773360"/>
          <a:ext cx="248904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773360"/>
                    <a:ext cx="24890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6"/>
          <p:cNvGraphicFramePr/>
          <p:nvPr/>
        </p:nvGraphicFramePr>
        <p:xfrm>
          <a:off x="3851280" y="3933720"/>
          <a:ext cx="22734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933720"/>
                    <a:ext cx="22734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2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7"/>
          <p:cNvGraphicFramePr/>
          <p:nvPr/>
        </p:nvGraphicFramePr>
        <p:xfrm>
          <a:off x="3995640" y="1989000"/>
          <a:ext cx="24004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400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8"/>
          <p:cNvGraphicFramePr/>
          <p:nvPr/>
        </p:nvGraphicFramePr>
        <p:xfrm>
          <a:off x="3989520" y="4005360"/>
          <a:ext cx="24127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89520" y="4005360"/>
                    <a:ext cx="24127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17"/>
          <p:cNvGraphicFramePr/>
          <p:nvPr/>
        </p:nvGraphicFramePr>
        <p:xfrm>
          <a:off x="4067280" y="1989000"/>
          <a:ext cx="234936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89000"/>
                    <a:ext cx="23493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18"/>
          <p:cNvGraphicFramePr/>
          <p:nvPr/>
        </p:nvGraphicFramePr>
        <p:xfrm>
          <a:off x="3851280" y="4149720"/>
          <a:ext cx="23623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3623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17"/>
          <p:cNvGraphicFramePr/>
          <p:nvPr/>
        </p:nvGraphicFramePr>
        <p:xfrm>
          <a:off x="4140360" y="1989000"/>
          <a:ext cx="19810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989000"/>
                    <a:ext cx="19810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8"/>
          <p:cNvGraphicFramePr/>
          <p:nvPr/>
        </p:nvGraphicFramePr>
        <p:xfrm>
          <a:off x="4140360" y="4076640"/>
          <a:ext cx="19810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076640"/>
                    <a:ext cx="1981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11-15T20:15:17Z</dcterms:modified>
  <cp:revision>22</cp:revision>
  <dc:subject/>
  <dc:title>Diapositive 1</dc:title>
</cp:coreProperties>
</file>