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6C3-BA38-4452-91BF-DCF72206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04C-3FC8-4D93-A701-A58CABB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3B4-505A-46B1-8279-F69D40A3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C87-CC5B-495D-98D7-5CA7447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4AE-71B7-4B89-8CFB-EAFE321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D8E-D51D-4291-A160-9E14596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A06-BFA7-4344-B8D4-F788FBA9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B70-A46B-48D7-AF28-5FE2117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A7A-492B-491E-9E6D-BAACBC2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0BC-FE2F-469A-82F1-A9CB4CC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2FA-55F3-4528-A709-2D1C89C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929-C262-4D1B-BA2F-397E67E2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F99-1A6F-4FFD-9562-C857EA72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628640"/>
          <a:ext cx="39495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28640"/>
                    <a:ext cx="3949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48000" y="3573360"/>
          <a:ext cx="39625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39625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3064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95640" y="4149720"/>
          <a:ext cx="2374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95640" y="2060640"/>
          <a:ext cx="270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0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2436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80000" y="2060640"/>
          <a:ext cx="2958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958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35280" y="4149720"/>
          <a:ext cx="2933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2060640"/>
          <a:ext cx="3861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61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36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51280" y="1628640"/>
          <a:ext cx="2654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628640"/>
                    <a:ext cx="2654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645000"/>
          <a:ext cx="2603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45000"/>
                    <a:ext cx="2603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67280" y="1557360"/>
          <a:ext cx="2552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552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95640" y="3645000"/>
          <a:ext cx="25401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645000"/>
                    <a:ext cx="25401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03640" y="1989000"/>
          <a:ext cx="4394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94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59280" y="4005360"/>
          <a:ext cx="45846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005360"/>
                    <a:ext cx="4584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76720" y="1773360"/>
          <a:ext cx="3898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3898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64000" y="3860640"/>
          <a:ext cx="347976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860640"/>
                    <a:ext cx="3479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24360" y="1628640"/>
          <a:ext cx="2857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2857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24360" y="3573360"/>
          <a:ext cx="24382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2438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11640" y="1557360"/>
          <a:ext cx="19558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57360"/>
                    <a:ext cx="1955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3645000"/>
          <a:ext cx="19303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645000"/>
                    <a:ext cx="1930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797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97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4149720"/>
          <a:ext cx="3492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9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348000" y="2060640"/>
          <a:ext cx="382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2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19640" y="4149720"/>
          <a:ext cx="389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4720" y="206064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84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84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14640" y="2060640"/>
          <a:ext cx="243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2060640"/>
                    <a:ext cx="243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362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62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29080" y="1628640"/>
          <a:ext cx="14986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1628640"/>
                    <a:ext cx="14986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416480" y="3645000"/>
          <a:ext cx="14731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6480" y="3645000"/>
                    <a:ext cx="14731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0048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84720" y="3645000"/>
          <a:ext cx="13968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1396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0800" y="1989000"/>
          <a:ext cx="26798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0800" y="1989000"/>
                    <a:ext cx="2679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017960" y="4005360"/>
          <a:ext cx="26668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960" y="4005360"/>
                    <a:ext cx="2666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241880" y="1773360"/>
          <a:ext cx="19684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773360"/>
                    <a:ext cx="1968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08560" y="3860640"/>
          <a:ext cx="179064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8560" y="3860640"/>
                    <a:ext cx="17906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57840" y="1628640"/>
          <a:ext cx="9903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628640"/>
                    <a:ext cx="9903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02:35:19Z</dcterms:modified>
  <cp:revision>23</cp:revision>
  <dc:subject/>
  <dc:title>Diapositive 1</dc:title>
</cp:coreProperties>
</file>