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D167-844D-44FB-93DC-A8EB86B43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713E-CA72-48BA-9270-05CB16A33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E712-D564-4CD9-A974-528B80D5B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26ED-8335-40A3-B3BF-516C7AC03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472E-45B3-4B48-873F-8DEF599F8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8CD9-EA31-4544-969E-ED91128EC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74C6-68E6-4D4A-8521-4A1B1EF24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D6B5-9C62-4E4B-A91B-1C8183C9D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D710-1617-46A8-AD5E-FE8C75989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5A88-FFA5-47AF-BCEB-F4B8046F8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90B8-8606-440E-ADC9-84D155620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6127-EBF2-4739-8437-9FAF52742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0E3A6-D9F2-46F7-9D97-7B0142B900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1520" y="1484280"/>
            <a:ext cx="8980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Activités mentales 3</a:t>
            </a:r>
            <a:r>
              <a:rPr b="1" lang="en-US" sz="66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07320" y="4100400"/>
            <a:ext cx="473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Prenez un stylo bl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6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7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8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640"/>
                            </p:stCondLst>
                            <p:childTnLst>
                              <p:par>
                                <p:cTn id="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400" y="1268280"/>
            <a:ext cx="8783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a demandé à des élèves le nombre de film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’ils ont vus au cinéma depuis la rentré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755640" y="2421000"/>
            <a:ext cx="6896160" cy="36464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5040" y="6203880"/>
            <a:ext cx="845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en d’élèves ont répondu à ce sondag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7" dur="10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00" y="1268280"/>
            <a:ext cx="8783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a demandé à des élèves le nombre de film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’ils ont vus au cinéma depuis la rentré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55640" y="2421000"/>
            <a:ext cx="6896160" cy="36464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-102600" y="6014880"/>
            <a:ext cx="862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elle est la fréquence des élèves ayant vu 4 fil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4" dur="10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66880" y="549360"/>
            <a:ext cx="245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n s’arrê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484720" y="2276640"/>
            <a:ext cx="465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osez votre stylo ble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25080" y="4149720"/>
            <a:ext cx="513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enez votre stylo 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rou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155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3" dur="1155" fill="hold"/>
                                        <p:tgtEl>
                                          <p:spTgt spid="7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4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5" dur="1155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" dur="1155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155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1155" fill="hold"/>
                                        <p:tgtEl>
                                          <p:spTgt spid="7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" dur="1155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" dur="1155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155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" dur="1155" fill="hold"/>
                                        <p:tgtEl>
                                          <p:spTgt spid="7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7" dur="1155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9" dur="1155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050200" y="2155680"/>
            <a:ext cx="496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Comic Sans MS"/>
              </a:rPr>
              <a:t>CORREC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3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3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3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33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44240" y="1523880"/>
            <a:ext cx="8462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oici une série de valeur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2; 13; 13; 15; 16; 16; 16; 17; 17; 19; 2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93280" y="2820960"/>
            <a:ext cx="488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l y a 11 valeurs: N=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684360" y="3645000"/>
          <a:ext cx="3377880" cy="72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3645000"/>
                    <a:ext cx="337788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633240" y="4332240"/>
            <a:ext cx="679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a médiane est la 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6</a:t>
            </a:r>
            <a:r>
              <a:rPr b="0" lang="en-US" sz="4000" spc="-1" strike="noStrike" baseline="30000">
                <a:solidFill>
                  <a:srgbClr val="cc0000"/>
                </a:solidFill>
                <a:latin typeface="Times New Roman"/>
              </a:rPr>
              <a:t>ème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 valeur: 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39" dur="5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44240" y="1523880"/>
            <a:ext cx="8462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oici une série de valeur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2; 13; 13; 15; 16; 16; 16; 17; 17; 19; 2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93280" y="2820960"/>
            <a:ext cx="488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l y a 11 valeurs: N=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684360" y="3573360"/>
          <a:ext cx="3797280" cy="72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3573360"/>
                    <a:ext cx="379728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633600" y="4260960"/>
            <a:ext cx="846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e premier quartile est la 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3</a:t>
            </a:r>
            <a:r>
              <a:rPr b="0" lang="en-US" sz="4000" spc="-1" strike="noStrike" baseline="30000">
                <a:solidFill>
                  <a:srgbClr val="cc0000"/>
                </a:solidFill>
                <a:latin typeface="Times New Roman"/>
              </a:rPr>
              <a:t>ème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 valeur: 13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46" dur="5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44240" y="1523880"/>
            <a:ext cx="8462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oici une série de valeur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2; 13; 13; 15; 16; 16; 16; 17; 17; 19; 2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93280" y="2820960"/>
            <a:ext cx="488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l y a 11 valeurs: N=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539640" y="3500280"/>
          <a:ext cx="3733920" cy="168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3500280"/>
                    <a:ext cx="3733920" cy="168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343800" y="5052960"/>
            <a:ext cx="864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e troisième quartile est la 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9</a:t>
            </a:r>
            <a:r>
              <a:rPr b="0" lang="en-US" sz="4000" spc="-1" strike="noStrike" baseline="30000">
                <a:solidFill>
                  <a:srgbClr val="cc0000"/>
                </a:solidFill>
                <a:latin typeface="Times New Roman"/>
              </a:rPr>
              <a:t>ème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 valeur: 1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3" dur="5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4240" y="1523880"/>
            <a:ext cx="8462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oici une série de valeur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2; 13; 13; 15; 16; 16; 16; 17; 17; 19; 2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971640" y="3429000"/>
          <a:ext cx="6451560" cy="6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3429000"/>
                    <a:ext cx="645156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0" dur="5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48920" y="1523880"/>
            <a:ext cx="5601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oici une série de valeur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3; 24; 24; 25; 26; 2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0920" y="2676600"/>
            <a:ext cx="437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l y a 6valeurs: N=6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539640" y="3429000"/>
          <a:ext cx="251460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3429000"/>
                    <a:ext cx="251460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"/>
          <p:cNvSpPr/>
          <p:nvPr/>
        </p:nvSpPr>
        <p:spPr>
          <a:xfrm>
            <a:off x="520560" y="3971880"/>
            <a:ext cx="847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a médiane est un nombre compris ent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4 et 25: 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24,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7" dur="5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20920" y="2676600"/>
            <a:ext cx="437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l y a 6valeurs: N=6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48920" y="1523880"/>
            <a:ext cx="5601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oici une série de valeur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3; 24; 24; 25; 26; 2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539640" y="3429000"/>
          <a:ext cx="3009960" cy="72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3429000"/>
                    <a:ext cx="300996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"/>
          <p:cNvSpPr/>
          <p:nvPr/>
        </p:nvSpPr>
        <p:spPr>
          <a:xfrm>
            <a:off x="488880" y="4044960"/>
            <a:ext cx="833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e premier quartile est la 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2</a:t>
            </a:r>
            <a:r>
              <a:rPr b="0" lang="en-US" sz="4000" spc="-1" strike="noStrike" baseline="30000">
                <a:solidFill>
                  <a:srgbClr val="cc0000"/>
                </a:solidFill>
                <a:latin typeface="Times New Roman"/>
              </a:rPr>
              <a:t>ème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 valeur: 2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4" dur="5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44240" y="1523880"/>
            <a:ext cx="84621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oici une série de valeur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2; 13; 13; 15; 16; 16; 16; 17; 17; 19; 2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onner une médiane de cette séri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1" dur="10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48920" y="1523880"/>
            <a:ext cx="5601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oici une série de valeur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3; 24; 24; 25; 26; 2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20920" y="2676600"/>
            <a:ext cx="437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l y a 6valeurs: N=6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611280" y="3429000"/>
          <a:ext cx="3124080" cy="168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3429000"/>
                    <a:ext cx="3124080" cy="168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"/>
          <p:cNvSpPr/>
          <p:nvPr/>
        </p:nvSpPr>
        <p:spPr>
          <a:xfrm>
            <a:off x="488160" y="5268960"/>
            <a:ext cx="8521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e troisième quartile est la 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5</a:t>
            </a:r>
            <a:r>
              <a:rPr b="0" lang="en-US" sz="4000" spc="-1" strike="noStrike" baseline="30000">
                <a:solidFill>
                  <a:srgbClr val="cc0000"/>
                </a:solidFill>
                <a:latin typeface="Times New Roman"/>
              </a:rPr>
              <a:t>ème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 valeur:2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1" dur="5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48920" y="1523880"/>
            <a:ext cx="5601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oici une série de valeur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3; 24; 24; 25; 26; 2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20920" y="2676600"/>
            <a:ext cx="437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l y a 6valeurs: N=6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611280" y="3500280"/>
          <a:ext cx="6553080" cy="6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3500280"/>
                    <a:ext cx="655308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8" dur="5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042920" y="1341360"/>
            <a:ext cx="6896160" cy="3646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7" name=""/>
          <p:cNvGraphicFramePr/>
          <p:nvPr/>
        </p:nvGraphicFramePr>
        <p:xfrm>
          <a:off x="250920" y="5300640"/>
          <a:ext cx="8508960" cy="596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5300640"/>
                    <a:ext cx="850896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5" dur="5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403280" y="1341360"/>
            <a:ext cx="6896160" cy="3646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2" name=""/>
          <p:cNvGraphicFramePr/>
          <p:nvPr/>
        </p:nvGraphicFramePr>
        <p:xfrm>
          <a:off x="1476360" y="4941720"/>
          <a:ext cx="6235560" cy="1702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76360" y="4941720"/>
                    <a:ext cx="6235560" cy="170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02" dur="5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095480" y="1751400"/>
            <a:ext cx="750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Compter le nombre de réponses juste et écrire votre note sur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49280" y="1523880"/>
            <a:ext cx="84927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oici une série de valeur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2; 13; 13; 15; 16; 16; 16; 17; 17; 19; 2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onner le premier quartile de cette séri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8" dur="10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48920" y="1523880"/>
            <a:ext cx="88048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oici une série de valeur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2; 13; 13; 15; 16; 16; 16; 17; 17; 19; 2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onner le troisième quartile de cette séri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5" dur="10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44240" y="1523880"/>
            <a:ext cx="84621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oici une série de valeur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2; 13; 13; 15; 16; 16; 16; 17; 17; 19; 2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onner l’étendue de cette séri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2" dur="10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48920" y="1523880"/>
            <a:ext cx="73206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oici une série de valeur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3; 24; 24; 25; 26; 2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onner une médiane de cette séri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9" dur="10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49280" y="1523880"/>
            <a:ext cx="84927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oici une série de valeur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3; 24; 24; 25; 26; 2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onner le premier quartile de cette séri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48920" y="1523880"/>
            <a:ext cx="88048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oici une série de valeur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3; 24; 24; 25; 26; 2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onner le troisième quartile de cette séri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3" dur="10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8920" y="1523880"/>
            <a:ext cx="66301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oici une série de valeur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3; 24; 24; 25; 26; 2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onner l’étendue de cette séri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0" dur="10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02:38:06Z</dcterms:created>
  <dc:creator>JESS</dc:creator>
  <dc:description/>
  <dc:language>en-US</dc:language>
  <cp:lastModifiedBy>JESS</cp:lastModifiedBy>
  <dcterms:modified xsi:type="dcterms:W3CDTF">2010-07-16T20:17:49Z</dcterms:modified>
  <cp:revision>21</cp:revision>
  <dc:subject/>
  <dc:title>Diapositive 1</dc:title>
</cp:coreProperties>
</file>