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8486-C44F-4D3F-8FCE-D24878907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805E-3539-4EAA-8AA3-DF5BFAB54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3671-F975-4CE2-8F96-B115B74FD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1B9E-A463-4380-AA37-1323DBAEC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A7E8-5D5C-4358-8F26-F33E0054E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8F35-86FF-40C1-88EA-8B7B188E4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4B9B-1F88-4338-9895-54148BA15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D23E-DF71-461C-A296-CE1FBD2C7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D8EF-0556-43EA-B64C-1A70AAF2A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E271-A207-4ACD-B856-D1450B70D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65A2-88EC-4ADC-A5A3-CC7E655C7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A305-210F-4AE6-848C-F8BAEAD81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F939E-B9D4-4AA3-B513-0D44A76368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0800" y="1484280"/>
            <a:ext cx="898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Activités mentales 3</a:t>
            </a:r>
            <a:r>
              <a:rPr b="1" lang="en-US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  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52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GCD(12, 15)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GCD(10, 15)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8000">
    <p:cover dir="r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1" dur="15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GCD(6,8)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GCD(4,5)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8000">
    <p:cover dir="r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8" dur="15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4067280" y="2060640"/>
          <a:ext cx="170172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2060640"/>
                    <a:ext cx="17017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3851280" y="4221000"/>
          <a:ext cx="177804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1280" y="4221000"/>
                    <a:ext cx="177804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5" dur="5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155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1155" fill="hold"/>
                                        <p:tgtEl>
                                          <p:spTgt spid="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1155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1155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4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203640" y="1628640"/>
          <a:ext cx="4356000" cy="170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1628640"/>
                    <a:ext cx="4356000" cy="17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3564000" y="3573360"/>
          <a:ext cx="3479760" cy="170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64000" y="3573360"/>
                    <a:ext cx="3479760" cy="17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0" dur="5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3419640" y="2060640"/>
          <a:ext cx="387324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2060640"/>
                    <a:ext cx="38732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3203640" y="4149720"/>
          <a:ext cx="419076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4149720"/>
                    <a:ext cx="41907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7" dur="5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79280" y="1397160"/>
          <a:ext cx="8929800" cy="4063680"/>
        </p:xfrm>
        <a:graphic>
          <a:graphicData uri="http://schemas.openxmlformats.org/drawingml/2006/table">
            <a:tbl>
              <a:tblPr/>
              <a:tblGrid>
                <a:gridCol w="1656000"/>
                <a:gridCol w="727380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854360" y="4221000"/>
          <a:ext cx="7289640" cy="6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4360" y="4221000"/>
                    <a:ext cx="728964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2268360" y="1484280"/>
          <a:ext cx="4610160" cy="190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68360" y="1484280"/>
                    <a:ext cx="461016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4" dur="5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s diviseurs de 15 sont </a:t>
                      </a:r>
                      <a:r>
                        <a:rPr b="0" lang="en-US" sz="4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, 3, 5 et 1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s diviseurs de 16 sont </a:t>
                      </a:r>
                      <a:r>
                        <a:rPr b="0" lang="en-US" sz="4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, 2, 4, 8, 16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1" dur="10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s diviseurs de 32 sont </a:t>
                      </a:r>
                      <a:r>
                        <a:rPr b="0" lang="en-US" sz="4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, 2, 4, 8, 16, 3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s diviseurs de 33 sont </a:t>
                      </a:r>
                      <a:r>
                        <a:rPr b="0" lang="en-US" sz="4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, 3, 11 et 3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8" dur="10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476360" y="981000"/>
          <a:ext cx="6095880" cy="1224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22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haut: SUJET 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1403280" y="3716280"/>
          <a:ext cx="6096240" cy="13683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3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bas: SUJET 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708360" y="2133720"/>
          <a:ext cx="293364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2133720"/>
                    <a:ext cx="29336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3851280" y="4149720"/>
          <a:ext cx="288288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1280" y="4149720"/>
                    <a:ext cx="28828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5" dur="5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s diviseurs de 10 sont </a:t>
                      </a:r>
                      <a:r>
                        <a:rPr b="0" lang="en-US" sz="4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, 2, 5, 10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s diviseurs de 12 sont </a:t>
                      </a:r>
                      <a:r>
                        <a:rPr b="0" lang="en-US" sz="4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, 2, 3, 4, 6, 12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2" dur="10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GCD(12 ,15)=</a:t>
                      </a:r>
                      <a:r>
                        <a:rPr b="0" lang="en-US" sz="4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GCD(10 ,15)=</a:t>
                      </a:r>
                      <a:r>
                        <a:rPr b="0" lang="en-US" sz="4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9" dur="5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GCD(6,8)=</a:t>
                      </a:r>
                      <a:r>
                        <a:rPr b="0" lang="en-US" sz="4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GCD(4,5)=</a:t>
                      </a:r>
                      <a:r>
                        <a:rPr b="0" lang="en-US" sz="4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6" dur="5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3924360" y="2060640"/>
          <a:ext cx="280656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2060640"/>
                    <a:ext cx="28065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3924360" y="4076640"/>
          <a:ext cx="287028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4076640"/>
                    <a:ext cx="28702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3" dur="5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067280" y="1557360"/>
          <a:ext cx="2197080" cy="170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1557360"/>
                    <a:ext cx="219708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4284720" y="3573360"/>
          <a:ext cx="1905120" cy="170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3573360"/>
                    <a:ext cx="1905120" cy="17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2" dur="10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140360" y="2060640"/>
          <a:ext cx="237492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2060640"/>
                    <a:ext cx="23749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3708360" y="4149720"/>
          <a:ext cx="281952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8360" y="4149720"/>
                    <a:ext cx="28195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9" dur="10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523880" y="1397160"/>
          <a:ext cx="657720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96908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3348000" y="1989000"/>
          <a:ext cx="4610160" cy="6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1989000"/>
                    <a:ext cx="461016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3276720" y="4149720"/>
          <a:ext cx="462276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4149720"/>
                    <a:ext cx="462276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6" dur="15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ne les diviseurs de 1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ne les diviseurs de 1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8000">
    <p:cover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5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ne tous les diviseurs de 32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ne tous les diviseurs de 33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8000">
    <p:cover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0" dur="15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140360" y="2060640"/>
          <a:ext cx="180324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2060640"/>
                    <a:ext cx="18032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4211640" y="4076640"/>
          <a:ext cx="173988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11640" y="4076640"/>
                    <a:ext cx="17398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7" dur="5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ne tous les diviseurs de 10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ne tous les diviseurs de 12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8000">
    <p:cover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4" dur="15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JESS</cp:lastModifiedBy>
  <dcterms:modified xsi:type="dcterms:W3CDTF">2010-05-20T20:56:10Z</dcterms:modified>
  <cp:revision>20</cp:revision>
  <dc:subject/>
  <dc:title>Diapositive 1</dc:title>
</cp:coreProperties>
</file>