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EAD-4532-4B0A-8BE6-202F3C9A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681-012A-4484-BC50-8CEA779C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C88-49AC-4E00-BE20-EC170DF0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B29-0960-4A11-8685-8B3AA09B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0279-5874-49B8-9A21-3E137D2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02DA-1B84-4622-AF89-8B9A4FD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94B-9584-4C83-9BC1-314C902A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0F49-83A5-42C8-BE7E-7B6F38B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EE72-FDDB-4331-9E92-44C6B5DA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9B85-0852-4620-8A89-E98CA696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0C23-41CA-4180-9016-771629BC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4C9-92D1-449A-A5B5-C669CD6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3041-78EA-4139-A1A3-03B394B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F2A-F872-4009-8986-12D4357A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9695-5DC0-495A-AE4A-F52C407C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2140-83D2-489A-8463-9584C5B7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E9E7-1B79-4842-A414-88FC26F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375-6DBD-4554-9A45-4D9F8143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C02-0C55-4632-B83E-EB5C54E8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DBF-B6B0-456E-AC45-ED398A4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9F8-F4A0-41DD-8B57-E3AA6A62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CBB-83A0-416C-8AED-153CD0C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8CE-B2E8-431E-9B75-A912106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286-E1CD-431E-B2EB-C72D17C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201-7465-4076-9812-B6260ACF1857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7652-2281-4AC5-9EB1-DEADD5133ACC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4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comment obtient –on le point moyen du nu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  , la droite obtenue avec les formules de la calculatrice est la droit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4527720" y="3887640"/>
          <a:ext cx="116820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887640"/>
                    <a:ext cx="116820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695760" y="3989520"/>
          <a:ext cx="2832120" cy="49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989520"/>
                    <a:ext cx="28321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4324320" y="3944880"/>
          <a:ext cx="15750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944880"/>
                    <a:ext cx="1575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5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quelle valeur de x,  la tangente est-elle « horizontale 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4229280" y="1341360"/>
          <a:ext cx="28573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9280" y="1341360"/>
                    <a:ext cx="2857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, l’ensemble des points que l’on place dans un repère s’appelle …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ns une série statistique dou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, essayer de placer une droite passant le plus près possible des points du nuage revient à réaliser un ajustemen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5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8:14Z</dcterms:modified>
  <cp:revision>25</cp:revision>
  <dc:subject/>
  <dc:title>Donner l'image de -1 par la fonction f définie par </dc:title>
</cp:coreProperties>
</file>