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188-5ADE-45F5-A851-1DEB7E4E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721-2AE9-4511-8663-DBB9ECA3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80D-E6BA-41A9-BF47-50A501B8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120-B99A-4A91-9E93-8A178F6C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C467-BB28-4D73-AD4D-659F7D3E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76A9-9FA6-4185-B1B3-B334C35A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B7F4-2580-43D1-8027-CAC5824B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2A94-1B36-41A2-800B-97B340C1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0ED4-7804-414F-84E2-151F04E8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DBE6-FEAB-4AD0-B2C0-ECD107CC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57CB-72EA-465E-800C-67EF54C5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8D02-2F49-4E6F-854B-D958E030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525B-3D8B-45FA-8EE0-A350145A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0B4E-D71C-4691-AADA-A1243248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E028-86CD-457A-B3D8-F15AC635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CB82-930C-4FA6-ADAD-212253FE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59F3-08FC-43F2-8B4A-E1C9A530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FEB-308F-444B-8286-33257AF0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8AE-3294-4CA1-96C9-2AD7BA0F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B77-62AB-442E-8FFA-F899BD62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C6F-6ACB-4573-8436-04F65D4D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4362-A388-4881-BFDF-E33DCF17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C9A-C07E-4F7B-80DE-306C242E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B97-3E09-420E-8C09-70A4DC7C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A04F-C6CA-47A5-9A06-5EFABC7BBE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61840" y="-177840"/>
            <a:ext cx="2427120" cy="2246760"/>
            <a:chOff x="716184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161840" y="-177840"/>
              <a:ext cx="2427120" cy="2246760"/>
              <a:chOff x="716184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048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61840" y="-177840"/>
                <a:ext cx="2427120" cy="2246760"/>
                <a:chOff x="716184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7392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0460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0328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7384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9988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2968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0380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4620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2128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04640"/>
            <a:ext cx="8675640" cy="645336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12DA-2AAB-46C6-8AC3-A8D2F27BB15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68360" y="476280"/>
            <a:ext cx="2549520" cy="1101240"/>
            <a:chOff x="468360" y="476280"/>
            <a:chExt cx="2549520" cy="1101240"/>
          </a:xfrm>
        </p:grpSpPr>
        <p:sp>
          <p:nvSpPr>
            <p:cNvPr id="93" name=""/>
            <p:cNvSpPr/>
            <p:nvPr/>
          </p:nvSpPr>
          <p:spPr>
            <a:xfrm>
              <a:off x="525960" y="504720"/>
              <a:ext cx="2403720" cy="10000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4080" y="587160"/>
              <a:ext cx="2397600" cy="990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3120" y="668880"/>
              <a:ext cx="1589760" cy="903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68360" y="476280"/>
              <a:ext cx="2549520" cy="1063080"/>
              <a:chOff x="468360" y="476280"/>
              <a:chExt cx="2549520" cy="1063080"/>
            </a:xfrm>
          </p:grpSpPr>
          <p:sp>
            <p:nvSpPr>
              <p:cNvPr id="97" name=""/>
              <p:cNvSpPr/>
              <p:nvPr/>
            </p:nvSpPr>
            <p:spPr>
              <a:xfrm>
                <a:off x="2479320" y="1249200"/>
                <a:ext cx="226440" cy="2102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8360" y="476280"/>
                <a:ext cx="2549520" cy="10630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3280" y="486000"/>
                <a:ext cx="1801440" cy="603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4000" y="577440"/>
                <a:ext cx="242280" cy="403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40920" y="857880"/>
                <a:ext cx="738000" cy="357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67360" y="4458240"/>
            <a:ext cx="979920" cy="1159560"/>
            <a:chOff x="7767360" y="445824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62680" y="480024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37480" y="477900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05600" y="476280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67360" y="4458240"/>
              <a:ext cx="979920" cy="1159560"/>
              <a:chOff x="7767360" y="445824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86160" y="520344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27760" y="479088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05680" y="489744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484120" y="470088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23400" y="490140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0000" y="515772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557360"/>
            <a:ext cx="888840" cy="380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700280"/>
            <a:ext cx="640080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ctivité mentale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3068640"/>
            <a:ext cx="727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quer vos nom et prénom sur votre feu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y a 10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us disposez de 45 secondes par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1557360"/>
            <a:ext cx="504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une fo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916360" y="2585880"/>
          <a:ext cx="18828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585880"/>
                    <a:ext cx="1882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87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1557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it une fo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843280" y="2421000"/>
          <a:ext cx="2660760" cy="15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421000"/>
                    <a:ext cx="2660760" cy="15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227664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lét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191120" y="3009960"/>
                <a:ext cx="685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57" name=""/>
          <p:cNvGraphicFramePr/>
          <p:nvPr/>
        </p:nvGraphicFramePr>
        <p:xfrm>
          <a:off x="2268360" y="3213000"/>
          <a:ext cx="362916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213000"/>
                    <a:ext cx="3629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177336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cas d’équiprobabilité, comment calculer la probabilité d’un événement A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03280" y="1557360"/>
          <a:ext cx="6181920" cy="12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18192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619280" y="2997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er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‘ (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773360"/>
            <a:ext cx="3571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) = x² ln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er 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‘ 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1484280"/>
            <a:ext cx="61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considère la droite (d) d’équation :  x + 2y = 16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éterminer les coordonnées des points d’intersection de la droite (d) et des ax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ésoudre l’équation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n (x) =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403280" y="1844640"/>
            <a:ext cx="640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nner la formule de l’équation d’une tangente à la courbe d’une fonction f au point d’abscisse  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1413000"/>
            <a:ext cx="590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rire la formule permettant de calculer   t    pour   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1+t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1,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04:26:59Z</dcterms:created>
  <dc:creator>Mignot Nathalie</dc:creator>
  <dc:description/>
  <dc:language>en-US</dc:language>
  <cp:lastModifiedBy>Mignot Nathalie</cp:lastModifiedBy>
  <dcterms:modified xsi:type="dcterms:W3CDTF">2008-08-24T04:58:14Z</dcterms:modified>
  <cp:revision>5</cp:revision>
  <dc:subject/>
  <dc:title>Activité mentale</dc:title>
</cp:coreProperties>
</file>