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7EF-C0D8-46AF-AC11-24C0D4D5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C5A-8E5A-4B6C-BFCD-619D00C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6DF-4BA0-42FC-A09E-97ECF2E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8F8-2B4D-41B9-974E-5F96BBB1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F93C-898D-4A5E-9067-D598FAFB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8900-D89C-4CAE-ACB2-BE37A05B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D408-DB81-436C-BEB0-B8BC809A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641B-E52E-43E8-BBB1-96360FBA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E7B-D03B-484C-9AEC-D3767D96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8FD-38D3-4261-8DEA-84BB0AC0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17CB-2699-4B2C-9951-0C0873F1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04B-356E-4173-A55D-97E87B6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EFF-1705-4444-A00C-24548B05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875B-1D64-401D-AA6E-6C67024A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ADE-C21A-4453-BDA4-F87D826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24BF-EB3F-45CD-8C51-F19D658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7A88-507D-4BE0-89B4-C9EE0D2B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34D-11C3-4DC9-9A19-23C9E07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99F-0403-419C-AB94-EBEE464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504-4045-4FE4-9C7E-4E1119B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9ED-C9F6-47B7-A601-6E0DD4E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7AA-3E84-45CE-A342-BD88686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FCA-78DC-4F63-B12E-EE9FE8C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D58-3B91-4FC2-92DB-6F45D551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BC3A-EEA9-4C87-A775-F0C9B013DCA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C4BB-B7C3-49F0-BDDC-B4EA8263153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parez une feuille de répon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ttez votre n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umérotez dix lignes de 1 à 1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ous aurez 30 secondes par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16360" y="1916280"/>
                <a:ext cx="3035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59280" y="3357720"/>
                <a:ext cx="1015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z le tableau de signes de la dériv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896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2920" y="3633840"/>
                <a:ext cx="11178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e de dérivé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54440" y="3919680"/>
                <a:ext cx="9144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u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549600" y="3989520"/>
                <a:ext cx="3124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0960" y="3944880"/>
                <a:ext cx="1701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la dérivée de 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13240" y="3716280"/>
                <a:ext cx="13971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’ (1)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br>
              <a:rPr sz="5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’ (2) 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392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i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ez  le coefficient directeur de la tangente au point d’abscis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40360" y="1341360"/>
                <a:ext cx="3035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Mignot Nathalie</cp:lastModifiedBy>
  <dcterms:modified xsi:type="dcterms:W3CDTF">2008-08-01T04:28:02Z</dcterms:modified>
  <cp:revision>22</cp:revision>
  <dc:subject/>
  <dc:title>Donner l'image de -1 par la fonction f définie par </dc:title>
</cp:coreProperties>
</file>