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D25-B8B3-46EF-92FE-E8B1C06E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719-F691-4009-9417-31F0F3B9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807-BE70-49F4-8251-CF7A94AE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19C-CCD9-439D-BE66-BE923FBC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16E2-6C08-4D95-9CB0-1BD91461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F0B0-3B54-48AE-BA86-C1DB85DC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8632-9CF6-4FEC-8A28-65C5D4CC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1B89-726B-4E20-841D-6D611DD3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5267-330F-4D28-844C-37F56274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1497-49C7-4BB7-8095-60FEAE01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4979-BCAC-4755-9B91-31ACD7B8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1E8-039E-47D2-8D9B-006829FA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D108-37CD-484E-B3DA-A487D06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0F81-980A-4B83-BF74-E1384219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733C-2D13-48B2-BB18-8BEAFD70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D9B9-FF84-44A0-9EAB-BCAF702D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6A87-6468-4C02-A17D-4C389721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19C-0BC9-4D4B-9A5F-69007C6D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50F-CB5C-486A-A7C1-3384B2DB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218-7903-4C44-8E0C-1D7533A2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472-884C-4629-A210-F626DDA7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19C-1DA3-43EF-9B52-03C80C73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EEC-0B7E-4836-A716-B7FACB5D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7D1-613B-494E-85B8-7A995248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E7BC-C164-4701-A7C1-67913E5BD6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A69A-5547-47B0-B0BD-B55929B7A9A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068640"/>
            <a:ext cx="755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30 à 45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1413000"/>
            <a:ext cx="6265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= x² + 2x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erminer l’équation de la tangente à la courbe de f au point d’abscisse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1557360"/>
            <a:ext cx="612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  f ’(x) = -x²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l est le sens de variation de la fonction f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191120" y="3009960"/>
                <a:ext cx="68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258920" y="1920960"/>
            <a:ext cx="612144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arithm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t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1920960"/>
            <a:ext cx="5310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géométri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t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1413000"/>
            <a:ext cx="554508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arithm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5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…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1341360"/>
            <a:ext cx="648180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suite géomét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premier terme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0 000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 de raison r = 1,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…+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341360"/>
            <a:ext cx="59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capital de 5000 F est placé à intérêt composé à un taux de 3%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le capital obtenu au bout de 10 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170028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= 4x² + 2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f ’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1557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(x) = ln(2x+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f ’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1628640"/>
            <a:ext cx="509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udre l’iné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(3x-5) 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2:09:42Z</dcterms:created>
  <dc:creator>Mignot Nathalie</dc:creator>
  <dc:description/>
  <dc:language>en-US</dc:language>
  <cp:lastModifiedBy>Mignot Nathalie</cp:lastModifiedBy>
  <dcterms:modified xsi:type="dcterms:W3CDTF">2008-09-08T22:21:26Z</dcterms:modified>
  <cp:revision>2</cp:revision>
  <dc:subject/>
  <dc:title>Activité mentale</dc:title>
</cp:coreProperties>
</file>