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1EF-4717-4922-B7ED-924C1D79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74F-3A22-4A6E-97E9-3C3629EB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E7B-3642-41AB-AA5A-991B307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737-D6EA-4F47-93BC-672A0F34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485-22FC-42FE-84F6-DFBD5585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D491-FCD2-4239-B714-1EEBF13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1206-EBE1-45F8-890F-AEDD9DE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7EEE-1B5A-486B-ADE1-9366B7B8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D9F-4E8D-46E0-8EF5-4A704BDD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DAA8-E5FB-4B1F-83FE-7909FF40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91C9-68F1-4A27-9509-9A76D01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88F-3B62-433C-9720-95B1EFB2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4B7E-29CF-45B7-B2EC-DE13F581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ADFE-4A9A-47FE-AE69-7821660F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D74F-2EFA-455F-A19A-C4B04D73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1F3B-A8CC-4DE2-B2FE-4C71E76C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41A6-3D7A-44E1-8456-42636977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246-C438-4427-952D-BA2E3A3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542-1C6F-43CB-A734-FD120152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3A0-205D-4A1C-A831-9249A18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BD4-1991-4686-A601-78A5C30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325-AFBF-40F3-9894-1FB97D2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BC6-B478-4B1C-BE63-325A9B77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2EAD-19F5-4004-945C-AB91BA4E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CFA0-151A-4C37-888A-D0A1C34E9CCD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B31A-3F43-4B24-A070-B19B242FF3B3}" type="slidenum">
              <a:rPr b="0" lang="fr-FR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us aurez 2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advTm="2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  <p:transition advTm="2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advTm="2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17T19:47:37Z</dcterms:modified>
  <cp:revision>21</cp:revision>
  <dc:subject/>
  <dc:title>Donner l'image de -1 par la fonction f définie par </dc:title>
</cp:coreProperties>
</file>