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1B5B-399C-41B8-8AC6-6940D177B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79E1-2BFE-406A-B301-ED9206B4C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0908-CBB8-46A1-A38E-6922D2750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9301-F065-47A7-94D7-6D9C751F0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E3A6B-64BD-4290-AB6C-40185C9EC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9D332-28E3-4F34-B364-5EB47A85C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6D603-21FA-477F-84B9-84B4B86AE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02D0A-8585-4A1F-8F92-C2FDD7979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60CB0-8F4B-4CB2-88DD-C05A9A752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4F0BB-8C99-44A1-B388-3BA0EC35D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7096C-B3D9-4FFE-92B2-2B121EFA1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7BEE-D059-4D36-8BF4-011FA5D38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6EC3C-67F8-44E8-9DEC-3C66710A4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F84CC-ECDD-45F3-9E6B-BC689F905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8AE4C-56A8-4470-BADC-8E650DCDB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51563-2045-428F-B0CD-1F50C310A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87BAF-5DAF-43C9-B427-97D142E47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4FDA-6133-4ACA-A152-946077A37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3717-8DEC-42C7-BF49-4EE23B471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F594-9303-43E4-912D-209BFE18A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6C0C-BA45-4AA6-ABFF-B33FD1DE5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A30A-D2CB-4AE5-824D-EA9F43F06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2077-1446-4704-9F52-0110BD6D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631E-050B-4EF9-91A5-A0D26A30A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BA968-7E57-461B-BD9A-40BAD656A5B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61840" y="-177840"/>
            <a:ext cx="2427120" cy="2246760"/>
            <a:chOff x="7161840" y="-177840"/>
            <a:chExt cx="2427120" cy="2246760"/>
          </a:xfrm>
        </p:grpSpPr>
        <p:grpSp>
          <p:nvGrpSpPr>
            <p:cNvPr id="39" name=""/>
            <p:cNvGrpSpPr/>
            <p:nvPr/>
          </p:nvGrpSpPr>
          <p:grpSpPr>
            <a:xfrm>
              <a:off x="7161840" y="-177840"/>
              <a:ext cx="2427120" cy="2246760"/>
              <a:chOff x="7161840" y="-177840"/>
              <a:chExt cx="2427120" cy="224676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0480" y="1632600"/>
                <a:ext cx="9828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61840" y="-177840"/>
                <a:ext cx="2427120" cy="2246760"/>
                <a:chOff x="7161840" y="-177840"/>
                <a:chExt cx="2427120" cy="224676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73920" y="21600"/>
                  <a:ext cx="24264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04600" y="435240"/>
                  <a:ext cx="42696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03280" y="197280"/>
                  <a:ext cx="80136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73840" y="-120960"/>
                  <a:ext cx="12031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399880" y="1332000"/>
                  <a:ext cx="26784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29680" y="118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03800" y="241920"/>
                  <a:ext cx="28692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46200" y="133920"/>
                  <a:ext cx="2836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21280" y="42480"/>
              <a:ext cx="669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404640"/>
            <a:ext cx="8675640" cy="645336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16000" y="134100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058BE-AD96-4E38-8D24-4EA21D68D4D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68360" y="476280"/>
            <a:ext cx="2549520" cy="1101240"/>
            <a:chOff x="468360" y="476280"/>
            <a:chExt cx="2549520" cy="1101240"/>
          </a:xfrm>
        </p:grpSpPr>
        <p:sp>
          <p:nvSpPr>
            <p:cNvPr id="93" name=""/>
            <p:cNvSpPr/>
            <p:nvPr/>
          </p:nvSpPr>
          <p:spPr>
            <a:xfrm>
              <a:off x="525960" y="504720"/>
              <a:ext cx="2403720" cy="100008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14080" y="587160"/>
              <a:ext cx="2397600" cy="990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43120" y="668880"/>
              <a:ext cx="1589760" cy="9036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468360" y="476280"/>
              <a:ext cx="2549520" cy="1063080"/>
              <a:chOff x="468360" y="476280"/>
              <a:chExt cx="2549520" cy="1063080"/>
            </a:xfrm>
          </p:grpSpPr>
          <p:sp>
            <p:nvSpPr>
              <p:cNvPr id="97" name=""/>
              <p:cNvSpPr/>
              <p:nvPr/>
            </p:nvSpPr>
            <p:spPr>
              <a:xfrm>
                <a:off x="2479320" y="1249200"/>
                <a:ext cx="226440" cy="2102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68360" y="476280"/>
                <a:ext cx="2549520" cy="106308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83280" y="486000"/>
                <a:ext cx="1801440" cy="6037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74000" y="577440"/>
                <a:ext cx="242280" cy="40320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240920" y="857880"/>
                <a:ext cx="738000" cy="35784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67360" y="4458240"/>
            <a:ext cx="979920" cy="1159560"/>
            <a:chOff x="7767360" y="445824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62680" y="480024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37480" y="477900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05600" y="476280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67360" y="4458240"/>
              <a:ext cx="979920" cy="1159560"/>
              <a:chOff x="7767360" y="445824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886160" y="520344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27760" y="479088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05680" y="489744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484120" y="470088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23400" y="490140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0000" y="515772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76720" y="1557360"/>
            <a:ext cx="888840" cy="38088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16000" y="2060640"/>
            <a:ext cx="6400800" cy="936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Activité mentale</a:t>
            </a:r>
            <a:endParaRPr b="0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610920" y="3141360"/>
            <a:ext cx="78483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diquer vos nom et prénom sur votre feuil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l y a 10 ques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ous disposez de 45 secondes par ques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9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n considère la droite (d) d’équation :5x + 3y = 150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éterminer les coordonnées des points d’intersection de la droite (d) et des axe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1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n considère la droite (d) d’équation :  -2x + 3y = 90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éterminer les coordonnées des points d’intersection de la droite (d) et des axes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ln) ‘ =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n 1 =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n e =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ésoudre l’équation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n (x) = 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ésoudre l’équation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n (x) = -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crire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n8 + 3ln2 – ln4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 fonction de ln 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(x) = 3x² + 2ln(x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lculer  f ’ (x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(x) = ln(5x+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lculer f ‘ (x)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(x) = ln(x²+ 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lculer f ‘ (x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1T04:33:42Z</dcterms:created>
  <dc:creator>Mignot Nathalie</dc:creator>
  <dc:description/>
  <dc:language>en-US</dc:language>
  <cp:lastModifiedBy>Mignot Nathalie</cp:lastModifiedBy>
  <dcterms:modified xsi:type="dcterms:W3CDTF">2008-08-01T05:06:19Z</dcterms:modified>
  <cp:revision>3</cp:revision>
  <dc:subject/>
  <dc:title>Activité mentale</dc:title>
</cp:coreProperties>
</file>