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9C5-A183-4CFC-977E-BBC7CFC7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334-DB44-440D-A303-8CE14C74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8D2-6CCD-413F-A454-16E2219C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B87-B609-47E2-A7DF-E1AAE86C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98F5-06D4-4EC8-963D-A7A7253D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292D-E26A-44EE-9A84-ECCC04FC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5116-2737-47BB-8ADF-DDA5E24E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5CB8-4CA9-40A7-92AA-11428FB5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E794-2FA1-44B8-B09B-0D9CA03E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1640-9898-4815-A24F-7B234522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B0FA-82C8-4425-BDB7-C1A4FEFF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0AB-8A45-4053-A69E-29726689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CE11-9B0A-423E-82AD-C068F801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22FF-5E56-49C4-AF00-31C43A2E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6E0C-5357-40C6-94AF-3CEA5485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94BF-F78B-4481-BB22-4A6D341B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2CDB-B553-4F59-B526-C2FB26BA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36C-8BBD-43A2-BA9E-B0ADA0A0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EF0-EA47-4BA8-8144-DA357F82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1496-7D3A-44E3-8465-3867E162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5FD2-3531-4E1E-91C6-6B96C3FE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3053-9D57-452D-BFC1-A118A857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483-739D-4CF8-BBED-46E65201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3BE-BD30-42E9-9C64-5FCB45B2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3F1A-A81E-483B-B07B-DEBC09BD1B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3276-A367-4270-AC28-0C3CBF369AD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IE4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483920"/>
            <a:ext cx="7634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r 10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r la copie, précisez  droite ou gauche suivant votre position dans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5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9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 point gratuit, 1 point par réponse exacte, pas de point enlevé par réponse fauss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étez les égalités suivantes et précisez sur quels ensembles elles sont réalisée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403280" y="2997360"/>
                <a:ext cx="165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651640" y="4508640"/>
                <a:ext cx="2539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24360" y="5516640"/>
                <a:ext cx="2159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81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 (x) = ln(x²+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 (x) = x + 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x) = x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’approximation affine de ln en 1, c’est-à-dire compléte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076720" y="4724280"/>
                <a:ext cx="3492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60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74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’approximation affine de ln en 1 ,c’est-à-dire compléte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35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x) = x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11280" y="3645000"/>
                <a:ext cx="34923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 (x) = x + 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 (x) = ln(x²+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b&gt;0 , écrire en fonction de ln(a) et ln (b)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835280" y="4149720"/>
                <a:ext cx="175248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012000" y="3068640"/>
                <a:ext cx="165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onnera le résultat en fonction de ln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tout b&gt;0 , écrire en fonction de ln(a) et ln(b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32000" y="2852640"/>
                <a:ext cx="1307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435640" y="4221000"/>
                <a:ext cx="2743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étez les égalités suivantes et précisez sur quels ensembles elles sont réalisée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b&gt;0 , écrire en fonction de ln(a) et ln (b)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060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81200" y="3876840"/>
                <a:ext cx="2539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55640" y="4941720"/>
                <a:ext cx="2158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796000" y="4076640"/>
                <a:ext cx="17524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tout b&gt;0 , écrire en fonction de ln(a) et ln(b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7640" y="2017800"/>
            <a:ext cx="416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onnera le résultat en fonction de ln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4360" y="3933720"/>
                <a:ext cx="2743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588000" y="2708280"/>
                <a:ext cx="1308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5:05Z</dcterms:modified>
  <cp:revision>25</cp:revision>
  <dc:subject/>
  <dc:title>CR2</dc:title>
</cp:coreProperties>
</file>