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C47-27E4-47F6-A4C9-91E70D6D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BDA-EB75-42D1-BF51-C04C636D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13CB-3B38-4A2F-8C4F-B363AA85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51C-53ED-4734-BAD9-1CA236AB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CA6F-6F78-4B39-B0BD-CCAB019D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B4F8-A185-4D15-A08B-11FF69D5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8A39-0259-436C-A68B-75358771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8A0A-916C-4152-8C8B-2D704971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3AD-5CD2-457C-A034-5D0B917D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77C8-2ABE-471F-BCCA-455F54E0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BF2E-6540-4D85-A333-572BBFB1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E1A-0FD9-46A7-9B87-51488ABD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5C01-6F95-4147-9343-7750832B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837C-7159-4B53-8906-172254E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EDFE-F71A-44EC-A10B-9C83E96D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478C-05B0-42E1-9A8A-2D15BA47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3614-3611-4B21-8E67-1F3CFBBB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20B-D36E-47FE-8264-C262C3E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657-F96D-4DCF-A24F-E1130160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0A9-D54F-46CA-8CC8-3DAE485C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22E-056A-4C1D-9557-FAE84607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E86-7C6F-4B8D-BF91-D904A316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6A8-FADE-44E6-A750-FE66B3B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1B8-946A-42B7-9096-CA02C273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FC3C-276F-4DB9-9330-8617E9BE92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8DC8-3004-46F7-A8C0-73193F582F9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3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40000" y="342900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4365720"/>
                <a:ext cx="34419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58800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41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178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3716280"/>
                <a:ext cx="3441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8436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350028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659640" y="3500280"/>
                <a:ext cx="1117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3500280"/>
                <a:ext cx="1117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73272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46Z</dcterms:modified>
  <cp:revision>17</cp:revision>
  <dc:subject/>
  <dc:title>CR2</dc:title>
</cp:coreProperties>
</file>