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00A-1C87-4961-BF0B-5FB0853D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765-DACA-44D6-936B-5ADA2483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AA7-4638-4F42-9553-82363E43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B12-4225-4768-94F9-488DEF34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F823-5D0E-441A-B048-CD7F80B8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2AAB-68D5-498D-B319-099E37BE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CDE4-C2AC-4119-8D45-4AC62BF0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E97D-AB6F-4C7B-958C-7ED363CE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161F-DB8C-4293-A74A-9C0F36CF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B5EB-0891-4965-AA21-483E8FDD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C440-F493-47EC-B7AF-4308E89C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2D7-9B25-4C69-A216-1862935C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E5CB-C762-45DC-B28F-1715E78F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C094-E69C-45AD-B726-145F0D4D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CFFB-A4DE-433F-BDBE-EA606771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E21B-E0D0-4A89-97CE-F99AB849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9777-BCDB-4962-A180-6DAABBB4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FC6-3B87-4CF7-AA52-DA6AD78D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D2E-F2F7-4D8D-B6EE-727E2BDF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7F2-EE91-4529-AF91-164AB58E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1A1-3749-48C6-B7DE-9CBEBE53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336-8CB9-427E-8AA6-3DC410FD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2DD-895A-4D55-8863-4125A57D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944-C9AF-4A44-A91E-8BD2BFB4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FE7C-8D29-4CF7-BAFB-27E27FC309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36640"/>
            <a:ext cx="9009000" cy="1052640"/>
            <a:chOff x="0" y="836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44640"/>
              <a:ext cx="711360" cy="474840"/>
              <a:chOff x="290520" y="944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4464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44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66920"/>
              <a:ext cx="737640" cy="474840"/>
              <a:chOff x="414360" y="1366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6692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66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293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3664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58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7DAB-6231-481B-9A0D-624A6B42CCA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AM5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483920"/>
            <a:ext cx="76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0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10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y+y’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s limites de la fo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x) = ln(x)/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0 et en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ombien y a-t’il de fonctions f  solutions de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y’+4y=5 et f(0)=1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terminer le signe de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42764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ay +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989000"/>
            <a:ext cx="410508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 signe de l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’(x) lorsqu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g’(x) lorsque 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 (x) = x² +  ln(x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4360" y="3789360"/>
                <a:ext cx="28321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ay +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y+y’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g’(x) lorsque 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² +  ln(x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’(x) lors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580000" y="3213000"/>
                <a:ext cx="28321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es limites en +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et en 0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(x) = xln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96000" y="2781360"/>
                <a:ext cx="163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66760" y="2852640"/>
                <a:ext cx="163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64000" y="285264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es limites en +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et en 0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(x) = xln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060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43120" y="283356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s limites de la fo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x) = ln(x)/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0 et en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ombien y a-t’il de fonctions f  solutions de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y’+4y=5 et f(0)=1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7:43Z</dcterms:modified>
  <cp:revision>38</cp:revision>
  <dc:subject/>
  <dc:title>CR2</dc:title>
</cp:coreProperties>
</file>