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BB0-08AF-46E3-A25E-9E559764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BAC-F278-4FD0-B979-C1280ED3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B96-4BE5-4772-98D9-96008481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C75-17DD-4892-88DF-F47A2B91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1864-58AF-470C-8D46-E499C45D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0A59-A931-455B-89FB-F2317539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9387-900E-489C-A95A-BEB2575D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742B-CFC7-4187-893F-F0E81B91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5F53-A41F-4D7E-BC2C-8C1F018A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FAEB-5706-46BD-AF86-49EA182C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A6AE-5AF8-4BA7-A88A-7BECB770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5A4-0F0D-4FAF-A8A6-85191907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AE46-249D-4FA8-97CB-3708FB2D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4C78-BD39-4F28-8B78-99C955D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736F-FFC2-4FE6-8A67-3C691DEC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F878-58C3-484A-A58F-710689A7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7172-39A2-4948-9348-C1F43556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F52-D3A5-4951-B190-9CAB7146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234-A3B2-4977-9DA6-C3411351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32B-7A05-48C6-AA66-694B07AA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F3F-D0D3-47E2-9B08-03D5DA66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D45-B3A5-4966-AFE4-7B200381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74E-3CDB-4E8F-B459-435867AF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7C63-0C38-4883-AA48-3844F9F7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7127-DFDA-4823-AC47-2F06BE6375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27A6-FB88-4A7D-9E4A-8527BDB8EDAF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bilités 1. Automath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70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quez sur votre feuille votre nom 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vant votre place à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us disposerez de 50 secondes pa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y a neuf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rème : 2 points gratuits et deux points par questions exactes. Il n’est pas tenu compte de la rédaction, seule la réponse m’importe mais des calculs intermédiaires sont parfois nécess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9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 urne contient 8 boules rouges et deux boules ve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ire au hasard une boule de l’urne puis une autre sans avoir remis la premiè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: « l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è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oule tirée est vert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: « la deuxième boule tirée est rouge »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éterminer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  P(A   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84720" y="5805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164360" y="5373720"/>
                <a:ext cx="76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340000" y="5300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3059280" y="44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39640" y="321264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386064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08000" y="263700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314172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050920" y="3933360"/>
            <a:ext cx="936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292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53880" y="3645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0960" y="2421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82240" y="306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224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1840" y="400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0920" y="2492280"/>
            <a:ext cx="6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16400" y="2852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5160" y="522936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éterminer P(A      B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360" y="530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 (question 1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A) = 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B)=0,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A   B) =0,7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: P(A  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robabilité de A sachant que l’événement B est réalisé vaut 0,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P(B) = 0,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 P(A) = 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P(A  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400536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87640" y="4581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544500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(question 2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deux événements A et B indépendants et p(A  B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éterminer P(B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B) = 0,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s événements A et B sont-ils indépendants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76360" y="393372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300720" y="4076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(question 3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381636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éter l’arbre sachant qu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(A ) = 0,4                = 0,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0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27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19280" y="3645000"/>
            <a:ext cx="861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22100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71640" y="321300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371628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43280" y="443700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479736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484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5084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0240" y="2924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45813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342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3860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22100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68360" y="2421000"/>
                <a:ext cx="76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26920" y="299736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572000" y="2205000"/>
            <a:ext cx="43210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ner la formule des probabilités totales permettant de calculer p(B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19640" y="3860280"/>
            <a:ext cx="8622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450864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515772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372360" y="472428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16720" y="328428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378936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3500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486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2240" y="29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3860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0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46240" y="551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200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4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 urne contient 8 boules rouges et deux boules ve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ire au hasard une boule de l’urne puis une autre sans avoir remis la premiè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: « l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è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oule tirée est vert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: « la deuxième boule tirée est rouge »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éterminer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  P(A   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227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59280" y="5373720"/>
                <a:ext cx="761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76360" y="573408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801120" y="2781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1168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5120" y="400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06560" y="24210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9480" y="42926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651640" y="306828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1628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093080" y="2565000"/>
            <a:ext cx="1150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2924280"/>
            <a:ext cx="11509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380360" y="378900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414972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P(A   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524720" y="5300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7885080" y="50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1680" y="29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2960" y="3573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11680" y="4292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836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7120" y="39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930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5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quels conditions les événements A et B sont-ils indépendan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deux dé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=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 B) =0,7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lculer : P(A   B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300720" y="429264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101080" y="494172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6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quelles conditions les événements A et B sont-ils indépendan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onnera deux dé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2060640"/>
            <a:ext cx="367380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robabilité de A sachant que l’événement B est réalisé vaut : 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P(B) = 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P(A) =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P(A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01280" y="415116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43280" y="4797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7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B) = 0,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s événements A et B sont-ils indépendants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59280" y="198900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 deux événements A et B indépend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p(A   B) = 0,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A)= 0,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éterminer P(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372360" y="3357720"/>
                <a:ext cx="3175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92360" y="4076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8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88000" y="2349360"/>
            <a:ext cx="435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éter l’arbre sachant 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A ) = 0,4                = 0,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,7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82600" y="2805120"/>
            <a:ext cx="3810240" cy="2540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0072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93080" y="2852640"/>
                <a:ext cx="761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003640" y="3573360"/>
                <a:ext cx="762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 flipV="1">
            <a:off x="5219640" y="4581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22100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588000" y="4149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443700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59640" y="515772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9640" y="558972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4760" y="5229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67640" y="3860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24760" y="4149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2240" y="4941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62240" y="558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3532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1200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4072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06064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ner la formule des prob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es permettant de calculer 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55640" y="3645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19640" y="508464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0760" y="33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2040" y="4365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3068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357336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4076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465300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050920" y="3357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95640" y="4365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4653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364500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3:50:51Z</dcterms:created>
  <dc:creator>CLEMENT ODILE</dc:creator>
  <dc:description/>
  <dc:language>en-US</dc:language>
  <cp:lastModifiedBy>CLEMENT ODILE</cp:lastModifiedBy>
  <dcterms:modified xsi:type="dcterms:W3CDTF">2008-07-08T04:03:37Z</dcterms:modified>
  <cp:revision>28</cp:revision>
  <dc:subject/>
  <dc:title>Calcul mental 1</dc:title>
</cp:coreProperties>
</file>