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C94D-675D-404F-A446-BD1B04C93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75C5-750C-48AB-B135-1B5051D1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3232-A4A8-4AFB-A302-FAB63FC45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2478-2B1D-4238-BA1E-6A8636B46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B05F-D4AF-4D97-847A-33FCF50E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E5BD-F783-4097-BD0B-1D1D5C78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261F-63A9-4191-AB4D-4832DAAC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6C95-7A02-40D1-B723-F6C09F10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AEC3-B1EE-4785-AEED-A8934357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8F2B-DB25-416B-BDA7-271316B6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02C6-F1EF-43ED-934E-04BFD662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2100-7EF5-488D-87C9-E6C2F2CF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6867-36DB-4D7E-87AE-5992C6ED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98F4-77F8-4F8B-8B7E-94B30E7F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491A-F069-48EE-B021-BBF92233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A7A1-CF0A-4F79-B2A6-2C6EB6C1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F9A1-7320-43C0-9191-22710B284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F148-D4BF-4B2B-B24F-00149A16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DADA-BD94-43EA-BFBB-87DF6526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0757-D593-4C8E-A2F9-332DE967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2754-E046-40AF-AC3F-62B79CA5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0E43-552B-4A00-9CBD-29FDDFCD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F871-5A3E-41BF-B9FE-ACE73689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8D66-9828-42D7-948D-18803535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0520" y="666720"/>
            <a:ext cx="438120" cy="474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84080" y="10890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15920"/>
            <a:ext cx="56052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16080" y="13413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9AAA-D5EF-41BE-8BA7-04267FDD73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35000" y="404640"/>
            <a:ext cx="9009000" cy="1052640"/>
            <a:chOff x="135000" y="40464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425520" y="512640"/>
              <a:ext cx="711360" cy="474840"/>
              <a:chOff x="425520" y="51264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425520" y="51264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08560" y="51264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549360" y="934920"/>
              <a:ext cx="737640" cy="474840"/>
              <a:chOff x="549360" y="93492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549360" y="93492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918000" y="93492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135000" y="86184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70040" y="40464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51080" y="122688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C9B0-9C85-43E9-BC78-4FD515ECD855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15f7b"/>
                </a:solidFill>
                <a:latin typeface="Tahoma"/>
              </a:rPr>
              <a:t>AM6   Term .S</a:t>
            </a:r>
            <a:br>
              <a:rPr sz="4000"/>
            </a:b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4360" y="1268280"/>
            <a:ext cx="76341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Sur la copie, précisez  droite ou gauche suivant votre position dans la t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Vous disposez de  40 secondes  par questio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Il y a  10 ques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Relevez le numéro de la question et donner la répon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On notera z</a:t>
            </a:r>
            <a:r>
              <a:rPr b="0" i="1" lang="fr-FR" sz="1600" spc="-1" strike="noStrike">
                <a:solidFill>
                  <a:srgbClr val="000000"/>
                </a:solidFill>
                <a:latin typeface="Rockwell Extra Bold"/>
              </a:rPr>
              <a:t>A</a:t>
            </a:r>
            <a:r>
              <a:rPr b="0" i="1" lang="fr-FR" sz="3200" spc="-1" strike="noStrike">
                <a:solidFill>
                  <a:srgbClr val="000000"/>
                </a:solidFill>
                <a:latin typeface="Rockwell Extra Bold"/>
              </a:rPr>
              <a:t> 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l’affixe de A , z</a:t>
            </a:r>
            <a:r>
              <a:rPr b="0" i="1" lang="fr-FR" sz="1600" spc="-1" strike="noStrike">
                <a:solidFill>
                  <a:srgbClr val="000000"/>
                </a:solidFill>
                <a:latin typeface="Rockwell Extra Bold"/>
              </a:rPr>
              <a:t>B</a:t>
            </a: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l’affixe de B , …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 est l’ensemble des points M d’affixe z vérifiant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-2i = 4+3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cercl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poin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2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’affixe z du point M vérifi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 pouvez vous en déduire pour les points A(2i) , B(-2) et M(z)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450072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435640" y="2852640"/>
                <a:ext cx="24001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10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38102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’affixe z du point M vérifie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 pouvez vous en déduire pour les points A(2i) , B(-2) et M(z)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87640" y="1916280"/>
            <a:ext cx="388116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orsque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&lt;0 , écrire les solutions de l’équation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z²+bz+c = 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( où l’inconnue z est un complexe , a ,b, c réels et a non nu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1916280"/>
            <a:ext cx="0" cy="43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187280" y="2781360"/>
                <a:ext cx="240048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432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it M(z) et A(2+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culer AM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32000" y="198900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ner en fonction des affixes de A et B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) l’affixe du vecteur A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) l’affixe du milieu de [AB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2133720"/>
            <a:ext cx="0" cy="37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1640" y="386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2017800"/>
            <a:ext cx="438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utilisant les affix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 points M,N,P Comment calculer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 MN , MP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5892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471636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4221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24000" y="4221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2133720"/>
            <a:ext cx="35640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it M(z) et A(2+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 calculer AM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ner en fonction des affixes des points A et B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) l’affixe du vecteur A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) l’affixe du milieu de [AB]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76640" y="1989000"/>
            <a:ext cx="35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 plan complexe est rapporté au repère (O,u,v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mment calcul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(u , AB ) en utilisant les affixes de A et 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932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40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3068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67640" y="306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465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92720" y="4797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431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 plan complexe est rapporté au repère (O,u,v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mment calcul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(u , AB ) en utilisant les affixes de A et 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0328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utilisant les affix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 points M,N,P Comment calcul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 MN , MP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177336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31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63640" y="31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4221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414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88000" y="414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38149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orsque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&lt;0 , écrire les solutions de l’équation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z²+bz+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( où l’inconnue z est un complexe , a ,b, c réels et a non nu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suppose que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MP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A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 peut-on dire du complexe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867280" y="4365720"/>
                <a:ext cx="167652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suppose que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MP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A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 peut-on dire du complexe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1640" y="177336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 est l’ensemble des points M d’affixe z vérifiant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-2i = 4+3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cercl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poin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4365720"/>
                <a:ext cx="167616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 est l’ensemble des points M d’affixe z vérifiant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-2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+3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cercl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poin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0328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 est l’ensemble des points M d’affixe z vérifiant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-2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+3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cercl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poin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500364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403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 est l’ensemble des points M d’affixe z vérifiant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-2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+3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cercl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poin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87640" y="2017800"/>
            <a:ext cx="416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 est l’ensemble des points M d’affixe z vérifiant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-2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+3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cercl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poin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53:26Z</dcterms:created>
  <dc:creator>CLEMENT ODILE</dc:creator>
  <dc:description/>
  <dc:language>en-US</dc:language>
  <cp:lastModifiedBy>CLEMENT ODILE</cp:lastModifiedBy>
  <dcterms:modified xsi:type="dcterms:W3CDTF">2008-06-30T07:36:08Z</dcterms:modified>
  <cp:revision>39</cp:revision>
  <dc:subject/>
  <dc:title>CR2</dc:title>
</cp:coreProperties>
</file>