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8ED-E9DF-46EA-849D-AB9CFEB1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920-3D8E-4D5B-ADE3-53C429F0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42B-A558-43E2-8556-62CA89BA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DD6-AE0C-4C05-B3DB-BA2EBF09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08A9-167D-4251-AAB5-E7390918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8E0F-768C-4C61-B528-7D50F751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E851-9D8B-4D8D-AE82-EF32C6C1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8BB1-EA56-4920-B3D6-1BCD378A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7881-B97B-45B8-B26A-AF2F24D0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6146-1349-4D5A-A73F-BE833730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86A9-4526-497B-90E3-4C41D096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953-90FB-4053-B913-BA5ACF13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4460-DBC7-4AD4-939D-367153D8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2A2F-2A5E-41AD-86EE-10984BE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CF18-68F4-46B8-8852-CB7BEDD6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70C1-FCC1-4B2B-BA49-BD5FAF0D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A097-6F34-4C08-8E02-091128D1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05F-3A55-4C1D-AD3D-7A322CDA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991-AC06-44BF-99E2-EADCC68C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889-90A0-4146-9938-82475A48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337-BA53-4976-A222-8A1BF26F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267-6E9C-4D68-9C91-90157715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B79-EB71-4E7D-A0FB-A26C8B7D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F9B-1660-4E34-BE04-50566D14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341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A48D-2E0D-488D-B826-6CFDE0818E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16CE-94E6-49A2-9577-9293176A0B9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2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34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mière partie sur 15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,5 point gratuit, 1,5 point par réponse exacte, 0,5 point enlevé par réponse fausse , 0 point pour non réponse. 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uxième partie sur 5 poin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rez alors de  5 min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201780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 le module de z est r et qu’un argument de z est a , préciser alors le module et un argument  du complexe z²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-ce que la forme algébrique d’un complexe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59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Le final sur 5 points et en 5  minutes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nombres complexes z et z’ sont donnés sous forme trigonométri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alors la forme trigonométrique du produit zz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montrer cette form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elles sont les formules permettant de passer de la forme algébrique à la forme trigonométriqu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nner une interprétation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Tahoma"/>
              </a:rPr>
              <a:t>géométrique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du module d’un complex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-ce que la forme algébrique d’un complexe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crire 1/z  en fonction du module de z et de son conjugué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162864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 ce que la forme trigonométrique d’un complexe non nul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elles sont les formules permettant de passer de la forme algébrique à la forme trigonométriqu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onner une interprétation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ahoma"/>
              </a:rPr>
              <a:t>géométrique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 du module d’un complex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rmi ces  4 nombres , quels sont les complexes qui ont même module que z ?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z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 conjugué de z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’opposé de z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’inverse de z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57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crire 1/z  en fonction du module de z et de son conjugué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réel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réel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imaginaire pur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imaginaire pur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 ce que la forme trigonométrique d’un complexe non nul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armi ces  4 nombres , quels sont les complexes qui ont même module que 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e conjugué de z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’opposé de 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’inverse de z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 le module de z est r et qu’un argument de z est a , préciser alors le module et un argument  du complexe z²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2:21Z</dcterms:modified>
  <cp:revision>14</cp:revision>
  <dc:subject/>
  <dc:title>CR2</dc:title>
</cp:coreProperties>
</file>