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8A3-F196-4CEA-8C9E-78D489E4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259-E845-454E-8918-763A5CE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2F7-846B-41BC-9A67-2176212C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890-6D79-42B7-97A2-F850D818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979D-3D7C-467A-B77E-A35071BB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319-874D-4079-9F8C-BCC541ED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530-59DB-4B7B-B9B4-1FE6A0D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6A8-6D45-407C-A4FF-25EBE4AB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A543-8D15-4C96-9D19-13215A8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DD5-ADF3-4045-A0F3-7DC2158E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70A9-BE7B-4947-BD9F-5AE9B8E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594-7C8E-43A6-B4DA-E78C2F76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6D6-8A16-432B-9299-AABC277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FDE6-5E3D-432C-92DC-CEC4C95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78F9-BE7B-4048-B1DE-1B35E91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3F5-B8A0-4324-A65E-77E65EA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FC3D-6D7F-42BE-BDCF-56946A58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2AF-7628-4537-B298-4BB857A7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236-C1B5-4F13-A9F7-5E7CC570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CA0-BD07-4B7B-BFDC-63D41428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61A-D209-4638-83A9-A1146988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B16-5B3F-4AC5-B7D9-CAD990A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A3D-1031-4F6D-B10F-7F88B7F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BA3-1F65-4585-87A6-C9C85A8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6CE4-D96B-47AB-A87C-31B855D95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F41-8615-4676-A420-513B58B38CE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15f7b"/>
                </a:solidFill>
                <a:latin typeface="Tahoma"/>
              </a:rPr>
              <a:t>AM  N°4- second degré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4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32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669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a parabole d’équation 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184464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25720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l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arabole d’équ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1280" y="1844640"/>
            <a:ext cx="5292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5756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23T22:21:57Z</dcterms:modified>
  <cp:revision>39</cp:revision>
  <dc:subject/>
  <dc:title>Donner l'image de -1 par la fonction f définie par </dc:title>
</cp:coreProperties>
</file>