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105-AEDE-4C42-B630-22F57DD2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A53-F2CD-4578-BF75-B3B55548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96D-7692-45E9-98EF-9357A310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4F5-1347-4E2F-8805-72FC05BE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92A1-9944-4D41-ACF4-6863432B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6B20-FC97-4E41-8786-43E7EB7B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F271-C93E-4B75-AF28-A36B35C3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5F3D-8B98-4B18-8704-8E384524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13C4-2C8C-4C4A-B234-1486B6A0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9BA8-7C85-4EF3-8E21-A8567B3B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A11-90BA-4F48-BFAE-A6AA653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296-2DC6-4C2D-A7DB-13961121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7434-88E1-4F58-9DF4-00A1BD9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E91F-DFF1-4E4E-AE6F-E64C2F9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98E1-87E8-4F36-9EF3-E7D1FB7B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521B-17CB-402E-9C7E-41A6037C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A9CC-79AB-4C91-8DA5-7E121AB2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82F-B17B-437E-9144-C3564E8F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362-33CC-48F7-8413-DEE568AF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9DC-A7F1-449B-A778-9D85342E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79F-D3B9-4A66-885B-1AC48458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FCB-D83B-4E19-9F24-685DFF6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FB3-C078-4F01-8EFC-0CC867DC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A9C-8714-4757-8231-F920C91B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0B44-2D95-4083-B7F0-27CE0496D4A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8533-D9CB-4D6A-828D-E6D019C236C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r la  dérivée de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84600" y="3913200"/>
                <a:ext cx="105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08T04:15:21Z</dcterms:modified>
  <cp:revision>23</cp:revision>
  <dc:subject/>
  <dc:title>Donner l'image de -1 par la fonction f définie par </dc:title>
</cp:coreProperties>
</file>