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B1E-95AE-4830-A6C3-F93C8672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3C2-D605-4E25-BCC8-8C1AB01C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718-10CD-4A4D-B5EE-609938EE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F26-171A-4FBB-AC3D-52C02B8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A81C-49C0-48AF-A8EB-29B74EFB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5846-E4AC-4D4C-AD3F-C2111D7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D37-0062-419A-B81F-7EFD3C69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BBE-49BC-4A03-AC91-5776329C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AE0B-BFD1-476F-9CDE-D2A97C16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BE73-5CB5-48FC-9C92-01786A1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F57-52A1-48A5-B636-EE0679AB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8D5-B3F1-447B-85EE-CEB2EE9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DBEF-BAB8-4CFC-A281-05BCF7D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168A-5F43-4AF5-8D51-9C265480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7B24-1129-410F-9010-614BD8EB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FF8B-60EC-4415-9F64-98B1C6D3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DB69-FE67-400A-BD1D-14F4065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4B4-8524-47F9-9FA1-41AC9F0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BBA-B1FF-41A0-B6D8-E64199B5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334-2B70-4BC1-A288-2572B12A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4D9-C375-46BF-8A32-95308B81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B28-49E7-4279-8027-13F370C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5EF-DA73-445D-A038-19DB4986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1D6-739A-420E-A033-167BA29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9D1F-1CE6-46F1-87FB-EAF6D8E0E0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827-C5F8-4120-AE2D-321D05B1DF0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IE N°3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5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64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 Pourquoi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= 0,6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3T23:08:56Z</dcterms:modified>
  <cp:revision>33</cp:revision>
  <dc:subject/>
  <dc:title>Donner l'image de -1 par la fonction f définie par </dc:title>
</cp:coreProperties>
</file>