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4B5-DBAD-4477-AABF-B6573BF9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F71-EAEA-4674-9267-9BBF9ED4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1F8-8268-4D01-8484-1F4DEF51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ECD-9FBE-4613-B910-374A53AC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2348-C035-4F6D-B490-CE5032D0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43E5-4F5E-4075-B648-0FD3AD9D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30AD-3C33-425E-B97E-9F472CE5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782D-B9CA-46D8-A136-2AFAF824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D44C-C2D3-47E5-935C-F5A16795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3E2D-C482-418F-BEF1-87B93F40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C384-D376-46D1-A597-7B195285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22F-DFA4-4AD6-BE3C-CEEE9326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960D-9C2C-40CD-9C4B-B50C0BC6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3D6C-55BC-44FA-AE9A-64C6BDF6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F891-4230-4F86-899C-63925DB1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51FB-1B02-4176-ABEA-F9F9AC06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A522-B8B7-4674-BC09-4CE4B55A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D95-5D31-4FED-A5CC-9B320E66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7CD-CE02-49B5-B933-CEE3B5F6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7A7-3509-4EA8-B128-276F1E42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89D-37C4-4494-86D9-9570697F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5B5-72FF-4AB6-838D-3825158E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4A5-B591-4E11-BDFD-8409B14B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CED-E338-495C-A763-8D47B861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31D7-725D-4F88-9FB4-F81D4B8FF5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1222-B8EA-4921-95A0-397870C201F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Devoir N°3( une heure )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devoir est en deux parties sur 10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emière partie est une série de 10 questions notées 1 point chacune ; vous dispos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ette première partie, 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deuxième partie, vous disposerez de la calculatrice et du temps re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n donne la variance d’une série : V = 0,36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La fonction f est donnée sur [0 ; 5]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 est ……. sur [0 ; 5]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84720" y="2852640"/>
                <a:ext cx="224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centage de la population dont les modalités sont  comprises entr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décile et le neuvième déc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fonction f est donnée sur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1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 :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 est ……. sur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1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12000" y="2852640"/>
                <a:ext cx="251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03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 et Ble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3616560" cy="424800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67360" y="2852640"/>
            <a:ext cx="407664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17160" y="5157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8120" y="35733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0036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00360" y="393372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4508640"/>
            <a:ext cx="2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50864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537372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:…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u : …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2648160" cy="32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4076640" cy="1447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1964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91080" y="5877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58920" y="573408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73408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- a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076640" cy="1447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:…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u : …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648160" cy="3241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4076640" cy="1447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093080" y="551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0160" y="5516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659640" y="5445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235640" y="544500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a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35640" y="1700280"/>
            <a:ext cx="1719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nnaitre les deux fo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g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e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3616200" cy="424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2881440"/>
            <a:ext cx="3995640" cy="1419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4221000"/>
            <a:ext cx="287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422100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508464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76480" y="3860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53880" y="486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57964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580000" y="508428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fonction f est donnée sur [0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 est ……. sur [0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63640" y="2924280"/>
                <a:ext cx="2247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fonction f est donnée sur [1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 est ……. sur [1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onne la variance d’une série : V = 0,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692360" y="2852640"/>
                <a:ext cx="251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pourcentage de la population dont les modalités sont  comprises entre le premier décile et le neuvième déc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03T06:52:16Z</dcterms:modified>
  <cp:revision>31</cp:revision>
  <dc:subject/>
  <dc:title>Donner l'image de -1 par la fonction f définie par </dc:title>
</cp:coreProperties>
</file>