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B0AD-31F6-4D6D-8E22-95DFFE2D7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F75D-F9D3-4089-982B-54C3FA544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E693-97F9-4B79-A938-6B5712158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6E59-A837-491B-A919-FFAA7C058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5D374-AE2F-4FAA-BDA5-DC60ABD60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D22D4-B175-43E6-ADBD-6610F4DEF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AC789-F183-448A-9265-1FDB9F317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FD409-601A-4D6F-9BC7-3EC7EC36D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D760C-EF8B-4900-BB83-D28A1F6C3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51FCD-B891-43FC-9270-6F7C43BB6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0102E-D093-4E97-AA0F-5400919A1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3541-6015-408F-9FF4-D099FC95B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F2C07-C79A-4AE9-9C70-5E204F6C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65B9A-7A72-4A76-B9E7-7CC9F7115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123B2-6DB0-4FD3-92B1-508626E7A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F84DD-EB1E-432E-95E0-285072F1B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B5C61-7AC1-4590-A310-58221A289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9B03-D399-4902-B80C-DD74BAF0A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91DE-A711-43E5-B4E9-184559296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4256-7F1B-43B6-B1EA-AC93598D2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3F7A-E97C-49F0-BB69-3BB58DDF3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F315-74A4-4C85-AE9A-92FD15351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EE1C-5B3D-4270-BA8B-75BC3AEFD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7423-E8F6-4AFC-97EE-88C0EEF7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e1bf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1bf9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b8ad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8ad4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b3ce82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b8ad4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1bf9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dba9c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462F8-2B29-4E73-B069-08D49BA71CBE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b8ad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8ad4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e1bf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1bf9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b3ce82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969696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969696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04718-3FD2-4A2D-8645-CD310646490A}" type="slidenum">
              <a:rPr b="0" lang="fr-FR" sz="14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280" y="-17172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a4076"/>
                </a:solidFill>
                <a:latin typeface="Tahoma"/>
              </a:rPr>
              <a:t>CR1 : Question N° 1 </a:t>
            </a:r>
            <a:endParaRPr b="0" lang="en-US" sz="36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4920" y="2060280"/>
            <a:ext cx="46083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 45% des élèves d’un lycée pratiquent le foot et parmi eux , 30% le pratiquent plus de 6 heures par sema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l est le pourcentage des élèves du lycée qui jouent au foot plus de 6 heures par semaine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76360" y="19162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diminue un prix de 20%, puis de 10%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 quel pourcentage le prix a-t-il diminué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5003640" y="1628640"/>
            <a:ext cx="0" cy="460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0">
    <p:fade/>
    <p:sndAc>
      <p:stSnd>
        <p:snd r:embed="rId1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Tahoma"/>
              </a:rPr>
              <a:t>Question 2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4920" y="2060640"/>
            <a:ext cx="4535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gmenter de 120% revient à multiplier par ……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60% des sourds sont muet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 il y a dans une population 1300 sourds , combien sont sourds et muet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5076720" y="1557360"/>
            <a:ext cx="0" cy="46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0">
    <p:fade/>
    <p:sndAc>
      <p:stSnd>
        <p:snd r:embed="rId1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Tahoma"/>
              </a:rPr>
              <a:t>Question 3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560" y="2060640"/>
            <a:ext cx="424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l est le pourcentage des femmes dans la population suivante 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mmes : 12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mmes : 18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 taxe sur les services est de 5,5%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 prix du menu , taxes comprises , est de 2553 F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l est le prix du menu hors taxe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4716360" y="1557360"/>
            <a:ext cx="0" cy="46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0">
    <p:fade/>
    <p:sndAc>
      <p:stSnd>
        <p:snd r:embed="rId1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Tahoma"/>
              </a:rPr>
              <a:t>Question 4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396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60% des sourds sont muet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 il y a dans une population 1300 sourds , combien sont sourds muet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35280" y="1773360"/>
            <a:ext cx="4608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5% des élèves d’un lycée pratiquent le foot et parmi eux , 30% le pratiquent plus de 6 heures par sema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l est le pourcentage des élèves du lycée qui jouent au foot plus de 6 heures par semaine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4356000" y="1628640"/>
            <a:ext cx="0" cy="460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0">
    <p:fade/>
    <p:sndAc>
      <p:stSnd>
        <p:snd r:embed="rId1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Tahoma"/>
              </a:rPr>
              <a:t>Question 5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 taxe sur les services est de 5,5%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 prix du menu , taxes comprises , est de 2553 F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l est le prix du menu hors taxe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minuer un prix de 3,5% revient à le multiplier par : …………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4356000" y="1628640"/>
            <a:ext cx="0" cy="460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0">
    <p:fade/>
    <p:sndAc>
      <p:stSnd>
        <p:snd r:embed="rId1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Tahoma"/>
              </a:rPr>
              <a:t>Question 6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minuer un prix de 20% puis l’augmenter de 20% revient à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 rien changer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menter de 2%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minuer de 4%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minuer de 2%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menter de 120% revient à multiplier par ……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4356000" y="1628640"/>
            <a:ext cx="0" cy="460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0">
    <p:fade/>
    <p:sndAc>
      <p:stSnd>
        <p:snd r:embed="rId1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Tahoma"/>
              </a:rPr>
              <a:t>Question 7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445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 capital de 100 000F a été placé au taux annuel de 4,6 %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l est le nouveau capital acquis au bout de 6 ans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minuer un prix de 20% puis l’augmenter de 20% revient à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 rien changer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menter de 2%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minuer de 4%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minuer de 2%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4716360" y="1773360"/>
            <a:ext cx="0" cy="46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0">
    <p:fade/>
    <p:sndAc>
      <p:stSnd>
        <p:snd r:embed="rId1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Tahoma"/>
              </a:rPr>
              <a:t>Question 8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diminue un prix de 20%, puis de 10%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 quel pourcentage le prix a-t-il diminué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l est le pourcentage des femmes dans la population suivante 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mmes : 12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mmes : 18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4500720" y="1628640"/>
            <a:ext cx="0" cy="460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0">
    <p:fade/>
    <p:sndAc>
      <p:stSnd>
        <p:snd r:embed="rId1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Tahoma"/>
              </a:rPr>
              <a:t>Question 9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minuer un prix de 3,5% revient à le multiplier par : …………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1640" y="2017800"/>
            <a:ext cx="4383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 capital de 100 000F a été placé au taux annuel de 4,6 %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l est le nouveau capital acquis au bout de 6 ans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4356000" y="1628640"/>
            <a:ext cx="0" cy="460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0">
    <p:fade/>
    <p:sndAc>
      <p:stSnd>
        <p:snd r:embed="rId1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4T00:22:12Z</dcterms:created>
  <dc:creator>CLEMENT ODILE</dc:creator>
  <dc:description/>
  <dc:language>en-US</dc:language>
  <cp:lastModifiedBy>CLEMENT ODILE</cp:lastModifiedBy>
  <dcterms:modified xsi:type="dcterms:W3CDTF">2008-03-11T06:54:29Z</dcterms:modified>
  <cp:revision>19</cp:revision>
  <dc:subject/>
  <dc:title>Question N° 1 </dc:title>
</cp:coreProperties>
</file>