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C88A-E7CE-4FBD-96D9-1FA95D99F1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2D84-584C-44F0-BE81-8EE5EE8F17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776D-4F84-4EFF-935F-3526DBF930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EC68-172B-46E4-AA3E-A52EEFBC7E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534F-688C-4759-AFB8-0CE99C9F9C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C358-5B12-4A47-A493-6736D4B23F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8436-DDFE-4CCE-8593-C4D0B1E5F3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D9F1-D334-47B5-9F80-D809BD2643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B81D-E24D-459B-9449-4911A550B9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7CFD-EC5C-4B24-887D-FBE22139DD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5359-FD32-4763-B1CC-2ED90F94CC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2077-8911-4EAC-8B21-4D3164BC1C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FB13-D2D6-4EA5-90C1-11603D8D94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BA95-6914-4091-AB90-66FB6B1012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CC4-77DB-4E81-BA4C-5499EAAB37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44C0-6B3A-4299-A1A9-73D14CE994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E790-32F7-4A82-8E02-9C8BAED824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ED52-0D60-4AFD-AD65-DB09149DD7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C026-2909-430B-B800-C07DE79CB9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ACDF-8193-4CB4-834B-4FEE8334A7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4846-11E1-43D5-9CFB-117FE3E846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82BC-0817-43CF-8CAA-35153BBCF6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3C4F-9608-44BD-9EB0-7F9C67E454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6B39-586F-4E8E-8631-CE6C6B0217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8AA0-5C72-43A7-9E59-F41E3B8196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2D7-A91B-41E9-BA08-B49612C8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468-29BB-4B31-BCAB-3CB418B9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26C-DEDA-4F63-849B-3B0908B9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5FF-3772-479B-BF93-BB796983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4B2-EF5A-44D8-B652-FE711D03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43C-399C-40CF-8047-C8C3FA42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5CC-9D3B-4CA9-86F8-9B285D43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825-2F15-47FB-AA2E-2ED5CE7C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DFA-9D74-478F-A304-EDD9C56B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4B3-1685-4D84-BB7F-00C412D4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E4E-5658-487A-ABC7-BC740EED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DCF-D8E6-4AA8-902F-D640335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DD01-5FDF-480E-936C-DE2202E156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55080" y="1412640"/>
            <a:ext cx="90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ableau donne la répartition des élè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i-pensionnaires et externes selon les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2637000"/>
          <a:ext cx="8281800" cy="272232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1"/>
          <p:cNvSpPr/>
          <p:nvPr/>
        </p:nvSpPr>
        <p:spPr>
          <a:xfrm>
            <a:off x="158760" y="5413320"/>
            <a:ext cx="93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demi-pensionn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55080" y="1412640"/>
            <a:ext cx="90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ableau donne la répartition des élè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i-pensionnaires et externes selon les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637000"/>
          <a:ext cx="8281800" cy="272232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61"/>
          <p:cNvSpPr/>
          <p:nvPr/>
        </p:nvSpPr>
        <p:spPr>
          <a:xfrm>
            <a:off x="272880" y="5484960"/>
            <a:ext cx="89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xtern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7"/>
          <p:cNvSpPr/>
          <p:nvPr/>
        </p:nvSpPr>
        <p:spPr>
          <a:xfrm>
            <a:off x="2196720" y="5589720"/>
            <a:ext cx="492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8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ont vu 3 fil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2196720" y="5589720"/>
            <a:ext cx="492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ont vu 5 fil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7"/>
          <p:cNvSpPr/>
          <p:nvPr/>
        </p:nvSpPr>
        <p:spPr>
          <a:xfrm>
            <a:off x="1527840" y="5629320"/>
            <a:ext cx="61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n’ont vu aucun fil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6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7"/>
          <p:cNvSpPr/>
          <p:nvPr/>
        </p:nvSpPr>
        <p:spPr>
          <a:xfrm>
            <a:off x="1980720" y="5589720"/>
            <a:ext cx="51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ont vu 4 fil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37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38"/>
          <p:cNvSpPr/>
          <p:nvPr/>
        </p:nvSpPr>
        <p:spPr>
          <a:xfrm>
            <a:off x="231840" y="59166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L’océan pacifiqu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le plus grand océ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16"/>
          <p:cNvSpPr/>
          <p:nvPr/>
        </p:nvSpPr>
        <p:spPr>
          <a:xfrm>
            <a:off x="158760" y="5987880"/>
            <a:ext cx="82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L’océan arctiqu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le plus petit océ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3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4"/>
          <p:cNvSpPr/>
          <p:nvPr/>
        </p:nvSpPr>
        <p:spPr>
          <a:xfrm>
            <a:off x="1116360" y="6156360"/>
            <a:ext cx="70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ont vu 3 fil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26"/>
          <p:cNvGraphicFramePr/>
          <p:nvPr/>
        </p:nvGraphicFramePr>
        <p:xfrm>
          <a:off x="324000" y="1341360"/>
          <a:ext cx="8459640" cy="43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5964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27"/>
          <p:cNvSpPr/>
          <p:nvPr/>
        </p:nvSpPr>
        <p:spPr>
          <a:xfrm>
            <a:off x="90000" y="5845320"/>
            <a:ext cx="68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 4ans, une fille mesur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0 cm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5280" y="1557360"/>
          <a:ext cx="8282160" cy="272268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520"/>
                <a:gridCol w="993600"/>
                <a:gridCol w="993600"/>
                <a:gridCol w="1283040"/>
              </a:tblGrid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58"/>
          <p:cNvSpPr/>
          <p:nvPr/>
        </p:nvSpPr>
        <p:spPr>
          <a:xfrm>
            <a:off x="344160" y="4836960"/>
            <a:ext cx="648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91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de 4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ont exter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628640"/>
          <a:ext cx="8281800" cy="286704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107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59"/>
          <p:cNvSpPr/>
          <p:nvPr/>
        </p:nvSpPr>
        <p:spPr>
          <a:xfrm>
            <a:off x="344160" y="4979880"/>
            <a:ext cx="877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8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demi-pensionnaire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84280"/>
          <a:ext cx="8281800" cy="272268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58"/>
          <p:cNvSpPr/>
          <p:nvPr/>
        </p:nvSpPr>
        <p:spPr>
          <a:xfrm>
            <a:off x="1301040" y="4653000"/>
            <a:ext cx="66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78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extern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9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900360" y="6156360"/>
            <a:ext cx="70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ont vu 5 fil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7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9"/>
          <p:cNvSpPr/>
          <p:nvPr/>
        </p:nvSpPr>
        <p:spPr>
          <a:xfrm>
            <a:off x="231840" y="5987880"/>
            <a:ext cx="82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n’ont vu aucun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7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8"/>
          <p:cNvSpPr/>
          <p:nvPr/>
        </p:nvSpPr>
        <p:spPr>
          <a:xfrm>
            <a:off x="1043280" y="6156360"/>
            <a:ext cx="70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ont vu 4 fil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28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30"/>
          <p:cNvSpPr/>
          <p:nvPr/>
        </p:nvSpPr>
        <p:spPr>
          <a:xfrm>
            <a:off x="377280" y="6060960"/>
            <a:ext cx="83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e plus grand océan de la ter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28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29"/>
          <p:cNvSpPr/>
          <p:nvPr/>
        </p:nvSpPr>
        <p:spPr>
          <a:xfrm>
            <a:off x="303840" y="591660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e plus petit océan de la ter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9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28"/>
          <p:cNvGraphicFramePr/>
          <p:nvPr/>
        </p:nvGraphicFramePr>
        <p:xfrm>
          <a:off x="324000" y="1341360"/>
          <a:ext cx="8459640" cy="43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5964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0"/>
          <p:cNvSpPr/>
          <p:nvPr/>
        </p:nvSpPr>
        <p:spPr>
          <a:xfrm>
            <a:off x="303120" y="5772240"/>
            <a:ext cx="82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taillle d’une fille de 4 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55080" y="1412640"/>
            <a:ext cx="90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ableau donne la répartition des élè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i-pensionnaires et externes selon les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2637000"/>
          <a:ext cx="8281800" cy="272232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153"/>
          <p:cNvSpPr/>
          <p:nvPr/>
        </p:nvSpPr>
        <p:spPr>
          <a:xfrm>
            <a:off x="199440" y="5556240"/>
            <a:ext cx="87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xterne en 4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3-16T17:17:05Z</dcterms:modified>
  <cp:revision>20</cp:revision>
  <dc:subject/>
  <dc:title>Diapositive 1</dc:title>
</cp:coreProperties>
</file>