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E09B-382D-4273-8AAE-59275C156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C2D-2A8B-427C-A497-C3E8C968EF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BB2A-7FB7-4EEA-98CA-6EB5F22F37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38B3-4A51-40B2-9579-0A5BB46540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E27-DD8C-4AA9-8B9E-9DC21F3677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08C-33C7-4C2C-83F5-D79C3A1B53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0F8-CDCF-4828-AD07-BE7239DC52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B4F3-9541-43C5-9597-69F0E8898C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F19-F670-4C73-BDEA-956F3629A2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B8E-5223-4D6E-BBEE-2BFD7F24D3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317-6E51-44B7-98C8-74EA8C652D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8A9-5A9B-410D-B296-51DAB7238C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7F7-93D4-4FF4-965C-3DD633B323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8E2-8822-4CE7-AC1F-6DD0A96E12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FC97-BAFD-46E3-A2F6-1B86B3942F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E7A8-AC79-4323-8AA2-2F5D9EEBA5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845B-2A7C-4187-BC35-E73837F583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2B9-7C5E-4903-8F77-EF8218D94D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E8C-4DAA-43EE-A51B-12E66BE422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AC93-E870-44D5-912A-9DF840FE61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769-BBAE-4967-8A9D-A5AB2BC7A2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187-9ADD-41C8-92F0-94BC7703A6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F95-0784-4349-999C-3C97F67601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0A5-4C67-40F5-B706-5682D168A7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8C8-C4B9-4CC2-AF72-7E1B8432A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258-B5BE-4A7D-8C6D-2E0B7750F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855-B40C-4FD4-99FB-E67F33AA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C76-DC10-44B9-BBD9-A17456B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70B-E490-4E95-AF80-87578E53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591-0E7C-4855-B607-9C4224EA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5CF-1E4A-46DF-89B9-42C4977B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A9B-8717-4D38-A9F0-8921589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211-3AD6-43A5-9987-BC1F05A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7AD-380A-4DF8-9005-AA97529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E59-6989-4AA3-845F-0D796B97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7FF-FC0D-4427-9DCF-661DD80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4CD-DC8C-44AF-A014-0099351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2CB-C8EE-4B76-B67A-2DDAB20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4398-4F45-4F2C-8E10-76DD7F0CAC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9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7"/>
          <p:cNvSpPr/>
          <p:nvPr/>
        </p:nvSpPr>
        <p:spPr>
          <a:xfrm>
            <a:off x="1043640" y="615636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99400" cy="470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7"/>
          <p:cNvSpPr/>
          <p:nvPr/>
        </p:nvSpPr>
        <p:spPr>
          <a:xfrm>
            <a:off x="827640" y="595008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7"/>
          <p:cNvSpPr/>
          <p:nvPr/>
        </p:nvSpPr>
        <p:spPr>
          <a:xfrm>
            <a:off x="951120" y="632160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8"/>
          <p:cNvSpPr/>
          <p:nvPr/>
        </p:nvSpPr>
        <p:spPr>
          <a:xfrm>
            <a:off x="360" y="6156360"/>
            <a:ext cx="9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116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3640" y="2492280"/>
            <a:ext cx="88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à vue d’œil, la nature des tri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iva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56360" y="6156360"/>
            <a:ext cx="74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6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7"/>
          <p:cNvSpPr/>
          <p:nvPr/>
        </p:nvSpPr>
        <p:spPr>
          <a:xfrm>
            <a:off x="720" y="6156360"/>
            <a:ext cx="94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900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735840" y="606096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7"/>
          <p:cNvSpPr/>
          <p:nvPr/>
        </p:nvSpPr>
        <p:spPr>
          <a:xfrm>
            <a:off x="592920" y="598788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99400" cy="4708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8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0T19:28:24Z</dcterms:modified>
  <cp:revision>18</cp:revision>
  <dc:subject/>
  <dc:title>Diapositive 1</dc:title>
</cp:coreProperties>
</file>