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303-3916-4177-BD06-449EAF1F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C17E-8E6D-429D-AB38-780FAE38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F9D1-16EC-413E-83CB-C3F179D6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C38-7B1A-480F-8D50-F158A9D6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44E-82B1-47FD-81DC-95538617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2A8-BFEF-4EC6-863E-44781450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177F-0464-4A92-866A-2963B368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6E6-57BA-4CEB-B39C-65776C90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D69-8B4F-4D0A-8A11-AEE715AF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9C51-DB7E-4440-BE4B-6575C935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383-F882-446F-A735-C2FA5CED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122-EA93-48AC-9CB4-18699838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2D05-E15B-42CA-B355-E24F5A1BF5B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5T06:23:59Z</dcterms:modified>
  <cp:revision>12</cp:revision>
  <dc:subject/>
  <dc:title>Diapositive 1</dc:title>
</cp:coreProperties>
</file>