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3E5-E288-40FE-927D-8DEE1A497A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555-F8F4-486C-A1C9-BA0B14ADB2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79DE-B603-49E0-B7B1-E8F664BC24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689-6D57-4858-A13F-4FE8698BDA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38F-C794-456D-BCB0-B0C79E1F96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2B08-392A-4934-8296-3546B58141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F05-016A-473E-AF2F-AB4B6891E4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4450-AF02-48A2-BA85-53F955D4FD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7A54-F1D6-4BA0-95B8-1591160627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D367-4784-4861-BC9D-FB3246B5E0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9AD-9F05-47F5-9065-B30485003A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82B5-AA2F-4F43-BDC9-2C905D57B0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099-D445-419B-9015-89A1B2C738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80B-623A-4CA9-8125-6F9DC3B103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957C-BC52-4DCD-B03B-4491F5B0FC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FEE-660F-4B7E-8A63-4ADB3D537C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EC5-59B5-408F-B3E4-9EFA68B30B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1AE-FBAF-49CB-A818-C789AD6467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EAAD-04EA-4C5D-96A9-58F637E4EE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29A3-E41E-4DFF-AEE5-5C64BEE077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969C-96F3-4AA3-95BE-BD2D8A7D15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A362-9636-48C4-9563-6BB1BE99D6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53F-E10C-4633-9EBE-09F7CDE9D6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D478-FFD0-4270-9E0A-B01D11AA95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AE5-B5F9-4AFA-A76F-1A0BD9380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C98-EF41-4A5D-95FF-2AFB4C48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DF0-D589-44E3-9E45-84123E0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1A2-1F41-49BA-AE57-E17D90EF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F4F-0FD0-4EBB-846E-7153CD3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F02-550D-44C6-9D56-3AC4241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E8A-A87C-4EB6-83A2-B906BCDB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9B5-205A-4EE0-A6F8-799920B8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F72-85D0-4EF4-A030-71E84959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D2E-186D-4D1D-B0E5-31E78F8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DBF-E8F2-40B4-9A94-F61A564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268-BD42-409C-B103-B6E27499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4D3-1592-452A-A87C-86B44FD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EBFA-45B6-4812-AD8F-9B182FB0A9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8320" y="2276640"/>
            <a:ext cx="876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ibliothèque peut contenir 123 livr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livres peuvent contenir 4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ibliothèq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509400" y="2276640"/>
            <a:ext cx="87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paquets contiennent 20 bill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billes y’a-t-il dans un paqu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692360" y="1916280"/>
          <a:ext cx="56163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6163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979640" y="1916280"/>
          <a:ext cx="4568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4568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340000" y="2637000"/>
          <a:ext cx="4200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37000"/>
                    <a:ext cx="4200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484360" y="2060640"/>
          <a:ext cx="47516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47516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835280" y="1916280"/>
          <a:ext cx="482436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48243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oneTexte 3"/>
          <p:cNvSpPr/>
          <p:nvPr/>
        </p:nvSpPr>
        <p:spPr>
          <a:xfrm>
            <a:off x="2554200" y="2781360"/>
            <a:ext cx="41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NE SAIT P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71440" y="2205000"/>
            <a:ext cx="86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oîte de biscuit coûte 245F, combi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3 boîtes de biscu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979640" y="2637000"/>
          <a:ext cx="54990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37000"/>
                    <a:ext cx="54990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619280" y="2924280"/>
          <a:ext cx="531972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5319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58920" y="2708280"/>
          <a:ext cx="64818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481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340000" y="2924280"/>
          <a:ext cx="4307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4307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268920" y="213372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inq pommes coûtent 550F, combi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 deux  pom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9 enfants par jo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4 j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5600" y="2133720"/>
            <a:ext cx="801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ur faire un gâteau pour 4 personn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faut 300g de beur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quantité de beurre faut-il pou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faire un gâteau pour 6 person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89800" y="2205000"/>
            <a:ext cx="77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enfant mesure 95cm à 1an, quell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a sa taille à 2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06160" y="2276640"/>
            <a:ext cx="782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10m² peut contenir 15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lan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plantes pourra conteni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30m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395280" y="234936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5"/>
          <p:cNvSpPr/>
          <p:nvPr/>
        </p:nvSpPr>
        <p:spPr>
          <a:xfrm>
            <a:off x="499680" y="2276640"/>
            <a:ext cx="811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voiture consomme 10L pour fair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 km, combien de km fait-elle avec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0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30T21:21:38Z</dcterms:modified>
  <cp:revision>28</cp:revision>
  <dc:subject/>
  <dc:title>Diapositive 1</dc:title>
</cp:coreProperties>
</file>