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3F5-FC7A-441A-9F01-D45D829252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694-48D7-44E8-9813-84415BCAA1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20B-2BC5-4436-974E-A76E33B85A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9A5-4137-4F0E-8C13-74F5BEAC2F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0F7-3D2C-4A3E-8A9C-02FBFC89CC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64A-2DDF-4F72-A08B-E55EA20D53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B0A5-F4D8-4E13-82E5-F3F217A523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2E9-684A-46A6-A229-5DBED22442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069-BD0C-43D7-8C88-67A2371FE0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09F-3555-4AB6-87B8-6400CE483B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77EF-F679-467B-87FF-0BE88083A0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D6B-BE57-4581-A4DF-AE8534AF35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82C-E4C0-4067-8609-4D5C333FF3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70A-5656-49DF-9681-6446839F86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4DB-DB96-4A6E-848E-334046159B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A38-F91E-4D9D-AAF1-D954BBE751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CB5-82AD-4263-962F-13A04FD5D7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A02-FAFA-4CB0-BD93-2E98EF6FE0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3FC-D80A-4056-84EC-365A16AF49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DCE-7530-4BF6-91BF-E7C255E347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037-E2E3-417E-8638-A7A9215E5D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0D0B-3151-4950-862C-6232FB9F34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591-4FF5-40C6-9999-01F1E6C230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7E5D-4991-461A-9E42-C90BE8DF0B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C9A-E247-467B-84DE-2587C962B9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4643-5B98-40E4-9603-D313ACF187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F66-945E-465F-AF26-31B056B8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475-8FC3-4F53-B613-98B71E3E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157-B936-4C98-A1C3-0D7B0FE0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CFF-90D3-4545-8B4B-1AF988FC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1E7-A52D-46E8-88F5-E2755DEA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921-F9CC-49CE-9495-7216EFB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328-0735-4372-B3B2-94074BD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F16-941F-4571-8A3D-D21D4CF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37C-307A-4B14-9F78-FF594D6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533-F66F-4226-8130-B74FFE0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0FF-A892-46A1-A836-BFF39A4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069-646A-4840-AFF0-0D0EED81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D58-5592-494D-9E62-69E6C33ED4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427640" y="2060640"/>
          <a:ext cx="172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356000" y="2133720"/>
          <a:ext cx="170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0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11640" y="4292640"/>
          <a:ext cx="1790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292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356000" y="2133720"/>
          <a:ext cx="1714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14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140360" y="4149720"/>
          <a:ext cx="167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7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060640"/>
          <a:ext cx="2857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57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8000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149720"/>
          <a:ext cx="2869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68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68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95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95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780000" y="4149720"/>
          <a:ext cx="2908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908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708360" y="4149720"/>
          <a:ext cx="2527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527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780000" y="206064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9564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08360" y="4149720"/>
          <a:ext cx="3251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51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851280" y="4149720"/>
          <a:ext cx="245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995640" y="2060640"/>
          <a:ext cx="280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80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564000" y="4221000"/>
          <a:ext cx="32893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893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0836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63528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2060640"/>
          <a:ext cx="17272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27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84720" y="206064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14036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213372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06728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06728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356000" y="2133720"/>
          <a:ext cx="175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5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643280" y="4149720"/>
          <a:ext cx="1384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384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427640" y="1989000"/>
          <a:ext cx="17269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26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727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727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2060640"/>
          <a:ext cx="1739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4211640" y="4149720"/>
          <a:ext cx="1816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16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7T19:59:28Z</dcterms:modified>
  <cp:revision>15</cp:revision>
  <dc:subject/>
  <dc:title>Diapositive 1</dc:title>
</cp:coreProperties>
</file>