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2F4-35DA-47BD-8F37-149AC0F992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7EA-6DFC-4102-BB52-6CAD22E19A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875-1EDC-4AE5-800B-702D06C2DD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F158-A806-4FB5-9DF2-70731A8DFD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C01D-8F7E-490B-93E4-72C0DCEDBF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9F05-F39C-490A-88D4-C481BC477F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E6F3-22D2-4A9F-94DD-A9C7305767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707-B293-4DC5-889C-ECF7A66728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D65-2C14-483E-85E4-35326ED514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01C-E4B4-4851-BC9F-E11A7FD9DF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1415-44A1-494B-97B1-E7BF967419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7FC9-D7C9-49B8-BAB6-1C4FD821CF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D29A-FC25-419F-A90E-B13E4222F2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1EE-A27B-4460-A2EF-0A390302C4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A833-B55F-4BFE-8087-05F1572A28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06FF-89B5-4190-8ACE-E27B69BAF3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C08-E0E6-49A1-AA08-0A76188868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4A16-7F5A-4870-AB46-A7E890183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31C-D321-4ACA-A2DF-BA431A64B4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776-B62E-4D1B-9416-1783FEC0B6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793-EA7A-4FDE-A936-69C15A0A9F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9E8E-B249-4614-AE4F-B5E11B5E32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C0D2-FB47-4382-80BA-D0B84BBAA2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EAE2-29FB-4665-B742-23A509B5B5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9EB-104D-4184-8D6A-DCA1C1E934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B22-EFC6-4A51-AAB1-6D23D682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29C-8334-4EAB-B6E4-A02772E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EB5-9941-45F6-B99E-6E4DAB37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D54-B63A-46CF-9087-5DBABCF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4F7-8277-416A-91E1-97DB4C3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46B-B62B-40F5-9933-B90730B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A2C-4A94-439B-B44E-E719D315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3FF-2CC0-440B-9F4D-E3A51C25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24B-1ADB-445F-B2FD-70AB06CC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686-7C4F-4647-AD83-0FE7101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5E6-2C00-409A-815E-ABBFC68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D3A-927E-4E04-B3BB-B767328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082B-6D5B-4321-8B07-E0E572D715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310680" y="1557360"/>
            <a:ext cx="4077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341640" y="1557360"/>
            <a:ext cx="358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1-16T20:21:25Z</dcterms:modified>
  <cp:revision>20</cp:revision>
  <dc:subject/>
  <dc:title>Diapositive 1</dc:title>
</cp:coreProperties>
</file>