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D146-ED46-4F34-9B09-1627110657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04F6-8C66-4A77-8E24-BF029EB895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39E4-1819-4F57-BB1C-ECFD199383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D93-C1DA-40F0-AB32-97E82C0066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CF6A-18AE-42D9-8662-8560F65A9A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31CE-CF67-4E3C-943E-7F04009886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614-D695-4D29-BB04-630781BFF4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5F4F-6FAA-4646-BE14-8349635568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9728-0E10-4DB7-8484-DDC5C1F5BD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51F8-CB47-45E0-A7F0-A3D986C275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F6D-EBEB-4A1F-9F51-64AB0B8941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5D8-CC59-4873-82C3-2650786032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8C6-00CB-4492-BA4D-F91AB95972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BE9-2BD7-4A20-8B05-6230CDC982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4895-97B0-45E0-8B94-45D571C326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48E6-417B-497D-A3E9-64C4081826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08C1-9974-4786-BA50-861F776DF0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BAC-4814-474C-AE19-2BBFF98F17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7C70-CA83-4B27-A155-103F9C06C5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70E-491F-4D3F-996B-3CE02AB844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8F2-27BA-497F-A029-25ABEE8C36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C2CC-D51F-48CB-8FB8-F0721C90FF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2D35-227A-4973-BDFC-C8E140AB1F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AE2E-F7A1-4525-B790-375286326D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73B-3AE0-4FC7-8080-5ACCB8F78A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02A1-AB37-406D-8D53-6B8993729B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449-0DA4-401D-A039-38FC1A97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968-97E1-4917-96A3-2D3A88BE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E7F-3E9B-4F4D-B28E-9B032A56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83E-C1F1-4420-9A6F-2BEB1D84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928-A057-4BF0-9921-D114CEC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2AB-7D6F-4AD7-BBFF-1C86374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949-48C8-4CC3-9874-5AC494D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F49-E6DE-484C-8F2D-26385F94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BC5-865F-4755-8F87-E498C2F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7FB-85E9-4E53-B94A-6D04DBC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473-3673-4AA9-88C3-8CE6F0D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EF2-C6BE-4CF8-A82D-E1E89AD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A5B8-8AB5-4B33-ACD4-F337370A2F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140360" y="1413000"/>
          <a:ext cx="1655640" cy="20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13000"/>
                    <a:ext cx="1655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211640" y="3500280"/>
          <a:ext cx="1471680" cy="186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00280"/>
                    <a:ext cx="147168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284720" y="3429000"/>
          <a:ext cx="1655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429000"/>
                    <a:ext cx="1655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284720" y="1413000"/>
          <a:ext cx="165564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413000"/>
                    <a:ext cx="1655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140360" y="1484280"/>
          <a:ext cx="158400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84280"/>
                    <a:ext cx="1584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211640" y="3500280"/>
          <a:ext cx="1584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00280"/>
                    <a:ext cx="1584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924360" y="1557360"/>
          <a:ext cx="24480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2448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3500280"/>
          <a:ext cx="262404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00280"/>
                    <a:ext cx="262404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348000" y="1484280"/>
          <a:ext cx="338472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3384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635280" y="3357720"/>
          <a:ext cx="3048120" cy="20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357720"/>
                    <a:ext cx="304812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924360" y="1557360"/>
          <a:ext cx="26636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2663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3500280"/>
          <a:ext cx="2681280" cy="18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6812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995640" y="1484280"/>
          <a:ext cx="25923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25923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924360" y="3429000"/>
          <a:ext cx="279864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429000"/>
                    <a:ext cx="27986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492360" y="1484280"/>
          <a:ext cx="295128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2951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492360" y="3500280"/>
          <a:ext cx="300060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500280"/>
                    <a:ext cx="30006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203640" y="1413000"/>
          <a:ext cx="331308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13000"/>
                    <a:ext cx="33130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76720" y="3500280"/>
          <a:ext cx="324000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0280"/>
                    <a:ext cx="32400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348000" y="1484280"/>
          <a:ext cx="316872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31687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419640" y="3500280"/>
          <a:ext cx="308736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00280"/>
                    <a:ext cx="308736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419640" y="1484280"/>
          <a:ext cx="3097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097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564000" y="3645000"/>
          <a:ext cx="2808360" cy="17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645000"/>
                    <a:ext cx="280836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6"/>
          <p:cNvGraphicFramePr/>
          <p:nvPr/>
        </p:nvGraphicFramePr>
        <p:xfrm>
          <a:off x="3780000" y="3716280"/>
          <a:ext cx="276372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16280"/>
                    <a:ext cx="276372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7"/>
          <p:cNvGraphicFramePr/>
          <p:nvPr/>
        </p:nvGraphicFramePr>
        <p:xfrm>
          <a:off x="3564000" y="1484280"/>
          <a:ext cx="316872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484280"/>
                    <a:ext cx="31687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851280" y="1484280"/>
          <a:ext cx="259236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259236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3573360"/>
          <a:ext cx="2592360" cy="17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259236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284720" y="1557360"/>
          <a:ext cx="140472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140472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356000" y="3500280"/>
          <a:ext cx="1584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00280"/>
                    <a:ext cx="1584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211640" y="1484280"/>
          <a:ext cx="208908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8908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356000" y="3573360"/>
          <a:ext cx="1511280" cy="18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3203640" y="1700280"/>
          <a:ext cx="432108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00280"/>
                    <a:ext cx="43210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3276720" y="3716280"/>
          <a:ext cx="382896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38289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3851280" y="1557360"/>
          <a:ext cx="302436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557360"/>
                    <a:ext cx="302436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780000" y="3500280"/>
          <a:ext cx="2952720" cy="19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00280"/>
                    <a:ext cx="295272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995640" y="1484280"/>
          <a:ext cx="144000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144000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851280" y="3500280"/>
          <a:ext cx="1657440" cy="19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16574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211640" y="1413000"/>
          <a:ext cx="16984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16984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3573360"/>
          <a:ext cx="1439640" cy="17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43964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356000" y="1484280"/>
          <a:ext cx="15112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484280"/>
                    <a:ext cx="15112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427640" y="3500280"/>
          <a:ext cx="1512720" cy="18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500280"/>
                    <a:ext cx="15127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1-31T19:49:03Z</dcterms:modified>
  <cp:revision>21</cp:revision>
  <dc:subject/>
  <dc:title>Diapositive 1</dc:title>
</cp:coreProperties>
</file>