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4539-C9DD-465D-BC09-2D513C3BA0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247A-B860-434E-85C4-3182599AFF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3788-5EB2-4421-954E-3C8BEE5E09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9B27-A1CB-4611-9099-FA24C89F42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F79D-9FBC-4748-B92A-C78EBE1ECA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A883-77C9-429E-BADA-62FA09B4E1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021D-046D-4725-9193-FBF0EE9B7E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4A5D-467A-403E-A9DA-16753E813C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8927-FEA9-4868-8D4D-B11A264886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9746-5565-436E-A204-F213356D17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A3D1-2A8B-4E44-86BB-9017DCDD34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DF47-A545-476D-8FF0-906C12FB72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2E86-1CD1-43FE-B4F9-85CA189748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F3C1-866A-42DF-A859-99AEC6BA56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5EEB-2354-481E-A311-4F18DDEAD3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B128-1655-4477-B184-770343E4F6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6A0F-2DC5-48E6-91D6-ABAC03A7B7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E1CF-1E8F-4A5C-9241-C01E6C3E9B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BAB9-BAF1-4562-A532-D13F97178D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45D0-40EA-4769-8625-8F5FAF27C6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C3E7-B5EA-4DAA-B057-B10DD7DEB0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4F26-4B2E-4A1E-A6B6-8681C4EF8D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3373-7727-40A0-A119-8CB5F8863B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824B-1948-40A4-A037-DE284BB9B2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CC77-56ED-4514-9693-55F907C18C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6EE-04DE-4B5D-B88E-8C10C6A7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32D-DBF0-45BD-BBD9-873BCE78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653-2059-4973-AA48-2F16F08E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AE4-204B-4730-AE7B-BF432DEF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6D8-6AB9-462D-A8D5-93CBFDA8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42E-8D75-49D8-8470-D19CE458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E1E-EB4B-4DC1-86C6-340CCB48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247-8A61-418E-B747-8C25F7CA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728-7E22-4763-8983-17118D6A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EF7-D508-4EED-803D-41AE9C10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7FE-4EB3-445A-AC61-8FEB5A16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697-9ACD-49D7-878E-BB01FBEA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A1EA-CE11-45C8-A482-474FE34B4FB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02"/>
          <p:cNvSpPr/>
          <p:nvPr/>
        </p:nvSpPr>
        <p:spPr>
          <a:xfrm>
            <a:off x="42480" y="5589720"/>
            <a:ext cx="907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garçon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U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65"/>
          <p:cNvSpPr/>
          <p:nvPr/>
        </p:nvSpPr>
        <p:spPr>
          <a:xfrm>
            <a:off x="376200" y="5556240"/>
            <a:ext cx="72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au tot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1662120" y="6156360"/>
            <a:ext cx="569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65"/>
          <p:cNvSpPr/>
          <p:nvPr/>
        </p:nvSpPr>
        <p:spPr>
          <a:xfrm>
            <a:off x="1662480" y="5589720"/>
            <a:ext cx="605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garçon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S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</a:tbl>
          </a:graphicData>
        </a:graphic>
      </p:graphicFrame>
      <p:sp>
        <p:nvSpPr>
          <p:cNvPr id="105" name="Text Box 65"/>
          <p:cNvSpPr/>
          <p:nvPr/>
        </p:nvSpPr>
        <p:spPr>
          <a:xfrm>
            <a:off x="1591200" y="5516640"/>
            <a:ext cx="63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26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U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</a:tbl>
          </a:graphicData>
        </a:graphic>
      </p:graphicFrame>
      <p:sp>
        <p:nvSpPr>
          <p:cNvPr id="109" name="Text Box 65"/>
          <p:cNvSpPr/>
          <p:nvPr/>
        </p:nvSpPr>
        <p:spPr>
          <a:xfrm>
            <a:off x="2052000" y="5516640"/>
            <a:ext cx="53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5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garçons au tot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74"/>
          <p:cNvSpPr/>
          <p:nvPr/>
        </p:nvSpPr>
        <p:spPr>
          <a:xfrm>
            <a:off x="634680" y="5556240"/>
            <a:ext cx="594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2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54"/>
          <p:cNvSpPr/>
          <p:nvPr/>
        </p:nvSpPr>
        <p:spPr>
          <a:xfrm>
            <a:off x="1736280" y="5373720"/>
            <a:ext cx="543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9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S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206"/>
          <p:cNvSpPr/>
          <p:nvPr/>
        </p:nvSpPr>
        <p:spPr>
          <a:xfrm>
            <a:off x="726120" y="5516640"/>
            <a:ext cx="812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65"/>
          <p:cNvSpPr/>
          <p:nvPr/>
        </p:nvSpPr>
        <p:spPr>
          <a:xfrm>
            <a:off x="1520280" y="5516640"/>
            <a:ext cx="581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4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PLU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65"/>
          <p:cNvSpPr/>
          <p:nvPr/>
        </p:nvSpPr>
        <p:spPr>
          <a:xfrm>
            <a:off x="1025280" y="5484960"/>
            <a:ext cx="476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5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filles au tot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65"/>
          <p:cNvSpPr/>
          <p:nvPr/>
        </p:nvSpPr>
        <p:spPr>
          <a:xfrm>
            <a:off x="1086120" y="5516640"/>
            <a:ext cx="652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4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garçon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65"/>
          <p:cNvSpPr/>
          <p:nvPr/>
        </p:nvSpPr>
        <p:spPr>
          <a:xfrm>
            <a:off x="2124720" y="5589720"/>
            <a:ext cx="527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0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au tot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65"/>
          <p:cNvSpPr/>
          <p:nvPr/>
        </p:nvSpPr>
        <p:spPr>
          <a:xfrm>
            <a:off x="345600" y="5556240"/>
            <a:ext cx="84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garçon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S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63"/>
          <p:cNvSpPr/>
          <p:nvPr/>
        </p:nvSpPr>
        <p:spPr>
          <a:xfrm>
            <a:off x="201240" y="5340240"/>
            <a:ext cx="85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U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63"/>
          <p:cNvSpPr/>
          <p:nvPr/>
        </p:nvSpPr>
        <p:spPr>
          <a:xfrm>
            <a:off x="1187280" y="5516640"/>
            <a:ext cx="752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 t-il de garçon au tot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65"/>
          <p:cNvSpPr/>
          <p:nvPr/>
        </p:nvSpPr>
        <p:spPr>
          <a:xfrm>
            <a:off x="344880" y="5556240"/>
            <a:ext cx="819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65"/>
          <p:cNvSpPr/>
          <p:nvPr/>
        </p:nvSpPr>
        <p:spPr>
          <a:xfrm>
            <a:off x="345960" y="5556240"/>
            <a:ext cx="812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S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65"/>
          <p:cNvSpPr/>
          <p:nvPr/>
        </p:nvSpPr>
        <p:spPr>
          <a:xfrm>
            <a:off x="561600" y="5484960"/>
            <a:ext cx="812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PL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76"/>
          <p:cNvSpPr/>
          <p:nvPr/>
        </p:nvSpPr>
        <p:spPr>
          <a:xfrm>
            <a:off x="879480" y="5484960"/>
            <a:ext cx="71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filles au tot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3-09T17:18:28Z</dcterms:modified>
  <cp:revision>20</cp:revision>
  <dc:subject/>
  <dc:title>Diapositive 1</dc:title>
</cp:coreProperties>
</file>