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9D29-C83A-4B0E-B575-CADDED79BE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A37D-C0BA-428F-8AE7-8F620FF7AF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8B69-304B-47CC-B316-B772670663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32EA-CF08-47B0-8049-6B96A95721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3A50-74F9-4225-B54B-5BDD6EE093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6E77-7B59-48DA-B5F6-1CE8703A38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08ED-66D0-4498-AF8B-8D21A66819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3810-E8ED-4813-AFE6-FBB86EC81D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56C2-D06E-4489-980A-FBFB3D0477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4DD1-9A53-4309-B831-5DB94C482B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7C06-468A-42D7-836F-49DE3EEC1E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043D-2EAD-47D3-9C4A-F42DA2136E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0869-E6DB-4F29-8DE4-2B19D41741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385E-4137-401B-9D2A-E30229D922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9148-C5CF-4881-AA95-119A6DFFEA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6642-AE9F-41AB-A586-5923449AB1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554D-F60C-477B-9008-C8F0D1B691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516A-A692-40A2-986A-880B47A6E1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7F63-FCB0-4C15-A3C3-378D3563A2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B49B-E202-4412-9208-EA9F3B1EB2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5D9A-B4B3-4D29-B518-B85CCBBEF0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3553-67A5-4FDB-AFBC-251C5FAA52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D971-84B4-4271-B01E-A47D224749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662B-A486-422E-AAB9-CEBA7DA1A3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AE93-235F-440F-AA6C-748994A483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7AA2-14D9-4AA3-AA5C-C54AB3986A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AC3-E485-4E83-AC06-BEEAD269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888-F364-456D-A820-E8B00405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97B-861A-44B1-A9EE-E47397D0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BAF-99D6-4812-A340-E94F73A4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5A2-F1D6-48DD-B593-CFAB9C8B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BCE-1435-46FC-803A-43B68B4D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066-F950-42CE-B534-05463FD2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239-70C5-431C-8732-3A336674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C7D-775D-45A0-A48A-63C070D1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580-E92D-4CFE-9E67-E7ECF506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7CE-ECD5-4C1A-B629-D3423825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062-4A94-4DCA-8A18-3C649DCA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8912-5CD8-4066-9AC0-625759F7BE5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5440" y="1484280"/>
            <a:ext cx="919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2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ZoneTexte 3"/>
          <p:cNvSpPr/>
          <p:nvPr/>
        </p:nvSpPr>
        <p:spPr>
          <a:xfrm>
            <a:off x="307800" y="2060640"/>
            <a:ext cx="807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8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69840" y="2421000"/>
            <a:ext cx="8005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perpendiculaires  e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5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ZoneTexte 3"/>
          <p:cNvSpPr/>
          <p:nvPr/>
        </p:nvSpPr>
        <p:spPr>
          <a:xfrm>
            <a:off x="102960" y="2060640"/>
            <a:ext cx="8994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est à la fois un carré et un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s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est à la fois un rectangle et un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s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2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oneTexte 5"/>
          <p:cNvSpPr/>
          <p:nvPr/>
        </p:nvSpPr>
        <p:spPr>
          <a:xfrm>
            <a:off x="580320" y="2205000"/>
            <a:ext cx="824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quadrilatère est une figure qui a 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quatre côté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quadrilatère est une figure qui 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7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ZoneTexte 5"/>
          <p:cNvSpPr/>
          <p:nvPr/>
        </p:nvSpPr>
        <p:spPr>
          <a:xfrm>
            <a:off x="295200" y="1989000"/>
            <a:ext cx="895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est une figure qui a quatr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ngles droi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rectangle est un quadrilatère qui a 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quatre angles droi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4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ZoneTexte 5"/>
          <p:cNvSpPr/>
          <p:nvPr/>
        </p:nvSpPr>
        <p:spPr>
          <a:xfrm>
            <a:off x="223920" y="2060640"/>
            <a:ext cx="892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rectangle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1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ZoneTexte 3"/>
          <p:cNvSpPr/>
          <p:nvPr/>
        </p:nvSpPr>
        <p:spPr>
          <a:xfrm>
            <a:off x="44280" y="2421000"/>
            <a:ext cx="9368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rectangle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longueur et qui se coupent en 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les diagonales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erpendiculaires et qui  se coupent e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ZoneTexte 3"/>
          <p:cNvSpPr/>
          <p:nvPr/>
        </p:nvSpPr>
        <p:spPr>
          <a:xfrm>
            <a:off x="41760" y="2205000"/>
            <a:ext cx="864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losange est un quadrilatère qui a 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quatre 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est une figure qui a quatr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5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oneTexte 1"/>
          <p:cNvSpPr/>
          <p:nvPr/>
        </p:nvSpPr>
        <p:spPr>
          <a:xfrm>
            <a:off x="27720" y="1125360"/>
            <a:ext cx="9202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nsign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ur chaque diapositive seront notées deux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hrases. Une sera VRAI et l’autre FAUSSE.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u noteras sur ta feuille l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oposition qui te paraîtra VRA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ZoneTexte 3"/>
          <p:cNvSpPr/>
          <p:nvPr/>
        </p:nvSpPr>
        <p:spPr>
          <a:xfrm>
            <a:off x="294480" y="2060640"/>
            <a:ext cx="861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losange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2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ZoneTexte 3"/>
          <p:cNvSpPr/>
          <p:nvPr/>
        </p:nvSpPr>
        <p:spPr>
          <a:xfrm>
            <a:off x="44280" y="2421000"/>
            <a:ext cx="9368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qui se coupent en 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losange a les diagonales 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perpendiculaires et qui  se coupent en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ZoneTexte 3"/>
          <p:cNvSpPr/>
          <p:nvPr/>
        </p:nvSpPr>
        <p:spPr>
          <a:xfrm>
            <a:off x="307800" y="2060640"/>
            <a:ext cx="807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carré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6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oneTexte 3"/>
          <p:cNvSpPr/>
          <p:nvPr/>
        </p:nvSpPr>
        <p:spPr>
          <a:xfrm>
            <a:off x="69840" y="2421000"/>
            <a:ext cx="8005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carré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longueur et perpendiculaires  en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3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ZoneTexte 3"/>
          <p:cNvSpPr/>
          <p:nvPr/>
        </p:nvSpPr>
        <p:spPr>
          <a:xfrm>
            <a:off x="102960" y="2060640"/>
            <a:ext cx="8994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est à la fois un carré et un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s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carré est à la fois un rectangle et un 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los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0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ZoneTexte 5"/>
          <p:cNvSpPr/>
          <p:nvPr/>
        </p:nvSpPr>
        <p:spPr>
          <a:xfrm>
            <a:off x="580320" y="2205000"/>
            <a:ext cx="824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quadrilatère est une figure qui 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côté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quadrilatère est une figure qui 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295200" y="1989000"/>
            <a:ext cx="895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est une figure qui a quatr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ngles droi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est un quadrilatère qui 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angles droi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6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ZoneTexte 5"/>
          <p:cNvSpPr/>
          <p:nvPr/>
        </p:nvSpPr>
        <p:spPr>
          <a:xfrm>
            <a:off x="223920" y="2060640"/>
            <a:ext cx="892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3" dur="1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ZoneTexte 3"/>
          <p:cNvSpPr/>
          <p:nvPr/>
        </p:nvSpPr>
        <p:spPr>
          <a:xfrm>
            <a:off x="223560" y="2421000"/>
            <a:ext cx="9368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qui se coupent en 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les diagonales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erpendiculaires et qui  se coupent e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ZoneTexte 3"/>
          <p:cNvSpPr/>
          <p:nvPr/>
        </p:nvSpPr>
        <p:spPr>
          <a:xfrm>
            <a:off x="41760" y="2205000"/>
            <a:ext cx="864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est un quadrilatère qui 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est une figure qui a quatr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7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3"/>
          <p:cNvSpPr/>
          <p:nvPr/>
        </p:nvSpPr>
        <p:spPr>
          <a:xfrm>
            <a:off x="294480" y="2060640"/>
            <a:ext cx="861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ZoneTexte 3"/>
          <p:cNvSpPr/>
          <p:nvPr/>
        </p:nvSpPr>
        <p:spPr>
          <a:xfrm>
            <a:off x="44280" y="2421000"/>
            <a:ext cx="9368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qui se coupent en 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les diagonales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erpendiculaires et qui  se coupent e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1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5-06T19:39:54Z</dcterms:modified>
  <cp:revision>25</cp:revision>
  <dc:subject/>
  <dc:title>Diapositive 1</dc:title>
</cp:coreProperties>
</file>