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274F-BBBE-4E91-90FF-5C9C84A294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D6F-62B5-4F84-81A8-AE64B74E94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5A7E-5479-4D56-A88C-272C0D8B7F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1F0-444B-4595-98E9-C3DD16B912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0FAE-EA8C-4309-A1AA-A30737474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03E-1199-4D20-9E3E-D6C253BF04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BEF-1C34-4407-B128-64946EE8D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39FC-99E4-421C-AD22-438955753A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DFB-8D31-4E84-8F71-3D07BB218D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0CC-1DB6-492C-86A2-0F59792054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6C8-5D18-49C3-AA21-4503DA92B9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E34-E562-4F35-988F-37FFBAFE9B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08B-2237-4A80-8237-103354946B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48A5-26C0-471A-B001-C3C41855D5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BB51-06CA-48DB-90F3-64D5E6A7A5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D530-2914-4687-A3BD-6D76D4DF86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38E-7634-4EFF-867F-640CA78B1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94C-BF43-46FB-A748-CFCD9F45D7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205-7A15-4C95-8A60-77C95A3D6A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1127-B2AF-42F7-8438-B1D90BBAEF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BA8F-69D9-42DA-AC0D-D41CEDDC3B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24D8-89B7-4CFD-BB5D-C4FF59CBEC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B36-BF75-4D26-8593-5BE8CB3048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7A1-252E-4DD0-B4DE-D0640F0A53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FB9-7835-4134-942A-3A0C368751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88A-08BC-4E1D-A363-97B9AADD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27A-8CA7-4B51-BDE8-97563AA9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F7E-55B6-48D7-B80B-F0AEAD53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344-3D7E-4E1E-A8F5-0D2CFF4F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000-C5DF-49D4-A4E3-264D5B6F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072-B195-468B-A871-1D371F4B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377-E292-4201-BC14-E98D6898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368-2843-4987-A40E-DAA59074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A0C-3FBB-4EB6-94CB-4B193A4F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C59-DB34-4E1D-9DD3-C9FF66B1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0F7-36E3-4817-84DC-8ECE916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7D0-C6C1-4873-95E0-0E18FA1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AEA-159D-439F-9BCD-3C1768483C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28"/>
          <p:cNvGraphicFramePr/>
          <p:nvPr/>
        </p:nvGraphicFramePr>
        <p:xfrm>
          <a:off x="3708360" y="2492280"/>
          <a:ext cx="20876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92280"/>
                    <a:ext cx="20876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28"/>
          <p:cNvGraphicFramePr/>
          <p:nvPr/>
        </p:nvGraphicFramePr>
        <p:xfrm>
          <a:off x="4140360" y="2565360"/>
          <a:ext cx="180000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565360"/>
                    <a:ext cx="18000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6"/>
          <p:cNvGraphicFramePr/>
          <p:nvPr/>
        </p:nvGraphicFramePr>
        <p:xfrm>
          <a:off x="250920" y="220500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6"/>
          <p:cNvGraphicFramePr/>
          <p:nvPr/>
        </p:nvGraphicFramePr>
        <p:xfrm>
          <a:off x="611280" y="2060640"/>
          <a:ext cx="817560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17560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26"/>
          <p:cNvGraphicFramePr/>
          <p:nvPr/>
        </p:nvGraphicFramePr>
        <p:xfrm>
          <a:off x="179280" y="2349360"/>
          <a:ext cx="878544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878544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6"/>
          <p:cNvGraphicFramePr/>
          <p:nvPr/>
        </p:nvGraphicFramePr>
        <p:xfrm>
          <a:off x="179280" y="1844640"/>
          <a:ext cx="89060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9060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37"/>
          <p:cNvGraphicFramePr/>
          <p:nvPr/>
        </p:nvGraphicFramePr>
        <p:xfrm>
          <a:off x="179280" y="1989000"/>
          <a:ext cx="87854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7854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179280" y="2060640"/>
          <a:ext cx="878544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878544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3780000" y="2781360"/>
          <a:ext cx="18316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781360"/>
                    <a:ext cx="18316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26"/>
          <p:cNvGraphicFramePr/>
          <p:nvPr/>
        </p:nvGraphicFramePr>
        <p:xfrm>
          <a:off x="179280" y="2205000"/>
          <a:ext cx="88678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88678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250920" y="2349360"/>
          <a:ext cx="86421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6421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26"/>
          <p:cNvGraphicFramePr/>
          <p:nvPr/>
        </p:nvGraphicFramePr>
        <p:xfrm>
          <a:off x="250920" y="206064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6"/>
          <p:cNvGraphicFramePr/>
          <p:nvPr/>
        </p:nvGraphicFramePr>
        <p:xfrm>
          <a:off x="468360" y="2349360"/>
          <a:ext cx="80154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0154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8"/>
          <p:cNvGraphicFramePr/>
          <p:nvPr/>
        </p:nvGraphicFramePr>
        <p:xfrm>
          <a:off x="3635280" y="2492280"/>
          <a:ext cx="2125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92280"/>
                    <a:ext cx="2125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6"/>
          <p:cNvGraphicFramePr/>
          <p:nvPr/>
        </p:nvGraphicFramePr>
        <p:xfrm>
          <a:off x="3708360" y="2565360"/>
          <a:ext cx="2050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565360"/>
                    <a:ext cx="2050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26"/>
          <p:cNvGraphicFramePr/>
          <p:nvPr/>
        </p:nvGraphicFramePr>
        <p:xfrm>
          <a:off x="3348000" y="2565360"/>
          <a:ext cx="208764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565360"/>
                    <a:ext cx="20876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3851280" y="2421000"/>
          <a:ext cx="21621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162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3780000" y="2492280"/>
          <a:ext cx="216036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492280"/>
                    <a:ext cx="216036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8"/>
          <p:cNvGraphicFramePr/>
          <p:nvPr/>
        </p:nvGraphicFramePr>
        <p:xfrm>
          <a:off x="3492360" y="2565360"/>
          <a:ext cx="2640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640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2142720" y="1773360"/>
            <a:ext cx="56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9"/>
          <p:cNvGraphicFramePr/>
          <p:nvPr/>
        </p:nvGraphicFramePr>
        <p:xfrm>
          <a:off x="3492360" y="2565360"/>
          <a:ext cx="25005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500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20:14:23Z</dcterms:modified>
  <cp:revision>20</cp:revision>
  <dc:subject/>
  <dc:title>Diapositive 1</dc:title>
</cp:coreProperties>
</file>