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4.wmf" ContentType="image/x-wmf"/>
  <Override PartName="/ppt/media/image1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8.png" ContentType="image/png"/>
  <Override PartName="/ppt/media/image12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0CF3-8B07-490A-AB4A-DB8FA00BB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420C-18AE-4D76-91C4-E40E62179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A1FD-43DF-4E89-8F1D-4350F10E9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AB40-B187-45AE-BDED-EB9980DDB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61C4-01FB-4948-851D-A5D425A08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8D94-0155-4C48-BD62-31B664A71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4A30-57B0-415F-AEC1-C09DD0964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D12A-D26D-4879-8846-4594F7E2A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F2C5-62CF-4A5E-8AF8-8BED4C1FE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A5C7-2E1A-4BB7-BDB4-641C6DB2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E81B-E7AA-407C-A46D-A7F5BAD1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5F41-3930-4348-8EDA-BC7E937C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BF3F6-3E41-4971-9E67-3A62573E7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6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  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48560" y="1596960"/>
            <a:ext cx="7846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duis en symboles mathématique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 phrase suivant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280" y="3613320"/>
            <a:ext cx="5842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s droites (d1) et (d2) s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rpendiculair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7" dur="10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8560" y="1596960"/>
            <a:ext cx="7846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duis en symboles mathématique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 phrase suivant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6000" y="3324240"/>
            <a:ext cx="7870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 droite (QS) est parallèle à la dro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TG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4" dur="10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155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155" fill="hold"/>
                                        <p:tgtEl>
                                          <p:spTgt spid="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115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115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908000" y="1268280"/>
            <a:ext cx="5610240" cy="4668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35800" y="6060960"/>
            <a:ext cx="843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s droites (AB) et (CD) sont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parallèle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9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908000" y="1341360"/>
            <a:ext cx="5486400" cy="44150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91440" y="5892840"/>
            <a:ext cx="868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s droites (AT) et (AP) sont </a:t>
            </a: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perpendicula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627280" y="5969160"/>
          <a:ext cx="4140360" cy="88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5969160"/>
                    <a:ext cx="414036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2124000" y="1413000"/>
            <a:ext cx="4927680" cy="4495680"/>
          </a:xfrm>
          <a:prstGeom prst="rect">
            <a:avLst/>
          </a:prstGeom>
          <a:ln w="0">
            <a:noFill/>
          </a:ln>
        </p:spPr>
      </p:pic>
    </p:spTree>
  </p:cSld>
  <p:transition advTm="8000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3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411280" y="5969160"/>
          <a:ext cx="4064040" cy="88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5969160"/>
                    <a:ext cx="406404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2124000" y="1413000"/>
            <a:ext cx="4927680" cy="4495680"/>
          </a:xfrm>
          <a:prstGeom prst="rect">
            <a:avLst/>
          </a:prstGeom>
          <a:ln w="0">
            <a:noFill/>
          </a:ln>
        </p:spPr>
      </p:pic>
    </p:spTree>
  </p:cSld>
  <p:transition advTm="8000">
    <p:cover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0" dur="5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124000" y="1413000"/>
            <a:ext cx="4927680" cy="4495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4" name=""/>
          <p:cNvGraphicFramePr/>
          <p:nvPr/>
        </p:nvGraphicFramePr>
        <p:xfrm>
          <a:off x="2556000" y="5969160"/>
          <a:ext cx="4140000" cy="88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56000" y="5969160"/>
                    <a:ext cx="414000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7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0" t="0" r="0" b="21411"/>
          <a:stretch/>
        </p:blipFill>
        <p:spPr>
          <a:xfrm>
            <a:off x="2411280" y="1341360"/>
            <a:ext cx="4129200" cy="39639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32920" y="5484960"/>
            <a:ext cx="866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 droite (d) est la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médiatric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du seg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[AB]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4" dur="5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19280" y="2189160"/>
            <a:ext cx="5610240" cy="4668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79440" y="1379520"/>
            <a:ext cx="842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ment sont les droites (AB) et (CD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10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692360" y="1341360"/>
            <a:ext cx="5070240" cy="43228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800" y="5546880"/>
            <a:ext cx="799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’est la droite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perpendiculaire à (AB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passant par 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1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6340320" cy="46548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88920" y="5845320"/>
            <a:ext cx="829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 médiatrice du segment [TS] est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(d2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8" dur="5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21440" y="1628640"/>
            <a:ext cx="5842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s droites (d1) et (d2) s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rpendiculair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556000" y="4076640"/>
          <a:ext cx="3581280" cy="88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4076640"/>
                    <a:ext cx="358128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5" dur="5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0880" y="1844640"/>
            <a:ext cx="7870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 droite (QS) est parallèle à la dro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TG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411280" y="3933720"/>
          <a:ext cx="3962520" cy="88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3933720"/>
                    <a:ext cx="396252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2" dur="5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908000" y="2133720"/>
            <a:ext cx="5486400" cy="4414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35800" y="1236600"/>
            <a:ext cx="833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ment sont les droites (AT) et (AP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10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124000" y="2362320"/>
            <a:ext cx="4927680" cy="44956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-720" y="1413000"/>
            <a:ext cx="501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lète les pointillé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813200" y="1413000"/>
          <a:ext cx="4330800" cy="88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13200" y="1413000"/>
                    <a:ext cx="433080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10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124000" y="2362320"/>
            <a:ext cx="4927680" cy="4495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-720" y="1413000"/>
            <a:ext cx="501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lète les pointillé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859280" y="1341360"/>
          <a:ext cx="4064040" cy="88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9280" y="1341360"/>
                    <a:ext cx="406404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10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195640" y="2362320"/>
            <a:ext cx="4927320" cy="44956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-720" y="1413000"/>
            <a:ext cx="501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lète les pointillé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5016600" y="1341360"/>
          <a:ext cx="4127400" cy="88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16600" y="1341360"/>
                    <a:ext cx="412740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10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0" t="0" r="0" b="21411"/>
          <a:stretch/>
        </p:blipFill>
        <p:spPr>
          <a:xfrm>
            <a:off x="2843280" y="2637000"/>
            <a:ext cx="4129200" cy="39639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902160" y="1341360"/>
            <a:ext cx="7448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 représente la droite (d) pour l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gment [AB]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403280" y="1959120"/>
            <a:ext cx="5746680" cy="48988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32920" y="1452600"/>
            <a:ext cx="777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écris la droite rouge de cette figur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3000">
    <p:cover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3" dur="20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403280" y="2203560"/>
            <a:ext cx="6340680" cy="46544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34000" y="1379520"/>
            <a:ext cx="873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lle est la médiatrice du segment [TS]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0" dur="10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JESS</cp:lastModifiedBy>
  <dcterms:modified xsi:type="dcterms:W3CDTF">2010-06-30T19:51:00Z</dcterms:modified>
  <cp:revision>20</cp:revision>
  <dc:subject/>
  <dc:title>Diapositive 1</dc:title>
</cp:coreProperties>
</file>