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E08E-3009-41BA-9254-40EB9035C0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9E0-DD88-4A3A-BB52-1BD486F4D2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7EB4-97AB-4391-8AFF-F13EB5B9F4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2E79-449C-4CE6-97ED-A2D239275A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7B48-497C-4DC6-BF62-2BE472663B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CCE0-140D-4AF9-84C2-A67895D5D1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1043-6C0D-4BAE-A93E-644DBED2F7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FBA7-2FF3-46C4-A359-6DAE2C5482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D4F0-656D-4CEA-B702-3424DA8DD1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4D2C-F9C0-4882-9EA8-AD1D0FF801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67FB-2B21-4B0B-B2E2-E86E250C65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5BC2-3666-496E-AACA-A13CB30EBE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0192-15D3-42FD-991A-8672957B03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BDA8-B6F5-4015-BFE8-E10791761C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5AA-E0C8-41E5-B313-258F7FA987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FD20-4DAF-4683-ADF5-A478F1BD60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559A-1EF9-40D2-9A1C-B30F44DC92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C652-F16D-4C49-A586-8160077ED3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18A2-77E0-46AE-B0BF-32F29A6F11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A233-4E57-47A0-AFD9-B73DAE7A74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2370-9442-48E8-B0F5-B3718C2AD7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2A0F-AC3B-476B-A449-0F534D584E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8C61-A7C3-45CD-845E-158F9ECDF6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BAAD-51B9-43AD-A048-093A0A0D45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11F-993D-4A97-B830-47AE6285A6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483A-73D2-4227-8EF2-F3F9062598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8A6-F6A8-4F22-A8AD-3B6FF9C9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2A5-E200-4367-BFD0-7142C3A9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AEF-9D66-4406-9102-4FC02814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1C1-A067-402F-AA0F-5014585A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4FD-AF65-4E75-9780-A3694790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F28-BD40-4E70-AC23-3C8B55A7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59C-BD07-44C6-B325-E30B873F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99B-531D-48DC-977F-34E8DFF2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7FD-BBF0-44B4-8C6D-B66770CF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158-DA24-47DC-BCC6-5F2FB707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16A-588C-4A90-8ED1-511C8C1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DA6-685D-4E1F-8645-97CF93A0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DE79-7235-4C42-B687-D13A090A43F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500720" y="2133720"/>
          <a:ext cx="13460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50072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427640" y="4149720"/>
          <a:ext cx="1295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284720" y="1989000"/>
          <a:ext cx="167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989000"/>
                    <a:ext cx="167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9"/>
          <p:cNvGraphicFramePr/>
          <p:nvPr/>
        </p:nvGraphicFramePr>
        <p:xfrm>
          <a:off x="4356000" y="4221000"/>
          <a:ext cx="12826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2826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85128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4221000"/>
          <a:ext cx="2819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19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708360" y="2060640"/>
          <a:ext cx="2781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80000" y="2060640"/>
          <a:ext cx="2793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4221000"/>
          <a:ext cx="28447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844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851280" y="206064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851280" y="4149720"/>
          <a:ext cx="27306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730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851280" y="1989000"/>
          <a:ext cx="2806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89000"/>
                    <a:ext cx="2806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4067280" y="4149720"/>
          <a:ext cx="208260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2082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85128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708360" y="213372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13372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780000" y="4221000"/>
          <a:ext cx="2819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2819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851280" y="2060640"/>
          <a:ext cx="27687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7687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924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780000" y="1989000"/>
          <a:ext cx="2755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2755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708360" y="4149720"/>
          <a:ext cx="2718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18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635280" y="2060640"/>
          <a:ext cx="3187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060640"/>
                    <a:ext cx="3187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708360" y="4149720"/>
          <a:ext cx="27813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781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500720" y="213372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33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427640" y="4149720"/>
          <a:ext cx="13460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149720"/>
                    <a:ext cx="1346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643280" y="2133720"/>
          <a:ext cx="13338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133720"/>
                    <a:ext cx="13338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788000" y="4149720"/>
          <a:ext cx="1333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14972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427640" y="2060640"/>
          <a:ext cx="1358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58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356000" y="4149720"/>
          <a:ext cx="13464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46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572000" y="2133720"/>
          <a:ext cx="1295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1295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356000" y="4149720"/>
          <a:ext cx="13208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427640" y="206064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572000" y="4149720"/>
          <a:ext cx="10922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149720"/>
                    <a:ext cx="1092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356000" y="2060640"/>
          <a:ext cx="1359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4221000"/>
          <a:ext cx="13078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307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427640" y="1989000"/>
          <a:ext cx="1320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320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356000" y="4221000"/>
          <a:ext cx="13208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221000"/>
                    <a:ext cx="13208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02T18:23:47Z</dcterms:modified>
  <cp:revision>15</cp:revision>
  <dc:subject/>
  <dc:title>Diapositive 1</dc:title>
</cp:coreProperties>
</file>