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EE9-0670-47B9-A06C-28D9EBC1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77B-4D9F-4D29-ACC6-9D6A79B4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ECB-F7F7-456D-A509-C5250085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D89-4934-4E0C-A331-41907057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AF6-BC25-4D25-B0EB-9F0A2D0D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712-E4E7-4347-AD02-E7937A24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3E4-9B93-43B5-9540-5C5B8BCC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F4F-B55C-4A96-9541-B0F7E159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2DF-587F-40B1-94AD-46956676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DB3-53BE-4DE1-81B8-DE2BFDCF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53C-B80D-4C7F-8649-740E3586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978-DF9F-45E1-B31A-BA738930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A579-2C2D-468F-B73C-67C284D69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280" y="1523880"/>
            <a:ext cx="8212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groupe de 3 filles et de 4 garçons 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ndent au cinéma et rejoignent leurs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is là-b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combien de personnes est compos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 grou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2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840" y="1884240"/>
            <a:ext cx="839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ui est ravie. Son frère vient de lu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heter 3 timbres qu’elle va ajouter à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ection de 1546 timb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de timbres possède-t-el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2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0000" y="2708280"/>
          <a:ext cx="4775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08280"/>
                    <a:ext cx="4775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2637000"/>
          <a:ext cx="48387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4838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27280" y="2708280"/>
          <a:ext cx="3835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708280"/>
                    <a:ext cx="383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00360" y="270828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0828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5640" y="2781360"/>
          <a:ext cx="75182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7518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8360" y="2708280"/>
          <a:ext cx="52452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708280"/>
                    <a:ext cx="5245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720" y="1844640"/>
            <a:ext cx="874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eva a 250F en poche. Son père lui do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0F de plus. Combien Teva possède t-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ain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2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9640" y="2708280"/>
          <a:ext cx="5181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8280"/>
                    <a:ext cx="5181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76360" y="2708280"/>
          <a:ext cx="6184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6184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00360" y="2708280"/>
          <a:ext cx="3594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08280"/>
                    <a:ext cx="3594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40000" y="2708280"/>
          <a:ext cx="4660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08280"/>
                    <a:ext cx="4660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440" y="1773360"/>
            <a:ext cx="916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ia se rend au magasin avec 500F p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heter un paquet de biscuit qui coûte 280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lui-reste-t-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2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1739880"/>
            <a:ext cx="9023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ui possède 6 billes bleus, 3 billes rou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2 billes jaunes. Combien de b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sède-t-il en t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2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6720" y="1812960"/>
            <a:ext cx="82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ereiti aime les fleurs. Dans son jard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lle compte 6 roses, 7 tulipes et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rchidées. Combien de fleurs y’a-t-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ans  son jard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2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720" y="1668600"/>
            <a:ext cx="877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oana fait du « va’a ». Il rame depuis 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inte venus jusqu’à Arue où il fait demi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our. Sachant qu’il met 20 minutes p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rriver à Arue, et 27 minutes pour reven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temps total de sa cou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2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6675480" cy="25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720" y="1379520"/>
            <a:ext cx="877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=5cm et PB=2cm. Quelle est le me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 segment [AB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2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7931160" cy="2282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280" y="1379520"/>
            <a:ext cx="73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M=3cm et BC=9cm. Quelle est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sure du segment [MC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2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3840" y="1379520"/>
            <a:ext cx="74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jardinier doit clôturer un terra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iangulai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4357800" cy="3611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3120" y="5629320"/>
            <a:ext cx="791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en de mètres de grillage doit-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évo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2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3T19:44:10Z</dcterms:modified>
  <cp:revision>17</cp:revision>
  <dc:subject/>
  <dc:title>Diapositive 1</dc:title>
</cp:coreProperties>
</file>