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14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FEE4-82A9-40E6-9446-30D3B5C7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626-9E13-4AAA-9F22-FB5597E4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C47-8B83-4321-9DBD-CB1BBB57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88F7-3D5F-4171-BD8F-6584CF1F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5C1B-9657-490C-B3E9-A4A019F2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FCD-5BCE-440B-A1F6-F7056DFA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2D49-227F-460A-A55F-C9D948B0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65C-146B-4F01-AFE0-3008242C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FAA-7883-4F93-94C2-7023D4AC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BCD-D61F-4122-8A28-02F72C74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F3D-8A38-4AAC-90D6-8EF99AF1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531-9947-42B2-92C4-7DC304DD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6789-2779-4063-BB3B-ACB51D577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987640" y="3645000"/>
          <a:ext cx="28447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645000"/>
                    <a:ext cx="28447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810360" y="1739880"/>
            <a:ext cx="798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uis par une phrase en français, 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mboles mathématiques suivants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2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6200" y="1884240"/>
            <a:ext cx="77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points A, B et C sont-ils aligné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27280" y="2781360"/>
            <a:ext cx="4400640" cy="35575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2880" y="5084640"/>
            <a:ext cx="42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e segm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[AB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543640" cy="32022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9240" y="5084640"/>
            <a:ext cx="48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st la demi-droit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[A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957920" cy="310032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805360" cy="4516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5840" y="5916600"/>
            <a:ext cx="81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oin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t leur point d’interse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056200" cy="431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2987640" y="5734080"/>
          <a:ext cx="2895480" cy="77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5734080"/>
                    <a:ext cx="2895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132000" y="1700280"/>
          <a:ext cx="27813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700280"/>
                    <a:ext cx="2781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92360" y="3068640"/>
            <a:ext cx="6172200" cy="34290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989080" y="1557360"/>
            <a:ext cx="329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I = </a:t>
            </a:r>
            <a:r>
              <a:rPr b="0" lang="en-US" sz="6000" spc="-1" strike="noStrike">
                <a:solidFill>
                  <a:srgbClr val="cc0000"/>
                </a:solidFill>
                <a:latin typeface="Times New Roman"/>
              </a:rPr>
              <a:t>5 c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6520" y="148428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543280" cy="3201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413440" y="1700280"/>
            <a:ext cx="393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B = </a:t>
            </a:r>
            <a:r>
              <a:rPr b="0" lang="en-US" sz="6000" spc="-1" strike="noStrike">
                <a:solidFill>
                  <a:srgbClr val="cc0000"/>
                </a:solidFill>
                <a:latin typeface="Times New Roman"/>
              </a:rPr>
              <a:t>14 c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360" y="2060640"/>
            <a:ext cx="720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point O appartient à la droite 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132000" y="3645000"/>
          <a:ext cx="23241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3645000"/>
                    <a:ext cx="23241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987640" y="2421000"/>
          <a:ext cx="284472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421000"/>
                    <a:ext cx="28447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080" y="4221000"/>
            <a:ext cx="89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Le point F appartient à la demi-droite [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0" y="1557360"/>
            <a:ext cx="92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N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les points A, B et C ne sont pas align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4000320" cy="418644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957920" cy="310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6520" y="148428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mmer la partie épaisse de la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76360" y="2341440"/>
            <a:ext cx="5805360" cy="451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" y="1211400"/>
            <a:ext cx="909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r la figure ci-dessous, se trouvent deux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écantes, quel est leur point d’interse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7640" y="1308240"/>
            <a:ext cx="756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 par     ou   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…….(D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084720" y="1413000"/>
          <a:ext cx="4064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4130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164360" y="1413000"/>
          <a:ext cx="4064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1413000"/>
                    <a:ext cx="406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979640" y="2540160"/>
            <a:ext cx="5056200" cy="43178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7640" y="1308240"/>
            <a:ext cx="756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ète les pointillés par     ou   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…..[BC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84720" y="1413000"/>
          <a:ext cx="4064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4130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164360" y="1413000"/>
          <a:ext cx="4064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1413000"/>
                    <a:ext cx="406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692360" y="3068640"/>
            <a:ext cx="6172200" cy="34290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8360" y="145260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isque AB=10cm, compléter AI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215120" cy="3465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41440" y="1557360"/>
            <a:ext cx="80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isque IB=7cm, compléter AB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8560" y="2028960"/>
            <a:ext cx="720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cris en symbole mathématiqu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phrase suiva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point O appartient à la droite 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30T19:52:52Z</dcterms:modified>
  <cp:revision>27</cp:revision>
  <dc:subject/>
  <dc:title>Diapositive 1</dc:title>
</cp:coreProperties>
</file>