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7BDC-E91F-4C50-A833-B5715339AE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A620-2BE2-4747-9E6C-440B0E21B5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3F65-371F-4E3C-B138-D31256C296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5B97-33A7-4155-B9DF-42D94548D4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A3D7-E4FA-4BE2-895F-3656F3AEA7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28EA-B322-40B6-8A89-087AE50141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F0D0-1074-42BD-92D1-978DD407E6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1427-73CE-431C-9C07-E2675BD9F2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5DDA-D548-4560-9341-FAE64B8716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2640-2A4A-4FC0-8501-4981DBC247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6659-BF7C-4514-8BFF-0E624D3168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0E39-D5C8-4945-82A1-23180F0F80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817F-68D2-4EBC-8922-075A7C4F58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CD10-5FC8-47E1-B301-19B8279736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9DD6-BE91-4B08-BC81-171D1ABEB1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1420-9EBE-47E9-89DB-68F51C2E67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C9AF-B0DA-4392-88F4-F9C8C344D2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FDAF-8EAD-44E4-A26F-52BCBEE9EE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028E-36BF-47EC-91D8-5CA290970B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ACA4-A799-4531-807F-DDD80F32DB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67FC-BF50-4D60-AD00-074C0C71DA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ABA8-1206-4F13-A44E-F27A14820E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78B4-1189-426D-BC48-3620EEF067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86B7-3EA2-4AD7-BBFB-B1DE901AA4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C43B-CD08-4DA3-969C-D476A1C6F4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D241-92E6-422F-92BC-277A933BDD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644B-D0B3-4753-B56F-08186984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B6F-1ACD-42E0-BC58-8AF094B3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191-9F29-4B8D-9A1E-1C4CE645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53CD-D6F6-4501-BBA3-AE53B5EA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6444-C4D7-4243-A278-163DF70E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A10-2873-4AFE-AB3C-AA5D03CA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3CBA-77DA-4F12-81AF-9C194CA1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E34D-8F5F-4A60-8515-E38759DE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8662-885B-440E-AC17-C4ED4B7C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8252-98EB-45C5-A99E-40EAC79C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0007-21A9-4C18-AAC7-96A6E141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FCC9-9569-46BB-8FF1-7D7C36DB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9254-B38E-4332-95B5-1568B7EFADE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9280" y="1397160"/>
          <a:ext cx="8856720" cy="4063680"/>
        </p:xfrm>
        <a:graphic>
          <a:graphicData uri="http://schemas.openxmlformats.org/drawingml/2006/table">
            <a:tbl>
              <a:tblPr/>
              <a:tblGrid>
                <a:gridCol w="1656000"/>
                <a:gridCol w="7200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1" descr=""/>
          <p:cNvPicPr/>
          <p:nvPr/>
        </p:nvPicPr>
        <p:blipFill>
          <a:blip r:embed="rId1"/>
          <a:stretch/>
        </p:blipFill>
        <p:spPr>
          <a:xfrm>
            <a:off x="2195640" y="2205000"/>
            <a:ext cx="6262560" cy="1087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6175440" cy="86688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20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397160"/>
          <a:ext cx="878544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7056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3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6046560" cy="91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4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6305760" cy="87156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20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9280" y="1397160"/>
          <a:ext cx="885672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712800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1" descr=""/>
          <p:cNvPicPr/>
          <p:nvPr/>
        </p:nvPicPr>
        <p:blipFill>
          <a:blip r:embed="rId1"/>
          <a:stretch/>
        </p:blipFill>
        <p:spPr>
          <a:xfrm>
            <a:off x="2268360" y="2276640"/>
            <a:ext cx="6110640" cy="895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2" descr=""/>
          <p:cNvPicPr/>
          <p:nvPr/>
        </p:nvPicPr>
        <p:blipFill>
          <a:blip r:embed="rId2"/>
          <a:stretch/>
        </p:blipFill>
        <p:spPr>
          <a:xfrm>
            <a:off x="2124000" y="4221000"/>
            <a:ext cx="6089760" cy="102240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20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15"/>
          <p:cNvGraphicFramePr/>
          <p:nvPr/>
        </p:nvGraphicFramePr>
        <p:xfrm>
          <a:off x="3419640" y="1557360"/>
          <a:ext cx="383508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557360"/>
                    <a:ext cx="38350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6"/>
          <p:cNvGraphicFramePr/>
          <p:nvPr/>
        </p:nvGraphicFramePr>
        <p:xfrm>
          <a:off x="3419640" y="3573360"/>
          <a:ext cx="388620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3573360"/>
                    <a:ext cx="3886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397160"/>
          <a:ext cx="864216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9134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15"/>
          <p:cNvGraphicFramePr/>
          <p:nvPr/>
        </p:nvGraphicFramePr>
        <p:xfrm>
          <a:off x="2411280" y="1989000"/>
          <a:ext cx="6248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989000"/>
                    <a:ext cx="6248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9"/>
          <p:cNvGraphicFramePr/>
          <p:nvPr/>
        </p:nvGraphicFramePr>
        <p:xfrm>
          <a:off x="2287440" y="4221000"/>
          <a:ext cx="62866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7440" y="4221000"/>
                    <a:ext cx="62866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1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3182760" y="2133720"/>
          <a:ext cx="39751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2760" y="2133720"/>
                    <a:ext cx="3975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3708360" y="4221000"/>
          <a:ext cx="31240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221000"/>
                    <a:ext cx="31240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3851280" y="206064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924360" y="4149720"/>
          <a:ext cx="28195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3564000" y="2060640"/>
          <a:ext cx="31878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060640"/>
                    <a:ext cx="31878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3348000" y="4149720"/>
          <a:ext cx="39495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149720"/>
                    <a:ext cx="3949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4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-3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6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1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-5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2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-1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1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A(-2,5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B(3,5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r la fraction décimale d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r la fraction décimale d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30"/>
          <p:cNvGraphicFramePr/>
          <p:nvPr/>
        </p:nvGraphicFramePr>
        <p:xfrm>
          <a:off x="5724360" y="1989000"/>
          <a:ext cx="16131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1989000"/>
                    <a:ext cx="16131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31"/>
          <p:cNvGraphicFramePr/>
          <p:nvPr/>
        </p:nvGraphicFramePr>
        <p:xfrm>
          <a:off x="5580000" y="4149720"/>
          <a:ext cx="165096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4149720"/>
                    <a:ext cx="16509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7340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4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décroissant: 34,61,78,41, 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croissant: 63, 93, 60, 32, 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2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15"/>
          <p:cNvGraphicFramePr/>
          <p:nvPr/>
        </p:nvGraphicFramePr>
        <p:xfrm>
          <a:off x="4211640" y="2060640"/>
          <a:ext cx="2184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2184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16"/>
          <p:cNvGraphicFramePr/>
          <p:nvPr/>
        </p:nvGraphicFramePr>
        <p:xfrm>
          <a:off x="4427640" y="4221000"/>
          <a:ext cx="16128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221000"/>
                    <a:ext cx="16128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15"/>
          <p:cNvGraphicFramePr/>
          <p:nvPr/>
        </p:nvGraphicFramePr>
        <p:xfrm>
          <a:off x="4067280" y="2060640"/>
          <a:ext cx="1765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060640"/>
                    <a:ext cx="1765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6"/>
          <p:cNvGraphicFramePr/>
          <p:nvPr/>
        </p:nvGraphicFramePr>
        <p:xfrm>
          <a:off x="4140360" y="4149720"/>
          <a:ext cx="16891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149720"/>
                    <a:ext cx="1689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17"/>
          <p:cNvGraphicFramePr/>
          <p:nvPr/>
        </p:nvGraphicFramePr>
        <p:xfrm>
          <a:off x="4356000" y="2060640"/>
          <a:ext cx="16765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060640"/>
                    <a:ext cx="16765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8"/>
          <p:cNvGraphicFramePr/>
          <p:nvPr/>
        </p:nvGraphicFramePr>
        <p:xfrm>
          <a:off x="4140360" y="4149720"/>
          <a:ext cx="21463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149720"/>
                    <a:ext cx="2146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9280" y="1397160"/>
          <a:ext cx="8713800" cy="4063680"/>
        </p:xfrm>
        <a:graphic>
          <a:graphicData uri="http://schemas.openxmlformats.org/drawingml/2006/table">
            <a:tbl>
              <a:tblPr/>
              <a:tblGrid>
                <a:gridCol w="1800360"/>
                <a:gridCol w="69134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2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6640560" cy="71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6297840" cy="60804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20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397160"/>
          <a:ext cx="871380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985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re l’abscisse du point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4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5783400" cy="946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5" descr=""/>
          <p:cNvPicPr/>
          <p:nvPr/>
        </p:nvPicPr>
        <p:blipFill>
          <a:blip r:embed="rId2"/>
          <a:stretch/>
        </p:blipFill>
        <p:spPr>
          <a:xfrm>
            <a:off x="2340000" y="4292640"/>
            <a:ext cx="6237360" cy="86688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20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0-10-26T19:44:59Z</dcterms:modified>
  <cp:revision>26</cp:revision>
  <dc:subject/>
  <dc:title>Diapositive 1</dc:title>
</cp:coreProperties>
</file>