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592-396C-4F05-9167-E91DD84C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E85-7FC1-4AAE-B5C5-C8B2772C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243-9846-4B97-B854-C80CFE52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0F5-3411-4EEB-B448-A2B01E68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132-0139-4DF7-827F-498419C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D74-CE01-4B8E-B32F-892D73AF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81E-07EB-41D4-8B62-52ABB37C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86E-5BBF-471E-9C6B-8770033C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394-078A-46B2-A3A0-BE3BA524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E6E-93D5-43A8-AF86-7E8AA8D1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891-49AB-43CD-BE4E-AA47395D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F76-9801-4994-86AC-70F5F48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AAAF-44B8-4F5C-B876-3B4E592C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e d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732720" y="1628640"/>
          <a:ext cx="147312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628640"/>
                    <a:ext cx="147312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04000" y="3645000"/>
          <a:ext cx="114300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3645000"/>
                    <a:ext cx="11430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00720" y="198900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98900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4149720"/>
          <a:ext cx="1371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00720" y="2060640"/>
          <a:ext cx="1320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20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0" y="407664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7664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348000" y="1557360"/>
          <a:ext cx="39369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3936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3573360"/>
          <a:ext cx="40640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73360"/>
                    <a:ext cx="40640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5128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24360" y="4149720"/>
          <a:ext cx="288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348000" y="2060640"/>
          <a:ext cx="3898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898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492360" y="4149720"/>
          <a:ext cx="3632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14972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76720" y="2060640"/>
          <a:ext cx="3962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6064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419640" y="4149720"/>
          <a:ext cx="3606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60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48000" y="1989000"/>
          <a:ext cx="387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989000"/>
                    <a:ext cx="387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03640" y="4076640"/>
          <a:ext cx="41907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190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10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&lt;12&lt;34&lt;5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2&gt;34&gt;6&gt;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10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7&gt;12&gt;9&gt;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&lt;56&lt;78&lt;9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10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484280"/>
          <a:ext cx="38862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38862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92360" y="3645000"/>
          <a:ext cx="322596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645000"/>
                    <a:ext cx="3225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9564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995640" y="4221000"/>
          <a:ext cx="2882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882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51280" y="2133720"/>
          <a:ext cx="2730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5128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45,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 la fraction décimale de 618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3280" y="2060640"/>
          <a:ext cx="1282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060640"/>
                    <a:ext cx="1282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572000" y="4149720"/>
          <a:ext cx="1359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4036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211640" y="4076640"/>
          <a:ext cx="21207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076640"/>
                    <a:ext cx="2120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140360" y="2060640"/>
          <a:ext cx="2463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463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40360" y="4149720"/>
          <a:ext cx="2108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ète les pointillés par &lt; ou &gt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92360" y="2565360"/>
          <a:ext cx="38862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3886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03640" y="4581360"/>
          <a:ext cx="4228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81360"/>
                    <a:ext cx="4228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2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12; 56; 34; 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 s l’ordre décroissant 6; 34; 72;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2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décroissant: 4;67;9;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les nombres suivants dans l’ordre croissant: 56;78;92;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2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4:51Z</dcterms:modified>
  <cp:revision>19</cp:revision>
  <dc:subject/>
  <dc:title>Diapositive 1</dc:title>
</cp:coreProperties>
</file>