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646E-8EA1-4F33-829E-5FD626755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2B91-F0BA-494F-B86F-202F00A1B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58D2-AD2C-46CA-87AF-4A913EE85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314E-CD73-45AC-89EB-A9AD2E824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D8D9-F0D9-412F-90F4-A76B97E41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8222-C7F7-4427-8588-E0A9983FC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B3AA-D451-40A2-B4B9-7BE6F8360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2B80-0ABD-4A5F-B5D9-D62B5B045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7F54-1980-4FA6-A1B8-17EC2D544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BA10-BEC9-4838-97E4-FED5D0EF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6C83-B266-4B46-9060-EAD7C4A5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C6F0-AEEF-41BB-85DE-3D5FB5FA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4B6AD-B125-4D15-8C92-10F770C57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1520" y="1484280"/>
            <a:ext cx="898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ctivités mentales 6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64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5715000" cy="38102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77280" y="5268960"/>
            <a:ext cx="709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lle est la mesure de cet ang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10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7902720" cy="46929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901080" y="5950080"/>
            <a:ext cx="709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lle est la mesure de cet ang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10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9668" r="0" b="9668"/>
          <a:stretch/>
        </p:blipFill>
        <p:spPr>
          <a:xfrm>
            <a:off x="1619280" y="1268280"/>
            <a:ext cx="6143760" cy="4507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64880" y="5629320"/>
            <a:ext cx="836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et angle se nomme             ou           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427640" y="5589720"/>
          <a:ext cx="1562040" cy="850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7640" y="5589720"/>
                    <a:ext cx="156204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6516720" y="5589720"/>
          <a:ext cx="1409760" cy="850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16720" y="5589720"/>
                    <a:ext cx="140976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8459640" y="5589720"/>
          <a:ext cx="520920" cy="838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459640" y="5589720"/>
                    <a:ext cx="5209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9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9668" r="0" b="9668"/>
          <a:stretch/>
        </p:blipFill>
        <p:spPr>
          <a:xfrm>
            <a:off x="1763640" y="1268280"/>
            <a:ext cx="6143760" cy="45072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12360" y="5805360"/>
            <a:ext cx="79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 sommet de cet angle est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le point B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9668" r="0" b="9668"/>
          <a:stretch/>
        </p:blipFill>
        <p:spPr>
          <a:xfrm>
            <a:off x="1692360" y="1268280"/>
            <a:ext cx="6143400" cy="45072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20" y="5546880"/>
            <a:ext cx="920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s côtés de cet angles sont les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demi-droi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[BA) et [BC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3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476360" y="1268280"/>
            <a:ext cx="6215040" cy="42436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-85320" y="5556240"/>
            <a:ext cx="862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et angle se nomme             ou             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140360" y="5589720"/>
          <a:ext cx="1600200" cy="850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40360" y="5589720"/>
                    <a:ext cx="160020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6372360" y="5589720"/>
          <a:ext cx="1523880" cy="850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372360" y="5589720"/>
                    <a:ext cx="152388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8458200" y="5734080"/>
          <a:ext cx="685800" cy="838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458200" y="5734080"/>
                    <a:ext cx="6858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0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763640" y="1268280"/>
            <a:ext cx="6215040" cy="42436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85800" y="5445000"/>
            <a:ext cx="798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 sommet de cet angle est le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point 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7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6215040" cy="42436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-91440" y="5484960"/>
            <a:ext cx="900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s côtés de cet angle sont les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demi-droi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[HG) et [HT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" dur="5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0" t="9668" r="0" b="9668"/>
          <a:stretch/>
        </p:blipFill>
        <p:spPr>
          <a:xfrm>
            <a:off x="1835280" y="2060640"/>
            <a:ext cx="6143400" cy="4506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980000" y="1341360"/>
            <a:ext cx="588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nne un nom de cet ang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10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050920" y="1268280"/>
            <a:ext cx="5419800" cy="40197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403440" y="5484960"/>
            <a:ext cx="127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N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1" dur="5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714680" y="1523880"/>
            <a:ext cx="5715000" cy="38102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403440" y="5629320"/>
            <a:ext cx="10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OU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8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835280" y="1268280"/>
            <a:ext cx="5715000" cy="38102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270160" y="5373720"/>
            <a:ext cx="467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et angle mesure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90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5" dur="5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7902720" cy="46929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052360" y="5877000"/>
            <a:ext cx="492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et angle mesure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110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2" dur="5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0" t="9668" r="0" b="9668"/>
          <a:stretch/>
        </p:blipFill>
        <p:spPr>
          <a:xfrm>
            <a:off x="1835280" y="2351160"/>
            <a:ext cx="6143400" cy="4506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117440" y="1341360"/>
            <a:ext cx="686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l est le sommet de cet ang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10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0" t="9668" r="0" b="9668"/>
          <a:stretch/>
        </p:blipFill>
        <p:spPr>
          <a:xfrm>
            <a:off x="1835280" y="2205000"/>
            <a:ext cx="6143400" cy="4506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116360" y="1341360"/>
            <a:ext cx="698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ls sont les côtés de cet ang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10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476360" y="2349360"/>
            <a:ext cx="6215040" cy="42436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980000" y="1341360"/>
            <a:ext cx="588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nne un nom de cet ang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10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476360" y="2349360"/>
            <a:ext cx="6215040" cy="42436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117440" y="1341360"/>
            <a:ext cx="686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l est le sommet de cet ang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10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476360" y="2349360"/>
            <a:ext cx="6215040" cy="4243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116360" y="1341360"/>
            <a:ext cx="698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ls sont les côtés de cet ang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050920" y="1268280"/>
            <a:ext cx="5419800" cy="40197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88920" y="5268960"/>
            <a:ext cx="91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 rapporteur est-il bien placé pour mesur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et ang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10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714680" y="1523880"/>
            <a:ext cx="5715000" cy="38102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2600" y="5300640"/>
            <a:ext cx="91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 rapporteur est-il bien placé pour mesur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et ang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" dur="10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8-09T16:16:32Z</dcterms:modified>
  <cp:revision>20</cp:revision>
  <dc:subject/>
  <dc:title>Diapositive 1</dc:title>
</cp:coreProperties>
</file>