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636-540D-4C7C-98D9-1174137D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684-D28A-426E-A675-DD48F24B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073-1315-46D3-9D31-8B75A264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26E-9C8B-4E8B-B9D4-941C4E6B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BD9-9843-4D37-8534-75F314EB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2CA-DF55-48E5-A83C-B8D6423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CC9-0FC7-44EC-9159-2B47F487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C48-079C-483D-BBD7-2FE3DB8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961-7D7E-4DF6-A84A-0A8C04E0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540-0563-47F3-9AE3-651E6280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A4F-C39E-4EE5-BAB1-6C62A103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377-D858-480F-8EDB-92F834A8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52C7-6B51-426B-84F7-A2550A3D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411280" y="2529000"/>
            <a:ext cx="4467240" cy="43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3080" y="1355760"/>
            <a:ext cx="778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gment [CI] 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" y="1355760"/>
            <a:ext cx="89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oints H et P sont symétriques par rapport 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droite (d), comment appelle-t-on encore c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xe de symétr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5064480" cy="38019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134136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4320" y="5877000"/>
            <a:ext cx="74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1116000" y="1268280"/>
            <a:ext cx="7329600" cy="456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4680" y="5877000"/>
            <a:ext cx="75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H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3800" cy="4691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1400" y="5950080"/>
            <a:ext cx="88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ymétrique du segment [CD] est le segmen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[FH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2050920" y="1268280"/>
            <a:ext cx="5276880" cy="4221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7120" y="5460840"/>
            <a:ext cx="90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GP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d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DE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5132160" cy="433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0960" y="5583240"/>
            <a:ext cx="34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’est le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ercle bl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9240" y="567684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B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06064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8880" y="5676840"/>
            <a:ext cx="88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F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340000" y="126828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8880" y="5676840"/>
            <a:ext cx="89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point D par rapport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J) est le poi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5501" r="0" b="0"/>
          <a:stretch/>
        </p:blipFill>
        <p:spPr>
          <a:xfrm>
            <a:off x="2195640" y="1268280"/>
            <a:ext cx="4467240" cy="432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00" y="5667480"/>
            <a:ext cx="88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symétrique du segment [IC] par rapport à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oite (JO) est le segme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[FK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064120" cy="38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720" y="5268960"/>
            <a:ext cx="79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 [HP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3095" r="0" b="13095"/>
          <a:stretch/>
        </p:blipFill>
        <p:spPr>
          <a:xfrm>
            <a:off x="971640" y="2290680"/>
            <a:ext cx="7329240" cy="456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284120"/>
            <a:ext cx="88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1843200"/>
            <a:ext cx="6815160" cy="50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520" y="1284120"/>
            <a:ext cx="87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CD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7859" r="0" b="0"/>
          <a:stretch/>
        </p:blipFill>
        <p:spPr>
          <a:xfrm>
            <a:off x="1979640" y="26370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800" y="1284120"/>
            <a:ext cx="89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seg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GP] par rapport à la droite (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2521080"/>
            <a:ext cx="5132520" cy="433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4160" y="1284120"/>
            <a:ext cx="847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cer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ge par rapport à la droite (AB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2520" y="1284120"/>
            <a:ext cx="86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2160" y="1284120"/>
            <a:ext cx="85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2160" y="1284120"/>
            <a:ext cx="86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vue d’œil, quel est le symétrique du poin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 rapport à la droite (JO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6247" r="0" b="7027"/>
          <a:stretch/>
        </p:blipFill>
        <p:spPr>
          <a:xfrm>
            <a:off x="2411280" y="2427120"/>
            <a:ext cx="4695840" cy="44308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7-09T02:21:26Z</dcterms:modified>
  <cp:revision>20</cp:revision>
  <dc:subject/>
  <dc:title>Diapositive 1</dc:title>
</cp:coreProperties>
</file>