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BC4-583B-4E93-8DC9-5611131D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28C-0521-491A-9F1A-DBBF93E3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2F7-C38D-47AA-A030-2B400CD4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87C-3A4A-43D2-BA7B-ECF8C519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E62-F312-4E64-9DBB-BBF42175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790-11EB-4363-A04D-B3A1BCFE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027-64A1-4B65-8D2B-FBECE58C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87D-8340-4A6E-BBAD-F5F03308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902-58FB-4492-8EC9-77211E8D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BE2-F218-4EE8-B6F5-2E5CCDEE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D12-5043-4106-9846-D4CDE562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B65-049E-4517-812F-EE8B26E8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2E62-8372-4672-9924-DFFB3141F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23880" y="1397160"/>
          <a:ext cx="6361200" cy="4572000"/>
        </p:xfrm>
        <a:graphic>
          <a:graphicData uri="http://schemas.openxmlformats.org/drawingml/2006/table">
            <a:tbl>
              <a:tblPr/>
              <a:tblGrid>
                <a:gridCol w="1608120"/>
                <a:gridCol w="4753080"/>
              </a:tblGrid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32360" y="2133720"/>
          <a:ext cx="29196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133720"/>
                    <a:ext cx="291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932360" y="4437000"/>
          <a:ext cx="29196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4437000"/>
                    <a:ext cx="29196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276720" y="2708280"/>
          <a:ext cx="421632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708280"/>
                    <a:ext cx="42163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059280" y="4941720"/>
          <a:ext cx="4635360" cy="7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9280" y="4941720"/>
                    <a:ext cx="46353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40,78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1,8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rime tous les zéros inutiles de 1023,0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rime tous les zéros inutiles de 0340,09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24360" y="2060640"/>
          <a:ext cx="28321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06064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24360" y="4221000"/>
          <a:ext cx="28447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447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3880" y="1397160"/>
          <a:ext cx="664848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04036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348000" y="2133720"/>
          <a:ext cx="4686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133720"/>
                    <a:ext cx="4686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419640" y="4149720"/>
          <a:ext cx="3962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4149720"/>
                    <a:ext cx="3962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348000" y="1484280"/>
          <a:ext cx="401328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40132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348000" y="3573360"/>
          <a:ext cx="40258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573360"/>
                    <a:ext cx="40258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08360" y="1557360"/>
          <a:ext cx="33019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557360"/>
                    <a:ext cx="33019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348000" y="3645000"/>
          <a:ext cx="401328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645000"/>
                    <a:ext cx="40132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635280" y="1989000"/>
          <a:ext cx="31496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989000"/>
                    <a:ext cx="31496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635280" y="4149720"/>
          <a:ext cx="351792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3517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419640" y="1989000"/>
          <a:ext cx="37461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989000"/>
                    <a:ext cx="37461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203640" y="4076640"/>
          <a:ext cx="425448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076640"/>
                    <a:ext cx="42544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397160"/>
          <a:ext cx="693576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3276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03640" y="1557360"/>
          <a:ext cx="48387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557360"/>
                    <a:ext cx="48387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851280" y="3573360"/>
          <a:ext cx="383544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73360"/>
                    <a:ext cx="383544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397160"/>
          <a:ext cx="8497800" cy="4063680"/>
        </p:xfrm>
        <a:graphic>
          <a:graphicData uri="http://schemas.openxmlformats.org/drawingml/2006/table">
            <a:tbl>
              <a:tblPr/>
              <a:tblGrid>
                <a:gridCol w="1728720"/>
                <a:gridCol w="676908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195640" y="2133720"/>
          <a:ext cx="59814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133720"/>
                    <a:ext cx="59814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124000" y="4005360"/>
          <a:ext cx="654048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005360"/>
                    <a:ext cx="65404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27640" y="1989000"/>
          <a:ext cx="1346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1346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356000" y="4149720"/>
          <a:ext cx="1346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46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1989000"/>
          <a:ext cx="2869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2869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08360" y="4149720"/>
          <a:ext cx="2158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158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l est le double de 16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l est le double de 19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34,8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a fraction décimale de 78,0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3880" y="1397160"/>
          <a:ext cx="70088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54007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 d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 l’écritu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imal 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77080" y="1628640"/>
          <a:ext cx="118116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7080" y="1628640"/>
                    <a:ext cx="11811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32720" y="3573360"/>
          <a:ext cx="1536480" cy="17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3573360"/>
                    <a:ext cx="153648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348,905 quel est le chiffre des cent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578,094 quel est le chiffre des unité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ter les pointillés par = ou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659640" y="2205000"/>
          <a:ext cx="29196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205000"/>
                    <a:ext cx="291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732720" y="4292640"/>
          <a:ext cx="291960" cy="2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4292640"/>
                    <a:ext cx="291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067280" y="2637000"/>
          <a:ext cx="21589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2637000"/>
                    <a:ext cx="2158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067280" y="4797360"/>
          <a:ext cx="2361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4797360"/>
                    <a:ext cx="2361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07T19:04:35Z</dcterms:modified>
  <cp:revision>18</cp:revision>
  <dc:subject/>
  <dc:title>Diapositive 1</dc:title>
</cp:coreProperties>
</file>