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FA1-D4BA-4F0D-8EF0-C1964E25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4CF-00AD-46FA-AA04-D89208E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E39-9F71-4F55-A184-8901328B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2E3-9DEA-4C44-B060-FA9601B3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FB8-7B3D-444A-930B-2ADCB7DB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B5B-7938-4C31-ABAC-9F2AF2CB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94C-6A01-43CB-B2B4-A3C558AB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B39-D46F-4263-9208-BF53F3F6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A4E-E463-42ED-95B0-F30EB85A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A03-D01B-4BA2-8E4C-BABDB42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22F-A048-4B68-A078-22E4BDF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B43-A07B-4B0D-9708-AD3C3078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6288-01CB-4406-A662-B76A7059A5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95640" y="1989000"/>
          <a:ext cx="2158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06728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95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851280" y="4149720"/>
          <a:ext cx="2057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35280" y="198900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708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2060640"/>
          <a:ext cx="3137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137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564000" y="4221000"/>
          <a:ext cx="32004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004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35280" y="2060640"/>
          <a:ext cx="3289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708360" y="4149720"/>
          <a:ext cx="3289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89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708360" y="1989000"/>
          <a:ext cx="3276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3276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80000" y="4221000"/>
          <a:ext cx="32889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889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19640" y="2133720"/>
          <a:ext cx="386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133720"/>
                    <a:ext cx="386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76720" y="4149720"/>
          <a:ext cx="4051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14972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03640" y="4292640"/>
          <a:ext cx="39877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3987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76720" y="2060640"/>
          <a:ext cx="3657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657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348000" y="4221000"/>
          <a:ext cx="39243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9243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76720" y="2060640"/>
          <a:ext cx="4051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4051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76720" y="4292640"/>
          <a:ext cx="4038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92640"/>
                    <a:ext cx="4038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492360" y="2060640"/>
          <a:ext cx="3530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60640"/>
                    <a:ext cx="3530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419640" y="4292640"/>
          <a:ext cx="3479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292640"/>
                    <a:ext cx="3479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80000" y="4149720"/>
          <a:ext cx="2806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43280" y="2060640"/>
          <a:ext cx="1397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397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43280" y="4149720"/>
          <a:ext cx="1435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198900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00720" y="4149720"/>
          <a:ext cx="1765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14972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11640" y="206064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211640" y="4149720"/>
          <a:ext cx="1803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11640" y="1989000"/>
          <a:ext cx="1765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1164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211640" y="2060640"/>
          <a:ext cx="2057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057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51280" y="4149720"/>
          <a:ext cx="21844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51280" y="213372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35280" y="4149720"/>
          <a:ext cx="2489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489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067280" y="2060640"/>
          <a:ext cx="2184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2184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8000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12T19:08:12Z</dcterms:modified>
  <cp:revision>14</cp:revision>
  <dc:subject/>
  <dc:title>Diapositive 1</dc:title>
</cp:coreProperties>
</file>