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685-A2D7-4693-B907-B276DA73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9F4-C83C-432D-A64E-42D0FF21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89B-9AC4-4546-8B2E-A5983A8B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37F-E41E-4F40-BF6D-FD10142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527-4AB3-4BE3-B96E-B0F62632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176-C0CE-4B34-8664-7C96D91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437-54CB-4DBB-9818-B94F154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99B-402F-4F91-B43C-B3141F7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587-D26C-4391-A1BF-80FFE993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5A9-BDD1-40CA-9CDC-60C0565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7FB-1411-4791-AC75-0EFF1B4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087-7591-4C00-8E65-14C1641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26E-D8F2-442D-A9D7-D01484DF76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11640" y="2060640"/>
          <a:ext cx="21081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2108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284720" y="4221000"/>
          <a:ext cx="21844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21844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211640" y="1989000"/>
          <a:ext cx="1790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98900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4036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472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4720" y="4149720"/>
          <a:ext cx="1778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778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0836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24360" y="4221000"/>
          <a:ext cx="28321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321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2133720"/>
          <a:ext cx="3949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133720"/>
                    <a:ext cx="3949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348000" y="4221000"/>
          <a:ext cx="38988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8988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8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060640"/>
          <a:ext cx="3632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60640"/>
                    <a:ext cx="3632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48000" y="4221000"/>
          <a:ext cx="36702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221000"/>
                    <a:ext cx="36702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780000" y="1989000"/>
          <a:ext cx="3288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780000" y="4221000"/>
          <a:ext cx="321300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221000"/>
                    <a:ext cx="321300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708360" y="2060640"/>
          <a:ext cx="32259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3225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780000" y="4149720"/>
          <a:ext cx="3288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328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11640" y="2060640"/>
          <a:ext cx="13334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060640"/>
                    <a:ext cx="1333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284720" y="4149720"/>
          <a:ext cx="13460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149720"/>
                    <a:ext cx="1346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84720" y="2133720"/>
          <a:ext cx="13716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1371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11640" y="4149720"/>
          <a:ext cx="1308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308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24360" y="2133720"/>
          <a:ext cx="2197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21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95640" y="4221000"/>
          <a:ext cx="21081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221000"/>
                    <a:ext cx="21081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567, quel est le chiffre des cent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345, quel est le chiff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345,67 quel est le nombre des dizaine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986,12 quel est le nombre des unité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468,92 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136,087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579,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l est le chiffre des dix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s le nombre 249,06 quel est le chiffre des centième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6-04T21:25:15Z</dcterms:modified>
  <cp:revision>18</cp:revision>
  <dc:subject/>
  <dc:title>Diapositive 1</dc:title>
</cp:coreProperties>
</file>