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D76E-77AE-4363-BFB2-DD6849808E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2EA5-EE4A-4E12-B9BF-38EC60F694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8711-1D1E-4C1E-8DB8-DB8AD80C1E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046F-3998-4348-AE3C-1D5FCEEB67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39D-7E8D-4DF5-B3A1-BA4D1CAF09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23C2-25B0-4D47-B7A3-2949E0E045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791D-328D-41B0-8710-DA25F13A67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2A04-253D-410A-96CA-9E60980B5B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E560-E034-489D-A92E-EED6757706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2FC7-6C84-42E9-9085-D9DEC1E9DC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EC58-3D49-49F5-BDEE-3BD43E89E3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82FB-8BDE-48E6-B034-6D52AB020B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E324-4918-4027-B69F-41D0508DBA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DE4-1342-45C9-9B88-79D42296C1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68A-E022-4E62-969B-7D0DD7B69B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1394-4569-4E94-A065-E0DE3C2C88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20C6-47B5-44C5-8F06-162CCB58BB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6DAA-27F1-4308-B00E-D54799CD86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F5F9-1C5D-45CC-8923-17400E607D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AB13-E542-4E95-A1F8-49AE1B019A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FB17-D164-4E51-88BF-D9C9BEDA97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B09F-555D-4532-B6C3-C2C831ED3E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6D6C-12A4-4302-9D74-4A158B798D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CBC4-ED3E-4D04-B00B-859CE0A138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E30-67E7-4393-95CD-57BF7BF65D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042-E299-40FD-A5EA-30FD74E2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9A4-4D35-4FEA-A5EB-F87C49F6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B4E-4DDB-4E83-AFF6-AF0D7B76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5E3-9398-4AA5-95EB-D993E6DB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933-0089-4E2D-8FCA-A3800B33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4CB-C097-41F1-9D5A-08AA3022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948-BEE3-4AF6-B82C-61D9C1A5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D80-DCD6-45F3-B832-02A96AC6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278-F539-4D62-B373-D5A1F491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8E2-5BD1-4CE9-8FCB-82ADB127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DEA-C774-431F-8F24-AAE303C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450-D5D6-4246-8D99-BD5E435C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537F-8776-4233-85A4-752C7B5E078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2240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9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6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7"/>
          <p:cNvSpPr/>
          <p:nvPr/>
        </p:nvSpPr>
        <p:spPr>
          <a:xfrm>
            <a:off x="3709080" y="6156360"/>
            <a:ext cx="10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3112920" y="613260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7"/>
          <p:cNvSpPr/>
          <p:nvPr/>
        </p:nvSpPr>
        <p:spPr>
          <a:xfrm>
            <a:off x="3328920" y="598788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3257280" y="57722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P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7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8"/>
          <p:cNvSpPr/>
          <p:nvPr/>
        </p:nvSpPr>
        <p:spPr>
          <a:xfrm>
            <a:off x="3473280" y="5845320"/>
            <a:ext cx="13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Ob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63080" cy="50403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3186000" y="591660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6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7"/>
          <p:cNvSpPr/>
          <p:nvPr/>
        </p:nvSpPr>
        <p:spPr>
          <a:xfrm>
            <a:off x="3257280" y="59878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6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9040" cy="5002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7"/>
          <p:cNvSpPr/>
          <p:nvPr/>
        </p:nvSpPr>
        <p:spPr>
          <a:xfrm>
            <a:off x="3112920" y="60609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Ai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6" descr=""/>
          <p:cNvPicPr/>
          <p:nvPr/>
        </p:nvPicPr>
        <p:blipFill>
          <a:blip r:embed="rId1"/>
          <a:stretch/>
        </p:blipFill>
        <p:spPr>
          <a:xfrm>
            <a:off x="60480" y="1413000"/>
            <a:ext cx="9083520" cy="4294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7"/>
          <p:cNvSpPr/>
          <p:nvPr/>
        </p:nvSpPr>
        <p:spPr>
          <a:xfrm>
            <a:off x="3257640" y="577224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Dro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9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76920" cy="5031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77120" cy="4694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1120" cy="4309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2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9" descr=""/>
          <p:cNvPicPr/>
          <p:nvPr/>
        </p:nvPicPr>
        <p:blipFill>
          <a:blip r:embed="rId1"/>
          <a:stretch/>
        </p:blipFill>
        <p:spPr>
          <a:xfrm>
            <a:off x="0" y="1413000"/>
            <a:ext cx="9012240" cy="3990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9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973400" cy="5037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9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556080" cy="4869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0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929040" cy="491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2"/>
          <p:cNvSpPr/>
          <p:nvPr/>
        </p:nvSpPr>
        <p:spPr>
          <a:xfrm>
            <a:off x="0" y="619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 vue d’œil,quelle est la nature de l’angle trac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11-18T20:12:44Z</dcterms:modified>
  <cp:revision>19</cp:revision>
  <dc:subject/>
  <dc:title>Diapositive 1</dc:title>
</cp:coreProperties>
</file>