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E66B-6ECB-4DD3-8080-AC5B7D4C94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8357-CED9-4624-A38D-91C7BC6130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D172-C176-4F72-9405-3A4689B80B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E102-41A6-4FBE-8246-A996FB4FF9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B237-B8ED-4363-B23D-C4B98727E0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D275-FF34-4D32-B5D2-4311518E95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7D7C-F579-403C-AD33-D43CF4C784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C2B1-2801-4271-A411-0AC96CCA11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5185-FC7F-4F9E-A760-BA037BA817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1367-98DC-466B-89E7-7F93EFE8A8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22C5-97D3-45C8-BAC3-6BF9AC7F2B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7451-37B9-46D4-A10A-8CABA89CE0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B172-923F-4B4C-9BAA-4ACAD060BD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75CE-A2B1-415F-906B-7F5E76450E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6FC7-BF16-4BD6-A8F4-1B09450D6C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0A72-5381-4242-96E1-ED9AFD4C9F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8E87-CD7D-4E20-B667-EE210A6E65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0F01-986C-4D18-A7B5-A902972F41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F5C6-ED1D-4E23-8502-F285479392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96C3-DC80-48B3-A689-FDA0C0D92C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7F17-D97E-444A-9467-BE3FBBE29D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DCC8-878A-43B9-9910-F4C1958E40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69FD-5FA9-4CCA-9AF8-CE8FBDA97E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459B-1B64-4D15-8E97-D4E8CA8D53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59A5-B043-4034-A133-09185B7592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1E9E-EF8B-4FE0-8FEA-362E30A36F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014-02D5-4A4A-888A-6FC40D9F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273-D58D-4916-8DFD-E584015C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6E9-4641-4D46-848D-A2A48A27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D5D-585C-4186-8A9F-62E7EB7F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5B2-6ADD-41B9-8917-5FABFF6A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0CA-295D-4D80-A2CF-E6870301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DE6-A5BB-4C86-B28B-9E803844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555-BEAE-4EC9-A8EC-07E419E2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9DA-1667-4E0D-872C-3CD73117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8E1-72D9-4640-961B-CA8686A3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4F8-B195-4ADB-80BD-E2F66FB7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F8B-6649-4F87-A267-D1756E26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9BE1-5687-463F-8291-4D6E656A3AA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39"/>
          <p:cNvGraphicFramePr/>
          <p:nvPr/>
        </p:nvGraphicFramePr>
        <p:xfrm>
          <a:off x="1619280" y="3429000"/>
          <a:ext cx="589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89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28"/>
          <p:cNvGraphicFramePr/>
          <p:nvPr/>
        </p:nvGraphicFramePr>
        <p:xfrm>
          <a:off x="1619280" y="3429000"/>
          <a:ext cx="55627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562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28"/>
          <p:cNvGraphicFramePr/>
          <p:nvPr/>
        </p:nvGraphicFramePr>
        <p:xfrm>
          <a:off x="1403280" y="3429000"/>
          <a:ext cx="5943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429000"/>
                    <a:ext cx="5943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26"/>
          <p:cNvGraphicFramePr/>
          <p:nvPr/>
        </p:nvGraphicFramePr>
        <p:xfrm>
          <a:off x="1473120" y="3067200"/>
          <a:ext cx="619776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3067200"/>
                    <a:ext cx="61977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27"/>
          <p:cNvGraphicFramePr/>
          <p:nvPr/>
        </p:nvGraphicFramePr>
        <p:xfrm>
          <a:off x="1204920" y="3429000"/>
          <a:ext cx="61214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3429000"/>
                    <a:ext cx="61214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26"/>
          <p:cNvGraphicFramePr/>
          <p:nvPr/>
        </p:nvGraphicFramePr>
        <p:xfrm>
          <a:off x="1168560" y="3067200"/>
          <a:ext cx="680688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3067200"/>
                    <a:ext cx="680688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26"/>
          <p:cNvGraphicFramePr/>
          <p:nvPr/>
        </p:nvGraphicFramePr>
        <p:xfrm>
          <a:off x="2216160" y="3067200"/>
          <a:ext cx="471168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6160" y="3067200"/>
                    <a:ext cx="471168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37"/>
          <p:cNvGraphicFramePr/>
          <p:nvPr/>
        </p:nvGraphicFramePr>
        <p:xfrm>
          <a:off x="2692440" y="3067200"/>
          <a:ext cx="375912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3067200"/>
                    <a:ext cx="37591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232920" y="1308240"/>
            <a:ext cx="8466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ans chaque multiplication, place l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irgule correctement dans le chiffre éc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n rou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15"/>
          <p:cNvGraphicFramePr/>
          <p:nvPr/>
        </p:nvGraphicFramePr>
        <p:xfrm>
          <a:off x="2305080" y="3067200"/>
          <a:ext cx="45338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5080" y="3067200"/>
                    <a:ext cx="4533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26"/>
          <p:cNvGraphicFramePr/>
          <p:nvPr/>
        </p:nvGraphicFramePr>
        <p:xfrm>
          <a:off x="1860480" y="3067200"/>
          <a:ext cx="54230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3067200"/>
                    <a:ext cx="54230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26"/>
          <p:cNvGraphicFramePr/>
          <p:nvPr/>
        </p:nvGraphicFramePr>
        <p:xfrm>
          <a:off x="1511280" y="3067200"/>
          <a:ext cx="61214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067200"/>
                    <a:ext cx="61214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26"/>
          <p:cNvGraphicFramePr/>
          <p:nvPr/>
        </p:nvGraphicFramePr>
        <p:xfrm>
          <a:off x="1689120" y="3067200"/>
          <a:ext cx="576576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3067200"/>
                    <a:ext cx="57657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26"/>
          <p:cNvGraphicFramePr/>
          <p:nvPr/>
        </p:nvGraphicFramePr>
        <p:xfrm>
          <a:off x="1511280" y="3067200"/>
          <a:ext cx="612144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067200"/>
                    <a:ext cx="61214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2"/>
          <p:cNvGraphicFramePr/>
          <p:nvPr/>
        </p:nvGraphicFramePr>
        <p:xfrm>
          <a:off x="1619280" y="3429000"/>
          <a:ext cx="5931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429000"/>
                    <a:ext cx="5931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28"/>
          <p:cNvGraphicFramePr/>
          <p:nvPr/>
        </p:nvGraphicFramePr>
        <p:xfrm>
          <a:off x="1332000" y="3429000"/>
          <a:ext cx="58672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429000"/>
                    <a:ext cx="5867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26"/>
          <p:cNvGraphicFramePr/>
          <p:nvPr/>
        </p:nvGraphicFramePr>
        <p:xfrm>
          <a:off x="1258920" y="3429000"/>
          <a:ext cx="65660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429000"/>
                    <a:ext cx="65660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6"/>
          <p:cNvGraphicFramePr/>
          <p:nvPr/>
        </p:nvGraphicFramePr>
        <p:xfrm>
          <a:off x="2124000" y="3429000"/>
          <a:ext cx="4597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429000"/>
                    <a:ext cx="4597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28"/>
          <p:cNvGraphicFramePr/>
          <p:nvPr/>
        </p:nvGraphicFramePr>
        <p:xfrm>
          <a:off x="2268360" y="3357720"/>
          <a:ext cx="350532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357720"/>
                    <a:ext cx="35053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28"/>
          <p:cNvGraphicFramePr/>
          <p:nvPr/>
        </p:nvGraphicFramePr>
        <p:xfrm>
          <a:off x="2050920" y="3429000"/>
          <a:ext cx="43689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429000"/>
                    <a:ext cx="4368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28"/>
          <p:cNvGraphicFramePr/>
          <p:nvPr/>
        </p:nvGraphicFramePr>
        <p:xfrm>
          <a:off x="1763640" y="3429000"/>
          <a:ext cx="5181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429000"/>
                    <a:ext cx="5181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01T18:19:34Z</dcterms:modified>
  <cp:revision>19</cp:revision>
  <dc:subject/>
  <dc:title>Diapositive 1</dc:title>
</cp:coreProperties>
</file>