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CD0E-AC19-46B8-8B1A-4D3C62D249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B6B5-8D75-48B5-A03A-3F357D5C59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4F29-88B6-4DAF-9511-F2D762DE6C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A174-6F57-405B-9D9D-CF3435B31C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E173-793E-4C26-A9C2-C2D0134CF1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5B33-B809-4E38-9CE5-F62CFB1B8A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6342-0EE4-4DF4-8C67-68A05C86F4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6ECE-1A6B-442E-A73C-C11EFBFA4A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9AEB-44CB-4E70-A406-91EAD235EF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BC35-80F8-4E88-B87B-F0FFD3DB58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4CD0-1880-4BF9-977B-E480828FFD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0A80-5CA0-4DBD-8E76-116BCA5889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F82C-CF0B-4DDF-ACB9-E61D1522F4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56CC-E160-4912-92E3-CC25C9A5E9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BDFC-C816-4E32-BF67-071706477B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F3D9-F608-46FA-8D23-233E48AD78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7A6C-A5B6-4959-A04B-097AE2C887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A641-31B7-4866-9028-272418687A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82F8-EEA3-4F88-8F70-3CE591A6A9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74C5-475D-439D-B8BE-24F1F9D1E0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A1BB-E1A2-4F84-8936-ADBB6E86DB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FC22-980D-43E2-A2B1-CE68CC9567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F12D-A78E-4781-9488-CE68AF03E0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881C-1360-4224-BB66-FC670F8CAB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5875-A794-4473-9D32-E7FC109E39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4445-E870-4CA8-B8C2-681CEA0E9D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67A-08C8-4287-A33D-C2FB7AB0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B2F-CE22-47E2-8E2C-9F04DEF2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47B-0418-4B16-8CE4-20994DE4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403-049C-44C0-BB9F-43C5EAEE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BFE-6F17-4EB7-9E9C-63A5AE01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EFB-C1FB-4C5A-8E68-AFC7B8F5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90B-7FEC-47BC-9C72-655AD06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1C2-7B8A-408F-A2B6-FBA6071E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E50-0178-47D9-A93D-96D393DC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A94-9914-4019-8E06-8482BA5C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08C-7A0B-4950-A051-21FAB41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D81-CF63-4A24-B4AB-90717D3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AAE6-2566-4754-A719-D97754D9888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1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6262560" cy="1087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17544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397160"/>
          <a:ext cx="878544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3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6046560" cy="91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305760" cy="871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20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128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1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6110640" cy="89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"/>
          <p:cNvPicPr/>
          <p:nvPr/>
        </p:nvPicPr>
        <p:blipFill>
          <a:blip r:embed="rId2"/>
          <a:stretch/>
        </p:blipFill>
        <p:spPr>
          <a:xfrm>
            <a:off x="2124000" y="4221000"/>
            <a:ext cx="6089760" cy="10224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5"/>
          <p:cNvGraphicFramePr/>
          <p:nvPr/>
        </p:nvGraphicFramePr>
        <p:xfrm>
          <a:off x="3419640" y="1557360"/>
          <a:ext cx="3835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557360"/>
                    <a:ext cx="3835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6"/>
          <p:cNvGraphicFramePr/>
          <p:nvPr/>
        </p:nvGraphicFramePr>
        <p:xfrm>
          <a:off x="3419640" y="3573360"/>
          <a:ext cx="38862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73360"/>
                    <a:ext cx="3886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15"/>
          <p:cNvGraphicFramePr/>
          <p:nvPr/>
        </p:nvGraphicFramePr>
        <p:xfrm>
          <a:off x="2411280" y="1989000"/>
          <a:ext cx="6248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89000"/>
                    <a:ext cx="6248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9"/>
          <p:cNvGraphicFramePr/>
          <p:nvPr/>
        </p:nvGraphicFramePr>
        <p:xfrm>
          <a:off x="2287440" y="4221000"/>
          <a:ext cx="6286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7440" y="4221000"/>
                    <a:ext cx="6286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182760" y="2133720"/>
          <a:ext cx="3975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2760" y="2133720"/>
                    <a:ext cx="3975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708360" y="4221000"/>
          <a:ext cx="31240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31240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924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564000" y="2060640"/>
          <a:ext cx="31878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060640"/>
                    <a:ext cx="31878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48000" y="4149720"/>
          <a:ext cx="3949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4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-3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6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2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2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3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30"/>
          <p:cNvGraphicFramePr/>
          <p:nvPr/>
        </p:nvGraphicFramePr>
        <p:xfrm>
          <a:off x="5724360" y="1989000"/>
          <a:ext cx="1613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989000"/>
                    <a:ext cx="1613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1"/>
          <p:cNvGraphicFramePr/>
          <p:nvPr/>
        </p:nvGraphicFramePr>
        <p:xfrm>
          <a:off x="5580000" y="4149720"/>
          <a:ext cx="16509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149720"/>
                    <a:ext cx="1650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7340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34,61,78,41, 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63, 93, 60, 32, 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211640" y="2060640"/>
          <a:ext cx="2184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84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4427640" y="4221000"/>
          <a:ext cx="1612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221000"/>
                    <a:ext cx="1612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4067280" y="2060640"/>
          <a:ext cx="1765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4140360" y="4149720"/>
          <a:ext cx="1689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689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4356000" y="2060640"/>
          <a:ext cx="16765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6765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4140360" y="4149720"/>
          <a:ext cx="2146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80036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2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6640560" cy="71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297840" cy="6080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5783400" cy="94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"/>
          <p:cNvPicPr/>
          <p:nvPr/>
        </p:nvPicPr>
        <p:blipFill>
          <a:blip r:embed="rId2"/>
          <a:stretch/>
        </p:blipFill>
        <p:spPr>
          <a:xfrm>
            <a:off x="2340000" y="4292640"/>
            <a:ext cx="623736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0-26T19:44:59Z</dcterms:modified>
  <cp:revision>26</cp:revision>
  <dc:subject/>
  <dc:title>Diapositive 1</dc:title>
</cp:coreProperties>
</file>