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B2AE-5408-4822-BFD8-7D3ED8C4C67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E0DE-E227-4D48-B5CF-695476B0793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330A-4703-4C95-B384-3B9A7DF3693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0B42-372A-43C5-BDE5-8E4D0DD93BB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B646-3A99-4BFB-A4E2-158E3786A05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9609-019B-4087-9DF2-F7821D70761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A5A3-8798-4371-83AC-9B92CC879B4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1812-AF27-491E-94CA-ABD15132937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958E-1C75-4B5A-9AD3-9FA03FECC3B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541D-5189-42FC-ADAF-7D3AC02F154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9536-3DA7-481F-883D-A5C1BFDC50C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108A-098A-46C9-BFE4-BCFBD916BD4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DC1E-5110-4E3F-BA98-BDFAFCE1F28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A4EE-56D1-4AC3-A107-4B8F336F3AC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101F-FB84-4F9D-9C19-9F4CF734888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6C7B-3D1C-48EB-8AE7-B6E58C3040A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0D29-F99F-4BE2-9B19-F6B011EDA34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DD4A-3DBD-4DE9-AD52-658ADEAB191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4792-A313-4C69-921A-8E8EB15F2B7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6684-DE5D-4C42-A1F6-A99357B0E77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02C2-BEB6-4FEC-9B7B-C3FC24EA736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9906-B9FC-4B7D-B25D-A05799435B1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17E7-5A56-4FFF-8CCD-25CD9E191BD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EC47C-82E2-4A0E-B06B-8DBD4D76DDA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B652-0597-4420-9567-145378C8285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66AD-B10D-42A6-82B1-49686B42F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F568-BEC3-421D-8303-1F537845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0625-2378-4CD7-A56C-0C64021C7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B690-A7BA-4B77-80B3-7340FFE44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6866-1F72-4853-8B77-CB3D6EEF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2EB7-DFB5-4ACC-B5FE-F51E03AF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1F97-8731-49B3-8F3F-EFBD0AAE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7C1D-FA08-4C26-A40A-7A310E91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5DEB-DAB2-41DB-8E4D-535E20CD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FC81-900B-4EE9-A24A-317C81DC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7E3D-6B11-4953-B928-B3B72D7E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C73E-C28D-4661-B845-4A959A1E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64A4-02BC-4052-8788-13C183547BC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2240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29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6269040" cy="50022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2"/>
          <p:cNvSpPr/>
          <p:nvPr/>
        </p:nvSpPr>
        <p:spPr>
          <a:xfrm>
            <a:off x="0" y="61959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A vue d’œil,quelle est la nature de l’angle tracé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9" descr=""/>
          <p:cNvPicPr/>
          <p:nvPr/>
        </p:nvPicPr>
        <p:blipFill>
          <a:blip r:embed="rId1"/>
          <a:stretch/>
        </p:blipFill>
        <p:spPr>
          <a:xfrm>
            <a:off x="60480" y="1413000"/>
            <a:ext cx="9083520" cy="4294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2"/>
          <p:cNvSpPr/>
          <p:nvPr/>
        </p:nvSpPr>
        <p:spPr>
          <a:xfrm>
            <a:off x="0" y="61959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A vue d’œil,quelle est la nature de l’angle tracé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26" descr=""/>
          <p:cNvPicPr/>
          <p:nvPr/>
        </p:nvPicPr>
        <p:blipFill>
          <a:blip r:embed="rId1"/>
          <a:stretch/>
        </p:blipFill>
        <p:spPr>
          <a:xfrm>
            <a:off x="0" y="1268280"/>
            <a:ext cx="9163080" cy="5040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27"/>
          <p:cNvSpPr/>
          <p:nvPr/>
        </p:nvSpPr>
        <p:spPr>
          <a:xfrm>
            <a:off x="3709080" y="6156360"/>
            <a:ext cx="10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aig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26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5776920" cy="5031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7"/>
          <p:cNvSpPr/>
          <p:nvPr/>
        </p:nvSpPr>
        <p:spPr>
          <a:xfrm>
            <a:off x="3112920" y="6132600"/>
            <a:ext cx="139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Obt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26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277120" cy="46944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27"/>
          <p:cNvSpPr/>
          <p:nvPr/>
        </p:nvSpPr>
        <p:spPr>
          <a:xfrm>
            <a:off x="3328920" y="5987880"/>
            <a:ext cx="139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Obt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6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331120" cy="43099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27"/>
          <p:cNvSpPr/>
          <p:nvPr/>
        </p:nvSpPr>
        <p:spPr>
          <a:xfrm>
            <a:off x="3257280" y="5772240"/>
            <a:ext cx="9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Pl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37" descr=""/>
          <p:cNvPicPr/>
          <p:nvPr/>
        </p:nvPicPr>
        <p:blipFill>
          <a:blip r:embed="rId1"/>
          <a:stretch/>
        </p:blipFill>
        <p:spPr>
          <a:xfrm>
            <a:off x="0" y="1413000"/>
            <a:ext cx="9012240" cy="39909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8"/>
          <p:cNvSpPr/>
          <p:nvPr/>
        </p:nvSpPr>
        <p:spPr>
          <a:xfrm>
            <a:off x="3473280" y="5845320"/>
            <a:ext cx="139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Obt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5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4973400" cy="50371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6"/>
          <p:cNvSpPr/>
          <p:nvPr/>
        </p:nvSpPr>
        <p:spPr>
          <a:xfrm>
            <a:off x="3257280" y="5987880"/>
            <a:ext cx="119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Aig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2"/>
          <p:cNvSpPr/>
          <p:nvPr/>
        </p:nvSpPr>
        <p:spPr>
          <a:xfrm>
            <a:off x="0" y="61959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A vue d’œil,quelle est la nature de l’angle tracé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33" descr=""/>
          <p:cNvPicPr/>
          <p:nvPr/>
        </p:nvPicPr>
        <p:blipFill>
          <a:blip r:embed="rId1"/>
          <a:stretch/>
        </p:blipFill>
        <p:spPr>
          <a:xfrm>
            <a:off x="0" y="1268280"/>
            <a:ext cx="9163080" cy="504036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6" descr=""/>
          <p:cNvPicPr/>
          <p:nvPr/>
        </p:nvPicPr>
        <p:blipFill>
          <a:blip r:embed="rId1"/>
          <a:stretch/>
        </p:blipFill>
        <p:spPr>
          <a:xfrm>
            <a:off x="2627280" y="1268280"/>
            <a:ext cx="3556080" cy="4869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7"/>
          <p:cNvSpPr/>
          <p:nvPr/>
        </p:nvSpPr>
        <p:spPr>
          <a:xfrm>
            <a:off x="3186000" y="5916600"/>
            <a:ext cx="119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Aig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26" descr=""/>
          <p:cNvPicPr/>
          <p:nvPr/>
        </p:nvPicPr>
        <p:blipFill>
          <a:blip r:embed="rId1"/>
          <a:stretch/>
        </p:blipFill>
        <p:spPr>
          <a:xfrm>
            <a:off x="2627280" y="1268280"/>
            <a:ext cx="3929040" cy="49150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27"/>
          <p:cNvSpPr/>
          <p:nvPr/>
        </p:nvSpPr>
        <p:spPr>
          <a:xfrm>
            <a:off x="3257280" y="5987880"/>
            <a:ext cx="119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Aig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26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6269040" cy="50022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27"/>
          <p:cNvSpPr/>
          <p:nvPr/>
        </p:nvSpPr>
        <p:spPr>
          <a:xfrm>
            <a:off x="3112920" y="6060960"/>
            <a:ext cx="119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Aig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6" descr=""/>
          <p:cNvPicPr/>
          <p:nvPr/>
        </p:nvPicPr>
        <p:blipFill>
          <a:blip r:embed="rId1"/>
          <a:stretch/>
        </p:blipFill>
        <p:spPr>
          <a:xfrm>
            <a:off x="60480" y="1413000"/>
            <a:ext cx="9083520" cy="42940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27"/>
          <p:cNvSpPr/>
          <p:nvPr/>
        </p:nvSpPr>
        <p:spPr>
          <a:xfrm>
            <a:off x="3257640" y="5772240"/>
            <a:ext cx="125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Dro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9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5776920" cy="5031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2"/>
          <p:cNvSpPr/>
          <p:nvPr/>
        </p:nvSpPr>
        <p:spPr>
          <a:xfrm>
            <a:off x="0" y="61959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A vue d’œil,quelle est la nature de l’angle tracé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7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277120" cy="46944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2"/>
          <p:cNvSpPr/>
          <p:nvPr/>
        </p:nvSpPr>
        <p:spPr>
          <a:xfrm>
            <a:off x="0" y="61959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A vue d’œil,quelle est la nature de l’angle tracé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27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331120" cy="43099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2"/>
          <p:cNvSpPr/>
          <p:nvPr/>
        </p:nvSpPr>
        <p:spPr>
          <a:xfrm>
            <a:off x="0" y="6165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A vue d’œil,quelle est la nature de l’angle tracé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9" descr=""/>
          <p:cNvPicPr/>
          <p:nvPr/>
        </p:nvPicPr>
        <p:blipFill>
          <a:blip r:embed="rId1"/>
          <a:stretch/>
        </p:blipFill>
        <p:spPr>
          <a:xfrm>
            <a:off x="0" y="1413000"/>
            <a:ext cx="9012240" cy="39909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2"/>
          <p:cNvSpPr/>
          <p:nvPr/>
        </p:nvSpPr>
        <p:spPr>
          <a:xfrm>
            <a:off x="0" y="61959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A vue d’œil,quelle est la nature de l’angle tracé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9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4973400" cy="50371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2"/>
          <p:cNvSpPr/>
          <p:nvPr/>
        </p:nvSpPr>
        <p:spPr>
          <a:xfrm>
            <a:off x="0" y="61959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A vue d’œil,quelle est la nature de l’angle tracé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29" descr=""/>
          <p:cNvPicPr/>
          <p:nvPr/>
        </p:nvPicPr>
        <p:blipFill>
          <a:blip r:embed="rId1"/>
          <a:stretch/>
        </p:blipFill>
        <p:spPr>
          <a:xfrm>
            <a:off x="2627280" y="1268280"/>
            <a:ext cx="3556080" cy="4869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2"/>
          <p:cNvSpPr/>
          <p:nvPr/>
        </p:nvSpPr>
        <p:spPr>
          <a:xfrm>
            <a:off x="0" y="61959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A vue d’œil,quelle est la nature de l’angle tracé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0" descr=""/>
          <p:cNvPicPr/>
          <p:nvPr/>
        </p:nvPicPr>
        <p:blipFill>
          <a:blip r:embed="rId1"/>
          <a:stretch/>
        </p:blipFill>
        <p:spPr>
          <a:xfrm>
            <a:off x="2627280" y="1268280"/>
            <a:ext cx="3929040" cy="49150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2"/>
          <p:cNvSpPr/>
          <p:nvPr/>
        </p:nvSpPr>
        <p:spPr>
          <a:xfrm>
            <a:off x="0" y="61959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A vue d’œil,quelle est la nature de l’angle tracé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1-11-18T20:12:44Z</dcterms:modified>
  <cp:revision>19</cp:revision>
  <dc:subject/>
  <dc:title>Diapositive 1</dc:title>
</cp:coreProperties>
</file>