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EFE-66B1-4AD7-9343-0C91C0ED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F65-4023-497B-963D-2580FF8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405-A8E1-42E2-B23C-B5C3CD9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39E-EA0F-429D-BEF5-01D78462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F9A-EB54-4CDB-8BF3-0CB46F3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025-4ABF-45C4-8FFE-AA561EA7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1BB-78A9-48A8-95A2-B8D5D054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0A0-E26B-4433-AD30-68FDA16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F29-A5DE-4219-8455-AB02D8E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A07-7CA4-41CE-935D-D3EB3F4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94A-567D-4985-838B-EF1590A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FF8-1247-4696-8BC5-633F4C9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A962-EB16-4A68-8F80-76E1075C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7280" y="526896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1080" y="595008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1928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880" y="562932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5589720"/>
          <a:ext cx="156204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5589720"/>
                    <a:ext cx="1562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516720" y="5589720"/>
          <a:ext cx="140976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5589720"/>
                    <a:ext cx="1409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459640" y="5589720"/>
          <a:ext cx="5209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5589720"/>
                    <a:ext cx="52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76364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2360" y="5805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92360" y="1268280"/>
            <a:ext cx="6143400" cy="450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0" y="554688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s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BA) et [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85320" y="5556240"/>
            <a:ext cx="86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40360" y="5589720"/>
          <a:ext cx="160020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5589720"/>
                    <a:ext cx="1600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5589720"/>
          <a:ext cx="15238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589720"/>
                    <a:ext cx="15238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458200" y="5734080"/>
          <a:ext cx="6858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573408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45000"/>
            <a:ext cx="79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l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oint 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91440" y="5484960"/>
            <a:ext cx="90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HG) et [H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06064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3440" y="54849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3440" y="562932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O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0160" y="5373720"/>
            <a:ext cx="46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2360" y="5877000"/>
            <a:ext cx="49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1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35116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20500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920" y="52689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0" y="530064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09T16:16:32Z</dcterms:modified>
  <cp:revision>20</cp:revision>
  <dc:subject/>
  <dc:title>Diapositive 1</dc:title>
</cp:coreProperties>
</file>