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E6D6-B03B-4F5C-B19C-5EFE075A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9227-E2AE-44EA-A36F-B317663D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3C0F-3088-412F-AB73-E798A691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698-87B2-4EA6-94EF-BA7315FD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AD0-C071-4FD0-BF0D-7DF8A5D9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ECA-2BDA-4F83-ABA7-9DE28DFB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6C82-D0C0-4259-AF6C-81B060D7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DB5-9EE5-4806-976D-2A3CDDB1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D9BE-F9A2-4142-9D0A-2CAFE6F9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46FF-AC0C-417D-9DB6-9022307C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3926-D35E-4485-9C57-E9EFD537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C47-D72F-425C-9A75-504216A7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E727-2C3F-42E8-9613-716471BD2E5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95640" y="1989000"/>
          <a:ext cx="2158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2158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067280" y="4149720"/>
          <a:ext cx="2158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149720"/>
                    <a:ext cx="2158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95640" y="2060640"/>
          <a:ext cx="2057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60640"/>
                    <a:ext cx="2057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851280" y="4149720"/>
          <a:ext cx="2057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057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356000" y="2060640"/>
          <a:ext cx="1359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060640"/>
                    <a:ext cx="1359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284720" y="4221000"/>
          <a:ext cx="13078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221000"/>
                    <a:ext cx="13078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635280" y="1989000"/>
          <a:ext cx="28321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98900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708360" y="4221000"/>
          <a:ext cx="28702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221000"/>
                    <a:ext cx="28702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708360" y="2060640"/>
          <a:ext cx="3137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3137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564000" y="4221000"/>
          <a:ext cx="32004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221000"/>
                    <a:ext cx="32004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635280" y="2060640"/>
          <a:ext cx="32893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060640"/>
                    <a:ext cx="3289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708360" y="4149720"/>
          <a:ext cx="32893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3289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708360" y="1989000"/>
          <a:ext cx="32767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989000"/>
                    <a:ext cx="3276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780000" y="4221000"/>
          <a:ext cx="32889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221000"/>
                    <a:ext cx="32889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419640" y="2133720"/>
          <a:ext cx="3860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133720"/>
                    <a:ext cx="3860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276720" y="4149720"/>
          <a:ext cx="40510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149720"/>
                    <a:ext cx="4051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492360" y="2060640"/>
          <a:ext cx="3530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60640"/>
                    <a:ext cx="3530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203640" y="4292640"/>
          <a:ext cx="39877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292640"/>
                    <a:ext cx="3987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76720" y="2060640"/>
          <a:ext cx="3657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60640"/>
                    <a:ext cx="3657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348000" y="4221000"/>
          <a:ext cx="39243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221000"/>
                    <a:ext cx="39243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276720" y="2060640"/>
          <a:ext cx="4051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60640"/>
                    <a:ext cx="4051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276720" y="4292640"/>
          <a:ext cx="40384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292640"/>
                    <a:ext cx="4038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492360" y="2060640"/>
          <a:ext cx="3530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60640"/>
                    <a:ext cx="3530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419640" y="4292640"/>
          <a:ext cx="34797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292640"/>
                    <a:ext cx="3479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708360" y="206064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80000" y="4149720"/>
          <a:ext cx="28065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149720"/>
                    <a:ext cx="2806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43280" y="2060640"/>
          <a:ext cx="1397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060640"/>
                    <a:ext cx="1397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643280" y="4149720"/>
          <a:ext cx="14353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149720"/>
                    <a:ext cx="1435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427640" y="1989000"/>
          <a:ext cx="17143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989000"/>
                    <a:ext cx="1714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00720" y="4149720"/>
          <a:ext cx="17650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4149720"/>
                    <a:ext cx="1765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211640" y="2060640"/>
          <a:ext cx="1790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1790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211640" y="4149720"/>
          <a:ext cx="1803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149720"/>
                    <a:ext cx="180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211640" y="1989000"/>
          <a:ext cx="1765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989000"/>
                    <a:ext cx="1765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211640" y="4149720"/>
          <a:ext cx="17654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149720"/>
                    <a:ext cx="1765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211640" y="2060640"/>
          <a:ext cx="2057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2057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851280" y="4149720"/>
          <a:ext cx="218448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184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51280" y="2133720"/>
          <a:ext cx="2108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13372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635280" y="4149720"/>
          <a:ext cx="2489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2489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067280" y="2060640"/>
          <a:ext cx="21841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060640"/>
                    <a:ext cx="2184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780000" y="4149720"/>
          <a:ext cx="2108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14972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7-12T19:08:12Z</dcterms:modified>
  <cp:revision>14</cp:revision>
  <dc:subject/>
  <dc:title>Diapositive 1</dc:title>
</cp:coreProperties>
</file>