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14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451F-976B-4D4A-8899-5756B6A9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A66-4257-45D5-9891-8633A27B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E75-EFD3-47A2-8728-D8B0D94F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2EBF-F996-4C9B-9E34-9EB4759B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2BD2-D74E-49B9-B36A-BF37B81B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157-C040-473F-8BB1-1D2C3300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48BB-D546-4BC8-A6EF-162B0389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6A11-8CFD-4FD8-8698-DE2268A4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07A0-5D31-42DA-A257-B9F957F6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3DFF-A058-4181-8E0E-D3B17670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2888-9D44-4812-9E75-EC60408E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6F00-24B7-4D1F-BE98-FEAC4BB4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FBD1-DF86-4B47-B8B8-23936236B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987640" y="3645000"/>
          <a:ext cx="284472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3645000"/>
                    <a:ext cx="28447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810360" y="1739880"/>
            <a:ext cx="798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duis par une phrase en français, 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mboles mathématiques suivant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20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6200" y="1884240"/>
            <a:ext cx="77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points A, B et C sont-ils aligné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627280" y="2781360"/>
            <a:ext cx="4400640" cy="35575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2880" y="5084640"/>
            <a:ext cx="42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’est le segmen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[AB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543640" cy="32022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99240" y="5084640"/>
            <a:ext cx="48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’est la demi-droit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[A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4957920" cy="310032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805360" cy="4516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75840" y="5916600"/>
            <a:ext cx="81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poin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t leur point d’interse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5056200" cy="431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2987640" y="5734080"/>
          <a:ext cx="2895480" cy="77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5734080"/>
                    <a:ext cx="28954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132000" y="1700280"/>
          <a:ext cx="278136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700280"/>
                    <a:ext cx="2781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692360" y="3068640"/>
            <a:ext cx="6172200" cy="34290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215120" cy="3465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989080" y="1557360"/>
            <a:ext cx="329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I = </a:t>
            </a:r>
            <a:r>
              <a:rPr b="0" lang="en-US" sz="6000" spc="-1" strike="noStrike">
                <a:solidFill>
                  <a:srgbClr val="cc0000"/>
                </a:solidFill>
                <a:latin typeface="Times New Roman"/>
              </a:rPr>
              <a:t>5 c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6520" y="1484280"/>
            <a:ext cx="78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mmer la partie épaisse de la fig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5543280" cy="32018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215120" cy="3465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413440" y="1700280"/>
            <a:ext cx="393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B = </a:t>
            </a:r>
            <a:r>
              <a:rPr b="0" lang="en-US" sz="6000" spc="-1" strike="noStrike">
                <a:solidFill>
                  <a:srgbClr val="cc0000"/>
                </a:solidFill>
                <a:latin typeface="Times New Roman"/>
              </a:rPr>
              <a:t>14 c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360" y="2060640"/>
            <a:ext cx="720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point O appartient à la droite 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132000" y="3645000"/>
          <a:ext cx="232416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3645000"/>
                    <a:ext cx="23241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987640" y="2421000"/>
          <a:ext cx="284472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421000"/>
                    <a:ext cx="28447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080" y="4221000"/>
            <a:ext cx="89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Le point F appartient à la demi-droite [R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0" y="1557360"/>
            <a:ext cx="924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N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les points A, B et C ne sont pas align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16360" y="2349360"/>
            <a:ext cx="4000320" cy="418644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957920" cy="3100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6520" y="1484280"/>
            <a:ext cx="78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mmer la partie épaisse de la fig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76360" y="2341440"/>
            <a:ext cx="5805360" cy="451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" y="1211400"/>
            <a:ext cx="909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r la figure ci-dessous, se trouvent deux dro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écantes, quel est leur point d’interse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7640" y="1308240"/>
            <a:ext cx="756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ète les pointillés par     ou   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…….(D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084720" y="1413000"/>
          <a:ext cx="4064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41300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7164360" y="1413000"/>
          <a:ext cx="40644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1413000"/>
                    <a:ext cx="406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1979640" y="2540160"/>
            <a:ext cx="5056200" cy="43178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7640" y="1308240"/>
            <a:ext cx="756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ète les pointillés par     ou   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…..[BC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84720" y="1413000"/>
          <a:ext cx="4064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41300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7164360" y="1413000"/>
          <a:ext cx="40644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1413000"/>
                    <a:ext cx="406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692360" y="3068640"/>
            <a:ext cx="6172200" cy="34290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215120" cy="3465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78360" y="145260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isque AB=10cm, compléter AI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215120" cy="3465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41440" y="1557360"/>
            <a:ext cx="80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isque IB=7cm, compléter AB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08560" y="2028960"/>
            <a:ext cx="720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cris en symbole mathématiqu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phrase suivan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 point O appartient à la droite 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6-30T19:52:52Z</dcterms:modified>
  <cp:revision>27</cp:revision>
  <dc:subject/>
  <dc:title>Diapositive 1</dc:title>
</cp:coreProperties>
</file>