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38C-2E94-42F4-A0D4-559E11C9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5CF-17CA-4652-8A3F-0676FD2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B64-39C7-4CC0-9D86-AB4A5DE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288-9E43-4FE6-A5A5-C6F6B238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2C9-A00A-464F-96E2-096EF7DA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7A4-F6DB-46E6-8E05-70E1F012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4FD-941C-4022-A996-EC6663E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96B-C2AF-4EBD-B59D-95FE6D8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21A-651A-4E45-AAD7-45017D1B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F6B-34F4-43AD-9118-1EAFB27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6C4-5533-4195-A610-0441BE8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72D-CA83-46B6-BE0F-A5000C7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AC4-0174-426F-B046-FCFEDF36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411280" y="2529000"/>
            <a:ext cx="4467240" cy="43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80" y="1355760"/>
            <a:ext cx="778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gment [CI] 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" y="1355760"/>
            <a:ext cx="89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H et P sont symétriques par rapport 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d), comment appelle-t-on encore c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xe de symétr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064480" cy="3801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134136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4320" y="5877000"/>
            <a:ext cx="74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1116000" y="1268280"/>
            <a:ext cx="7329600" cy="456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4680" y="5877000"/>
            <a:ext cx="75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H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3800" cy="469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1400" y="5950080"/>
            <a:ext cx="88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métrique du segment [CD] est le segmen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[FH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2050920" y="1268280"/>
            <a:ext cx="5276880" cy="42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7120" y="5460840"/>
            <a:ext cx="90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GP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d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DE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132160" cy="433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0960" y="558324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ercle b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9240" y="567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B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06064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8880" y="5676840"/>
            <a:ext cx="88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F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8880" y="567684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195640" y="1268280"/>
            <a:ext cx="4467240" cy="432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00" y="5667480"/>
            <a:ext cx="88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IC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JO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FK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641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720" y="5268960"/>
            <a:ext cx="79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 [HP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29068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1843200"/>
            <a:ext cx="6815160" cy="50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520" y="128412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CD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1979640" y="26370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800" y="128412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GP] par rapport à la droite (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2521080"/>
            <a:ext cx="5132520" cy="433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4160" y="1284120"/>
            <a:ext cx="84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cer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ge par rapport à la droite (AB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20" y="1284120"/>
            <a:ext cx="86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1284120"/>
            <a:ext cx="85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2160" y="1284120"/>
            <a:ext cx="86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09T02:21:26Z</dcterms:modified>
  <cp:revision>20</cp:revision>
  <dc:subject/>
  <dc:title>Diapositive 1</dc:title>
</cp:coreProperties>
</file>