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419-A4F2-44A7-A03F-5800E1A4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1E8-C25B-4F72-9DFB-566B566C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DBB-C99B-4847-AAC0-9ECDE179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D6C-8164-4E44-9B76-16F06E5B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7DB-A879-4204-B012-88E3993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86C-7B7F-4038-8946-22B9518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94F-1752-49B5-9EC6-D5B035E5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6B6-C139-4A9C-BB79-DDA048F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744-B8B1-4A97-92DC-EC6A161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AA2-AA7A-4C9C-990B-13D1571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5F0-5BE5-4D0C-AD92-02CF59F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119-337F-4806-B236-2A4F2341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8F90-6262-4B05-BB60-40BBE79F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732720" y="1628640"/>
          <a:ext cx="147312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628640"/>
                    <a:ext cx="1473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04000" y="3645000"/>
          <a:ext cx="11430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3645000"/>
                    <a:ext cx="1143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00720" y="198900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98900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4149720"/>
          <a:ext cx="137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0720" y="2060640"/>
          <a:ext cx="1320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20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0" y="407664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7664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348000" y="1557360"/>
          <a:ext cx="393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393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3573360"/>
          <a:ext cx="40640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73360"/>
                    <a:ext cx="40640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4800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92360" y="4149720"/>
          <a:ext cx="3632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60640"/>
          <a:ext cx="3962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19640" y="4149720"/>
          <a:ext cx="3606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60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48000" y="1989000"/>
          <a:ext cx="387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7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3640" y="4076640"/>
          <a:ext cx="41907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190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&lt;12&lt;34&lt;5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2&gt;34&gt;6&gt;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7&gt;12&gt;9&gt;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&lt;56&lt;78&lt;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484280"/>
          <a:ext cx="38862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8862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3645000"/>
          <a:ext cx="32259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645000"/>
                    <a:ext cx="3225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9564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95640" y="4221000"/>
          <a:ext cx="2882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88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51280" y="2133720"/>
          <a:ext cx="2730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5128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45,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618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3280" y="206064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4036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211640" y="4076640"/>
          <a:ext cx="212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212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40360" y="2060640"/>
          <a:ext cx="2463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463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4036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92360" y="2565360"/>
          <a:ext cx="3886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3886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4581360"/>
          <a:ext cx="4228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81360"/>
                    <a:ext cx="4228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12; 56; 34;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 s l’ordre décroissant 6; 34; 72;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4;67;9;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56;78;9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4:51Z</dcterms:modified>
  <cp:revision>19</cp:revision>
  <dc:subject/>
  <dc:title>Diapositive 1</dc:title>
</cp:coreProperties>
</file>