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9.wmf" ContentType="image/x-wmf"/>
  <Override PartName="/ppt/media/image1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3926F-4F2B-4915-885E-94184CA691E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36BF6-6860-4AA9-B9F9-8C9F9B8B3AC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01899-AD7E-440C-BA94-CF19537F8FC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7E2F6-3A24-4DAF-B4B2-C1C9D9EB3F1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830B0-4114-4027-8803-B38B01EC35E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874AD-7155-4017-8FFD-2DF64CF0640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76264-5F59-4F6D-AE12-CF9845A67D4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9078C-9F33-4F4D-993B-C99E4B6CC5B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41316-4B12-4144-BB6D-B4FD1195C96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FE17C-7890-492D-8E85-4FD32C13AE0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AE996-E7FE-4313-8734-6E97D00A206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31B2F-C644-4263-9D7C-ECCBF687BBE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74CB4-B801-4B6F-AC51-8B11568FAD3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3C304-02A9-4ACE-8942-9E4D6715141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1B9D7-BCE1-41B3-9FF2-DBD3CA33398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F1AD0-36DF-47AA-A5DD-A2E6A402223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48866-1F4D-480B-81E7-18CD803CCF5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52B90-49D3-4E49-A415-FBF7C43972C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0ADE1-2B52-4086-9EE9-A3DC8F70AA3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E61E0-8CC5-4488-AFDB-5EC3466E43A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44F86-C452-4F83-BC39-2C311939B85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B7A78-C781-4241-9AD0-4B9F212F805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AD447-EBA2-44BD-9610-FD06AACC1F9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2D623-70FE-49D9-BD79-D7252731BB3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19C35-06C2-4DE0-9B46-D8449D8AB54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B4484-3BF8-4125-9BA2-AB4E3B7FCDC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51918-ADE9-4853-A9D0-9387F083F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8232E-AEE6-437C-ACB7-EDBFE5115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35202-5C10-4571-B6A2-C278C7845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3A39B-A9C4-4E4B-B9E3-B60CB959F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E0650-7B5B-4417-BEA5-DC0FBACE3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59871-040D-45AB-9836-90F7C183D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56F6B-272D-4D2D-A964-841275BF5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51FD0-6A50-490A-87DA-58C08AFD7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2AD2C-98CC-4EC0-9160-A93F0F453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E2A8E-9241-4281-9DB3-66FB200E9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BDB54-F9A0-4E0A-9C35-0B66EBEE9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29648-BC4D-47FC-AD23-555373DBB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7EBD5-CADF-4C18-AD02-C0E585C53D58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7"/>
          <p:cNvSpPr/>
          <p:nvPr/>
        </p:nvSpPr>
        <p:spPr>
          <a:xfrm>
            <a:off x="101520" y="1484280"/>
            <a:ext cx="89802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</a:rPr>
              <a:t>Activités mentales 6</a:t>
            </a:r>
            <a:r>
              <a:rPr b="1" lang="fr-FR" sz="6600" spc="-1" strike="noStrike" baseline="30000">
                <a:solidFill>
                  <a:srgbClr val="000000"/>
                </a:solidFill>
                <a:latin typeface="Times New Roman"/>
              </a:rPr>
              <a:t>ème</a:t>
            </a:r>
            <a:r>
              <a:rPr b="1" lang="fr-FR" sz="66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8"/>
          <p:cNvSpPr/>
          <p:nvPr/>
        </p:nvSpPr>
        <p:spPr>
          <a:xfrm>
            <a:off x="2407320" y="4100400"/>
            <a:ext cx="4739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imes New Roman"/>
              </a:rPr>
              <a:t>Prenez un stylo ble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120"/>
                                  </p:iterate>
                                  <p:childTnLst>
                                    <p:set>
                                      <p:cBhvr>
                                        <p:cTn id="6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7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8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640"/>
                            </p:stCondLst>
                            <p:childTnLst>
                              <p:par>
                                <p:cTn id="1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4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1" name="Object 39"/>
          <p:cNvGraphicFramePr/>
          <p:nvPr/>
        </p:nvGraphicFramePr>
        <p:xfrm>
          <a:off x="1619280" y="3429000"/>
          <a:ext cx="5892840" cy="72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" name="Object 3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9280" y="3429000"/>
                    <a:ext cx="589284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70" dur="10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4"/>
          <p:cNvSpPr/>
          <p:nvPr/>
        </p:nvSpPr>
        <p:spPr>
          <a:xfrm>
            <a:off x="3636000" y="260280"/>
            <a:ext cx="22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9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5" name="Object 28"/>
          <p:cNvGraphicFramePr/>
          <p:nvPr/>
        </p:nvGraphicFramePr>
        <p:xfrm>
          <a:off x="1619280" y="3429000"/>
          <a:ext cx="5562720" cy="72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Object 2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9280" y="3429000"/>
                    <a:ext cx="556272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77" dur="10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4"/>
          <p:cNvSpPr/>
          <p:nvPr/>
        </p:nvSpPr>
        <p:spPr>
          <a:xfrm>
            <a:off x="3636000" y="260280"/>
            <a:ext cx="26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Object 28"/>
          <p:cNvGraphicFramePr/>
          <p:nvPr/>
        </p:nvGraphicFramePr>
        <p:xfrm>
          <a:off x="1403280" y="3429000"/>
          <a:ext cx="5943600" cy="72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Object 2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429000"/>
                    <a:ext cx="594360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84" dur="10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4"/>
          <p:cNvSpPr/>
          <p:nvPr/>
        </p:nvSpPr>
        <p:spPr>
          <a:xfrm>
            <a:off x="3566880" y="549360"/>
            <a:ext cx="245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On s’arrê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2484720" y="2276640"/>
            <a:ext cx="465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Posez votre stylo bleu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6"/>
          <p:cNvSpPr/>
          <p:nvPr/>
        </p:nvSpPr>
        <p:spPr>
          <a:xfrm>
            <a:off x="2125080" y="4149720"/>
            <a:ext cx="513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Prenez votre stylo </a:t>
            </a:r>
            <a:r>
              <a:rPr b="0" lang="fr-FR" sz="4000" spc="-1" strike="noStrike">
                <a:solidFill>
                  <a:srgbClr val="cc0000"/>
                </a:solidFill>
                <a:latin typeface="Times New Roman"/>
              </a:rPr>
              <a:t>rou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155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3" dur="1155" fill="hold"/>
                                        <p:tgtEl>
                                          <p:spTgt spid="9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4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5" dur="1155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6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7" dur="1155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8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155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" dur="1155" fill="hold"/>
                                        <p:tgtEl>
                                          <p:spTgt spid="9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5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6" dur="1155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7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8" dur="1155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155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5" dur="1155" fill="hold"/>
                                        <p:tgtEl>
                                          <p:spTgt spid="9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6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7" dur="1155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8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9" dur="1155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0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4"/>
          <p:cNvSpPr/>
          <p:nvPr/>
        </p:nvSpPr>
        <p:spPr>
          <a:xfrm>
            <a:off x="2050200" y="2155680"/>
            <a:ext cx="496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cc0000"/>
                </a:solidFill>
                <a:latin typeface="Comic Sans MS"/>
              </a:rPr>
              <a:t>CORRECT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3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3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3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33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7" name="Object 26"/>
          <p:cNvGraphicFramePr/>
          <p:nvPr/>
        </p:nvGraphicFramePr>
        <p:xfrm>
          <a:off x="1473120" y="3067200"/>
          <a:ext cx="6197760" cy="72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Object 2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3120" y="3067200"/>
                    <a:ext cx="6197760" cy="72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39" dur="5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1" name="Object 27"/>
          <p:cNvGraphicFramePr/>
          <p:nvPr/>
        </p:nvGraphicFramePr>
        <p:xfrm>
          <a:off x="1204920" y="3429000"/>
          <a:ext cx="6121440" cy="72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Object 2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04920" y="3429000"/>
                    <a:ext cx="612144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46" dur="5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5" name="Object 26"/>
          <p:cNvGraphicFramePr/>
          <p:nvPr/>
        </p:nvGraphicFramePr>
        <p:xfrm>
          <a:off x="1168560" y="3067200"/>
          <a:ext cx="6806880" cy="72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Object 2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68560" y="3067200"/>
                    <a:ext cx="6806880" cy="72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53" dur="5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Object 26"/>
          <p:cNvGraphicFramePr/>
          <p:nvPr/>
        </p:nvGraphicFramePr>
        <p:xfrm>
          <a:off x="2216160" y="3067200"/>
          <a:ext cx="4711680" cy="72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Object 2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16160" y="3067200"/>
                    <a:ext cx="4711680" cy="72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60" dur="5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3" name="Object 37"/>
          <p:cNvGraphicFramePr/>
          <p:nvPr/>
        </p:nvGraphicFramePr>
        <p:xfrm>
          <a:off x="2692440" y="3067200"/>
          <a:ext cx="3759120" cy="72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Object 3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92440" y="3067200"/>
                    <a:ext cx="3759120" cy="72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67" dur="5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5"/>
          <p:cNvSpPr/>
          <p:nvPr/>
        </p:nvSpPr>
        <p:spPr>
          <a:xfrm>
            <a:off x="232920" y="1308240"/>
            <a:ext cx="84668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Dans chaque multiplication, place la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virgule correctement dans le chiffre écri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en roug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7" name="Object 15"/>
          <p:cNvGraphicFramePr/>
          <p:nvPr/>
        </p:nvGraphicFramePr>
        <p:xfrm>
          <a:off x="2305080" y="3067200"/>
          <a:ext cx="4533840" cy="72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05080" y="3067200"/>
                    <a:ext cx="4533840" cy="72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74" dur="5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2"/>
          <p:cNvSpPr/>
          <p:nvPr/>
        </p:nvSpPr>
        <p:spPr>
          <a:xfrm>
            <a:off x="3636000" y="260280"/>
            <a:ext cx="22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Object 26"/>
          <p:cNvGraphicFramePr/>
          <p:nvPr/>
        </p:nvGraphicFramePr>
        <p:xfrm>
          <a:off x="1860480" y="3067200"/>
          <a:ext cx="5423040" cy="72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" name="Object 2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0480" y="3067200"/>
                    <a:ext cx="5423040" cy="72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81" dur="5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5" name="Object 26"/>
          <p:cNvGraphicFramePr/>
          <p:nvPr/>
        </p:nvGraphicFramePr>
        <p:xfrm>
          <a:off x="1511280" y="3067200"/>
          <a:ext cx="6121440" cy="72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Object 2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1280" y="3067200"/>
                    <a:ext cx="6121440" cy="72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88" dur="5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9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Object 26"/>
          <p:cNvGraphicFramePr/>
          <p:nvPr/>
        </p:nvGraphicFramePr>
        <p:xfrm>
          <a:off x="1689120" y="3067200"/>
          <a:ext cx="5765760" cy="72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Object 2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89120" y="3067200"/>
                    <a:ext cx="5765760" cy="72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95" dur="5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2"/>
          <p:cNvSpPr/>
          <p:nvPr/>
        </p:nvSpPr>
        <p:spPr>
          <a:xfrm>
            <a:off x="3636000" y="260280"/>
            <a:ext cx="26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3" name="Object 26"/>
          <p:cNvGraphicFramePr/>
          <p:nvPr/>
        </p:nvGraphicFramePr>
        <p:xfrm>
          <a:off x="1511280" y="3067200"/>
          <a:ext cx="6121440" cy="72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2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1280" y="3067200"/>
                    <a:ext cx="6121440" cy="72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02" dur="5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4"/>
          <p:cNvSpPr/>
          <p:nvPr/>
        </p:nvSpPr>
        <p:spPr>
          <a:xfrm>
            <a:off x="1095480" y="1751400"/>
            <a:ext cx="7508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808080"/>
                </a:solidFill>
                <a:latin typeface="Times New Roman"/>
              </a:rPr>
              <a:t>Compter le nombre de réponses juste et écrire votre note sur 1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9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27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" name="Object 32"/>
          <p:cNvGraphicFramePr/>
          <p:nvPr/>
        </p:nvGraphicFramePr>
        <p:xfrm>
          <a:off x="1619280" y="3429000"/>
          <a:ext cx="5931000" cy="72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Object 3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9280" y="3429000"/>
                    <a:ext cx="593100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xit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1" dur="10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4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" name="Object 28"/>
          <p:cNvGraphicFramePr/>
          <p:nvPr/>
        </p:nvGraphicFramePr>
        <p:xfrm>
          <a:off x="1332000" y="3429000"/>
          <a:ext cx="5867280" cy="72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Object 2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3429000"/>
                    <a:ext cx="586728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8" dur="10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" name="Object 26"/>
          <p:cNvGraphicFramePr/>
          <p:nvPr/>
        </p:nvGraphicFramePr>
        <p:xfrm>
          <a:off x="1258920" y="3429000"/>
          <a:ext cx="6566040" cy="72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Object 2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3429000"/>
                    <a:ext cx="656604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35" dur="10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" name="Object 26"/>
          <p:cNvGraphicFramePr/>
          <p:nvPr/>
        </p:nvGraphicFramePr>
        <p:xfrm>
          <a:off x="2124000" y="3429000"/>
          <a:ext cx="4597560" cy="72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Object 2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4000" y="3429000"/>
                    <a:ext cx="459756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2" dur="10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4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" name="Object 28"/>
          <p:cNvGraphicFramePr/>
          <p:nvPr/>
        </p:nvGraphicFramePr>
        <p:xfrm>
          <a:off x="2268360" y="3357720"/>
          <a:ext cx="3505320" cy="72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Object 2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68360" y="3357720"/>
                    <a:ext cx="3505320" cy="72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9" dur="10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4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" name="Object 28"/>
          <p:cNvGraphicFramePr/>
          <p:nvPr/>
        </p:nvGraphicFramePr>
        <p:xfrm>
          <a:off x="2050920" y="3429000"/>
          <a:ext cx="4368960" cy="72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Object 2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0920" y="3429000"/>
                    <a:ext cx="436896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6" dur="10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4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7" name="Object 28"/>
          <p:cNvGraphicFramePr/>
          <p:nvPr/>
        </p:nvGraphicFramePr>
        <p:xfrm>
          <a:off x="1763640" y="3429000"/>
          <a:ext cx="5181840" cy="72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Object 2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3640" y="3429000"/>
                    <a:ext cx="518184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63" dur="10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2T02:38:06Z</dcterms:created>
  <dc:creator>JESS</dc:creator>
  <dc:description/>
  <dc:language>en-US</dc:language>
  <cp:lastModifiedBy>Valued Packard Bell Customer</cp:lastModifiedBy>
  <dcterms:modified xsi:type="dcterms:W3CDTF">2011-02-01T18:19:34Z</dcterms:modified>
  <cp:revision>19</cp:revision>
  <dc:subject/>
  <dc:title>Diapositive 1</dc:title>
</cp:coreProperties>
</file>