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30C3-38D9-46FB-A0B3-0912E9A04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519-BAFA-4B8A-A3EB-B2FE5153BA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3DF-5FDE-4DC0-966D-9B552EFF3E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C313-D70F-4605-A4BA-3095085B06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AD1-403A-48D0-A776-092A705A4B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FDB-B71D-446D-BDE7-64B94A0B9A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7E5-3E29-4871-89E6-F04C540F58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DE54-3FE0-41F7-8377-3A78F80FDC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502-BCE4-4027-ACD9-5E63BA8986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2031-D8BA-41F0-81B7-F0B1D992E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32A-BED8-48D6-B975-B45A0D9360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4BF4-6C79-4E40-B8DD-5CE5E3F8F4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B96-DFCC-4328-9A67-6FA3B59518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88BD-5FE4-4ACE-8589-3D7FA4C990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501-4ADE-41CB-B850-D127438DFD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F50F-0D4B-404F-A2EF-E1E379F947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B69F-9BD9-4A1F-BABD-9E06E2F363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406-3BB8-4041-918A-591428F5DB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BCA-F0CB-4469-B823-539682D2F3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13B-8D02-40B4-B7D0-8486E77FF7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DE88-DAB4-46F0-B6E7-D2729D9488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C538-9E47-4782-BCC1-F720F4AB85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91D-0479-4D6E-80AD-519C96A7C8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93F-5FA0-417A-8915-3C13E50812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313-0CBD-4F18-AC6A-3CEFF139A2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795-3130-4605-B4C3-64E297245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670-A9EB-4F22-9BD6-C91B7A12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0DE-AC18-48BA-B487-F799AC6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EE7-750E-4FAE-96A9-7BD13F57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B1B-0823-4714-BB06-B3F9E1B3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0FD-B238-4214-8985-598AA04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FF4-0B1D-40B0-A9FF-63291936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79C-ABD9-41C4-A2C5-FD69772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3F3-776A-475B-A55E-DF6D749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0B6-9741-4A60-827E-297E8CC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53A-CB66-46CA-93F8-AE6045A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DE8-2AED-43F7-A4AF-C288FD62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280-974F-49D3-8288-0A8B22C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98D-963F-4D1F-BE2A-46A1D4128E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500720" y="213372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50072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427640" y="4149720"/>
          <a:ext cx="1295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284720" y="198900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8900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9"/>
          <p:cNvGraphicFramePr/>
          <p:nvPr/>
        </p:nvGraphicFramePr>
        <p:xfrm>
          <a:off x="4356000" y="4221000"/>
          <a:ext cx="1282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282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0836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85128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851280" y="198900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067280" y="4149720"/>
          <a:ext cx="20826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0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51280" y="2060640"/>
          <a:ext cx="276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6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24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780000" y="1989000"/>
          <a:ext cx="2755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755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708360" y="4149720"/>
          <a:ext cx="2718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18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635280" y="2060640"/>
          <a:ext cx="3187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187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708360" y="4149720"/>
          <a:ext cx="2781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00720" y="213372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427640" y="4149720"/>
          <a:ext cx="1346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4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643280" y="2133720"/>
          <a:ext cx="1333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1333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788000" y="4149720"/>
          <a:ext cx="1333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149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427640" y="2060640"/>
          <a:ext cx="135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5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2133720"/>
          <a:ext cx="1295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356000" y="4149720"/>
          <a:ext cx="1320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427640" y="206064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572000" y="4149720"/>
          <a:ext cx="10922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092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427640" y="1989000"/>
          <a:ext cx="1320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356000" y="4221000"/>
          <a:ext cx="13208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3208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2T18:23:47Z</dcterms:modified>
  <cp:revision>15</cp:revision>
  <dc:subject/>
  <dc:title>Diapositive 1</dc:title>
</cp:coreProperties>
</file>