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191F-8A6C-4105-94EA-2A34E988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7839-2EFF-4D53-BB6C-9809C9D5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12E5-0498-468A-9740-766F55B6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9084-53F4-4EB1-B258-0BB94DE2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C853-9131-4D6B-B23F-4FFDE388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BC0-BCE2-454D-9018-76851873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B302-89DB-4E3A-BFDE-80DF2A1A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1D26-BAFB-4A0B-BDEE-5C36A8EE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DCB-BE33-4CDF-BB47-231AD315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1ABD-9939-493F-8A6D-6E8201AB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1F31-E267-4C7C-ACF4-A06FDECB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058B-1115-4EBC-97CB-1A37D143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710B-CF9C-483D-B6AF-591C0335E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8560" y="1596960"/>
            <a:ext cx="784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duis en symboles mathématiqu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phrase suivant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280" y="3613320"/>
            <a:ext cx="584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droites (d1) et (d2) s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pendiculair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8560" y="1596960"/>
            <a:ext cx="784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duis en symboles mathématiqu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phrase suivant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6000" y="3324240"/>
            <a:ext cx="7870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droite (QS) est parallèle à la dro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TG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5610240" cy="466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35800" y="6060960"/>
            <a:ext cx="843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droites (AB) et (CD) son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parallè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5486400" cy="4415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1440" y="5892840"/>
            <a:ext cx="86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droites (AT) et (AP) so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perpendicula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627280" y="5969160"/>
          <a:ext cx="414036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5969160"/>
                    <a:ext cx="41403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124000" y="1413000"/>
            <a:ext cx="4927680" cy="449568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411280" y="5969160"/>
          <a:ext cx="406404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5969160"/>
                    <a:ext cx="40640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124000" y="1413000"/>
            <a:ext cx="4927680" cy="449568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4927680" cy="449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2556000" y="5969160"/>
          <a:ext cx="4140000" cy="88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0" y="5969160"/>
                    <a:ext cx="41400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0" r="0" b="21411"/>
          <a:stretch/>
        </p:blipFill>
        <p:spPr>
          <a:xfrm>
            <a:off x="2411280" y="1341360"/>
            <a:ext cx="4129200" cy="3963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32920" y="5484960"/>
            <a:ext cx="866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droite (d)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médiatri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du seg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[AB]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19280" y="2189160"/>
            <a:ext cx="5610240" cy="4668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9440" y="1379520"/>
            <a:ext cx="842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ent sont les droites (AB) et (CD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5070240" cy="4322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00" y="5546880"/>
            <a:ext cx="799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’est la droite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perpendiculaire à (AB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passant par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340320" cy="4654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88920" y="5845320"/>
            <a:ext cx="829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médiatrice du segment [TS]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(d2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21440" y="1628640"/>
            <a:ext cx="584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droites (d1) et (d2) s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pendiculair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56000" y="4076640"/>
          <a:ext cx="358128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4076640"/>
                    <a:ext cx="358128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0880" y="1844640"/>
            <a:ext cx="7870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droite (QS) est parallèle à la dro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TG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411280" y="3933720"/>
          <a:ext cx="396252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933720"/>
                    <a:ext cx="39625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5486400" cy="4414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35800" y="1236600"/>
            <a:ext cx="833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ent sont les droites (AT) et (AP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24000" y="2362320"/>
            <a:ext cx="492768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720" y="1413000"/>
            <a:ext cx="501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ète les pointillé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813200" y="1413000"/>
          <a:ext cx="4330800" cy="88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13200" y="1413000"/>
                    <a:ext cx="43308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24000" y="2362320"/>
            <a:ext cx="4927680" cy="4495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720" y="1413000"/>
            <a:ext cx="501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ète les pointillé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859280" y="1341360"/>
          <a:ext cx="4064040" cy="88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341360"/>
                    <a:ext cx="40640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95640" y="2362320"/>
            <a:ext cx="4927320" cy="4495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720" y="1413000"/>
            <a:ext cx="501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ète les pointillé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016600" y="1341360"/>
          <a:ext cx="4127400" cy="88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16600" y="1341360"/>
                    <a:ext cx="412740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0" b="21411"/>
          <a:stretch/>
        </p:blipFill>
        <p:spPr>
          <a:xfrm>
            <a:off x="2843280" y="2637000"/>
            <a:ext cx="4129200" cy="3963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02160" y="1341360"/>
            <a:ext cx="7448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 représente la droite (d) pour 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gment [AB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03280" y="1959120"/>
            <a:ext cx="5746680" cy="4898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32920" y="1452600"/>
            <a:ext cx="77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écris la droite rouge de cette figu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2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03280" y="2203560"/>
            <a:ext cx="6340680" cy="4654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34000" y="1379520"/>
            <a:ext cx="87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a médiatrice du segment [TS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6-30T19:51:00Z</dcterms:modified>
  <cp:revision>20</cp:revision>
  <dc:subject/>
  <dc:title>Diapositive 1</dc:title>
</cp:coreProperties>
</file>