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DF63-BE8C-4568-A837-F3A286E5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39BA-0BF3-4235-9151-43F8F095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07C-0A50-46F4-A88D-8BB115C0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030-5141-4FDE-8CF3-381185A3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3055-9909-450E-AED9-400C46CF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E6EC-18CD-4E2E-B8A6-87355E01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3A61-290D-41D8-B1BF-4283F88E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05E-AF3E-4C80-A6E3-3456A14A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45C0-7E52-4DE8-8BDF-2F9D773D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178-F83C-4FDE-A05F-97185DAB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B35-3D7A-4666-A135-5AA443A3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879D-CB8E-4D72-9050-FA0335A7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BE47-E3BA-4E68-902B-2739B4D22F6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211640" y="2060640"/>
          <a:ext cx="2108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284720" y="4221000"/>
          <a:ext cx="21844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221000"/>
                    <a:ext cx="21844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211640" y="1989000"/>
          <a:ext cx="1790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989000"/>
                    <a:ext cx="1790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140360" y="4221000"/>
          <a:ext cx="179064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221000"/>
                    <a:ext cx="179064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284720" y="2060640"/>
          <a:ext cx="1803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060640"/>
                    <a:ext cx="180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284720" y="4149720"/>
          <a:ext cx="17780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149720"/>
                    <a:ext cx="1778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708360" y="2060640"/>
          <a:ext cx="2819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708360" y="4149720"/>
          <a:ext cx="2832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95640" y="198900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924360" y="4221000"/>
          <a:ext cx="28321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321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348000" y="2133720"/>
          <a:ext cx="39495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133720"/>
                    <a:ext cx="3949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348000" y="4221000"/>
          <a:ext cx="38988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221000"/>
                    <a:ext cx="38988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98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348000" y="2060640"/>
          <a:ext cx="3632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60640"/>
                    <a:ext cx="3632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348000" y="4221000"/>
          <a:ext cx="36702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221000"/>
                    <a:ext cx="36702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780000" y="1989000"/>
          <a:ext cx="3288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3288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780000" y="4221000"/>
          <a:ext cx="32130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221000"/>
                    <a:ext cx="32130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708360" y="2060640"/>
          <a:ext cx="3225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3225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780000" y="4149720"/>
          <a:ext cx="32889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149720"/>
                    <a:ext cx="3288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211640" y="2060640"/>
          <a:ext cx="1333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1333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284720" y="4149720"/>
          <a:ext cx="13460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149720"/>
                    <a:ext cx="1346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84720" y="2133720"/>
          <a:ext cx="1371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133720"/>
                    <a:ext cx="1371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211640" y="4149720"/>
          <a:ext cx="1308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149720"/>
                    <a:ext cx="1308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24360" y="2133720"/>
          <a:ext cx="2197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133720"/>
                    <a:ext cx="2197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995640" y="4221000"/>
          <a:ext cx="21081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221000"/>
                    <a:ext cx="21081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4567, quel est le chiffre des centaine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2345, quel est le chiffre des dizaine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345,67 quel est le nombre des dizaine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986,12 quel est le nombre des unité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468,92 quel est le chiffre des dixième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136,087 quel est le chiffre des centième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579,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l est le chiffre des dixième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249,06 quel est le chiffre des centième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04T21:25:15Z</dcterms:modified>
  <cp:revision>18</cp:revision>
  <dc:subject/>
  <dc:title>Diapositive 1</dc:title>
</cp:coreProperties>
</file>