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D2E-FC2A-4DAC-9157-8ED35209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0B4-28E8-498A-B993-F8506172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259-0531-40F6-8AEF-233B494E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24F-7A09-4442-841E-E5900A0B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D7F-E4FB-4E67-9CFC-59661EBB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CF7-936C-4857-8EA2-87234A02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8CE-F34E-4DF8-81CC-4AF34F08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E4C-2DD2-40A8-AB08-20411D8E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5DD-37D3-47F3-BB85-A3A8B9BA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5AF-A58C-48D6-8FA5-77035B68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102-AFDB-482A-A883-77B2E397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D15-9594-41E1-A70A-06A5CC7E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2032-3FEF-48D9-8E5E-BFD78989A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280" y="1523880"/>
            <a:ext cx="8212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groupe de 3 filles et de 4 garçons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ndent au cinéma et rejoignent leurs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mis là-b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combien de personnes est compos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 grou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2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9840" y="1884240"/>
            <a:ext cx="839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ui est ravie. Son frère vient de lu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heter 3 timbres qu’elle va ajouter à 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lection de 1546 timb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en de timbres possède-t-el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te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2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340000" y="2708280"/>
          <a:ext cx="4775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708280"/>
                    <a:ext cx="4775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2637000"/>
          <a:ext cx="48387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637000"/>
                    <a:ext cx="4838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627280" y="2708280"/>
          <a:ext cx="3835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708280"/>
                    <a:ext cx="383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700360" y="2708280"/>
          <a:ext cx="3898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70828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5640" y="2781360"/>
          <a:ext cx="75182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81360"/>
                    <a:ext cx="7518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68360" y="2708280"/>
          <a:ext cx="52452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708280"/>
                    <a:ext cx="5245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720" y="1844640"/>
            <a:ext cx="874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eva a 250F en poche. Son père lui do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00F de plus. Combien Teva possède t-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ainte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2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9640" y="2708280"/>
          <a:ext cx="5181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08280"/>
                    <a:ext cx="5181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76360" y="2708280"/>
          <a:ext cx="6184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08280"/>
                    <a:ext cx="6184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00360" y="2708280"/>
          <a:ext cx="3594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708280"/>
                    <a:ext cx="3594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340000" y="2708280"/>
          <a:ext cx="4660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708280"/>
                    <a:ext cx="4660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440" y="1773360"/>
            <a:ext cx="916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nia se rend au magasin avec 500F p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heter un paquet de biscuit qui coûte 280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en lui-reste-t-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2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1739880"/>
            <a:ext cx="9023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ui possède 6 billes bleus, 3 billes rou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2 billes jaunes. Combien de b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sède-t-il en t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2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6720" y="1812960"/>
            <a:ext cx="8253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Hereiti aime les fleurs. Dans son jard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lle compte 6 roses, 7 tulipes et 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rchidées. Combien de fleurs y’a-t-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ans  son jard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720" y="1668600"/>
            <a:ext cx="877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oana fait du « va’a ». Il rame depuis 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inte venus jusqu’à Arue où il fait demi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our. Sachant qu’il met 20 minutes p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rriver à Arue, et 27 minutes pour reven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e temps total de sa cou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6675480" cy="257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0720" y="1379520"/>
            <a:ext cx="877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=5cm et PB=2cm. Quelle est le me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 segment [AB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2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7931160" cy="2282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9280" y="1379520"/>
            <a:ext cx="738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M=3cm et BC=9cm. Quelle est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sure du segment [MC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2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3840" y="1379520"/>
            <a:ext cx="749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jardinier doit clôturer un terra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iangulai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32000" y="2060640"/>
            <a:ext cx="4357800" cy="3611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3120" y="5629320"/>
            <a:ext cx="791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en de mètres de grillage doit-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évo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2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13T19:44:10Z</dcterms:modified>
  <cp:revision>17</cp:revision>
  <dc:subject/>
  <dc:title>Diapositive 1</dc:title>
</cp:coreProperties>
</file>