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22E6-32D1-4AC7-87D3-0EE5F2155F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7C9-B5B0-48F4-8ACC-7966A399F3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A91-0461-4591-9AAF-5A448D365D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E985-4203-4CDB-8DB5-32B1994BAA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B4E8-FE57-46BF-87ED-BDFC2CA51E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7A97-04D1-46C4-BB72-7C06E31CAE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E7F8-689F-4734-98E1-25623AADA5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765B-BF02-4C01-8150-92432BB3C2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A25F-C824-4D4B-8FA8-EC7C37DD5F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84C0-EFC4-45C6-9A74-FB77CF038F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16C-600E-48BC-BF0B-90B2934B9A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85A2-2D76-4CAE-B7EC-290EF24B28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27B7-5ED0-45FE-AFFF-0945F95FD5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B69C-B642-4CC2-854C-76869D8CF3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C521-60A9-4E25-BB72-BE4DDE31BE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3388-9185-4DC1-A67F-69545C7338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DFC-368E-416B-AE4A-C86E06F3AB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ED83-B63C-43BB-9422-FD1F2D5C4E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7410-E167-4726-8AC1-F7C29A41C0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CD4F-29D2-4B1C-955A-89FA0EEBF5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BA07-0FD4-495B-AAE9-2F5F53C43A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89E5-1971-41C0-BA29-6F33F7E4BA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357-8438-44E1-BE6F-FD31B16C45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FFAA-F2B9-49DB-A401-36735F56BA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D6CD-9166-4F46-ADE0-5C4C304718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A011-D1E5-4616-88DD-E9DEB35791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647-F9DF-4D9D-BF25-FBFD1249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C49-9649-4157-BA09-EB6D4574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7CA-AF66-4690-AD09-B8F9DCCE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A50-2C7B-4BFE-BA01-5B75ADA5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719-9C1B-4DB8-9445-7AEA037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E08-2237-4EFF-A986-7D8A469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FF2-4A7C-4A26-9C9E-543D63CD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740-9A95-4332-A115-80C7AF9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191-B28F-4AD0-AAF9-B069CD84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005-D296-4E2D-91E3-213E08A2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5B2-BBDA-4EC8-88E4-3EE12AC8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6C4-59E4-4821-A0C5-C5151C8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371-DE66-47B4-AD31-323D8C139DC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96800" y="1484280"/>
            <a:ext cx="814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637000"/>
          <a:ext cx="60958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7"/>
          <p:cNvGraphicFramePr/>
          <p:nvPr/>
        </p:nvGraphicFramePr>
        <p:xfrm>
          <a:off x="3736800" y="2852640"/>
          <a:ext cx="251316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2852640"/>
                    <a:ext cx="25131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8"/>
          <p:cNvGraphicFramePr/>
          <p:nvPr/>
        </p:nvGraphicFramePr>
        <p:xfrm>
          <a:off x="4210200" y="4581360"/>
          <a:ext cx="14871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0200" y="4581360"/>
                    <a:ext cx="14871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1928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oneTexte 16"/>
          <p:cNvSpPr/>
          <p:nvPr/>
        </p:nvSpPr>
        <p:spPr>
          <a:xfrm>
            <a:off x="949680" y="1341360"/>
            <a:ext cx="69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scientifiqu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7"/>
          <p:cNvGraphicFramePr/>
          <p:nvPr/>
        </p:nvGraphicFramePr>
        <p:xfrm>
          <a:off x="3679920" y="3068640"/>
          <a:ext cx="322416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9920" y="3068640"/>
                    <a:ext cx="322416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3745080" y="5049720"/>
          <a:ext cx="320184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5080" y="5049720"/>
                    <a:ext cx="32018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2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27939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7"/>
          <p:cNvGraphicFramePr/>
          <p:nvPr/>
        </p:nvGraphicFramePr>
        <p:xfrm>
          <a:off x="3959280" y="3087720"/>
          <a:ext cx="245412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3087720"/>
                    <a:ext cx="24541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8"/>
          <p:cNvGraphicFramePr/>
          <p:nvPr/>
        </p:nvGraphicFramePr>
        <p:xfrm>
          <a:off x="4094280" y="5364000"/>
          <a:ext cx="23749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4280" y="5364000"/>
                    <a:ext cx="23749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ZoneTexte 16"/>
          <p:cNvSpPr/>
          <p:nvPr/>
        </p:nvSpPr>
        <p:spPr>
          <a:xfrm>
            <a:off x="1005120" y="1484280"/>
            <a:ext cx="69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scientifiqu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397160"/>
          <a:ext cx="8280360" cy="4063680"/>
        </p:xfrm>
        <a:graphic>
          <a:graphicData uri="http://schemas.openxmlformats.org/drawingml/2006/table">
            <a:tbl>
              <a:tblPr/>
              <a:tblGrid>
                <a:gridCol w="1843200"/>
                <a:gridCol w="6437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3151080" y="1798560"/>
          <a:ext cx="459288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798560"/>
                    <a:ext cx="45928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"/>
          <p:cNvGraphicFramePr/>
          <p:nvPr/>
        </p:nvGraphicFramePr>
        <p:xfrm>
          <a:off x="3132000" y="3860640"/>
          <a:ext cx="4613400" cy="12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860640"/>
                    <a:ext cx="461340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5"/>
          <p:cNvGraphicFramePr/>
          <p:nvPr/>
        </p:nvGraphicFramePr>
        <p:xfrm>
          <a:off x="2771640" y="3860640"/>
          <a:ext cx="52405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860640"/>
                    <a:ext cx="52405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"/>
          <p:cNvGraphicFramePr/>
          <p:nvPr/>
        </p:nvGraphicFramePr>
        <p:xfrm>
          <a:off x="2249640" y="1744560"/>
          <a:ext cx="645768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1744560"/>
                    <a:ext cx="6457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397160"/>
          <a:ext cx="8137440" cy="4063680"/>
        </p:xfrm>
        <a:graphic>
          <a:graphicData uri="http://schemas.openxmlformats.org/drawingml/2006/table">
            <a:tbl>
              <a:tblPr/>
              <a:tblGrid>
                <a:gridCol w="1887480"/>
                <a:gridCol w="62499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5"/>
          <p:cNvGraphicFramePr/>
          <p:nvPr/>
        </p:nvGraphicFramePr>
        <p:xfrm>
          <a:off x="2860560" y="1727280"/>
          <a:ext cx="51627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1727280"/>
                    <a:ext cx="51627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2614680" y="3673440"/>
          <a:ext cx="574668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4680" y="3673440"/>
                    <a:ext cx="57466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5"/>
          <p:cNvGraphicFramePr/>
          <p:nvPr/>
        </p:nvGraphicFramePr>
        <p:xfrm>
          <a:off x="3305160" y="1844640"/>
          <a:ext cx="5048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844640"/>
                    <a:ext cx="5048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6"/>
          <p:cNvGraphicFramePr/>
          <p:nvPr/>
        </p:nvGraphicFramePr>
        <p:xfrm>
          <a:off x="3583080" y="3878280"/>
          <a:ext cx="3828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3080" y="3878280"/>
                    <a:ext cx="3828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397160"/>
          <a:ext cx="8496000" cy="520056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5"/>
          <p:cNvGraphicFramePr/>
          <p:nvPr/>
        </p:nvGraphicFramePr>
        <p:xfrm>
          <a:off x="2730600" y="1989000"/>
          <a:ext cx="59086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0600" y="1989000"/>
                    <a:ext cx="59086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3987720" y="4292640"/>
          <a:ext cx="311472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7720" y="4292640"/>
                    <a:ext cx="31147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5"/>
          <p:cNvGraphicFramePr/>
          <p:nvPr/>
        </p:nvGraphicFramePr>
        <p:xfrm>
          <a:off x="3962520" y="1413000"/>
          <a:ext cx="331128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13000"/>
                    <a:ext cx="33112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6"/>
          <p:cNvGraphicFramePr/>
          <p:nvPr/>
        </p:nvGraphicFramePr>
        <p:xfrm>
          <a:off x="2709720" y="3860640"/>
          <a:ext cx="5970600" cy="10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9720" y="3860640"/>
                    <a:ext cx="5970600" cy="10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5"/>
          <p:cNvGraphicFramePr/>
          <p:nvPr/>
        </p:nvGraphicFramePr>
        <p:xfrm>
          <a:off x="2556000" y="1916280"/>
          <a:ext cx="62960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16280"/>
                    <a:ext cx="62960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6"/>
          <p:cNvGraphicFramePr/>
          <p:nvPr/>
        </p:nvGraphicFramePr>
        <p:xfrm>
          <a:off x="3243240" y="3573360"/>
          <a:ext cx="518004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3240" y="3573360"/>
                    <a:ext cx="51800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1397160"/>
          <a:ext cx="8785440" cy="4840200"/>
        </p:xfrm>
        <a:graphic>
          <a:graphicData uri="http://schemas.openxmlformats.org/drawingml/2006/table">
            <a:tbl>
              <a:tblPr/>
              <a:tblGrid>
                <a:gridCol w="2317680"/>
                <a:gridCol w="6467760"/>
              </a:tblGrid>
              <a:tr h="24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3225960" y="1628640"/>
          <a:ext cx="491004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5960" y="1628640"/>
                    <a:ext cx="49100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"/>
          <p:cNvGraphicFramePr/>
          <p:nvPr/>
        </p:nvGraphicFramePr>
        <p:xfrm>
          <a:off x="4002120" y="3933720"/>
          <a:ext cx="368460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2120" y="3933720"/>
                    <a:ext cx="3684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5"/>
          <p:cNvGraphicFramePr/>
          <p:nvPr/>
        </p:nvGraphicFramePr>
        <p:xfrm>
          <a:off x="2662200" y="1841400"/>
          <a:ext cx="604692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2200" y="1841400"/>
                    <a:ext cx="604692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6"/>
          <p:cNvGraphicFramePr/>
          <p:nvPr/>
        </p:nvGraphicFramePr>
        <p:xfrm>
          <a:off x="2556000" y="3860640"/>
          <a:ext cx="62132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860640"/>
                    <a:ext cx="62132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397160"/>
          <a:ext cx="8964720" cy="4063680"/>
        </p:xfrm>
        <a:graphic>
          <a:graphicData uri="http://schemas.openxmlformats.org/drawingml/2006/table">
            <a:tbl>
              <a:tblPr/>
              <a:tblGrid>
                <a:gridCol w="2365560"/>
                <a:gridCol w="6599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522520" y="1773360"/>
          <a:ext cx="6621480" cy="106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773360"/>
                    <a:ext cx="66214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6"/>
          <p:cNvGraphicFramePr/>
          <p:nvPr/>
        </p:nvGraphicFramePr>
        <p:xfrm>
          <a:off x="2527200" y="3860640"/>
          <a:ext cx="661680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7200" y="3860640"/>
                    <a:ext cx="66168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4284720" y="3068640"/>
          <a:ext cx="12952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068640"/>
                    <a:ext cx="12952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9"/>
          <p:cNvGraphicFramePr/>
          <p:nvPr/>
        </p:nvGraphicFramePr>
        <p:xfrm>
          <a:off x="4098960" y="5157720"/>
          <a:ext cx="166860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8960" y="5157720"/>
                    <a:ext cx="1668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2349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4098960" y="3068640"/>
          <a:ext cx="16686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3068640"/>
                    <a:ext cx="1668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8"/>
          <p:cNvGraphicFramePr/>
          <p:nvPr/>
        </p:nvGraphicFramePr>
        <p:xfrm>
          <a:off x="4152960" y="4869000"/>
          <a:ext cx="133488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2960" y="4869000"/>
                    <a:ext cx="1334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530520" y="3059280"/>
          <a:ext cx="2808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0520" y="3059280"/>
                    <a:ext cx="2808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537000" y="5032440"/>
          <a:ext cx="3060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7000" y="5032440"/>
                    <a:ext cx="3060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03280" y="242100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5"/>
          <p:cNvGraphicFramePr/>
          <p:nvPr/>
        </p:nvGraphicFramePr>
        <p:xfrm>
          <a:off x="3745080" y="3087720"/>
          <a:ext cx="237636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5080" y="3087720"/>
                    <a:ext cx="23763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6"/>
          <p:cNvGraphicFramePr/>
          <p:nvPr/>
        </p:nvGraphicFramePr>
        <p:xfrm>
          <a:off x="4281480" y="5091120"/>
          <a:ext cx="149400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1480" y="5091120"/>
                    <a:ext cx="149400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263700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511440" y="3213000"/>
          <a:ext cx="34941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1440" y="3213000"/>
                    <a:ext cx="34941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4700520" y="4581360"/>
          <a:ext cx="11937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0520" y="4581360"/>
                    <a:ext cx="11937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4307040" y="2565360"/>
          <a:ext cx="140652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565360"/>
                    <a:ext cx="14065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3556080" y="5013360"/>
          <a:ext cx="355284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080" y="5013360"/>
                    <a:ext cx="35528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3254400" y="3068640"/>
          <a:ext cx="386712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068640"/>
                    <a:ext cx="3867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025880" y="4724280"/>
          <a:ext cx="251136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5880" y="4724280"/>
                    <a:ext cx="25113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6T20:07:05Z</dcterms:modified>
  <cp:revision>28</cp:revision>
  <dc:subject/>
  <dc:title>Diapositive 1</dc:title>
</cp:coreProperties>
</file>