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4CC9-068D-46C6-98CF-78D0B657BC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0CB3-DF7B-4265-8592-C27B815F90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C139-795F-4924-AD9E-0EFCD86755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D8A8-F3AD-42CC-B78D-C961DEFFDD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4548-78FB-4D5A-9929-4EFB827D81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A6CE-C784-4546-A72B-93C8ECA1DE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572B-E10E-4C59-B6E5-B0FABE811A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647A-83C6-4E7C-8AE0-393C095138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F2C0-4708-4D66-BAB8-F8E7CE2C93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723E-DFE4-4649-BA6E-7AE6B9C1A2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130F-5DEA-4C8C-AF7C-CDB462AB8E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4BFC-BAB3-49B0-BB6D-583559D860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E3A7-AD06-4551-81E2-4BE06416F3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D2B7-A7AA-448D-A901-B223593075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AD98-212C-414E-80C6-226A402A35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2CA6-11E1-4BCA-BA98-7F84F44607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6152-FD0E-40A5-877C-927FCD4135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80D3-6977-4ACA-A762-DAE868612F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591C-C493-4F6F-8F88-600B2E0CB7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7AE0-6090-4801-8B11-75CBCD52F8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09ED-9261-448B-B1A2-5908D81898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1849-2156-4790-8A26-A668F69324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F5AA-DDFC-4FEA-9120-7CD06E30F3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34F7-0A91-416E-B90D-86B6755A61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E286-7715-423D-98DA-19F2957386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7487-4558-426E-BFFA-19889CF258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7AE-BF84-4E26-8E56-19F61AE3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A3D5-74BB-4C42-998B-3532A767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285-AC9C-4FD4-80D5-7B82EAED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411-B980-4406-AA94-01C4A841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C65-7658-4805-BD3A-D295241F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F277-4120-45FA-8326-EBC69320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E83-C749-43F0-ACDA-A517CF8F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911D-B019-404C-B896-FA6E993D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2452-253B-47E8-B44D-A564CE17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B5E-3BB2-45D0-A9EF-369B9C83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98DB-5D79-49D8-A7A2-64D9A143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2EE-1E84-4EBD-A9DA-78079091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05F9-E5A8-4FE3-96CF-FB4094EDA96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436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4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76360" y="2637000"/>
          <a:ext cx="609588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7"/>
          <p:cNvGraphicFramePr/>
          <p:nvPr/>
        </p:nvGraphicFramePr>
        <p:xfrm>
          <a:off x="3718080" y="2852640"/>
          <a:ext cx="255240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8080" y="2852640"/>
                    <a:ext cx="255240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18"/>
          <p:cNvGraphicFramePr/>
          <p:nvPr/>
        </p:nvGraphicFramePr>
        <p:xfrm>
          <a:off x="4356000" y="4581360"/>
          <a:ext cx="119556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581360"/>
                    <a:ext cx="11955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1928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17"/>
          <p:cNvGraphicFramePr/>
          <p:nvPr/>
        </p:nvGraphicFramePr>
        <p:xfrm>
          <a:off x="4427640" y="2565360"/>
          <a:ext cx="116352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565360"/>
                    <a:ext cx="11635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8"/>
          <p:cNvGraphicFramePr/>
          <p:nvPr/>
        </p:nvGraphicFramePr>
        <p:xfrm>
          <a:off x="4076640" y="4724280"/>
          <a:ext cx="253368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6640" y="4724280"/>
                    <a:ext cx="253368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19280" y="27939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17"/>
          <p:cNvGraphicFramePr/>
          <p:nvPr/>
        </p:nvGraphicFramePr>
        <p:xfrm>
          <a:off x="3419640" y="3068640"/>
          <a:ext cx="353376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3068640"/>
                    <a:ext cx="35337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8"/>
          <p:cNvGraphicFramePr/>
          <p:nvPr/>
        </p:nvGraphicFramePr>
        <p:xfrm>
          <a:off x="3505320" y="5373720"/>
          <a:ext cx="355284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5373720"/>
                    <a:ext cx="355284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397160"/>
          <a:ext cx="8280360" cy="4063680"/>
        </p:xfrm>
        <a:graphic>
          <a:graphicData uri="http://schemas.openxmlformats.org/drawingml/2006/table">
            <a:tbl>
              <a:tblPr/>
              <a:tblGrid>
                <a:gridCol w="1843200"/>
                <a:gridCol w="64371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15"/>
          <p:cNvGraphicFramePr/>
          <p:nvPr/>
        </p:nvGraphicFramePr>
        <p:xfrm>
          <a:off x="2700360" y="1916280"/>
          <a:ext cx="5495760" cy="106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916280"/>
                    <a:ext cx="549576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6"/>
          <p:cNvGraphicFramePr/>
          <p:nvPr/>
        </p:nvGraphicFramePr>
        <p:xfrm>
          <a:off x="2268360" y="3933720"/>
          <a:ext cx="659772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933720"/>
                    <a:ext cx="6597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1871640"/>
                <a:gridCol w="6624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15"/>
          <p:cNvGraphicFramePr/>
          <p:nvPr/>
        </p:nvGraphicFramePr>
        <p:xfrm>
          <a:off x="3059280" y="1773360"/>
          <a:ext cx="4611600" cy="12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73360"/>
                    <a:ext cx="461160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6"/>
          <p:cNvGraphicFramePr/>
          <p:nvPr/>
        </p:nvGraphicFramePr>
        <p:xfrm>
          <a:off x="2700360" y="3860640"/>
          <a:ext cx="5124600" cy="123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860640"/>
                    <a:ext cx="5124600" cy="12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397160"/>
          <a:ext cx="8137440" cy="4063680"/>
        </p:xfrm>
        <a:graphic>
          <a:graphicData uri="http://schemas.openxmlformats.org/drawingml/2006/table">
            <a:tbl>
              <a:tblPr/>
              <a:tblGrid>
                <a:gridCol w="1887480"/>
                <a:gridCol w="62499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5"/>
          <p:cNvGraphicFramePr/>
          <p:nvPr/>
        </p:nvGraphicFramePr>
        <p:xfrm>
          <a:off x="2987640" y="1844640"/>
          <a:ext cx="490716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844640"/>
                    <a:ext cx="49071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6"/>
          <p:cNvGraphicFramePr/>
          <p:nvPr/>
        </p:nvGraphicFramePr>
        <p:xfrm>
          <a:off x="3564000" y="3789360"/>
          <a:ext cx="384660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789360"/>
                    <a:ext cx="38466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1397160"/>
          <a:ext cx="8569080" cy="4063680"/>
        </p:xfrm>
        <a:graphic>
          <a:graphicData uri="http://schemas.openxmlformats.org/drawingml/2006/table">
            <a:tbl>
              <a:tblPr/>
              <a:tblGrid>
                <a:gridCol w="2260440"/>
                <a:gridCol w="6308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5"/>
          <p:cNvGraphicFramePr/>
          <p:nvPr/>
        </p:nvGraphicFramePr>
        <p:xfrm>
          <a:off x="3306600" y="1844640"/>
          <a:ext cx="504684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6600" y="1844640"/>
                    <a:ext cx="50468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6"/>
          <p:cNvGraphicFramePr/>
          <p:nvPr/>
        </p:nvGraphicFramePr>
        <p:xfrm>
          <a:off x="3564000" y="3789360"/>
          <a:ext cx="386856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789360"/>
                    <a:ext cx="386856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397160"/>
          <a:ext cx="8496000" cy="520056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6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15"/>
          <p:cNvGraphicFramePr/>
          <p:nvPr/>
        </p:nvGraphicFramePr>
        <p:xfrm>
          <a:off x="2700360" y="1989000"/>
          <a:ext cx="596736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989000"/>
                    <a:ext cx="59673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6"/>
          <p:cNvGraphicFramePr/>
          <p:nvPr/>
        </p:nvGraphicFramePr>
        <p:xfrm>
          <a:off x="3995640" y="4292640"/>
          <a:ext cx="309888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292640"/>
                    <a:ext cx="30988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15"/>
          <p:cNvGraphicFramePr/>
          <p:nvPr/>
        </p:nvGraphicFramePr>
        <p:xfrm>
          <a:off x="4067280" y="1413000"/>
          <a:ext cx="310032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413000"/>
                    <a:ext cx="31003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6"/>
          <p:cNvGraphicFramePr/>
          <p:nvPr/>
        </p:nvGraphicFramePr>
        <p:xfrm>
          <a:off x="2700360" y="3860640"/>
          <a:ext cx="5989680" cy="10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860640"/>
                    <a:ext cx="5989680" cy="10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15"/>
          <p:cNvGraphicFramePr/>
          <p:nvPr/>
        </p:nvGraphicFramePr>
        <p:xfrm>
          <a:off x="2771640" y="1916280"/>
          <a:ext cx="585000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916280"/>
                    <a:ext cx="58500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6"/>
          <p:cNvGraphicFramePr/>
          <p:nvPr/>
        </p:nvGraphicFramePr>
        <p:xfrm>
          <a:off x="3203640" y="3573360"/>
          <a:ext cx="526104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573360"/>
                    <a:ext cx="526104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9280" y="1397160"/>
          <a:ext cx="8785440" cy="4840200"/>
        </p:xfrm>
        <a:graphic>
          <a:graphicData uri="http://schemas.openxmlformats.org/drawingml/2006/table">
            <a:tbl>
              <a:tblPr/>
              <a:tblGrid>
                <a:gridCol w="2317680"/>
                <a:gridCol w="6467760"/>
              </a:tblGrid>
              <a:tr h="24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15"/>
          <p:cNvGraphicFramePr/>
          <p:nvPr/>
        </p:nvGraphicFramePr>
        <p:xfrm>
          <a:off x="3059280" y="1628640"/>
          <a:ext cx="524340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628640"/>
                    <a:ext cx="524340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6"/>
          <p:cNvGraphicFramePr/>
          <p:nvPr/>
        </p:nvGraphicFramePr>
        <p:xfrm>
          <a:off x="4284720" y="3933720"/>
          <a:ext cx="311796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933720"/>
                    <a:ext cx="31179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2241360"/>
                <a:gridCol w="6254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15"/>
          <p:cNvGraphicFramePr/>
          <p:nvPr/>
        </p:nvGraphicFramePr>
        <p:xfrm>
          <a:off x="4140360" y="1341360"/>
          <a:ext cx="308736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341360"/>
                    <a:ext cx="3087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6"/>
          <p:cNvGraphicFramePr/>
          <p:nvPr/>
        </p:nvGraphicFramePr>
        <p:xfrm>
          <a:off x="3203640" y="3573360"/>
          <a:ext cx="528300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573360"/>
                    <a:ext cx="528300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9280" y="1397160"/>
          <a:ext cx="8964720" cy="4063680"/>
        </p:xfrm>
        <a:graphic>
          <a:graphicData uri="http://schemas.openxmlformats.org/drawingml/2006/table">
            <a:tbl>
              <a:tblPr/>
              <a:tblGrid>
                <a:gridCol w="2365560"/>
                <a:gridCol w="65991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15"/>
          <p:cNvGraphicFramePr/>
          <p:nvPr/>
        </p:nvGraphicFramePr>
        <p:xfrm>
          <a:off x="2700360" y="1844640"/>
          <a:ext cx="622296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844640"/>
                    <a:ext cx="6222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16"/>
          <p:cNvGraphicFramePr/>
          <p:nvPr/>
        </p:nvGraphicFramePr>
        <p:xfrm>
          <a:off x="2627280" y="3933720"/>
          <a:ext cx="624204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3933720"/>
                    <a:ext cx="624204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ZoneTexte 16"/>
          <p:cNvSpPr/>
          <p:nvPr/>
        </p:nvSpPr>
        <p:spPr>
          <a:xfrm>
            <a:off x="1290960" y="1557360"/>
            <a:ext cx="64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’écriture décimale d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28"/>
          <p:cNvGraphicFramePr/>
          <p:nvPr/>
        </p:nvGraphicFramePr>
        <p:xfrm>
          <a:off x="4284720" y="3068640"/>
          <a:ext cx="129528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3068640"/>
                    <a:ext cx="129528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29"/>
          <p:cNvGraphicFramePr/>
          <p:nvPr/>
        </p:nvGraphicFramePr>
        <p:xfrm>
          <a:off x="4265640" y="5157720"/>
          <a:ext cx="133524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5640" y="5157720"/>
                    <a:ext cx="13352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47640" y="234936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ZoneTexte 16"/>
          <p:cNvSpPr/>
          <p:nvPr/>
        </p:nvSpPr>
        <p:spPr>
          <a:xfrm>
            <a:off x="1290960" y="1557360"/>
            <a:ext cx="64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’écriture décimale d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17"/>
          <p:cNvGraphicFramePr/>
          <p:nvPr/>
        </p:nvGraphicFramePr>
        <p:xfrm>
          <a:off x="4098960" y="3068640"/>
          <a:ext cx="166860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8960" y="3068640"/>
                    <a:ext cx="16686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8"/>
          <p:cNvGraphicFramePr/>
          <p:nvPr/>
        </p:nvGraphicFramePr>
        <p:xfrm>
          <a:off x="3995640" y="4869000"/>
          <a:ext cx="164952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869000"/>
                    <a:ext cx="164952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249228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ZoneTexte 16"/>
          <p:cNvSpPr/>
          <p:nvPr/>
        </p:nvSpPr>
        <p:spPr>
          <a:xfrm>
            <a:off x="294120" y="1557360"/>
            <a:ext cx="89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a puissance de 10 correspond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15"/>
          <p:cNvGraphicFramePr/>
          <p:nvPr/>
        </p:nvGraphicFramePr>
        <p:xfrm>
          <a:off x="3648240" y="3186000"/>
          <a:ext cx="2571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8240" y="3186000"/>
                    <a:ext cx="2571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6"/>
          <p:cNvGraphicFramePr/>
          <p:nvPr/>
        </p:nvGraphicFramePr>
        <p:xfrm>
          <a:off x="4309920" y="5157720"/>
          <a:ext cx="151128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9920" y="5157720"/>
                    <a:ext cx="15112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403280" y="242100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ZoneTexte 16"/>
          <p:cNvSpPr/>
          <p:nvPr/>
        </p:nvSpPr>
        <p:spPr>
          <a:xfrm>
            <a:off x="294120" y="1557360"/>
            <a:ext cx="89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a puissance de 10 correspond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15"/>
          <p:cNvGraphicFramePr/>
          <p:nvPr/>
        </p:nvGraphicFramePr>
        <p:xfrm>
          <a:off x="3755880" y="3097080"/>
          <a:ext cx="235584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5880" y="3097080"/>
                    <a:ext cx="23558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6"/>
          <p:cNvGraphicFramePr/>
          <p:nvPr/>
        </p:nvGraphicFramePr>
        <p:xfrm>
          <a:off x="4419720" y="5013360"/>
          <a:ext cx="121752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5013360"/>
                    <a:ext cx="12175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47640" y="263700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17"/>
          <p:cNvGraphicFramePr/>
          <p:nvPr/>
        </p:nvGraphicFramePr>
        <p:xfrm>
          <a:off x="3492360" y="3213000"/>
          <a:ext cx="353376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213000"/>
                    <a:ext cx="35337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18"/>
          <p:cNvGraphicFramePr/>
          <p:nvPr/>
        </p:nvGraphicFramePr>
        <p:xfrm>
          <a:off x="4716360" y="4581360"/>
          <a:ext cx="116208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4581360"/>
                    <a:ext cx="1162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17"/>
          <p:cNvGraphicFramePr/>
          <p:nvPr/>
        </p:nvGraphicFramePr>
        <p:xfrm>
          <a:off x="4411800" y="2565360"/>
          <a:ext cx="119520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1800" y="2565360"/>
                    <a:ext cx="11952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8"/>
          <p:cNvGraphicFramePr/>
          <p:nvPr/>
        </p:nvGraphicFramePr>
        <p:xfrm>
          <a:off x="3544920" y="5013360"/>
          <a:ext cx="35733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4920" y="5013360"/>
                    <a:ext cx="35733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ZoneTexte 16"/>
          <p:cNvSpPr/>
          <p:nvPr/>
        </p:nvSpPr>
        <p:spPr>
          <a:xfrm>
            <a:off x="435600" y="1341360"/>
            <a:ext cx="797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le résultat sous la forme d’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3468600" y="3068640"/>
          <a:ext cx="343548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8600" y="3068640"/>
                    <a:ext cx="34354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3995640" y="4724280"/>
          <a:ext cx="257184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724280"/>
                    <a:ext cx="257184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3-29T17:10:51Z</dcterms:modified>
  <cp:revision>17</cp:revision>
  <dc:subject/>
  <dc:title>Diapositive 1</dc:title>
</cp:coreProperties>
</file>