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6DFE-3065-4E60-BE21-EE8059CE88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8D7A-7BD0-4DC0-986F-E916AFCA35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C914-C239-464D-9ED1-F002CE2308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5223-E9FA-4D32-BAAC-5EFE61DFDA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0420-DD12-4D42-965B-7E46599EC6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5BF6-10E8-48C1-96AB-0FA754D391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1309-375E-470E-A93A-4BE8FE1E87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C01E-8868-4F54-A467-B1D52005BF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4AE8-BD3C-46DB-9C4C-BFD041A5AD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9848-B10F-4F97-B64C-EFA06C33FC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B467-61F9-4921-9B88-D7693F1101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839F-6E98-44F5-BB57-3DAD812B4C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B9F9-E8FD-4F20-9049-7A959538E8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4439-15DC-4F5D-827C-4301381BE7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EF32-AEA0-4D53-920B-8CC154536B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BD35-751B-40FD-A799-27D7C11CB9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BB7A-739B-42E4-927C-DB6CC12EC9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2D5F-80CB-408E-BB56-1FFC337374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3063-4F5B-40F3-9E33-428F12C126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42F7-2F5E-45CC-96F4-2B874BD29E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21A1-BD99-4C38-B998-59385FFD25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37F8-1D0C-41EB-93DE-A8DE099072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DD09-5616-4F8E-B2FA-A7F6D9E85A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8B65-9BBF-4AD8-88AF-CBFEEF5D2D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9B0F-C703-4692-A4D4-DA2D438196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8127-3158-42AF-A394-14B81719A4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1A7-9114-488B-9D5B-C579C2EE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858-A87F-4838-A646-1DEC7493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F04-F3C1-428B-B8F3-D593B0E2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91F-58BE-497F-A492-2A8C9573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A613-1B86-4D5F-8626-1100467C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50D-5CD8-4746-9C9C-C6538BDF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2BF-FA9E-4B15-B810-9ECA894E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2AE9-5614-47EF-8AA5-6551C6C2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07A-BD8C-4AA9-A584-0964321A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FC0-FE94-4B1A-BD65-9D90DFF8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D33-0927-4B1A-BD5D-BC48E4D5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ECE-B087-4881-B55F-037DCE5F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373E-7631-4D80-9848-1336ACB5CCE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4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ifie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ifie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5"/>
          <p:cNvGraphicFramePr/>
          <p:nvPr/>
        </p:nvGraphicFramePr>
        <p:xfrm>
          <a:off x="6516720" y="1773360"/>
          <a:ext cx="59688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1773360"/>
                    <a:ext cx="5968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6"/>
          <p:cNvGraphicFramePr/>
          <p:nvPr/>
        </p:nvGraphicFramePr>
        <p:xfrm>
          <a:off x="6588000" y="3860640"/>
          <a:ext cx="571680" cy="119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3860640"/>
                    <a:ext cx="571680" cy="11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ifie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ifie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5"/>
          <p:cNvGraphicFramePr/>
          <p:nvPr/>
        </p:nvGraphicFramePr>
        <p:xfrm>
          <a:off x="6516720" y="1773360"/>
          <a:ext cx="58428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1773360"/>
                    <a:ext cx="5842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6"/>
          <p:cNvGraphicFramePr/>
          <p:nvPr/>
        </p:nvGraphicFramePr>
        <p:xfrm>
          <a:off x="6588000" y="3789360"/>
          <a:ext cx="58428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3789360"/>
                    <a:ext cx="5842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ifie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ifie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5"/>
          <p:cNvGraphicFramePr/>
          <p:nvPr/>
        </p:nvGraphicFramePr>
        <p:xfrm>
          <a:off x="6516720" y="1700280"/>
          <a:ext cx="55872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1700280"/>
                    <a:ext cx="5587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6"/>
          <p:cNvGraphicFramePr/>
          <p:nvPr/>
        </p:nvGraphicFramePr>
        <p:xfrm>
          <a:off x="6516720" y="3789360"/>
          <a:ext cx="52056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3789360"/>
                    <a:ext cx="52056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4284720" y="1773360"/>
          <a:ext cx="190512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19051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4284720" y="3860640"/>
          <a:ext cx="190512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860640"/>
                    <a:ext cx="190512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4211640" y="1773360"/>
          <a:ext cx="207000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773360"/>
                    <a:ext cx="20700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4211640" y="3860640"/>
          <a:ext cx="190512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860640"/>
                    <a:ext cx="190512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4211640" y="1773360"/>
          <a:ext cx="190512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773360"/>
                    <a:ext cx="190512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4067280" y="3860640"/>
          <a:ext cx="229860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3860640"/>
                    <a:ext cx="229860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4284720" y="1773360"/>
          <a:ext cx="203184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203184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"/>
          <p:cNvGraphicFramePr/>
          <p:nvPr/>
        </p:nvGraphicFramePr>
        <p:xfrm>
          <a:off x="4356000" y="3860640"/>
          <a:ext cx="204480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860640"/>
                    <a:ext cx="204480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4140360" y="1844640"/>
          <a:ext cx="210816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844640"/>
                    <a:ext cx="210816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4140360" y="3933720"/>
          <a:ext cx="207000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3933720"/>
                    <a:ext cx="207000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4211640" y="1700280"/>
          <a:ext cx="203184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700280"/>
                    <a:ext cx="203184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4211640" y="3789360"/>
          <a:ext cx="210816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789360"/>
                    <a:ext cx="210816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4500720" y="1700280"/>
          <a:ext cx="137160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700280"/>
                    <a:ext cx="137160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4643280" y="3789360"/>
          <a:ext cx="113040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789360"/>
                    <a:ext cx="1130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4427640" y="1844640"/>
          <a:ext cx="140976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844640"/>
                    <a:ext cx="140976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4284720" y="3789360"/>
          <a:ext cx="160020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789360"/>
                    <a:ext cx="160020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4284720" y="1773360"/>
          <a:ext cx="138420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138420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6"/>
          <p:cNvGraphicFramePr/>
          <p:nvPr/>
        </p:nvGraphicFramePr>
        <p:xfrm>
          <a:off x="4284720" y="3716280"/>
          <a:ext cx="139680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716280"/>
                    <a:ext cx="139680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4356000" y="1844640"/>
          <a:ext cx="138456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138456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4356000" y="3789360"/>
          <a:ext cx="134640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789360"/>
                    <a:ext cx="134640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8"/>
          <p:cNvGraphicFramePr/>
          <p:nvPr/>
        </p:nvGraphicFramePr>
        <p:xfrm>
          <a:off x="4572000" y="1773360"/>
          <a:ext cx="109224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73360"/>
                    <a:ext cx="109224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29"/>
          <p:cNvGraphicFramePr/>
          <p:nvPr/>
        </p:nvGraphicFramePr>
        <p:xfrm>
          <a:off x="4500720" y="3789360"/>
          <a:ext cx="109188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3789360"/>
                    <a:ext cx="10918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4500720" y="1773360"/>
          <a:ext cx="109188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773360"/>
                    <a:ext cx="109188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4427640" y="3789360"/>
          <a:ext cx="107928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3789360"/>
                    <a:ext cx="10792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4788000" y="1700280"/>
          <a:ext cx="10922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10922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4572000" y="3860640"/>
          <a:ext cx="127008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860640"/>
                    <a:ext cx="127008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4643280" y="1773360"/>
          <a:ext cx="100332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773360"/>
                    <a:ext cx="10033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4572000" y="3716280"/>
          <a:ext cx="100332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716280"/>
                    <a:ext cx="100332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7"/>
          <p:cNvGraphicFramePr/>
          <p:nvPr/>
        </p:nvGraphicFramePr>
        <p:xfrm>
          <a:off x="4317840" y="1562040"/>
          <a:ext cx="1016280" cy="12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1562040"/>
                    <a:ext cx="101628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8"/>
          <p:cNvGraphicFramePr/>
          <p:nvPr/>
        </p:nvGraphicFramePr>
        <p:xfrm>
          <a:off x="4356000" y="3860640"/>
          <a:ext cx="1028880" cy="119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860640"/>
                    <a:ext cx="1028880" cy="11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4572000" y="1844640"/>
          <a:ext cx="101592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844640"/>
                    <a:ext cx="10159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4427640" y="3716280"/>
          <a:ext cx="102852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3716280"/>
                    <a:ext cx="102852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ifie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ifie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6732720" y="1844640"/>
          <a:ext cx="57132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1844640"/>
                    <a:ext cx="5713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8"/>
          <p:cNvGraphicFramePr/>
          <p:nvPr/>
        </p:nvGraphicFramePr>
        <p:xfrm>
          <a:off x="6659640" y="3860640"/>
          <a:ext cx="317520" cy="119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3860640"/>
                    <a:ext cx="317520" cy="11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10-11T17:49:50Z</dcterms:modified>
  <cp:revision>16</cp:revision>
  <dc:subject/>
  <dc:title>Diapositive 1</dc:title>
</cp:coreProperties>
</file>