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4EE7-3FB5-4907-BD20-F947B1F856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E25A-230C-4C53-99E1-F7CCD001B2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BB96-9B12-41EF-8D9A-EB585E0319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1113-48DE-44A3-835A-908A77051C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C79F-144E-4C49-932B-610754BE4C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4AD8-DAA2-415B-B223-90B852C6A3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C92F-BE06-490B-BCFD-E8C1C24DC2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C664-AE65-43EA-B50A-17B110946D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7E7E-64E4-4092-9DAC-2BFD0B499A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FF80-02BD-486D-BF3D-E4CECAF4B6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3A53-A59C-4160-9965-83DF54426C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80BF-9A95-4EE1-8F67-7FAA82F27D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5850-C953-402F-A78A-3A3E7129ED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D5C7-6E06-4362-A13C-EECD3CCFEA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E448-5DD5-4AE9-B67C-D96E0D2604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19F6-CC44-4004-B703-AC1DCF8F1A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C515-6B44-41AC-B11A-0D2F39EA77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BCE9-7A04-4D4D-BF15-0F1237538E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C0D6-7015-4A94-8CE4-C4980434E4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C507-26DC-439A-BF70-93D61E95F1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1EC1-766A-4099-A515-4965A6A694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9A40-0CE8-4B1B-80CB-A28CEF45C6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6A14-1D69-4336-B49A-CDFBF29D71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C0D3-46E3-4BA4-9287-F94DCDDABE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0D40-8E7E-42D2-8F92-2F2915A163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063-C13A-49ED-B376-EF3423EB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E10-39F2-4513-A1C5-E380DD2D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523-911D-497D-B96C-3F726116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07A-47BF-4431-96BD-D0EF6FE4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14F-7877-4183-A95A-BE81AA03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AD9-B542-4A4C-A624-D2374928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EB6-364B-42B5-BF04-FD5B9FD2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099-1BFC-4033-97AA-07DDAD12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B6F-2C25-4FFA-B8FB-97B611BF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A81-DCC5-4E92-8F27-D31437E2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D74-F0FF-4548-87A0-9B9F6564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49F-C995-479F-A1B6-0D61BC15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0356-A528-41B6-831E-0B8131C840D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8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218200" cy="469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9"/>
          <p:cNvSpPr/>
          <p:nvPr/>
        </p:nvSpPr>
        <p:spPr>
          <a:xfrm>
            <a:off x="329040" y="1413000"/>
            <a:ext cx="82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Quelle est la nature du quadrilatère ANB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8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3894120" cy="4694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0"/>
          <p:cNvSpPr/>
          <p:nvPr/>
        </p:nvSpPr>
        <p:spPr>
          <a:xfrm>
            <a:off x="451080" y="1284120"/>
            <a:ext cx="77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Quelles sont les coordonnées du point 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6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01488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2774520" y="5661000"/>
            <a:ext cx="40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DE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st l’hypoténu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6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7"/>
          <p:cNvSpPr/>
          <p:nvPr/>
        </p:nvSpPr>
        <p:spPr>
          <a:xfrm>
            <a:off x="2751480" y="546084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DE² = DC² + CE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1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6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7"/>
          <p:cNvSpPr/>
          <p:nvPr/>
        </p:nvSpPr>
        <p:spPr>
          <a:xfrm>
            <a:off x="2702520" y="566100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RP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est l’hypotén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6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645000" cy="4240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2916360" y="5661000"/>
            <a:ext cx="32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RP² = RT² + TP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1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ZoneTexte 7"/>
          <p:cNvSpPr/>
          <p:nvPr/>
        </p:nvSpPr>
        <p:spPr>
          <a:xfrm>
            <a:off x="3286440" y="5950080"/>
            <a:ext cx="18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Times New Roman"/>
              </a:rPr>
              <a:t>BC=5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0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321440" cy="433368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1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ZoneTexte 8"/>
          <p:cNvSpPr/>
          <p:nvPr/>
        </p:nvSpPr>
        <p:spPr>
          <a:xfrm>
            <a:off x="3215160" y="5661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Times New Roman"/>
              </a:rPr>
              <a:t>EF=10 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9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241520" cy="417528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1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01524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73080" y="1139760"/>
            <a:ext cx="890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CDE est un triangle rectangle en C, quelle est l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hypotén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6" descr=""/>
          <p:cNvPicPr/>
          <p:nvPr/>
        </p:nvPicPr>
        <p:blipFill>
          <a:blip r:embed="rId1"/>
          <a:srcRect l="0" t="3592" r="0" b="0"/>
          <a:stretch/>
        </p:blipFill>
        <p:spPr>
          <a:xfrm>
            <a:off x="1547640" y="1268280"/>
            <a:ext cx="6356520" cy="455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7"/>
          <p:cNvSpPr/>
          <p:nvPr/>
        </p:nvSpPr>
        <p:spPr>
          <a:xfrm>
            <a:off x="306000" y="5891040"/>
            <a:ext cx="48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’angle         mesure </a:t>
            </a: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65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28"/>
          <p:cNvGraphicFramePr/>
          <p:nvPr/>
        </p:nvGraphicFramePr>
        <p:xfrm>
          <a:off x="1835280" y="5950080"/>
          <a:ext cx="1008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5950080"/>
                    <a:ext cx="1008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10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6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38920" cy="4157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7"/>
          <p:cNvSpPr/>
          <p:nvPr/>
        </p:nvSpPr>
        <p:spPr>
          <a:xfrm>
            <a:off x="161640" y="5386320"/>
            <a:ext cx="44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’angle      mesure </a:t>
            </a: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41°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253080" y="6021360"/>
            <a:ext cx="57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car 75+64=139 et 180-139=4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29"/>
          <p:cNvGraphicFramePr/>
          <p:nvPr/>
        </p:nvGraphicFramePr>
        <p:xfrm>
          <a:off x="1692360" y="5445000"/>
          <a:ext cx="52056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5445000"/>
                    <a:ext cx="5205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6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218200" cy="4697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7"/>
          <p:cNvSpPr/>
          <p:nvPr/>
        </p:nvSpPr>
        <p:spPr>
          <a:xfrm>
            <a:off x="2342160" y="5950080"/>
            <a:ext cx="46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ANBM est un </a:t>
            </a:r>
            <a:r>
              <a:rPr b="1" lang="fr-FR" sz="3600" spc="-1" strike="noStrike">
                <a:solidFill>
                  <a:srgbClr val="cc0000"/>
                </a:solidFill>
                <a:latin typeface="Times New Roman"/>
              </a:rPr>
              <a:t>rectan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0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6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894120" cy="4694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7"/>
          <p:cNvSpPr/>
          <p:nvPr/>
        </p:nvSpPr>
        <p:spPr>
          <a:xfrm>
            <a:off x="2880" y="5805360"/>
            <a:ext cx="89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es coordonnées de A sont 1; 2. On note </a:t>
            </a: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A(1;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10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2"/>
          <p:cNvSpPr/>
          <p:nvPr/>
        </p:nvSpPr>
        <p:spPr>
          <a:xfrm>
            <a:off x="545040" y="134136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CDE est un triangle rectangle en C, éc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3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015240" cy="41148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2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24200" y="1139760"/>
            <a:ext cx="88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TP est un triangle rectangle en T, quelle est l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hypotén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8" descr=""/>
          <p:cNvPicPr/>
          <p:nvPr/>
        </p:nvPicPr>
        <p:blipFill>
          <a:blip r:embed="rId1"/>
          <a:stretch/>
        </p:blipFill>
        <p:spPr>
          <a:xfrm>
            <a:off x="2700360" y="2617920"/>
            <a:ext cx="3645000" cy="4240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9"/>
          <p:cNvSpPr/>
          <p:nvPr/>
        </p:nvSpPr>
        <p:spPr>
          <a:xfrm>
            <a:off x="250920" y="1341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TP est un triangle rectangle en T, éc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’égalité de Pythagore correspondan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7"/>
          <p:cNvSpPr/>
          <p:nvPr/>
        </p:nvSpPr>
        <p:spPr>
          <a:xfrm>
            <a:off x="428760" y="1341360"/>
            <a:ext cx="83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BC est un triangle rectangle en A. Calcul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a longueur B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0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4781520" cy="47973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ZoneTexte 7"/>
          <p:cNvSpPr/>
          <p:nvPr/>
        </p:nvSpPr>
        <p:spPr>
          <a:xfrm>
            <a:off x="428040" y="1341360"/>
            <a:ext cx="82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DEF est un triangle rectangle en D. Calcul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a longueur E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1" descr=""/>
          <p:cNvPicPr/>
          <p:nvPr/>
        </p:nvPicPr>
        <p:blipFill>
          <a:blip r:embed="rId1"/>
          <a:stretch/>
        </p:blipFill>
        <p:spPr>
          <a:xfrm>
            <a:off x="3635280" y="2349360"/>
            <a:ext cx="4465800" cy="43959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8" descr=""/>
          <p:cNvPicPr/>
          <p:nvPr/>
        </p:nvPicPr>
        <p:blipFill>
          <a:blip r:embed="rId1"/>
          <a:srcRect l="0" t="3592" r="0" b="0"/>
          <a:stretch/>
        </p:blipFill>
        <p:spPr>
          <a:xfrm>
            <a:off x="1619280" y="2298600"/>
            <a:ext cx="6356160" cy="4559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9"/>
          <p:cNvSpPr/>
          <p:nvPr/>
        </p:nvSpPr>
        <p:spPr>
          <a:xfrm>
            <a:off x="329040" y="1484280"/>
            <a:ext cx="72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Quelle est la mesure de l’angle          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30"/>
          <p:cNvGraphicFramePr/>
          <p:nvPr/>
        </p:nvGraphicFramePr>
        <p:xfrm>
          <a:off x="6156360" y="1484280"/>
          <a:ext cx="100800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1484280"/>
                    <a:ext cx="1008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9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453000" cy="451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0"/>
          <p:cNvSpPr/>
          <p:nvPr/>
        </p:nvSpPr>
        <p:spPr>
          <a:xfrm>
            <a:off x="381240" y="1355760"/>
            <a:ext cx="65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Quelle est la mesure de l’angle    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41"/>
          <p:cNvGraphicFramePr/>
          <p:nvPr/>
        </p:nvGraphicFramePr>
        <p:xfrm>
          <a:off x="6227640" y="1413000"/>
          <a:ext cx="520920" cy="43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413000"/>
                    <a:ext cx="5209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2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9-14T20:53:48Z</dcterms:modified>
  <cp:revision>27</cp:revision>
  <dc:subject/>
  <dc:title>Diapositive 1</dc:title>
</cp:coreProperties>
</file>