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5B46-9772-4E91-8996-6796B7109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5690-CDB7-420D-B2FF-63F5218B6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7822-2AEF-4A36-B9C7-3CA8FA100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AF10-4CF0-45D3-A1F3-30076621F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62A0-F79E-4291-ABBF-1D8B84A6E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254B-A605-4157-A9FE-187FBA459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C9C1-09AE-436C-96BF-996EC38DC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E7C2-0929-4B4B-AA76-A9F732528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3401-A416-40C6-BC11-F9F691332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A7EB-83A3-4915-8693-6DC2DB87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5330-D751-47D1-85B3-3CA1B1B5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8B98-189A-4594-B2A1-287FC5CD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D9294-E1FE-4F60-A909-689431A7709A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1" dur="10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8" dur="10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5" dur="10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155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1155" fill="hold"/>
                                        <p:tgtEl>
                                          <p:spTgt spid="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115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115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0" dur="5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7" dur="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4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1" dur="5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8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476360" y="981000"/>
          <a:ext cx="6095880" cy="1224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haut: SUJET 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1403280" y="3716280"/>
          <a:ext cx="6096240" cy="1368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bas: SUJET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5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2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9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6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3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" dur="10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" dur="10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" dur="10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0" dur="10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7" dur="10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" dur="10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5-15T06:23:59Z</dcterms:modified>
  <cp:revision>12</cp:revision>
  <dc:subject/>
  <dc:title>Diapositive 1</dc:title>
</cp:coreProperties>
</file>