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1645-A6E7-42B5-90FD-AAAF238248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C79E-EF4C-4A91-932C-91A54FFDD1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1287-966A-4296-A14C-2E21FEF263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D343-A365-4C78-A982-8648FF418E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EA6A-7493-43BF-86FA-53BC757E03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908E-B835-4F1F-81A8-CCC8002E02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0C3C-282E-4A4E-BD32-AEB7C7D57D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6346-60B0-4359-B7A0-0E6827F5FD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86BA-68C3-4359-AE02-43167D9501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F3F-6642-46D4-A196-F7A56FC782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06BB-3D27-4754-A54F-B28A16DD30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7EE3-5ADB-4999-89B8-5C56F95441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743C-436F-45EA-8639-E37E010DC8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A85D-CB53-4342-A852-75080D0929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866D-D8D6-4F46-ACAE-2CB47122DA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BA13-00FD-4727-B56B-871CD21051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CF06-B03B-4240-9C68-F1517B6756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DF1C-963A-46A0-88C4-7B6E6518CA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66B3-283D-457F-9F6E-C4AF0E136D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A143-AF4F-4FE9-93FA-233610E9A5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66C2-6D3B-43B0-BDE0-76FC342D08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90A7-62BF-4273-9AB6-FD84FF390D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8301-7F6F-4B80-9BDB-D314B3EE8E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0C6A-355F-421D-AEE4-60A9AE1D99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02C2-67F5-48F1-952C-012AA6735F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214-3404-402A-AC84-04138545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A0F-BF06-486F-BF20-BCE76422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6A6-E0D4-46A1-A5A1-CF2380A2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C3A-E93D-46AC-8A72-8C0C55F6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7C5-E28A-4284-957A-545BC2D6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0C5-144D-4EE5-BEFC-BEC16AE0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490-E34A-4C35-A6D0-1D9C7B47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5AA-F9C1-4CC6-8CCA-5716298C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757-8814-47DE-AD08-3558F486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25E-27A9-4C2E-9588-EE8BF324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6B1-36D9-4B8C-98FF-25190BF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22C-6247-4348-A0C8-571C54BB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4D8-D78C-49A4-A5D1-5952FD5E693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508320" y="2276640"/>
            <a:ext cx="876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ibliothèque peut contenir 123 livr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livres peuvent contenir 4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ibliothèqu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5"/>
          <p:cNvSpPr/>
          <p:nvPr/>
        </p:nvSpPr>
        <p:spPr>
          <a:xfrm>
            <a:off x="509400" y="2276640"/>
            <a:ext cx="87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paquets contiennent 20 bill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billes y’a-t-il dans un paqu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692360" y="1916280"/>
          <a:ext cx="561636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6163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979640" y="1916280"/>
          <a:ext cx="45687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4568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340000" y="2637000"/>
          <a:ext cx="420048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37000"/>
                    <a:ext cx="42004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2484360" y="2060640"/>
          <a:ext cx="47516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47516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835280" y="1916280"/>
          <a:ext cx="482436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16280"/>
                    <a:ext cx="48243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ZoneTexte 3"/>
          <p:cNvSpPr/>
          <p:nvPr/>
        </p:nvSpPr>
        <p:spPr>
          <a:xfrm>
            <a:off x="2554200" y="2781360"/>
            <a:ext cx="419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NE SAIT PA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71440" y="2205000"/>
            <a:ext cx="866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oîte de biscuit coûte 245F, combi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3 boîtes de biscu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979640" y="2637000"/>
          <a:ext cx="54990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37000"/>
                    <a:ext cx="54990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619280" y="2924280"/>
          <a:ext cx="531972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24280"/>
                    <a:ext cx="5319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258920" y="2708280"/>
          <a:ext cx="648180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08280"/>
                    <a:ext cx="6481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340000" y="2924280"/>
          <a:ext cx="43070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43070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268920" y="213372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inq pommes coûtent 550F, combi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 deux  pom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9 enfants par jou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4 j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35600" y="2133720"/>
            <a:ext cx="801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ur faire un gâteau pour 4 personn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faut 300g de beur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quantité de beurre faut-il pou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faire un gâteau pour 6 person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89800" y="2205000"/>
            <a:ext cx="77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enfant mesure 95cm à 1an, quell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era sa taille à 2 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506160" y="2276640"/>
            <a:ext cx="782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10m² peut contenir 15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lan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plantes pourra conteni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30m²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ZoneTexte 5"/>
          <p:cNvSpPr/>
          <p:nvPr/>
        </p:nvSpPr>
        <p:spPr>
          <a:xfrm>
            <a:off x="395280" y="234936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ZoneTexte 5"/>
          <p:cNvSpPr/>
          <p:nvPr/>
        </p:nvSpPr>
        <p:spPr>
          <a:xfrm>
            <a:off x="499680" y="2276640"/>
            <a:ext cx="811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voiture consomme 10L pour fair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 km, combien de km fait-elle avec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30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01T01:40:50Z</dcterms:modified>
  <cp:revision>29</cp:revision>
  <dc:subject/>
  <dc:title>Diapositive 1</dc:title>
</cp:coreProperties>
</file>