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C330-A570-4716-99A1-8989827E31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86A6-880B-489A-AAE0-C56880F0A7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90C8-FE07-48D9-B2D9-CF4C1FC2CE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BF1-B811-441C-B4B9-BF7FB4E338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59B6-70C5-4955-A3E1-742369BFC7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BEB2-5FF9-4CC0-96FD-D5BEC30094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D2FC-60EB-471A-B5AB-BEB07176F1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BBA4-94F7-4738-A096-0A388E0B55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FC04-6D83-4473-94D6-7545510E36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5BC7-3405-49C4-8E9F-2490D1E2A9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EBC4-BEF5-47C8-BE51-300317423B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9138-23D7-46D4-99D9-62846DF9ED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E20D-057F-4207-B3D3-A4867139D5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4107-71AF-4328-A405-7C5A8FF31E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96CF-82DD-4D27-9129-D991E2C556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6CD5-2EDC-4CF4-85C2-BBB211A859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EA0C-D0A3-41AC-98EB-2F3C39E8EE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1D95-2E7A-4D41-992D-97857C503E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1DA-9F3A-467A-ACBB-3345F6BF32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E8E1-A43A-4D50-913A-9EAFD9A2AA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0DAB-057D-40E5-91BF-DBB2F6ED9E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3951-D705-4556-96CA-8E59FA37B9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829A-E818-410F-B43F-CC9B03CC30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ABE7-25DC-4F90-A6B5-B193EDCC32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F7A7-328D-4FB9-9316-536A74D775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620F-48BB-442B-935A-4554E0BC3D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CD4-769F-4D2A-B001-C63DF127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955-7121-4D05-A6E3-B6745E0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21F-98ED-4465-AC4D-8DE9F03F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C35-081B-4A90-BBAD-2A5B0B5F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CEB-CF43-4BB0-A1F4-BAFFB056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975-CBDC-4E93-9B24-F36A8F03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5A2-9A1D-4997-9C9B-5A2E5050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DE4-6C32-4087-A5A7-81BA394E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DE0-E8A6-4E11-B639-0CB5A326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ACF-97E6-47B4-97EF-4AE7CF1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508-3CAA-4B53-93D9-F889A21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4A4-B5FD-49E7-9BC0-F2C372DD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0731-719D-4F27-9BAD-A1AD61C269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5"/>
          <p:cNvGraphicFramePr/>
          <p:nvPr/>
        </p:nvGraphicFramePr>
        <p:xfrm>
          <a:off x="4211640" y="2133720"/>
          <a:ext cx="17654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133720"/>
                    <a:ext cx="1765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6"/>
          <p:cNvGraphicFramePr/>
          <p:nvPr/>
        </p:nvGraphicFramePr>
        <p:xfrm>
          <a:off x="4067280" y="4005360"/>
          <a:ext cx="2158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005360"/>
                    <a:ext cx="2158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5"/>
          <p:cNvGraphicFramePr/>
          <p:nvPr/>
        </p:nvGraphicFramePr>
        <p:xfrm>
          <a:off x="4284720" y="1916280"/>
          <a:ext cx="22734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916280"/>
                    <a:ext cx="227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6"/>
          <p:cNvGraphicFramePr/>
          <p:nvPr/>
        </p:nvGraphicFramePr>
        <p:xfrm>
          <a:off x="4140360" y="4005360"/>
          <a:ext cx="22604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005360"/>
                    <a:ext cx="22604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5"/>
          <p:cNvGraphicFramePr/>
          <p:nvPr/>
        </p:nvGraphicFramePr>
        <p:xfrm>
          <a:off x="3851280" y="1989000"/>
          <a:ext cx="27558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7558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6"/>
          <p:cNvGraphicFramePr/>
          <p:nvPr/>
        </p:nvGraphicFramePr>
        <p:xfrm>
          <a:off x="3708360" y="4005360"/>
          <a:ext cx="3048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005360"/>
                    <a:ext cx="3048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419640" y="2133720"/>
          <a:ext cx="36194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133720"/>
                    <a:ext cx="3619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348000" y="4076640"/>
          <a:ext cx="397512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076640"/>
                    <a:ext cx="39751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203640" y="1989000"/>
          <a:ext cx="42289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4228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76720" y="4076640"/>
          <a:ext cx="42670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076640"/>
                    <a:ext cx="42670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492360" y="2060640"/>
          <a:ext cx="341640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4164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564000" y="4005360"/>
          <a:ext cx="33526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005360"/>
                    <a:ext cx="33526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6"/>
          <p:cNvGraphicFramePr/>
          <p:nvPr/>
        </p:nvGraphicFramePr>
        <p:xfrm>
          <a:off x="3419640" y="2060640"/>
          <a:ext cx="38098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060640"/>
                    <a:ext cx="3809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7"/>
          <p:cNvGraphicFramePr/>
          <p:nvPr/>
        </p:nvGraphicFramePr>
        <p:xfrm>
          <a:off x="3348000" y="4005360"/>
          <a:ext cx="386100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005360"/>
                    <a:ext cx="38610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564000" y="2060640"/>
          <a:ext cx="34034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060640"/>
                    <a:ext cx="34034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3564000" y="4076640"/>
          <a:ext cx="34290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076640"/>
                    <a:ext cx="34290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564000" y="2133720"/>
          <a:ext cx="33782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133720"/>
                    <a:ext cx="33782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564000" y="4149720"/>
          <a:ext cx="340344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149720"/>
                    <a:ext cx="34034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492360" y="2133720"/>
          <a:ext cx="35434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133720"/>
                    <a:ext cx="3543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635280" y="4076640"/>
          <a:ext cx="35434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076640"/>
                    <a:ext cx="35434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780000" y="2205000"/>
          <a:ext cx="299700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205000"/>
                    <a:ext cx="2997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564000" y="4005360"/>
          <a:ext cx="33782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005360"/>
                    <a:ext cx="3378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635280" y="1989000"/>
          <a:ext cx="347976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34797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492360" y="4005360"/>
          <a:ext cx="3772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005360"/>
                    <a:ext cx="3772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564000" y="2060640"/>
          <a:ext cx="36576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060640"/>
                    <a:ext cx="36576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492360" y="4076640"/>
          <a:ext cx="3949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076640"/>
                    <a:ext cx="3949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3708360" y="2060640"/>
          <a:ext cx="270504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7050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3780000" y="4005360"/>
          <a:ext cx="274320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005360"/>
                    <a:ext cx="27432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3708360" y="2060640"/>
          <a:ext cx="273060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7306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6"/>
          <p:cNvGraphicFramePr/>
          <p:nvPr/>
        </p:nvGraphicFramePr>
        <p:xfrm>
          <a:off x="3708360" y="4005360"/>
          <a:ext cx="271800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005360"/>
                    <a:ext cx="27180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067280" y="1916280"/>
          <a:ext cx="186696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18669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3995640" y="4005360"/>
          <a:ext cx="185436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005360"/>
                    <a:ext cx="18543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3851280" y="1989000"/>
          <a:ext cx="26668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666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3851280" y="4005360"/>
          <a:ext cx="2666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666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5"/>
          <p:cNvGraphicFramePr/>
          <p:nvPr/>
        </p:nvGraphicFramePr>
        <p:xfrm>
          <a:off x="4140360" y="2133720"/>
          <a:ext cx="185400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133720"/>
                    <a:ext cx="18540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6"/>
          <p:cNvGraphicFramePr/>
          <p:nvPr/>
        </p:nvGraphicFramePr>
        <p:xfrm>
          <a:off x="4067280" y="4076640"/>
          <a:ext cx="189216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076640"/>
                    <a:ext cx="189216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5"/>
          <p:cNvGraphicFramePr/>
          <p:nvPr/>
        </p:nvGraphicFramePr>
        <p:xfrm>
          <a:off x="4356000" y="2060640"/>
          <a:ext cx="187956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8795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6"/>
          <p:cNvGraphicFramePr/>
          <p:nvPr/>
        </p:nvGraphicFramePr>
        <p:xfrm>
          <a:off x="4211640" y="4076640"/>
          <a:ext cx="185436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185436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5"/>
          <p:cNvGraphicFramePr/>
          <p:nvPr/>
        </p:nvGraphicFramePr>
        <p:xfrm>
          <a:off x="3924360" y="2060640"/>
          <a:ext cx="26416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6416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6"/>
          <p:cNvGraphicFramePr/>
          <p:nvPr/>
        </p:nvGraphicFramePr>
        <p:xfrm>
          <a:off x="3851280" y="4005360"/>
          <a:ext cx="267984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005360"/>
                    <a:ext cx="26798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9-01T18:09:54Z</dcterms:modified>
  <cp:revision>24</cp:revision>
  <dc:subject/>
  <dc:title>Diapositive 1</dc:title>
</cp:coreProperties>
</file>