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028E3-D69C-4516-A7CA-3CE69B14E47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0796A-0A29-4A31-9DF3-0DF3445BF8C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9EE5B-873C-41B9-B7A6-C5E917CFC5F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B35C9-D14D-430C-BD5A-A14E63B685C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1810F-162B-447F-A9DF-C45B273D23D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5A5DB-B2BA-4FC6-9610-88A5D088BFD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2001F-026B-49C6-A4D5-7D50495FACB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05C8A-2070-45BD-87DC-7EB2F0D4BBC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297FD-C29E-4FDA-A301-9524F6CB7E2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3F566-19A9-4BAC-836C-0CF76A9CE8B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5ED09-18CE-48B6-B810-983CC23ADE6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AB805-F5DB-4C3D-B572-A48CE61CC03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D290C-79FC-403A-8691-D0B35B4A607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48D59-B514-4E69-A3A2-F3246A48101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FC7F1-F148-4BAC-9561-C3446B61C03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26F50-B4FA-4051-B9DF-2F07D1A0532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CC3B8-A876-479E-A52B-B3BE36D1B4D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346AD-0BB8-4F32-92C9-D5A32123DD6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82A59-8879-432E-A6FB-89E329E3A0F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69F94-36AF-434F-B4D6-687C0055BD5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C3B28-864E-40B7-AF31-DE9594B9681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75E6C-568D-46EB-BB10-06A9DADD321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9740D-5CF0-46CE-B095-643D2BE03DA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A1108-A722-4BDC-9D5C-419BA328D65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57E9F-0538-4E14-8FEA-5DF8721AB9A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869C5-2BE3-4B8C-898F-1207ECD079E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33CD-1147-416C-A15D-186499010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0F36-73C1-461F-9962-F2BF7F71F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CFB2-D334-4239-B2A1-B63F9A173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414E-0884-46B1-87E8-79F2D9827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721C-7990-4D14-BFF8-ECEE363ED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0054-EA4B-4E6A-A3DA-C8FBDA3BC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4221-03BC-48F8-93DC-FCE43D18D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D7CE-898C-4C50-AB34-15D8F1942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06C4-87F8-448C-9B8B-2ACBA613A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3E75-5F39-4A4D-A403-A25B414C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0C68-4DB9-4596-9258-640486C9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6744-9371-4E52-A484-F6B5678D5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76559-D688-4913-AD19-DE26F05FA5E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14436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4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  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476360" y="2637000"/>
          <a:ext cx="609588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776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ZoneTexte 16"/>
          <p:cNvSpPr/>
          <p:nvPr/>
        </p:nvSpPr>
        <p:spPr>
          <a:xfrm>
            <a:off x="435600" y="1341360"/>
            <a:ext cx="797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r le résultat sous la forme d’u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uissance de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Object 17"/>
          <p:cNvGraphicFramePr/>
          <p:nvPr/>
        </p:nvGraphicFramePr>
        <p:xfrm>
          <a:off x="3736800" y="2852640"/>
          <a:ext cx="2513160" cy="173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6800" y="2852640"/>
                    <a:ext cx="2513160" cy="17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Object 18"/>
          <p:cNvGraphicFramePr/>
          <p:nvPr/>
        </p:nvGraphicFramePr>
        <p:xfrm>
          <a:off x="4356000" y="4581360"/>
          <a:ext cx="1195560" cy="206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4581360"/>
                    <a:ext cx="119556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23000">
    <p:cover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1" dur="10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619280" y="2565360"/>
          <a:ext cx="6095880" cy="4064040"/>
        </p:xfrm>
        <a:graphic>
          <a:graphicData uri="http://schemas.openxmlformats.org/drawingml/2006/table">
            <a:tbl>
              <a:tblPr/>
              <a:tblGrid>
                <a:gridCol w="1608120"/>
                <a:gridCol w="448776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ZoneTexte 16"/>
          <p:cNvSpPr/>
          <p:nvPr/>
        </p:nvSpPr>
        <p:spPr>
          <a:xfrm>
            <a:off x="435600" y="1341360"/>
            <a:ext cx="797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r le résultat sous la forme d’u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uissance de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Object 17"/>
          <p:cNvGraphicFramePr/>
          <p:nvPr/>
        </p:nvGraphicFramePr>
        <p:xfrm>
          <a:off x="4314960" y="2565360"/>
          <a:ext cx="1390680" cy="20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4960" y="2565360"/>
                    <a:ext cx="13906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18"/>
          <p:cNvGraphicFramePr/>
          <p:nvPr/>
        </p:nvGraphicFramePr>
        <p:xfrm>
          <a:off x="3879720" y="4724280"/>
          <a:ext cx="2927520" cy="173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79720" y="4724280"/>
                    <a:ext cx="2927520" cy="17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23000">
    <p:cover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8" dur="10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619280" y="2793960"/>
          <a:ext cx="6095880" cy="4064040"/>
        </p:xfrm>
        <a:graphic>
          <a:graphicData uri="http://schemas.openxmlformats.org/drawingml/2006/table">
            <a:tbl>
              <a:tblPr/>
              <a:tblGrid>
                <a:gridCol w="1608120"/>
                <a:gridCol w="448776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ZoneTexte 16"/>
          <p:cNvSpPr/>
          <p:nvPr/>
        </p:nvSpPr>
        <p:spPr>
          <a:xfrm>
            <a:off x="435600" y="1341360"/>
            <a:ext cx="797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r le résultat sous la forme d’u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uissance de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Object 17"/>
          <p:cNvGraphicFramePr/>
          <p:nvPr/>
        </p:nvGraphicFramePr>
        <p:xfrm>
          <a:off x="3419640" y="3068640"/>
          <a:ext cx="3533760" cy="106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3068640"/>
                    <a:ext cx="353376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Object 18"/>
          <p:cNvGraphicFramePr/>
          <p:nvPr/>
        </p:nvGraphicFramePr>
        <p:xfrm>
          <a:off x="3514680" y="5373720"/>
          <a:ext cx="3532320" cy="106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14680" y="5373720"/>
                    <a:ext cx="353232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23000">
    <p:cover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5" dur="10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1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1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155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1155" fill="hold"/>
                                        <p:tgtEl>
                                          <p:spTgt spid="1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1155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1155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68360" y="1397160"/>
          <a:ext cx="8280360" cy="4063680"/>
        </p:xfrm>
        <a:graphic>
          <a:graphicData uri="http://schemas.openxmlformats.org/drawingml/2006/table">
            <a:tbl>
              <a:tblPr/>
              <a:tblGrid>
                <a:gridCol w="1843200"/>
                <a:gridCol w="643716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Object 15"/>
          <p:cNvGraphicFramePr/>
          <p:nvPr/>
        </p:nvGraphicFramePr>
        <p:xfrm>
          <a:off x="2954160" y="1916280"/>
          <a:ext cx="4986360" cy="106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54160" y="1916280"/>
                    <a:ext cx="4986360" cy="10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16"/>
          <p:cNvGraphicFramePr/>
          <p:nvPr/>
        </p:nvGraphicFramePr>
        <p:xfrm>
          <a:off x="3603600" y="3933720"/>
          <a:ext cx="3925800" cy="106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03600" y="3933720"/>
                    <a:ext cx="392580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0" dur="5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24000" y="1397160"/>
          <a:ext cx="8496000" cy="4063680"/>
        </p:xfrm>
        <a:graphic>
          <a:graphicData uri="http://schemas.openxmlformats.org/drawingml/2006/table">
            <a:tbl>
              <a:tblPr/>
              <a:tblGrid>
                <a:gridCol w="1871640"/>
                <a:gridCol w="662436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Object 15"/>
          <p:cNvGraphicFramePr/>
          <p:nvPr/>
        </p:nvGraphicFramePr>
        <p:xfrm>
          <a:off x="3203640" y="3860640"/>
          <a:ext cx="4611600" cy="12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3860640"/>
                    <a:ext cx="4611600" cy="12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Object 16"/>
          <p:cNvGraphicFramePr/>
          <p:nvPr/>
        </p:nvGraphicFramePr>
        <p:xfrm>
          <a:off x="2641680" y="1773360"/>
          <a:ext cx="5673600" cy="123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41680" y="1773360"/>
                    <a:ext cx="5673600" cy="12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7" dur="5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468360" y="1397160"/>
          <a:ext cx="8137440" cy="4063680"/>
        </p:xfrm>
        <a:graphic>
          <a:graphicData uri="http://schemas.openxmlformats.org/drawingml/2006/table">
            <a:tbl>
              <a:tblPr/>
              <a:tblGrid>
                <a:gridCol w="1887480"/>
                <a:gridCol w="624996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Object 15"/>
          <p:cNvGraphicFramePr/>
          <p:nvPr/>
        </p:nvGraphicFramePr>
        <p:xfrm>
          <a:off x="3281400" y="1844640"/>
          <a:ext cx="4317840" cy="106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81400" y="1844640"/>
                    <a:ext cx="431784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16"/>
          <p:cNvGraphicFramePr/>
          <p:nvPr/>
        </p:nvGraphicFramePr>
        <p:xfrm>
          <a:off x="3054240" y="3789360"/>
          <a:ext cx="4865760" cy="106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54240" y="3789360"/>
                    <a:ext cx="486576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4" dur="5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24000" y="1397160"/>
          <a:ext cx="8569080" cy="4063680"/>
        </p:xfrm>
        <a:graphic>
          <a:graphicData uri="http://schemas.openxmlformats.org/drawingml/2006/table">
            <a:tbl>
              <a:tblPr/>
              <a:tblGrid>
                <a:gridCol w="2260440"/>
                <a:gridCol w="630864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Object 15"/>
          <p:cNvGraphicFramePr/>
          <p:nvPr/>
        </p:nvGraphicFramePr>
        <p:xfrm>
          <a:off x="3560760" y="1844640"/>
          <a:ext cx="4537080" cy="123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0760" y="1844640"/>
                    <a:ext cx="4537080" cy="12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16"/>
          <p:cNvGraphicFramePr/>
          <p:nvPr/>
        </p:nvGraphicFramePr>
        <p:xfrm>
          <a:off x="2700360" y="3789360"/>
          <a:ext cx="5595840" cy="123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00360" y="3789360"/>
                    <a:ext cx="5595840" cy="12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1" dur="5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24000" y="1397160"/>
          <a:ext cx="8496000" cy="5200560"/>
        </p:xfrm>
        <a:graphic>
          <a:graphicData uri="http://schemas.openxmlformats.org/drawingml/2006/table">
            <a:tbl>
              <a:tblPr/>
              <a:tblGrid>
                <a:gridCol w="2241360"/>
                <a:gridCol w="6254640"/>
              </a:tblGrid>
              <a:tr h="26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Object 15"/>
          <p:cNvGraphicFramePr/>
          <p:nvPr/>
        </p:nvGraphicFramePr>
        <p:xfrm>
          <a:off x="2583000" y="1989000"/>
          <a:ext cx="6203880" cy="106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83000" y="1989000"/>
                    <a:ext cx="620388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16"/>
          <p:cNvGraphicFramePr/>
          <p:nvPr/>
        </p:nvGraphicFramePr>
        <p:xfrm>
          <a:off x="3995640" y="4292640"/>
          <a:ext cx="3098880" cy="206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5640" y="4292640"/>
                    <a:ext cx="309888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8" dur="5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476360" y="981000"/>
          <a:ext cx="6095880" cy="1224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2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haut: SUJET 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1403280" y="3716280"/>
          <a:ext cx="6096240" cy="1368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bas: SUJET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24000" y="1397160"/>
          <a:ext cx="8496000" cy="4063680"/>
        </p:xfrm>
        <a:graphic>
          <a:graphicData uri="http://schemas.openxmlformats.org/drawingml/2006/table">
            <a:tbl>
              <a:tblPr/>
              <a:tblGrid>
                <a:gridCol w="2241360"/>
                <a:gridCol w="625464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Object 15"/>
          <p:cNvGraphicFramePr/>
          <p:nvPr/>
        </p:nvGraphicFramePr>
        <p:xfrm>
          <a:off x="4083120" y="1413000"/>
          <a:ext cx="3068640" cy="206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83120" y="1413000"/>
                    <a:ext cx="306864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Object 16"/>
          <p:cNvGraphicFramePr/>
          <p:nvPr/>
        </p:nvGraphicFramePr>
        <p:xfrm>
          <a:off x="2611440" y="3860640"/>
          <a:ext cx="6167520" cy="106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11440" y="3860640"/>
                    <a:ext cx="6167520" cy="10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5" dur="5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24000" y="1397160"/>
          <a:ext cx="8496000" cy="4063680"/>
        </p:xfrm>
        <a:graphic>
          <a:graphicData uri="http://schemas.openxmlformats.org/drawingml/2006/table">
            <a:tbl>
              <a:tblPr/>
              <a:tblGrid>
                <a:gridCol w="2241360"/>
                <a:gridCol w="625464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Object 15"/>
          <p:cNvGraphicFramePr/>
          <p:nvPr/>
        </p:nvGraphicFramePr>
        <p:xfrm>
          <a:off x="2743200" y="1916280"/>
          <a:ext cx="5908680" cy="106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916280"/>
                    <a:ext cx="590868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16"/>
          <p:cNvGraphicFramePr/>
          <p:nvPr/>
        </p:nvGraphicFramePr>
        <p:xfrm>
          <a:off x="3429000" y="3573360"/>
          <a:ext cx="4808520" cy="173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3573360"/>
                    <a:ext cx="4808520" cy="17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2" dur="5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79280" y="1397160"/>
          <a:ext cx="8785440" cy="4840200"/>
        </p:xfrm>
        <a:graphic>
          <a:graphicData uri="http://schemas.openxmlformats.org/drawingml/2006/table">
            <a:tbl>
              <a:tblPr/>
              <a:tblGrid>
                <a:gridCol w="2317680"/>
                <a:gridCol w="6467760"/>
              </a:tblGrid>
              <a:tr h="242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Object 15"/>
          <p:cNvGraphicFramePr/>
          <p:nvPr/>
        </p:nvGraphicFramePr>
        <p:xfrm>
          <a:off x="3059280" y="1628640"/>
          <a:ext cx="5243400" cy="173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1628640"/>
                    <a:ext cx="5243400" cy="17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Object 16"/>
          <p:cNvGraphicFramePr/>
          <p:nvPr/>
        </p:nvGraphicFramePr>
        <p:xfrm>
          <a:off x="4284720" y="3933720"/>
          <a:ext cx="3117960" cy="206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3933720"/>
                    <a:ext cx="311796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9" dur="5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24000" y="1397160"/>
          <a:ext cx="8496000" cy="4063680"/>
        </p:xfrm>
        <a:graphic>
          <a:graphicData uri="http://schemas.openxmlformats.org/drawingml/2006/table">
            <a:tbl>
              <a:tblPr/>
              <a:tblGrid>
                <a:gridCol w="2241360"/>
                <a:gridCol w="625464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Object 15"/>
          <p:cNvGraphicFramePr/>
          <p:nvPr/>
        </p:nvGraphicFramePr>
        <p:xfrm>
          <a:off x="3930480" y="1341360"/>
          <a:ext cx="3508560" cy="20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0480" y="1341360"/>
                    <a:ext cx="350856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Object 16"/>
          <p:cNvGraphicFramePr/>
          <p:nvPr/>
        </p:nvGraphicFramePr>
        <p:xfrm>
          <a:off x="2841480" y="3573360"/>
          <a:ext cx="6008760" cy="173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41480" y="3573360"/>
                    <a:ext cx="6008760" cy="17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6" dur="5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79280" y="1397160"/>
          <a:ext cx="8964720" cy="4063680"/>
        </p:xfrm>
        <a:graphic>
          <a:graphicData uri="http://schemas.openxmlformats.org/drawingml/2006/table">
            <a:tbl>
              <a:tblPr/>
              <a:tblGrid>
                <a:gridCol w="2365560"/>
                <a:gridCol w="659916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Object 15"/>
          <p:cNvGraphicFramePr/>
          <p:nvPr/>
        </p:nvGraphicFramePr>
        <p:xfrm>
          <a:off x="2719440" y="1844640"/>
          <a:ext cx="6184800" cy="106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19440" y="1844640"/>
                    <a:ext cx="618480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Object 16"/>
          <p:cNvGraphicFramePr/>
          <p:nvPr/>
        </p:nvGraphicFramePr>
        <p:xfrm>
          <a:off x="2665440" y="3933720"/>
          <a:ext cx="6164280" cy="106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5440" y="3933720"/>
                    <a:ext cx="616428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3" dur="5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4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9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476360" y="2565360"/>
          <a:ext cx="6095880" cy="4064040"/>
        </p:xfrm>
        <a:graphic>
          <a:graphicData uri="http://schemas.openxmlformats.org/drawingml/2006/table">
            <a:tbl>
              <a:tblPr/>
              <a:tblGrid>
                <a:gridCol w="1608120"/>
                <a:gridCol w="448776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ZoneTexte 16"/>
          <p:cNvSpPr/>
          <p:nvPr/>
        </p:nvSpPr>
        <p:spPr>
          <a:xfrm>
            <a:off x="1290960" y="1557360"/>
            <a:ext cx="64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r l’écriture décimale d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Object 28"/>
          <p:cNvGraphicFramePr/>
          <p:nvPr/>
        </p:nvGraphicFramePr>
        <p:xfrm>
          <a:off x="4265640" y="3068640"/>
          <a:ext cx="1335240" cy="106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5640" y="3068640"/>
                    <a:ext cx="133524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Object 29"/>
          <p:cNvGraphicFramePr/>
          <p:nvPr/>
        </p:nvGraphicFramePr>
        <p:xfrm>
          <a:off x="4265640" y="5157720"/>
          <a:ext cx="1335240" cy="106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Object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5640" y="5157720"/>
                    <a:ext cx="133524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23000"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" dur="10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547640" y="2349360"/>
          <a:ext cx="6096240" cy="4064040"/>
        </p:xfrm>
        <a:graphic>
          <a:graphicData uri="http://schemas.openxmlformats.org/drawingml/2006/table">
            <a:tbl>
              <a:tblPr/>
              <a:tblGrid>
                <a:gridCol w="1608480"/>
                <a:gridCol w="448776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ZoneTexte 16"/>
          <p:cNvSpPr/>
          <p:nvPr/>
        </p:nvSpPr>
        <p:spPr>
          <a:xfrm>
            <a:off x="1290960" y="1557360"/>
            <a:ext cx="64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r l’écriture décimale d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Object 17"/>
          <p:cNvGraphicFramePr/>
          <p:nvPr/>
        </p:nvGraphicFramePr>
        <p:xfrm>
          <a:off x="4098960" y="3068640"/>
          <a:ext cx="1668600" cy="106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98960" y="3068640"/>
                    <a:ext cx="166860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Object 18"/>
          <p:cNvGraphicFramePr/>
          <p:nvPr/>
        </p:nvGraphicFramePr>
        <p:xfrm>
          <a:off x="3986280" y="4869000"/>
          <a:ext cx="1668240" cy="106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86280" y="4869000"/>
                    <a:ext cx="1668240" cy="10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23000"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" dur="10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476360" y="2492280"/>
          <a:ext cx="6095880" cy="4064040"/>
        </p:xfrm>
        <a:graphic>
          <a:graphicData uri="http://schemas.openxmlformats.org/drawingml/2006/table">
            <a:tbl>
              <a:tblPr/>
              <a:tblGrid>
                <a:gridCol w="1608120"/>
                <a:gridCol w="448776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ZoneTexte 16"/>
          <p:cNvSpPr/>
          <p:nvPr/>
        </p:nvSpPr>
        <p:spPr>
          <a:xfrm>
            <a:off x="294120" y="1557360"/>
            <a:ext cx="892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r la puissance de 10 correspondant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Object 15"/>
          <p:cNvGraphicFramePr/>
          <p:nvPr/>
        </p:nvGraphicFramePr>
        <p:xfrm>
          <a:off x="3922560" y="3176640"/>
          <a:ext cx="2022480" cy="84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2560" y="3176640"/>
                    <a:ext cx="2022480" cy="8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Object 16"/>
          <p:cNvGraphicFramePr/>
          <p:nvPr/>
        </p:nvGraphicFramePr>
        <p:xfrm>
          <a:off x="3525840" y="5148360"/>
          <a:ext cx="3081240" cy="84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25840" y="5148360"/>
                    <a:ext cx="308124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23000">
    <p:cover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6" dur="10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403280" y="2421000"/>
          <a:ext cx="6096240" cy="406404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ZoneTexte 16"/>
          <p:cNvSpPr/>
          <p:nvPr/>
        </p:nvSpPr>
        <p:spPr>
          <a:xfrm>
            <a:off x="294120" y="1557360"/>
            <a:ext cx="892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r la puissance de 10 correspondant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Object 15"/>
          <p:cNvGraphicFramePr/>
          <p:nvPr/>
        </p:nvGraphicFramePr>
        <p:xfrm>
          <a:off x="4010040" y="3087720"/>
          <a:ext cx="1846080" cy="102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10040" y="3087720"/>
                    <a:ext cx="1846080" cy="10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Object 16"/>
          <p:cNvGraphicFramePr/>
          <p:nvPr/>
        </p:nvGraphicFramePr>
        <p:xfrm>
          <a:off x="3575160" y="5003640"/>
          <a:ext cx="2906640" cy="102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75160" y="5003640"/>
                    <a:ext cx="2906640" cy="10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23000">
    <p:cover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47640" y="263700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480"/>
                <a:gridCol w="448776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ZoneTexte 16"/>
          <p:cNvSpPr/>
          <p:nvPr/>
        </p:nvSpPr>
        <p:spPr>
          <a:xfrm>
            <a:off x="435600" y="1341360"/>
            <a:ext cx="797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r le résultat sous la forme d’u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uissance de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Object 17"/>
          <p:cNvGraphicFramePr/>
          <p:nvPr/>
        </p:nvGraphicFramePr>
        <p:xfrm>
          <a:off x="3492360" y="3213000"/>
          <a:ext cx="3533760" cy="106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3213000"/>
                    <a:ext cx="353376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Object 18"/>
          <p:cNvGraphicFramePr/>
          <p:nvPr/>
        </p:nvGraphicFramePr>
        <p:xfrm>
          <a:off x="4708440" y="4581360"/>
          <a:ext cx="1177920" cy="206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08440" y="4581360"/>
                    <a:ext cx="117792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23000">
    <p:cover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0" dur="10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476360" y="2565360"/>
          <a:ext cx="6095880" cy="4064040"/>
        </p:xfrm>
        <a:graphic>
          <a:graphicData uri="http://schemas.openxmlformats.org/drawingml/2006/table">
            <a:tbl>
              <a:tblPr/>
              <a:tblGrid>
                <a:gridCol w="1608120"/>
                <a:gridCol w="448776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ZoneTexte 16"/>
          <p:cNvSpPr/>
          <p:nvPr/>
        </p:nvSpPr>
        <p:spPr>
          <a:xfrm>
            <a:off x="435600" y="1341360"/>
            <a:ext cx="797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r le résultat sous la forme d’u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uissance de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Object 17"/>
          <p:cNvGraphicFramePr/>
          <p:nvPr/>
        </p:nvGraphicFramePr>
        <p:xfrm>
          <a:off x="4427640" y="2565360"/>
          <a:ext cx="1163520" cy="20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2565360"/>
                    <a:ext cx="116352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Object 18"/>
          <p:cNvGraphicFramePr/>
          <p:nvPr/>
        </p:nvGraphicFramePr>
        <p:xfrm>
          <a:off x="3584520" y="5013360"/>
          <a:ext cx="3494160" cy="106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4520" y="5013360"/>
                    <a:ext cx="349416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23000">
    <p:cover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7" dur="10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476360" y="2565360"/>
          <a:ext cx="6095880" cy="4064040"/>
        </p:xfrm>
        <a:graphic>
          <a:graphicData uri="http://schemas.openxmlformats.org/drawingml/2006/table">
            <a:tbl>
              <a:tblPr/>
              <a:tblGrid>
                <a:gridCol w="1608120"/>
                <a:gridCol w="448776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ZoneTexte 16"/>
          <p:cNvSpPr/>
          <p:nvPr/>
        </p:nvSpPr>
        <p:spPr>
          <a:xfrm>
            <a:off x="435600" y="1341360"/>
            <a:ext cx="797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r le résultat sous la forme d’u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uissance de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Object 17"/>
          <p:cNvGraphicFramePr/>
          <p:nvPr/>
        </p:nvGraphicFramePr>
        <p:xfrm>
          <a:off x="3430440" y="3068640"/>
          <a:ext cx="3513240" cy="106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440" y="3068640"/>
                    <a:ext cx="351324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18"/>
          <p:cNvGraphicFramePr/>
          <p:nvPr/>
        </p:nvGraphicFramePr>
        <p:xfrm>
          <a:off x="4064040" y="4724280"/>
          <a:ext cx="2433600" cy="173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4040" y="4724280"/>
                    <a:ext cx="2433600" cy="17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23000">
    <p:cover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4" dur="10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2-03-29T17:44:41Z</dcterms:modified>
  <cp:revision>20</cp:revision>
  <dc:subject/>
  <dc:title>Diapositive 1</dc:title>
</cp:coreProperties>
</file>