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D81-9C20-4A5C-99DA-E80FE852AA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D22-EDE5-4698-8622-9A2E5AAD0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2474-A951-47BA-8780-026AAB8D6E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E1EE-25C8-45C2-A071-AACA8C4324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3FC-19F9-434D-A2EB-2A05F28207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396-B85B-4BA2-9EDD-A09DEE0E64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4069-4568-491F-B6A2-A676631DB7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DF43-C164-4D52-9B0E-A04C4AF4D1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83C1-9CC9-4DEC-BA8C-BC120F0876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438-6E87-431E-90F8-524F3123A5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059B-C4C8-4654-8248-4643E7E17A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DBA3-8A2F-46D1-938F-0430FA4A2E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7D3-ABB3-43B3-8231-A253231412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654-3672-432B-971C-8EC3B70FD7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10D2-875B-4DE6-81CF-9E24FEB7EE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F68-3FA3-448D-B4AA-E6239E41F3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A69-4B62-4D25-A5B2-958AB67F27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61C-BA7B-4185-97FD-5C8B4F4F8E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96A-6D47-4A02-B5D2-31C123D89C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7E3-C9F1-46F8-B6F5-42226E38A2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41C-1BBF-46FB-817F-7CE0E43261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E5E5-30FB-4E7E-AD26-4700CF5907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989-800A-4309-8BC8-2858E868E8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2D9-5F3A-406C-AAAD-A1DF313555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F289-7805-410C-8A8D-C4932BB099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66A-0C51-44B8-B588-A496386F21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37F-6D79-4B15-B892-9E8C51B1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6CC-64DE-4395-AD7C-37A882F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56A-78E2-4000-8EC5-531DE60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485-E75B-4840-940B-D9829112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2C4-FE61-4052-A32E-A76EF971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C02-F770-4EF5-9403-C3676775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22D-630A-46DD-A042-427155C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D91-4A28-431D-A770-A0BDE07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A38-DF6E-435A-B047-D9CD71B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32F-E416-477F-BBFB-18129A4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A5A-6A6D-4F5B-901C-BF072F4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747-74C0-47DB-86F6-5452990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532A-9E2D-4702-9169-31C646BFD9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249228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7"/>
          <p:cNvGraphicFramePr/>
          <p:nvPr/>
        </p:nvGraphicFramePr>
        <p:xfrm>
          <a:off x="3924360" y="2997360"/>
          <a:ext cx="316872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97360"/>
                    <a:ext cx="316872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18"/>
          <p:cNvGraphicFramePr/>
          <p:nvPr/>
        </p:nvGraphicFramePr>
        <p:xfrm>
          <a:off x="3780000" y="4869000"/>
          <a:ext cx="3281040" cy="129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869000"/>
                    <a:ext cx="328104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47640" y="242100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17"/>
          <p:cNvGraphicFramePr/>
          <p:nvPr/>
        </p:nvGraphicFramePr>
        <p:xfrm>
          <a:off x="3348000" y="2637000"/>
          <a:ext cx="401652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637000"/>
                    <a:ext cx="4016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8"/>
          <p:cNvGraphicFramePr/>
          <p:nvPr/>
        </p:nvGraphicFramePr>
        <p:xfrm>
          <a:off x="3419640" y="4797360"/>
          <a:ext cx="36734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797360"/>
                    <a:ext cx="36734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17"/>
          <p:cNvGraphicFramePr/>
          <p:nvPr/>
        </p:nvGraphicFramePr>
        <p:xfrm>
          <a:off x="3419640" y="3068640"/>
          <a:ext cx="33130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068640"/>
                    <a:ext cx="3313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3492360" y="4869000"/>
          <a:ext cx="345600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869000"/>
                    <a:ext cx="3456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276720" y="1989000"/>
          <a:ext cx="42829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9000"/>
                    <a:ext cx="4282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6"/>
          <p:cNvGraphicFramePr/>
          <p:nvPr/>
        </p:nvGraphicFramePr>
        <p:xfrm>
          <a:off x="3492360" y="4076640"/>
          <a:ext cx="39927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076640"/>
                    <a:ext cx="39927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5"/>
          <p:cNvGraphicFramePr/>
          <p:nvPr/>
        </p:nvGraphicFramePr>
        <p:xfrm>
          <a:off x="3635280" y="1773360"/>
          <a:ext cx="3394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73360"/>
                    <a:ext cx="3394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6"/>
          <p:cNvGraphicFramePr/>
          <p:nvPr/>
        </p:nvGraphicFramePr>
        <p:xfrm>
          <a:off x="3276720" y="4005360"/>
          <a:ext cx="422100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005360"/>
                    <a:ext cx="4221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5"/>
          <p:cNvGraphicFramePr/>
          <p:nvPr/>
        </p:nvGraphicFramePr>
        <p:xfrm>
          <a:off x="2627280" y="1773360"/>
          <a:ext cx="60850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73360"/>
                    <a:ext cx="6085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6"/>
          <p:cNvGraphicFramePr/>
          <p:nvPr/>
        </p:nvGraphicFramePr>
        <p:xfrm>
          <a:off x="2771640" y="3860640"/>
          <a:ext cx="424188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860640"/>
                    <a:ext cx="42418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5"/>
          <p:cNvGraphicFramePr/>
          <p:nvPr/>
        </p:nvGraphicFramePr>
        <p:xfrm>
          <a:off x="3203640" y="1844640"/>
          <a:ext cx="43210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44640"/>
                    <a:ext cx="4321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6"/>
          <p:cNvGraphicFramePr/>
          <p:nvPr/>
        </p:nvGraphicFramePr>
        <p:xfrm>
          <a:off x="3276720" y="3933720"/>
          <a:ext cx="4174920" cy="112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933720"/>
                    <a:ext cx="417492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5"/>
          <p:cNvGraphicFramePr/>
          <p:nvPr/>
        </p:nvGraphicFramePr>
        <p:xfrm>
          <a:off x="2268360" y="1773360"/>
          <a:ext cx="633600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63360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6"/>
          <p:cNvGraphicFramePr/>
          <p:nvPr/>
        </p:nvGraphicFramePr>
        <p:xfrm>
          <a:off x="2124000" y="3860640"/>
          <a:ext cx="666900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860640"/>
                    <a:ext cx="66690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5"/>
          <p:cNvGraphicFramePr/>
          <p:nvPr/>
        </p:nvGraphicFramePr>
        <p:xfrm>
          <a:off x="2700360" y="1700280"/>
          <a:ext cx="577044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0280"/>
                    <a:ext cx="5770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6"/>
          <p:cNvGraphicFramePr/>
          <p:nvPr/>
        </p:nvGraphicFramePr>
        <p:xfrm>
          <a:off x="2771640" y="3789360"/>
          <a:ext cx="5924520" cy="10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789360"/>
                    <a:ext cx="59245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397160"/>
          <a:ext cx="856908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8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5"/>
          <p:cNvGraphicFramePr/>
          <p:nvPr/>
        </p:nvGraphicFramePr>
        <p:xfrm>
          <a:off x="2195640" y="1916280"/>
          <a:ext cx="61563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6156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6"/>
          <p:cNvGraphicFramePr/>
          <p:nvPr/>
        </p:nvGraphicFramePr>
        <p:xfrm>
          <a:off x="2411280" y="3933720"/>
          <a:ext cx="5508720" cy="10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55087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1397160"/>
          <a:ext cx="8496000" cy="4063680"/>
        </p:xfrm>
        <a:graphic>
          <a:graphicData uri="http://schemas.openxmlformats.org/drawingml/2006/table">
            <a:tbl>
              <a:tblPr/>
              <a:tblGrid>
                <a:gridCol w="1800000"/>
                <a:gridCol w="6696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15"/>
          <p:cNvGraphicFramePr/>
          <p:nvPr/>
        </p:nvGraphicFramePr>
        <p:xfrm>
          <a:off x="2340000" y="1844640"/>
          <a:ext cx="6192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6192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6"/>
          <p:cNvGraphicFramePr/>
          <p:nvPr/>
        </p:nvGraphicFramePr>
        <p:xfrm>
          <a:off x="2340000" y="3789360"/>
          <a:ext cx="619272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789360"/>
                    <a:ext cx="6192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15"/>
          <p:cNvGraphicFramePr/>
          <p:nvPr/>
        </p:nvGraphicFramePr>
        <p:xfrm>
          <a:off x="2124000" y="1916280"/>
          <a:ext cx="5940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916280"/>
                    <a:ext cx="5940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6"/>
          <p:cNvGraphicFramePr/>
          <p:nvPr/>
        </p:nvGraphicFramePr>
        <p:xfrm>
          <a:off x="2050920" y="3860640"/>
          <a:ext cx="612144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860640"/>
                    <a:ext cx="6121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15"/>
          <p:cNvGraphicFramePr/>
          <p:nvPr/>
        </p:nvGraphicFramePr>
        <p:xfrm>
          <a:off x="2050920" y="1916280"/>
          <a:ext cx="61930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6193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6"/>
          <p:cNvGraphicFramePr/>
          <p:nvPr/>
        </p:nvGraphicFramePr>
        <p:xfrm>
          <a:off x="2195640" y="3716280"/>
          <a:ext cx="59752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716280"/>
                    <a:ext cx="5975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19280" y="27939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8"/>
          <p:cNvGraphicFramePr/>
          <p:nvPr/>
        </p:nvGraphicFramePr>
        <p:xfrm>
          <a:off x="3780000" y="3357720"/>
          <a:ext cx="3384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357720"/>
                    <a:ext cx="338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29"/>
          <p:cNvGraphicFramePr/>
          <p:nvPr/>
        </p:nvGraphicFramePr>
        <p:xfrm>
          <a:off x="3635280" y="5229360"/>
          <a:ext cx="352908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5229360"/>
                    <a:ext cx="3529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7636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17"/>
          <p:cNvGraphicFramePr/>
          <p:nvPr/>
        </p:nvGraphicFramePr>
        <p:xfrm>
          <a:off x="3708360" y="2852640"/>
          <a:ext cx="3394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3394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9"/>
          <p:cNvGraphicFramePr/>
          <p:nvPr/>
        </p:nvGraphicFramePr>
        <p:xfrm>
          <a:off x="3348000" y="4653000"/>
          <a:ext cx="394956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653000"/>
                    <a:ext cx="39495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3276720" y="3068640"/>
          <a:ext cx="4032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68640"/>
                    <a:ext cx="403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3276720" y="5084640"/>
          <a:ext cx="424152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42415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19280" y="249228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ZoneTexte 16"/>
          <p:cNvSpPr/>
          <p:nvPr/>
        </p:nvSpPr>
        <p:spPr>
          <a:xfrm>
            <a:off x="1505520" y="1700280"/>
            <a:ext cx="62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duire l’expression suiv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5"/>
          <p:cNvGraphicFramePr/>
          <p:nvPr/>
        </p:nvGraphicFramePr>
        <p:xfrm>
          <a:off x="3348000" y="2852640"/>
          <a:ext cx="41832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852640"/>
                    <a:ext cx="41832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6"/>
          <p:cNvGraphicFramePr/>
          <p:nvPr/>
        </p:nvGraphicFramePr>
        <p:xfrm>
          <a:off x="3348000" y="4869000"/>
          <a:ext cx="429408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869000"/>
                    <a:ext cx="42940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924360" y="3068640"/>
          <a:ext cx="28796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068640"/>
                    <a:ext cx="2879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4140360" y="5013360"/>
          <a:ext cx="266364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013360"/>
                    <a:ext cx="266364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47640" y="256536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17"/>
          <p:cNvGraphicFramePr/>
          <p:nvPr/>
        </p:nvGraphicFramePr>
        <p:xfrm>
          <a:off x="3492360" y="2852640"/>
          <a:ext cx="3672000" cy="14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852640"/>
                    <a:ext cx="36720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8"/>
          <p:cNvGraphicFramePr/>
          <p:nvPr/>
        </p:nvGraphicFramePr>
        <p:xfrm>
          <a:off x="3348000" y="4869000"/>
          <a:ext cx="367200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869000"/>
                    <a:ext cx="36720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47640" y="2492280"/>
          <a:ext cx="6096240" cy="4064040"/>
        </p:xfrm>
        <a:graphic>
          <a:graphicData uri="http://schemas.openxmlformats.org/drawingml/2006/table">
            <a:tbl>
              <a:tblPr/>
              <a:tblGrid>
                <a:gridCol w="160848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6"/>
          <p:cNvSpPr/>
          <p:nvPr/>
        </p:nvSpPr>
        <p:spPr>
          <a:xfrm>
            <a:off x="1005120" y="1557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velopper l’expression suivan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3851280" y="2997360"/>
          <a:ext cx="273672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2736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3924360" y="5013360"/>
          <a:ext cx="2592360" cy="103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5013360"/>
                    <a:ext cx="25923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1T18:49:58Z</dcterms:modified>
  <cp:revision>17</cp:revision>
  <dc:subject/>
  <dc:title>Diapositive 1</dc:title>
</cp:coreProperties>
</file>