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5BA3-A69C-4365-B567-D20AB82916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4C1F-597D-42D0-8F1B-566FBC0A05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C15C-1C45-4E5E-9D5A-B8F74E9C41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C6D3-7F8E-49ED-BECE-DE8E9C3E63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42DA-B099-4D82-8A00-E93B6AE9AA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84F8-157B-485B-87B9-B570605F55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F82E-8622-4885-AA09-63C813A965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413C-6B16-47F0-B4BF-8EC8C31DD7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4A6D-7806-4C09-BBF5-91DA8B2254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9D2F-25F4-483A-BDED-B1B0102530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1D7A-7FE1-4FB9-A677-30ADF728E6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F0F3-431B-4E55-BE64-8F34FC825F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A790-072D-4D20-9B72-A9EAEFE0FB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C25D-BDC2-4091-8A12-1EBFF3D38E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1E17-ADB7-48DB-B08C-2F89A8A783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822C-70F2-47EB-9D58-5977FF0684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1547-BE39-4992-A134-A421F003FA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38E3-A968-44AA-8225-19268DE672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BF57-A301-4D85-99BB-813B256C09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43BF-D127-49C1-A285-CF26DD3EDD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3952-930D-4AD5-A515-BDA198A57C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4FFD-AFD3-42BE-ADD6-CF7C13188C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B00B-985A-4B24-A18E-E98AC44728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5D77-B4F3-4ADB-B79E-0CCB30D370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A1FF-0F87-455B-A1BD-F3325C01DD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288A-63F8-413D-B356-61E7FCA563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D6F-A3C6-454D-8FBD-92B59EAC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823-8F2F-45DB-9B75-81247930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71B7-E7CA-4BD8-82D7-6D0F49FC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AB6-A7F6-4C9A-B72F-2A4CFD2C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473-9C59-4EFB-AF87-6938D2F0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675D-F311-4BF5-8D88-544ADE7C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E40-40AF-4778-9AD3-67FB2A07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313D-3C92-4EED-B471-D995AC55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A0C-250B-4EE1-ABA1-CEF9F0A9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6BE-212C-487F-8103-654ABD51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C68-8D8E-41E6-A232-7AA4CCD5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D14-94EA-403C-A9F2-76B92234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3452-94BA-4B3E-9C64-C554C3CC5B1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1120" y="1484280"/>
            <a:ext cx="814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4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4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2"/>
          <p:cNvGraphicFramePr/>
          <p:nvPr/>
        </p:nvGraphicFramePr>
        <p:xfrm>
          <a:off x="1336680" y="1341360"/>
          <a:ext cx="675324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1341360"/>
                    <a:ext cx="67532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2"/>
          <p:cNvGraphicFramePr/>
          <p:nvPr/>
        </p:nvGraphicFramePr>
        <p:xfrm>
          <a:off x="1104840" y="1341360"/>
          <a:ext cx="72169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341360"/>
                    <a:ext cx="72169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9"/>
          <p:cNvSpPr/>
          <p:nvPr/>
        </p:nvSpPr>
        <p:spPr>
          <a:xfrm>
            <a:off x="364896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1295280" y="1341360"/>
          <a:ext cx="68374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41360"/>
                    <a:ext cx="68374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1547640" y="1341360"/>
          <a:ext cx="63309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41360"/>
                    <a:ext cx="63309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3"/>
          <p:cNvGraphicFramePr/>
          <p:nvPr/>
        </p:nvGraphicFramePr>
        <p:xfrm>
          <a:off x="3492360" y="2852640"/>
          <a:ext cx="380232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852640"/>
                    <a:ext cx="38023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3632040" y="5084640"/>
          <a:ext cx="3664080" cy="100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2040" y="5084640"/>
                    <a:ext cx="366408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2565360"/>
          <a:ext cx="8569080" cy="4064040"/>
        </p:xfrm>
        <a:graphic>
          <a:graphicData uri="http://schemas.openxmlformats.org/drawingml/2006/table">
            <a:tbl>
              <a:tblPr/>
              <a:tblGrid>
                <a:gridCol w="2260440"/>
                <a:gridCol w="630864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2"/>
          <p:cNvGraphicFramePr/>
          <p:nvPr/>
        </p:nvGraphicFramePr>
        <p:xfrm>
          <a:off x="1359000" y="1341360"/>
          <a:ext cx="671040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1341360"/>
                    <a:ext cx="67104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3"/>
          <p:cNvGraphicFramePr/>
          <p:nvPr/>
        </p:nvGraphicFramePr>
        <p:xfrm>
          <a:off x="2987640" y="3141720"/>
          <a:ext cx="572472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141720"/>
                    <a:ext cx="57247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4"/>
          <p:cNvGraphicFramePr/>
          <p:nvPr/>
        </p:nvGraphicFramePr>
        <p:xfrm>
          <a:off x="2700360" y="5157720"/>
          <a:ext cx="601200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5157720"/>
                    <a:ext cx="60120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2565360"/>
          <a:ext cx="8642160" cy="4064040"/>
        </p:xfrm>
        <a:graphic>
          <a:graphicData uri="http://schemas.openxmlformats.org/drawingml/2006/table">
            <a:tbl>
              <a:tblPr/>
              <a:tblGrid>
                <a:gridCol w="1657080"/>
                <a:gridCol w="698508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2"/>
          <p:cNvGraphicFramePr/>
          <p:nvPr/>
        </p:nvGraphicFramePr>
        <p:xfrm>
          <a:off x="1104840" y="1341360"/>
          <a:ext cx="72169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341360"/>
                    <a:ext cx="72169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2771640" y="3141720"/>
          <a:ext cx="5826240" cy="71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3141720"/>
                    <a:ext cx="58262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4"/>
          <p:cNvGraphicFramePr/>
          <p:nvPr/>
        </p:nvGraphicFramePr>
        <p:xfrm>
          <a:off x="2124000" y="5229360"/>
          <a:ext cx="6873840" cy="71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5229360"/>
                    <a:ext cx="68738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10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2565360"/>
          <a:ext cx="8713800" cy="4064040"/>
        </p:xfrm>
        <a:graphic>
          <a:graphicData uri="http://schemas.openxmlformats.org/drawingml/2006/table">
            <a:tbl>
              <a:tblPr/>
              <a:tblGrid>
                <a:gridCol w="1657080"/>
                <a:gridCol w="705672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473040" y="1341360"/>
          <a:ext cx="84819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341360"/>
                    <a:ext cx="84819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3"/>
          <p:cNvGraphicFramePr/>
          <p:nvPr/>
        </p:nvGraphicFramePr>
        <p:xfrm>
          <a:off x="1979640" y="3284640"/>
          <a:ext cx="669600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284640"/>
                    <a:ext cx="66960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4"/>
          <p:cNvGraphicFramePr/>
          <p:nvPr/>
        </p:nvGraphicFramePr>
        <p:xfrm>
          <a:off x="2127240" y="5173560"/>
          <a:ext cx="640080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7240" y="5173560"/>
                    <a:ext cx="64008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10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1527120" y="1341360"/>
          <a:ext cx="63723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341360"/>
                    <a:ext cx="6372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3276720" y="2924280"/>
          <a:ext cx="4122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924280"/>
                    <a:ext cx="4122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4"/>
          <p:cNvGraphicFramePr/>
          <p:nvPr/>
        </p:nvGraphicFramePr>
        <p:xfrm>
          <a:off x="3127320" y="5013360"/>
          <a:ext cx="456408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7320" y="5013360"/>
                    <a:ext cx="45640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231920" y="1341360"/>
          <a:ext cx="69627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1341360"/>
                    <a:ext cx="69627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3"/>
          <p:cNvGraphicFramePr/>
          <p:nvPr/>
        </p:nvGraphicFramePr>
        <p:xfrm>
          <a:off x="3132000" y="2852640"/>
          <a:ext cx="439920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852640"/>
                    <a:ext cx="4399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3132000" y="5013360"/>
          <a:ext cx="43992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5013360"/>
                    <a:ext cx="4399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10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2"/>
          <p:cNvGraphicFramePr/>
          <p:nvPr/>
        </p:nvGraphicFramePr>
        <p:xfrm>
          <a:off x="1252440" y="1341360"/>
          <a:ext cx="69217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1341360"/>
                    <a:ext cx="6921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3"/>
          <p:cNvGraphicFramePr/>
          <p:nvPr/>
        </p:nvGraphicFramePr>
        <p:xfrm>
          <a:off x="3203640" y="3068640"/>
          <a:ext cx="4281480" cy="8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068640"/>
                    <a:ext cx="428148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4"/>
          <p:cNvGraphicFramePr/>
          <p:nvPr/>
        </p:nvGraphicFramePr>
        <p:xfrm>
          <a:off x="3222720" y="5084640"/>
          <a:ext cx="4243320" cy="86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2720" y="5084640"/>
                    <a:ext cx="424332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2565360"/>
          <a:ext cx="8713800" cy="4064040"/>
        </p:xfrm>
        <a:graphic>
          <a:graphicData uri="http://schemas.openxmlformats.org/drawingml/2006/table">
            <a:tbl>
              <a:tblPr/>
              <a:tblGrid>
                <a:gridCol w="1656000"/>
                <a:gridCol w="705780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2"/>
          <p:cNvGraphicFramePr/>
          <p:nvPr/>
        </p:nvGraphicFramePr>
        <p:xfrm>
          <a:off x="1336680" y="1341360"/>
          <a:ext cx="675324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1341360"/>
                    <a:ext cx="67532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3"/>
          <p:cNvGraphicFramePr/>
          <p:nvPr/>
        </p:nvGraphicFramePr>
        <p:xfrm>
          <a:off x="2050920" y="3213000"/>
          <a:ext cx="6481800" cy="7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213000"/>
                    <a:ext cx="64818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4"/>
          <p:cNvGraphicFramePr/>
          <p:nvPr/>
        </p:nvGraphicFramePr>
        <p:xfrm>
          <a:off x="2033640" y="5157720"/>
          <a:ext cx="651816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33640" y="5157720"/>
                    <a:ext cx="6518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10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9280" y="2565360"/>
          <a:ext cx="8785440" cy="4064040"/>
        </p:xfrm>
        <a:graphic>
          <a:graphicData uri="http://schemas.openxmlformats.org/drawingml/2006/table">
            <a:tbl>
              <a:tblPr/>
              <a:tblGrid>
                <a:gridCol w="1728720"/>
                <a:gridCol w="705672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1104840" y="1341360"/>
          <a:ext cx="72169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341360"/>
                    <a:ext cx="72169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3"/>
          <p:cNvGraphicFramePr/>
          <p:nvPr/>
        </p:nvGraphicFramePr>
        <p:xfrm>
          <a:off x="2050920" y="2637000"/>
          <a:ext cx="5907240" cy="18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2637000"/>
                    <a:ext cx="59072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4"/>
          <p:cNvGraphicFramePr/>
          <p:nvPr/>
        </p:nvGraphicFramePr>
        <p:xfrm>
          <a:off x="2163600" y="4724280"/>
          <a:ext cx="5972400" cy="18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3600" y="4724280"/>
                    <a:ext cx="59724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10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9"/>
          <p:cNvSpPr/>
          <p:nvPr/>
        </p:nvSpPr>
        <p:spPr>
          <a:xfrm>
            <a:off x="364896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50920" y="2565360"/>
          <a:ext cx="8713800" cy="4064040"/>
        </p:xfrm>
        <a:graphic>
          <a:graphicData uri="http://schemas.openxmlformats.org/drawingml/2006/table">
            <a:tbl>
              <a:tblPr/>
              <a:tblGrid>
                <a:gridCol w="1657080"/>
                <a:gridCol w="705672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1295280" y="1341360"/>
          <a:ext cx="68374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41360"/>
                    <a:ext cx="68374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"/>
          <p:cNvGraphicFramePr/>
          <p:nvPr/>
        </p:nvGraphicFramePr>
        <p:xfrm>
          <a:off x="2268360" y="3141720"/>
          <a:ext cx="61912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141720"/>
                    <a:ext cx="61912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4"/>
          <p:cNvGraphicFramePr/>
          <p:nvPr/>
        </p:nvGraphicFramePr>
        <p:xfrm>
          <a:off x="2016000" y="5157720"/>
          <a:ext cx="655164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16000" y="5157720"/>
                    <a:ext cx="65516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10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1547640" y="1341360"/>
          <a:ext cx="63309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41360"/>
                    <a:ext cx="63309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1359000" y="1341360"/>
          <a:ext cx="671040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1341360"/>
                    <a:ext cx="67104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1104840" y="1341360"/>
          <a:ext cx="72169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341360"/>
                    <a:ext cx="72169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473040" y="1341360"/>
          <a:ext cx="84819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341360"/>
                    <a:ext cx="84819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2"/>
          <p:cNvGraphicFramePr/>
          <p:nvPr/>
        </p:nvGraphicFramePr>
        <p:xfrm>
          <a:off x="1527120" y="1341360"/>
          <a:ext cx="63723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341360"/>
                    <a:ext cx="6372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2"/>
          <p:cNvGraphicFramePr/>
          <p:nvPr/>
        </p:nvGraphicFramePr>
        <p:xfrm>
          <a:off x="1231920" y="1341360"/>
          <a:ext cx="69627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1341360"/>
                    <a:ext cx="69627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9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476360" y="2565360"/>
          <a:ext cx="6095880" cy="4064040"/>
        </p:xfrm>
        <a:graphic>
          <a:graphicData uri="http://schemas.openxmlformats.org/drawingml/2006/table">
            <a:tbl>
              <a:tblPr/>
              <a:tblGrid>
                <a:gridCol w="1608120"/>
                <a:gridCol w="4487760"/>
              </a:tblGrid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er C pour </a:t>
                      </a:r>
                      <a:r>
                        <a:rPr b="0" i="1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fr-FR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1252440" y="1341360"/>
          <a:ext cx="69217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1341360"/>
                    <a:ext cx="6921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3-31T18:15:31Z</dcterms:modified>
  <cp:revision>16</cp:revision>
  <dc:subject/>
  <dc:title>Diapositive 1</dc:title>
</cp:coreProperties>
</file>