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9.gif" ContentType="image/gif"/>
  <Override PartName="/ppt/media/image13.gif" ContentType="image/gif"/>
  <Override PartName="/ppt/media/image16.jpeg" ContentType="image/jpeg"/>
  <Override PartName="/ppt/media/image8.gif" ContentType="image/gif"/>
  <Override PartName="/ppt/media/image19.wmf" ContentType="image/x-wmf"/>
  <Override PartName="/ppt/media/image7.gif" ContentType="image/gif"/>
  <Override PartName="/ppt/media/image20.wmf" ContentType="image/x-wmf"/>
  <Override PartName="/ppt/media/image18.gif" ContentType="image/gif"/>
  <Override PartName="/ppt/media/image3.wmf" ContentType="image/x-wmf"/>
  <Override PartName="/ppt/media/image17.gif" ContentType="image/gif"/>
  <Override PartName="/ppt/media/image15.gif" ContentType="image/gif"/>
  <Override PartName="/ppt/media/image1.png" ContentType="image/png"/>
  <Override PartName="/ppt/media/image21.gif" ContentType="image/gif"/>
  <Override PartName="/ppt/media/image4.gif" ContentType="image/gif"/>
  <Override PartName="/ppt/media/image11.jpeg" ContentType="image/jpeg"/>
  <Override PartName="/ppt/media/image2.png" ContentType="image/png"/>
  <Override PartName="/ppt/media/image14.jpeg" ContentType="image/jpeg"/>
  <Override PartName="/ppt/media/image5.gif" ContentType="image/gif"/>
  <Override PartName="/ppt/media/image6.gif" ContentType="image/gif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18960" y="226800"/>
            <a:ext cx="7770600" cy="13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777060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218960" y="3947760"/>
            <a:ext cx="777060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18960" y="226800"/>
            <a:ext cx="7770600" cy="13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37918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00920" y="1600200"/>
            <a:ext cx="37918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18960" y="3947760"/>
            <a:ext cx="37918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200920" y="3947760"/>
            <a:ext cx="37918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18960" y="226800"/>
            <a:ext cx="7770600" cy="13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250200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846600" y="1600200"/>
            <a:ext cx="250200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473880" y="1600200"/>
            <a:ext cx="250200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218960" y="3947760"/>
            <a:ext cx="250200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846600" y="3947760"/>
            <a:ext cx="250200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473880" y="3947760"/>
            <a:ext cx="250200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18960" y="226800"/>
            <a:ext cx="7770600" cy="13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218960" y="1600200"/>
            <a:ext cx="7770600" cy="44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18960" y="226800"/>
            <a:ext cx="7770600" cy="13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777060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18960" y="226800"/>
            <a:ext cx="7770600" cy="13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37918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200920" y="1600200"/>
            <a:ext cx="37918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8960" y="226800"/>
            <a:ext cx="7770600" cy="13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218960" y="226800"/>
            <a:ext cx="7770600" cy="63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18960" y="226800"/>
            <a:ext cx="7770600" cy="13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37918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200920" y="1600200"/>
            <a:ext cx="37918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218960" y="3947760"/>
            <a:ext cx="37918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18960" y="226800"/>
            <a:ext cx="7770600" cy="13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218960" y="1600200"/>
            <a:ext cx="7770600" cy="44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18960" y="226800"/>
            <a:ext cx="7770600" cy="13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37918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200920" y="1600200"/>
            <a:ext cx="37918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200920" y="3947760"/>
            <a:ext cx="37918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18960" y="226800"/>
            <a:ext cx="7770600" cy="13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37918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00920" y="1600200"/>
            <a:ext cx="37918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218960" y="3947760"/>
            <a:ext cx="777060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18960" y="226800"/>
            <a:ext cx="7770600" cy="13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777060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218960" y="3947760"/>
            <a:ext cx="777060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8960" y="226800"/>
            <a:ext cx="7770600" cy="13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37918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200920" y="1600200"/>
            <a:ext cx="37918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218960" y="3947760"/>
            <a:ext cx="37918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200920" y="3947760"/>
            <a:ext cx="37918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18960" y="226800"/>
            <a:ext cx="7770600" cy="13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250200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846600" y="1600200"/>
            <a:ext cx="250200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473880" y="1600200"/>
            <a:ext cx="250200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218960" y="3947760"/>
            <a:ext cx="250200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846600" y="3947760"/>
            <a:ext cx="250200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473880" y="3947760"/>
            <a:ext cx="250200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18960" y="226800"/>
            <a:ext cx="7770600" cy="13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777060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18960" y="226800"/>
            <a:ext cx="7770600" cy="13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37918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200920" y="1600200"/>
            <a:ext cx="37918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18960" y="226800"/>
            <a:ext cx="7770600" cy="13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218960" y="226800"/>
            <a:ext cx="7770600" cy="63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18960" y="226800"/>
            <a:ext cx="7770600" cy="13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37918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200920" y="1600200"/>
            <a:ext cx="37918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218960" y="3947760"/>
            <a:ext cx="37918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18960" y="226800"/>
            <a:ext cx="7770600" cy="13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37918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00920" y="1600200"/>
            <a:ext cx="37918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200920" y="3947760"/>
            <a:ext cx="37918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18960" y="226800"/>
            <a:ext cx="7770600" cy="13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37918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00920" y="1600200"/>
            <a:ext cx="379188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218960" y="3947760"/>
            <a:ext cx="777060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143000" cy="533520"/>
            </a:xfrm>
            <a:prstGeom prst="roundRect">
              <a:avLst>
                <a:gd name="adj" fmla="val 296"/>
              </a:avLst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200400"/>
              <a:ext cx="1143000" cy="3656160"/>
            </a:xfrm>
            <a:custGeom>
              <a:avLst/>
              <a:gdLst>
                <a:gd name="textAreaLeft" fmla="*/ 360 w 1143000"/>
                <a:gd name="textAreaRight" fmla="*/ 1142640 w 1143000"/>
                <a:gd name="textAreaTop" fmla="*/ 360 h 3656160"/>
                <a:gd name="textAreaBottom" fmla="*/ 3655800 h 3656160"/>
              </a:gdLst>
              <a:ahLst/>
              <a:rect l="textAreaLeft" t="textAreaTop" r="textAreaRight" b="textAreaBottom"/>
              <a:pathLst>
                <a:path w="21600" h="69078">
                  <a:moveTo>
                    <a:pt x="30" y="0"/>
                  </a:moveTo>
                  <a:arcTo wR="30" hR="30" stAng="16200000" swAng="-5400000"/>
                  <a:lnTo>
                    <a:pt x="0" y="69048"/>
                  </a:lnTo>
                  <a:arcTo wR="30" hR="30" stAng="10800000" swAng="-5400000"/>
                  <a:lnTo>
                    <a:pt x="21570" y="69078"/>
                  </a:lnTo>
                  <a:arcTo wR="30" hR="30" stAng="5400000" swAng="-5400000"/>
                  <a:lnTo>
                    <a:pt x="21600" y="30"/>
                  </a:lnTo>
                  <a:arcTo wR="30" hR="30" stAng="0" swAng="-5400000"/>
                  <a:close/>
                </a:path>
              </a:pathLst>
            </a:cu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"/>
          <p:cNvSpPr/>
          <p:nvPr/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18960" y="226800"/>
            <a:ext cx="7770600" cy="13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218960" y="1600200"/>
            <a:ext cx="777060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1240" indent="-28404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5" name=""/>
            <p:cNvSpPr/>
            <p:nvPr/>
          </p:nvSpPr>
          <p:spPr>
            <a:xfrm>
              <a:off x="0" y="0"/>
              <a:ext cx="1828800" cy="1628640"/>
            </a:xfrm>
            <a:prstGeom prst="roundRect">
              <a:avLst>
                <a:gd name="adj" fmla="val 97"/>
              </a:avLst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3809880"/>
              <a:ext cx="1828800" cy="3046680"/>
            </a:xfrm>
            <a:custGeom>
              <a:avLst/>
              <a:gdLst>
                <a:gd name="textAreaLeft" fmla="*/ 360 w 1828800"/>
                <a:gd name="textAreaRight" fmla="*/ 1828440 w 1828800"/>
                <a:gd name="textAreaTop" fmla="*/ 360 h 3046680"/>
                <a:gd name="textAreaBottom" fmla="*/ 3046320 h 3046680"/>
              </a:gdLst>
              <a:ahLst/>
              <a:rect l="textAreaLeft" t="textAreaTop" r="textAreaRight" b="textAreaBottom"/>
              <a:pathLst>
                <a:path w="21600" h="35982">
                  <a:moveTo>
                    <a:pt x="18" y="0"/>
                  </a:moveTo>
                  <a:arcTo wR="18" hR="18" stAng="16200000" swAng="-5400000"/>
                  <a:lnTo>
                    <a:pt x="0" y="35964"/>
                  </a:lnTo>
                  <a:arcTo wR="18" hR="18" stAng="10800000" swAng="-5400000"/>
                  <a:lnTo>
                    <a:pt x="21582" y="35982"/>
                  </a:lnTo>
                  <a:arcTo wR="18" hR="18" stAng="5400000" swAng="-5400000"/>
                  <a:lnTo>
                    <a:pt x="21600" y="18"/>
                  </a:lnTo>
                  <a:arcTo wR="18" hR="18" stAng="0" swAng="-5400000"/>
                  <a:close/>
                </a:path>
              </a:pathLst>
            </a:cu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7" name="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"/>
          <p:cNvSpPr/>
          <p:nvPr/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04760" y="1676160"/>
            <a:ext cx="6932520" cy="21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2895480" y="3733920"/>
            <a:ext cx="3276720" cy="23940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447920" y="1143000"/>
            <a:ext cx="7238880" cy="1447920"/>
            <a:chOff x="1447920" y="1143000"/>
            <a:chExt cx="7238880" cy="1447920"/>
          </a:xfrm>
        </p:grpSpPr>
        <p:sp>
          <p:nvSpPr>
            <p:cNvPr id="89" name=""/>
            <p:cNvSpPr/>
            <p:nvPr/>
          </p:nvSpPr>
          <p:spPr>
            <a:xfrm>
              <a:off x="1447920" y="1233360"/>
              <a:ext cx="287280" cy="1073160"/>
            </a:xfrm>
            <a:custGeom>
              <a:avLst/>
              <a:gdLst/>
              <a:ahLst/>
              <a:rect l="l" t="t" r="r" b="b"/>
              <a:pathLst>
                <a:path w="797" h="2979">
                  <a:moveTo>
                    <a:pt x="0" y="2978"/>
                  </a:moveTo>
                  <a:lnTo>
                    <a:pt x="0" y="0"/>
                  </a:lnTo>
                  <a:lnTo>
                    <a:pt x="192" y="0"/>
                  </a:lnTo>
                  <a:lnTo>
                    <a:pt x="192" y="2658"/>
                  </a:lnTo>
                  <a:lnTo>
                    <a:pt x="796" y="2658"/>
                  </a:lnTo>
                  <a:lnTo>
                    <a:pt x="796" y="2978"/>
                  </a:lnTo>
                  <a:lnTo>
                    <a:pt x="0" y="2978"/>
                  </a:lnTo>
                </a:path>
              </a:pathLst>
            </a:custGeom>
            <a:gradFill rotWithShape="0">
              <a:gsLst>
                <a:gs pos="0">
                  <a:srgbClr val="9400ed"/>
                </a:gs>
                <a:gs pos="100000">
                  <a:srgbClr val="0000ff"/>
                </a:gs>
              </a:gsLst>
              <a:lin ang="10800000"/>
            </a:gradFill>
            <a:ln w="12600">
              <a:solidFill>
                <a:srgbClr val="eaeaea"/>
              </a:solidFill>
              <a:round/>
            </a:ln>
            <a:effectLst>
              <a:outerShdw dist="17819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779480" y="1501920"/>
              <a:ext cx="290520" cy="820440"/>
            </a:xfrm>
            <a:custGeom>
              <a:avLst/>
              <a:gdLst/>
              <a:ahLst/>
              <a:rect l="l" t="t" r="r" b="b"/>
              <a:pathLst>
                <a:path w="805" h="2282">
                  <a:moveTo>
                    <a:pt x="191" y="902"/>
                  </a:moveTo>
                  <a:lnTo>
                    <a:pt x="626" y="902"/>
                  </a:lnTo>
                  <a:lnTo>
                    <a:pt x="613" y="635"/>
                  </a:lnTo>
                  <a:lnTo>
                    <a:pt x="573" y="446"/>
                  </a:lnTo>
                  <a:lnTo>
                    <a:pt x="509" y="331"/>
                  </a:lnTo>
                  <a:lnTo>
                    <a:pt x="421" y="294"/>
                  </a:lnTo>
                  <a:lnTo>
                    <a:pt x="329" y="331"/>
                  </a:lnTo>
                  <a:lnTo>
                    <a:pt x="259" y="446"/>
                  </a:lnTo>
                  <a:lnTo>
                    <a:pt x="213" y="635"/>
                  </a:lnTo>
                  <a:lnTo>
                    <a:pt x="191" y="902"/>
                  </a:lnTo>
                  <a:close/>
                  <a:moveTo>
                    <a:pt x="800" y="2161"/>
                  </a:moveTo>
                  <a:lnTo>
                    <a:pt x="711" y="2208"/>
                  </a:lnTo>
                  <a:lnTo>
                    <a:pt x="632" y="2250"/>
                  </a:lnTo>
                  <a:lnTo>
                    <a:pt x="558" y="2266"/>
                  </a:lnTo>
                  <a:lnTo>
                    <a:pt x="492" y="2281"/>
                  </a:lnTo>
                  <a:lnTo>
                    <a:pt x="387" y="2255"/>
                  </a:lnTo>
                  <a:lnTo>
                    <a:pt x="294" y="2197"/>
                  </a:lnTo>
                  <a:lnTo>
                    <a:pt x="211" y="2098"/>
                  </a:lnTo>
                  <a:lnTo>
                    <a:pt x="138" y="1962"/>
                  </a:lnTo>
                  <a:lnTo>
                    <a:pt x="76" y="1783"/>
                  </a:lnTo>
                  <a:lnTo>
                    <a:pt x="32" y="1589"/>
                  </a:lnTo>
                  <a:lnTo>
                    <a:pt x="6" y="1369"/>
                  </a:lnTo>
                  <a:lnTo>
                    <a:pt x="0" y="1128"/>
                  </a:lnTo>
                  <a:lnTo>
                    <a:pt x="6" y="892"/>
                  </a:lnTo>
                  <a:lnTo>
                    <a:pt x="28" y="677"/>
                  </a:lnTo>
                  <a:lnTo>
                    <a:pt x="66" y="483"/>
                  </a:lnTo>
                  <a:lnTo>
                    <a:pt x="121" y="315"/>
                  </a:lnTo>
                  <a:lnTo>
                    <a:pt x="185" y="173"/>
                  </a:lnTo>
                  <a:lnTo>
                    <a:pt x="259" y="79"/>
                  </a:lnTo>
                  <a:lnTo>
                    <a:pt x="340" y="16"/>
                  </a:lnTo>
                  <a:lnTo>
                    <a:pt x="430" y="0"/>
                  </a:lnTo>
                  <a:lnTo>
                    <a:pt x="513" y="16"/>
                  </a:lnTo>
                  <a:lnTo>
                    <a:pt x="589" y="68"/>
                  </a:lnTo>
                  <a:lnTo>
                    <a:pt x="653" y="152"/>
                  </a:lnTo>
                  <a:lnTo>
                    <a:pt x="707" y="283"/>
                  </a:lnTo>
                  <a:lnTo>
                    <a:pt x="749" y="436"/>
                  </a:lnTo>
                  <a:lnTo>
                    <a:pt x="777" y="624"/>
                  </a:lnTo>
                  <a:lnTo>
                    <a:pt x="798" y="829"/>
                  </a:lnTo>
                  <a:lnTo>
                    <a:pt x="804" y="1081"/>
                  </a:lnTo>
                  <a:lnTo>
                    <a:pt x="804" y="1201"/>
                  </a:lnTo>
                  <a:lnTo>
                    <a:pt x="182" y="1201"/>
                  </a:lnTo>
                  <a:lnTo>
                    <a:pt x="217" y="1542"/>
                  </a:lnTo>
                  <a:lnTo>
                    <a:pt x="287" y="1783"/>
                  </a:lnTo>
                  <a:lnTo>
                    <a:pt x="389" y="1930"/>
                  </a:lnTo>
                  <a:lnTo>
                    <a:pt x="525" y="1982"/>
                  </a:lnTo>
                  <a:lnTo>
                    <a:pt x="583" y="1977"/>
                  </a:lnTo>
                  <a:lnTo>
                    <a:pt x="649" y="1946"/>
                  </a:lnTo>
                  <a:lnTo>
                    <a:pt x="721" y="1904"/>
                  </a:lnTo>
                  <a:lnTo>
                    <a:pt x="800" y="1846"/>
                  </a:lnTo>
                  <a:lnTo>
                    <a:pt x="800" y="2161"/>
                  </a:lnTo>
                  <a:close/>
                </a:path>
              </a:pathLst>
            </a:custGeom>
            <a:gradFill rotWithShape="0">
              <a:gsLst>
                <a:gs pos="0">
                  <a:srgbClr val="9400ed"/>
                </a:gs>
                <a:gs pos="100000">
                  <a:srgbClr val="0000ff"/>
                </a:gs>
              </a:gsLst>
              <a:lin ang="10800000"/>
            </a:gradFill>
            <a:ln w="12600">
              <a:solidFill>
                <a:srgbClr val="eaeaea"/>
              </a:solidFill>
              <a:round/>
            </a:ln>
            <a:effectLst>
              <a:outerShdw dist="17819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168640" y="1501920"/>
              <a:ext cx="239760" cy="820440"/>
            </a:xfrm>
            <a:custGeom>
              <a:avLst/>
              <a:gdLst/>
              <a:ahLst/>
              <a:rect l="l" t="t" r="r" b="b"/>
              <a:pathLst>
                <a:path w="665" h="2282">
                  <a:moveTo>
                    <a:pt x="0" y="2156"/>
                  </a:moveTo>
                  <a:lnTo>
                    <a:pt x="0" y="1788"/>
                  </a:lnTo>
                  <a:lnTo>
                    <a:pt x="83" y="1872"/>
                  </a:lnTo>
                  <a:lnTo>
                    <a:pt x="162" y="1935"/>
                  </a:lnTo>
                  <a:lnTo>
                    <a:pt x="238" y="1972"/>
                  </a:lnTo>
                  <a:lnTo>
                    <a:pt x="306" y="1982"/>
                  </a:lnTo>
                  <a:lnTo>
                    <a:pt x="343" y="1977"/>
                  </a:lnTo>
                  <a:lnTo>
                    <a:pt x="376" y="1962"/>
                  </a:lnTo>
                  <a:lnTo>
                    <a:pt x="407" y="1930"/>
                  </a:lnTo>
                  <a:lnTo>
                    <a:pt x="435" y="1893"/>
                  </a:lnTo>
                  <a:lnTo>
                    <a:pt x="455" y="1841"/>
                  </a:lnTo>
                  <a:lnTo>
                    <a:pt x="473" y="1783"/>
                  </a:lnTo>
                  <a:lnTo>
                    <a:pt x="481" y="1720"/>
                  </a:lnTo>
                  <a:lnTo>
                    <a:pt x="486" y="1657"/>
                  </a:lnTo>
                  <a:lnTo>
                    <a:pt x="475" y="1563"/>
                  </a:lnTo>
                  <a:lnTo>
                    <a:pt x="449" y="1474"/>
                  </a:lnTo>
                  <a:lnTo>
                    <a:pt x="405" y="1395"/>
                  </a:lnTo>
                  <a:lnTo>
                    <a:pt x="343" y="1322"/>
                  </a:lnTo>
                  <a:lnTo>
                    <a:pt x="238" y="1227"/>
                  </a:lnTo>
                  <a:lnTo>
                    <a:pt x="134" y="1102"/>
                  </a:lnTo>
                  <a:lnTo>
                    <a:pt x="62" y="965"/>
                  </a:lnTo>
                  <a:lnTo>
                    <a:pt x="17" y="797"/>
                  </a:lnTo>
                  <a:lnTo>
                    <a:pt x="4" y="614"/>
                  </a:lnTo>
                  <a:lnTo>
                    <a:pt x="9" y="478"/>
                  </a:lnTo>
                  <a:lnTo>
                    <a:pt x="26" y="357"/>
                  </a:lnTo>
                  <a:lnTo>
                    <a:pt x="55" y="247"/>
                  </a:lnTo>
                  <a:lnTo>
                    <a:pt x="96" y="158"/>
                  </a:lnTo>
                  <a:lnTo>
                    <a:pt x="145" y="84"/>
                  </a:lnTo>
                  <a:lnTo>
                    <a:pt x="202" y="37"/>
                  </a:lnTo>
                  <a:lnTo>
                    <a:pt x="270" y="11"/>
                  </a:lnTo>
                  <a:lnTo>
                    <a:pt x="347" y="0"/>
                  </a:lnTo>
                  <a:lnTo>
                    <a:pt x="389" y="0"/>
                  </a:lnTo>
                  <a:lnTo>
                    <a:pt x="440" y="11"/>
                  </a:lnTo>
                  <a:lnTo>
                    <a:pt x="492" y="27"/>
                  </a:lnTo>
                  <a:lnTo>
                    <a:pt x="552" y="53"/>
                  </a:lnTo>
                  <a:lnTo>
                    <a:pt x="590" y="68"/>
                  </a:lnTo>
                  <a:lnTo>
                    <a:pt x="590" y="394"/>
                  </a:lnTo>
                  <a:lnTo>
                    <a:pt x="517" y="352"/>
                  </a:lnTo>
                  <a:lnTo>
                    <a:pt x="453" y="320"/>
                  </a:lnTo>
                  <a:lnTo>
                    <a:pt x="398" y="299"/>
                  </a:lnTo>
                  <a:lnTo>
                    <a:pt x="349" y="294"/>
                  </a:lnTo>
                  <a:lnTo>
                    <a:pt x="313" y="294"/>
                  </a:lnTo>
                  <a:lnTo>
                    <a:pt x="279" y="310"/>
                  </a:lnTo>
                  <a:lnTo>
                    <a:pt x="251" y="336"/>
                  </a:lnTo>
                  <a:lnTo>
                    <a:pt x="226" y="367"/>
                  </a:lnTo>
                  <a:lnTo>
                    <a:pt x="204" y="409"/>
                  </a:lnTo>
                  <a:lnTo>
                    <a:pt x="189" y="457"/>
                  </a:lnTo>
                  <a:lnTo>
                    <a:pt x="181" y="509"/>
                  </a:lnTo>
                  <a:lnTo>
                    <a:pt x="178" y="572"/>
                  </a:lnTo>
                  <a:lnTo>
                    <a:pt x="185" y="656"/>
                  </a:lnTo>
                  <a:lnTo>
                    <a:pt x="211" y="740"/>
                  </a:lnTo>
                  <a:lnTo>
                    <a:pt x="251" y="808"/>
                  </a:lnTo>
                  <a:lnTo>
                    <a:pt x="310" y="876"/>
                  </a:lnTo>
                  <a:lnTo>
                    <a:pt x="396" y="960"/>
                  </a:lnTo>
                  <a:lnTo>
                    <a:pt x="464" y="1028"/>
                  </a:lnTo>
                  <a:lnTo>
                    <a:pt x="521" y="1096"/>
                  </a:lnTo>
                  <a:lnTo>
                    <a:pt x="567" y="1170"/>
                  </a:lnTo>
                  <a:lnTo>
                    <a:pt x="605" y="1243"/>
                  </a:lnTo>
                  <a:lnTo>
                    <a:pt x="628" y="1322"/>
                  </a:lnTo>
                  <a:lnTo>
                    <a:pt x="649" y="1416"/>
                  </a:lnTo>
                  <a:lnTo>
                    <a:pt x="660" y="1511"/>
                  </a:lnTo>
                  <a:lnTo>
                    <a:pt x="664" y="1626"/>
                  </a:lnTo>
                  <a:lnTo>
                    <a:pt x="658" y="1762"/>
                  </a:lnTo>
                  <a:lnTo>
                    <a:pt x="637" y="1883"/>
                  </a:lnTo>
                  <a:lnTo>
                    <a:pt x="607" y="1993"/>
                  </a:lnTo>
                  <a:lnTo>
                    <a:pt x="563" y="2098"/>
                  </a:lnTo>
                  <a:lnTo>
                    <a:pt x="508" y="2177"/>
                  </a:lnTo>
                  <a:lnTo>
                    <a:pt x="445" y="2234"/>
                  </a:lnTo>
                  <a:lnTo>
                    <a:pt x="376" y="2266"/>
                  </a:lnTo>
                  <a:lnTo>
                    <a:pt x="299" y="2281"/>
                  </a:lnTo>
                  <a:lnTo>
                    <a:pt x="233" y="2266"/>
                  </a:lnTo>
                  <a:lnTo>
                    <a:pt x="162" y="2245"/>
                  </a:lnTo>
                  <a:lnTo>
                    <a:pt x="83" y="2203"/>
                  </a:lnTo>
                  <a:lnTo>
                    <a:pt x="0" y="2156"/>
                  </a:lnTo>
                </a:path>
              </a:pathLst>
            </a:custGeom>
            <a:gradFill rotWithShape="0">
              <a:gsLst>
                <a:gs pos="0">
                  <a:srgbClr val="9400ed"/>
                </a:gs>
                <a:gs pos="100000">
                  <a:srgbClr val="0000ff"/>
                </a:gs>
              </a:gsLst>
              <a:lin ang="10800000"/>
            </a:gradFill>
            <a:ln w="12600">
              <a:solidFill>
                <a:srgbClr val="eaeaea"/>
              </a:solidFill>
              <a:round/>
            </a:ln>
            <a:effectLst>
              <a:outerShdw dist="17819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735280" y="1501920"/>
              <a:ext cx="322200" cy="1089000"/>
            </a:xfrm>
            <a:custGeom>
              <a:avLst/>
              <a:gdLst/>
              <a:ahLst/>
              <a:rect l="l" t="t" r="r" b="b"/>
              <a:pathLst>
                <a:path w="893" h="3027">
                  <a:moveTo>
                    <a:pt x="177" y="1710"/>
                  </a:moveTo>
                  <a:lnTo>
                    <a:pt x="245" y="1830"/>
                  </a:lnTo>
                  <a:lnTo>
                    <a:pt x="311" y="1909"/>
                  </a:lnTo>
                  <a:lnTo>
                    <a:pt x="377" y="1967"/>
                  </a:lnTo>
                  <a:lnTo>
                    <a:pt x="441" y="1982"/>
                  </a:lnTo>
                  <a:lnTo>
                    <a:pt x="498" y="1972"/>
                  </a:lnTo>
                  <a:lnTo>
                    <a:pt x="551" y="1925"/>
                  </a:lnTo>
                  <a:lnTo>
                    <a:pt x="595" y="1851"/>
                  </a:lnTo>
                  <a:lnTo>
                    <a:pt x="635" y="1757"/>
                  </a:lnTo>
                  <a:lnTo>
                    <a:pt x="663" y="1631"/>
                  </a:lnTo>
                  <a:lnTo>
                    <a:pt x="683" y="1479"/>
                  </a:lnTo>
                  <a:lnTo>
                    <a:pt x="696" y="1306"/>
                  </a:lnTo>
                  <a:lnTo>
                    <a:pt x="701" y="1112"/>
                  </a:lnTo>
                  <a:lnTo>
                    <a:pt x="686" y="776"/>
                  </a:lnTo>
                  <a:lnTo>
                    <a:pt x="641" y="540"/>
                  </a:lnTo>
                  <a:lnTo>
                    <a:pt x="571" y="394"/>
                  </a:lnTo>
                  <a:lnTo>
                    <a:pt x="472" y="352"/>
                  </a:lnTo>
                  <a:lnTo>
                    <a:pt x="395" y="367"/>
                  </a:lnTo>
                  <a:lnTo>
                    <a:pt x="320" y="436"/>
                  </a:lnTo>
                  <a:lnTo>
                    <a:pt x="248" y="551"/>
                  </a:lnTo>
                  <a:lnTo>
                    <a:pt x="177" y="708"/>
                  </a:lnTo>
                  <a:lnTo>
                    <a:pt x="177" y="1710"/>
                  </a:lnTo>
                  <a:close/>
                  <a:moveTo>
                    <a:pt x="0" y="3026"/>
                  </a:moveTo>
                  <a:lnTo>
                    <a:pt x="0" y="48"/>
                  </a:lnTo>
                  <a:lnTo>
                    <a:pt x="177" y="48"/>
                  </a:lnTo>
                  <a:lnTo>
                    <a:pt x="177" y="457"/>
                  </a:lnTo>
                  <a:lnTo>
                    <a:pt x="237" y="252"/>
                  </a:lnTo>
                  <a:lnTo>
                    <a:pt x="314" y="110"/>
                  </a:lnTo>
                  <a:lnTo>
                    <a:pt x="402" y="21"/>
                  </a:lnTo>
                  <a:lnTo>
                    <a:pt x="507" y="0"/>
                  </a:lnTo>
                  <a:lnTo>
                    <a:pt x="593" y="16"/>
                  </a:lnTo>
                  <a:lnTo>
                    <a:pt x="668" y="68"/>
                  </a:lnTo>
                  <a:lnTo>
                    <a:pt x="734" y="158"/>
                  </a:lnTo>
                  <a:lnTo>
                    <a:pt x="791" y="289"/>
                  </a:lnTo>
                  <a:lnTo>
                    <a:pt x="835" y="441"/>
                  </a:lnTo>
                  <a:lnTo>
                    <a:pt x="865" y="624"/>
                  </a:lnTo>
                  <a:lnTo>
                    <a:pt x="886" y="834"/>
                  </a:lnTo>
                  <a:lnTo>
                    <a:pt x="892" y="1075"/>
                  </a:lnTo>
                  <a:lnTo>
                    <a:pt x="884" y="1327"/>
                  </a:lnTo>
                  <a:lnTo>
                    <a:pt x="861" y="1563"/>
                  </a:lnTo>
                  <a:lnTo>
                    <a:pt x="826" y="1767"/>
                  </a:lnTo>
                  <a:lnTo>
                    <a:pt x="775" y="1946"/>
                  </a:lnTo>
                  <a:lnTo>
                    <a:pt x="712" y="2093"/>
                  </a:lnTo>
                  <a:lnTo>
                    <a:pt x="639" y="2192"/>
                  </a:lnTo>
                  <a:lnTo>
                    <a:pt x="558" y="2255"/>
                  </a:lnTo>
                  <a:lnTo>
                    <a:pt x="470" y="2281"/>
                  </a:lnTo>
                  <a:lnTo>
                    <a:pt x="384" y="2255"/>
                  </a:lnTo>
                  <a:lnTo>
                    <a:pt x="307" y="2203"/>
                  </a:lnTo>
                  <a:lnTo>
                    <a:pt x="239" y="2114"/>
                  </a:lnTo>
                  <a:lnTo>
                    <a:pt x="177" y="1982"/>
                  </a:lnTo>
                  <a:lnTo>
                    <a:pt x="177" y="3026"/>
                  </a:lnTo>
                  <a:lnTo>
                    <a:pt x="0" y="3026"/>
                  </a:lnTo>
                  <a:close/>
                </a:path>
              </a:pathLst>
            </a:custGeom>
            <a:gradFill rotWithShape="0">
              <a:gsLst>
                <a:gs pos="0">
                  <a:srgbClr val="9400ed"/>
                </a:gs>
                <a:gs pos="100000">
                  <a:srgbClr val="0000ff"/>
                </a:gs>
              </a:gsLst>
              <a:lin ang="10800000"/>
            </a:gradFill>
            <a:ln w="12600">
              <a:solidFill>
                <a:srgbClr val="eaeaea"/>
              </a:solidFill>
              <a:round/>
            </a:ln>
            <a:effectLst>
              <a:outerShdw dist="17819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57560" y="1501920"/>
              <a:ext cx="196920" cy="804600"/>
            </a:xfrm>
            <a:custGeom>
              <a:avLst/>
              <a:gdLst/>
              <a:ahLst/>
              <a:rect l="l" t="t" r="r" b="b"/>
              <a:pathLst>
                <a:path w="546" h="2235">
                  <a:moveTo>
                    <a:pt x="0" y="2234"/>
                  </a:moveTo>
                  <a:lnTo>
                    <a:pt x="0" y="48"/>
                  </a:lnTo>
                  <a:lnTo>
                    <a:pt x="179" y="48"/>
                  </a:lnTo>
                  <a:lnTo>
                    <a:pt x="179" y="457"/>
                  </a:lnTo>
                  <a:lnTo>
                    <a:pt x="236" y="252"/>
                  </a:lnTo>
                  <a:lnTo>
                    <a:pt x="308" y="110"/>
                  </a:lnTo>
                  <a:lnTo>
                    <a:pt x="392" y="21"/>
                  </a:lnTo>
                  <a:lnTo>
                    <a:pt x="488" y="0"/>
                  </a:lnTo>
                  <a:lnTo>
                    <a:pt x="502" y="0"/>
                  </a:lnTo>
                  <a:lnTo>
                    <a:pt x="515" y="0"/>
                  </a:lnTo>
                  <a:lnTo>
                    <a:pt x="530" y="6"/>
                  </a:lnTo>
                  <a:lnTo>
                    <a:pt x="545" y="11"/>
                  </a:lnTo>
                  <a:lnTo>
                    <a:pt x="545" y="383"/>
                  </a:lnTo>
                  <a:lnTo>
                    <a:pt x="522" y="362"/>
                  </a:lnTo>
                  <a:lnTo>
                    <a:pt x="502" y="357"/>
                  </a:lnTo>
                  <a:lnTo>
                    <a:pt x="482" y="352"/>
                  </a:lnTo>
                  <a:lnTo>
                    <a:pt x="464" y="352"/>
                  </a:lnTo>
                  <a:lnTo>
                    <a:pt x="381" y="373"/>
                  </a:lnTo>
                  <a:lnTo>
                    <a:pt x="306" y="462"/>
                  </a:lnTo>
                  <a:lnTo>
                    <a:pt x="238" y="598"/>
                  </a:lnTo>
                  <a:lnTo>
                    <a:pt x="179" y="797"/>
                  </a:lnTo>
                  <a:lnTo>
                    <a:pt x="179" y="2234"/>
                  </a:lnTo>
                  <a:lnTo>
                    <a:pt x="0" y="2234"/>
                  </a:lnTo>
                </a:path>
              </a:pathLst>
            </a:custGeom>
            <a:gradFill rotWithShape="0">
              <a:gsLst>
                <a:gs pos="0">
                  <a:srgbClr val="9400ed"/>
                </a:gs>
                <a:gs pos="100000">
                  <a:srgbClr val="0000ff"/>
                </a:gs>
              </a:gsLst>
              <a:lin ang="10800000"/>
            </a:gradFill>
            <a:ln w="12600">
              <a:solidFill>
                <a:srgbClr val="eaeaea"/>
              </a:solidFill>
              <a:round/>
            </a:ln>
            <a:effectLst>
              <a:outerShdw dist="17819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403440" y="1501920"/>
              <a:ext cx="339840" cy="820440"/>
            </a:xfrm>
            <a:custGeom>
              <a:avLst/>
              <a:gdLst/>
              <a:ahLst/>
              <a:rect l="l" t="t" r="r" b="b"/>
              <a:pathLst>
                <a:path w="942" h="2282">
                  <a:moveTo>
                    <a:pt x="470" y="1982"/>
                  </a:moveTo>
                  <a:lnTo>
                    <a:pt x="532" y="1972"/>
                  </a:lnTo>
                  <a:lnTo>
                    <a:pt x="587" y="1925"/>
                  </a:lnTo>
                  <a:lnTo>
                    <a:pt x="636" y="1857"/>
                  </a:lnTo>
                  <a:lnTo>
                    <a:pt x="677" y="1762"/>
                  </a:lnTo>
                  <a:lnTo>
                    <a:pt x="708" y="1642"/>
                  </a:lnTo>
                  <a:lnTo>
                    <a:pt x="730" y="1495"/>
                  </a:lnTo>
                  <a:lnTo>
                    <a:pt x="743" y="1322"/>
                  </a:lnTo>
                  <a:lnTo>
                    <a:pt x="751" y="1138"/>
                  </a:lnTo>
                  <a:lnTo>
                    <a:pt x="743" y="949"/>
                  </a:lnTo>
                  <a:lnTo>
                    <a:pt x="730" y="782"/>
                  </a:lnTo>
                  <a:lnTo>
                    <a:pt x="708" y="635"/>
                  </a:lnTo>
                  <a:lnTo>
                    <a:pt x="677" y="514"/>
                  </a:lnTo>
                  <a:lnTo>
                    <a:pt x="636" y="420"/>
                  </a:lnTo>
                  <a:lnTo>
                    <a:pt x="587" y="352"/>
                  </a:lnTo>
                  <a:lnTo>
                    <a:pt x="532" y="304"/>
                  </a:lnTo>
                  <a:lnTo>
                    <a:pt x="470" y="294"/>
                  </a:lnTo>
                  <a:lnTo>
                    <a:pt x="407" y="304"/>
                  </a:lnTo>
                  <a:lnTo>
                    <a:pt x="350" y="352"/>
                  </a:lnTo>
                  <a:lnTo>
                    <a:pt x="304" y="420"/>
                  </a:lnTo>
                  <a:lnTo>
                    <a:pt x="264" y="514"/>
                  </a:lnTo>
                  <a:lnTo>
                    <a:pt x="231" y="635"/>
                  </a:lnTo>
                  <a:lnTo>
                    <a:pt x="209" y="782"/>
                  </a:lnTo>
                  <a:lnTo>
                    <a:pt x="196" y="949"/>
                  </a:lnTo>
                  <a:lnTo>
                    <a:pt x="191" y="1138"/>
                  </a:lnTo>
                  <a:lnTo>
                    <a:pt x="196" y="1322"/>
                  </a:lnTo>
                  <a:lnTo>
                    <a:pt x="209" y="1495"/>
                  </a:lnTo>
                  <a:lnTo>
                    <a:pt x="231" y="1642"/>
                  </a:lnTo>
                  <a:lnTo>
                    <a:pt x="264" y="1762"/>
                  </a:lnTo>
                  <a:lnTo>
                    <a:pt x="304" y="1857"/>
                  </a:lnTo>
                  <a:lnTo>
                    <a:pt x="350" y="1925"/>
                  </a:lnTo>
                  <a:lnTo>
                    <a:pt x="407" y="1972"/>
                  </a:lnTo>
                  <a:lnTo>
                    <a:pt x="470" y="1982"/>
                  </a:lnTo>
                  <a:close/>
                  <a:moveTo>
                    <a:pt x="470" y="2281"/>
                  </a:moveTo>
                  <a:lnTo>
                    <a:pt x="368" y="2255"/>
                  </a:lnTo>
                  <a:lnTo>
                    <a:pt x="275" y="2197"/>
                  </a:lnTo>
                  <a:lnTo>
                    <a:pt x="196" y="2108"/>
                  </a:lnTo>
                  <a:lnTo>
                    <a:pt x="128" y="1977"/>
                  </a:lnTo>
                  <a:lnTo>
                    <a:pt x="70" y="1804"/>
                  </a:lnTo>
                  <a:lnTo>
                    <a:pt x="31" y="1610"/>
                  </a:lnTo>
                  <a:lnTo>
                    <a:pt x="6" y="1385"/>
                  </a:lnTo>
                  <a:lnTo>
                    <a:pt x="0" y="1138"/>
                  </a:lnTo>
                  <a:lnTo>
                    <a:pt x="6" y="887"/>
                  </a:lnTo>
                  <a:lnTo>
                    <a:pt x="31" y="666"/>
                  </a:lnTo>
                  <a:lnTo>
                    <a:pt x="70" y="472"/>
                  </a:lnTo>
                  <a:lnTo>
                    <a:pt x="128" y="304"/>
                  </a:lnTo>
                  <a:lnTo>
                    <a:pt x="196" y="168"/>
                  </a:lnTo>
                  <a:lnTo>
                    <a:pt x="275" y="74"/>
                  </a:lnTo>
                  <a:lnTo>
                    <a:pt x="368" y="16"/>
                  </a:lnTo>
                  <a:lnTo>
                    <a:pt x="470" y="0"/>
                  </a:lnTo>
                  <a:lnTo>
                    <a:pt x="572" y="16"/>
                  </a:lnTo>
                  <a:lnTo>
                    <a:pt x="664" y="74"/>
                  </a:lnTo>
                  <a:lnTo>
                    <a:pt x="745" y="168"/>
                  </a:lnTo>
                  <a:lnTo>
                    <a:pt x="817" y="304"/>
                  </a:lnTo>
                  <a:lnTo>
                    <a:pt x="869" y="472"/>
                  </a:lnTo>
                  <a:lnTo>
                    <a:pt x="908" y="666"/>
                  </a:lnTo>
                  <a:lnTo>
                    <a:pt x="932" y="887"/>
                  </a:lnTo>
                  <a:lnTo>
                    <a:pt x="941" y="1138"/>
                  </a:lnTo>
                  <a:lnTo>
                    <a:pt x="932" y="1385"/>
                  </a:lnTo>
                  <a:lnTo>
                    <a:pt x="908" y="1610"/>
                  </a:lnTo>
                  <a:lnTo>
                    <a:pt x="869" y="1804"/>
                  </a:lnTo>
                  <a:lnTo>
                    <a:pt x="817" y="1977"/>
                  </a:lnTo>
                  <a:lnTo>
                    <a:pt x="745" y="2108"/>
                  </a:lnTo>
                  <a:lnTo>
                    <a:pt x="664" y="2197"/>
                  </a:lnTo>
                  <a:lnTo>
                    <a:pt x="572" y="2255"/>
                  </a:lnTo>
                  <a:lnTo>
                    <a:pt x="470" y="2281"/>
                  </a:lnTo>
                  <a:close/>
                </a:path>
              </a:pathLst>
            </a:custGeom>
            <a:gradFill rotWithShape="0">
              <a:gsLst>
                <a:gs pos="0">
                  <a:srgbClr val="9400ed"/>
                </a:gs>
                <a:gs pos="100000">
                  <a:srgbClr val="0000ff"/>
                </a:gs>
              </a:gsLst>
              <a:lin ang="10800000"/>
            </a:gradFill>
            <a:ln w="12600">
              <a:solidFill>
                <a:srgbClr val="eaeaea"/>
              </a:solidFill>
              <a:round/>
            </a:ln>
            <a:effectLst>
              <a:outerShdw dist="17819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843360" y="1162080"/>
              <a:ext cx="322200" cy="1162080"/>
            </a:xfrm>
            <a:custGeom>
              <a:avLst/>
              <a:gdLst/>
              <a:ahLst/>
              <a:rect l="l" t="t" r="r" b="b"/>
              <a:pathLst>
                <a:path w="893" h="3226">
                  <a:moveTo>
                    <a:pt x="177" y="2654"/>
                  </a:moveTo>
                  <a:lnTo>
                    <a:pt x="246" y="2774"/>
                  </a:lnTo>
                  <a:lnTo>
                    <a:pt x="312" y="2853"/>
                  </a:lnTo>
                  <a:lnTo>
                    <a:pt x="378" y="2911"/>
                  </a:lnTo>
                  <a:lnTo>
                    <a:pt x="441" y="2926"/>
                  </a:lnTo>
                  <a:lnTo>
                    <a:pt x="499" y="2916"/>
                  </a:lnTo>
                  <a:lnTo>
                    <a:pt x="552" y="2869"/>
                  </a:lnTo>
                  <a:lnTo>
                    <a:pt x="596" y="2795"/>
                  </a:lnTo>
                  <a:lnTo>
                    <a:pt x="635" y="2701"/>
                  </a:lnTo>
                  <a:lnTo>
                    <a:pt x="664" y="2575"/>
                  </a:lnTo>
                  <a:lnTo>
                    <a:pt x="684" y="2423"/>
                  </a:lnTo>
                  <a:lnTo>
                    <a:pt x="697" y="2250"/>
                  </a:lnTo>
                  <a:lnTo>
                    <a:pt x="701" y="2056"/>
                  </a:lnTo>
                  <a:lnTo>
                    <a:pt x="686" y="1720"/>
                  </a:lnTo>
                  <a:lnTo>
                    <a:pt x="641" y="1484"/>
                  </a:lnTo>
                  <a:lnTo>
                    <a:pt x="571" y="1338"/>
                  </a:lnTo>
                  <a:lnTo>
                    <a:pt x="473" y="1296"/>
                  </a:lnTo>
                  <a:lnTo>
                    <a:pt x="396" y="1311"/>
                  </a:lnTo>
                  <a:lnTo>
                    <a:pt x="320" y="1380"/>
                  </a:lnTo>
                  <a:lnTo>
                    <a:pt x="248" y="1495"/>
                  </a:lnTo>
                  <a:lnTo>
                    <a:pt x="177" y="1652"/>
                  </a:lnTo>
                  <a:lnTo>
                    <a:pt x="177" y="2654"/>
                  </a:lnTo>
                  <a:close/>
                  <a:moveTo>
                    <a:pt x="0" y="3199"/>
                  </a:moveTo>
                  <a:lnTo>
                    <a:pt x="0" y="0"/>
                  </a:lnTo>
                  <a:lnTo>
                    <a:pt x="177" y="0"/>
                  </a:lnTo>
                  <a:lnTo>
                    <a:pt x="177" y="1401"/>
                  </a:lnTo>
                  <a:lnTo>
                    <a:pt x="237" y="1196"/>
                  </a:lnTo>
                  <a:lnTo>
                    <a:pt x="314" y="1054"/>
                  </a:lnTo>
                  <a:lnTo>
                    <a:pt x="402" y="965"/>
                  </a:lnTo>
                  <a:lnTo>
                    <a:pt x="507" y="944"/>
                  </a:lnTo>
                  <a:lnTo>
                    <a:pt x="593" y="960"/>
                  </a:lnTo>
                  <a:lnTo>
                    <a:pt x="668" y="1012"/>
                  </a:lnTo>
                  <a:lnTo>
                    <a:pt x="734" y="1102"/>
                  </a:lnTo>
                  <a:lnTo>
                    <a:pt x="791" y="1233"/>
                  </a:lnTo>
                  <a:lnTo>
                    <a:pt x="835" y="1385"/>
                  </a:lnTo>
                  <a:lnTo>
                    <a:pt x="866" y="1568"/>
                  </a:lnTo>
                  <a:lnTo>
                    <a:pt x="886" y="1778"/>
                  </a:lnTo>
                  <a:lnTo>
                    <a:pt x="892" y="2019"/>
                  </a:lnTo>
                  <a:lnTo>
                    <a:pt x="884" y="2271"/>
                  </a:lnTo>
                  <a:lnTo>
                    <a:pt x="862" y="2507"/>
                  </a:lnTo>
                  <a:lnTo>
                    <a:pt x="826" y="2711"/>
                  </a:lnTo>
                  <a:lnTo>
                    <a:pt x="776" y="2890"/>
                  </a:lnTo>
                  <a:lnTo>
                    <a:pt x="712" y="3037"/>
                  </a:lnTo>
                  <a:lnTo>
                    <a:pt x="639" y="3136"/>
                  </a:lnTo>
                  <a:lnTo>
                    <a:pt x="558" y="3199"/>
                  </a:lnTo>
                  <a:lnTo>
                    <a:pt x="471" y="3225"/>
                  </a:lnTo>
                  <a:lnTo>
                    <a:pt x="384" y="3199"/>
                  </a:lnTo>
                  <a:lnTo>
                    <a:pt x="307" y="3147"/>
                  </a:lnTo>
                  <a:lnTo>
                    <a:pt x="239" y="3058"/>
                  </a:lnTo>
                  <a:lnTo>
                    <a:pt x="177" y="2926"/>
                  </a:lnTo>
                  <a:lnTo>
                    <a:pt x="156" y="3199"/>
                  </a:lnTo>
                  <a:lnTo>
                    <a:pt x="0" y="3199"/>
                  </a:lnTo>
                  <a:close/>
                </a:path>
              </a:pathLst>
            </a:custGeom>
            <a:gradFill rotWithShape="0">
              <a:gsLst>
                <a:gs pos="0">
                  <a:srgbClr val="9400ed"/>
                </a:gs>
                <a:gs pos="100000">
                  <a:srgbClr val="0000ff"/>
                </a:gs>
              </a:gsLst>
              <a:lin ang="10800000"/>
            </a:gradFill>
            <a:ln w="12600">
              <a:solidFill>
                <a:srgbClr val="eaeaea"/>
              </a:solidFill>
              <a:round/>
            </a:ln>
            <a:effectLst>
              <a:outerShdw dist="17819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265640" y="1162080"/>
              <a:ext cx="65160" cy="1144440"/>
            </a:xfrm>
            <a:custGeom>
              <a:avLst/>
              <a:gdLst/>
              <a:ahLst/>
              <a:rect l="l" t="t" r="r" b="b"/>
              <a:pathLst>
                <a:path w="180" h="3179">
                  <a:moveTo>
                    <a:pt x="0" y="3178"/>
                  </a:moveTo>
                  <a:lnTo>
                    <a:pt x="0" y="0"/>
                  </a:lnTo>
                  <a:lnTo>
                    <a:pt x="179" y="0"/>
                  </a:lnTo>
                  <a:lnTo>
                    <a:pt x="179" y="3178"/>
                  </a:lnTo>
                  <a:lnTo>
                    <a:pt x="0" y="3178"/>
                  </a:lnTo>
                </a:path>
              </a:pathLst>
            </a:custGeom>
            <a:gradFill rotWithShape="0">
              <a:gsLst>
                <a:gs pos="0">
                  <a:srgbClr val="9400ed"/>
                </a:gs>
                <a:gs pos="100000">
                  <a:srgbClr val="0000ff"/>
                </a:gs>
              </a:gsLst>
              <a:lin ang="10800000"/>
            </a:gradFill>
            <a:ln w="12600">
              <a:solidFill>
                <a:srgbClr val="eaeaea"/>
              </a:solidFill>
              <a:round/>
            </a:ln>
            <a:effectLst>
              <a:outerShdw dist="17819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430880" y="1143000"/>
              <a:ext cx="290520" cy="1179360"/>
            </a:xfrm>
            <a:custGeom>
              <a:avLst/>
              <a:gdLst/>
              <a:ahLst/>
              <a:rect l="l" t="t" r="r" b="b"/>
              <a:pathLst>
                <a:path w="806" h="3278">
                  <a:moveTo>
                    <a:pt x="192" y="1898"/>
                  </a:moveTo>
                  <a:lnTo>
                    <a:pt x="627" y="1898"/>
                  </a:lnTo>
                  <a:lnTo>
                    <a:pt x="614" y="1631"/>
                  </a:lnTo>
                  <a:lnTo>
                    <a:pt x="575" y="1442"/>
                  </a:lnTo>
                  <a:lnTo>
                    <a:pt x="511" y="1327"/>
                  </a:lnTo>
                  <a:lnTo>
                    <a:pt x="422" y="1290"/>
                  </a:lnTo>
                  <a:lnTo>
                    <a:pt x="330" y="1327"/>
                  </a:lnTo>
                  <a:lnTo>
                    <a:pt x="260" y="1442"/>
                  </a:lnTo>
                  <a:lnTo>
                    <a:pt x="213" y="1631"/>
                  </a:lnTo>
                  <a:lnTo>
                    <a:pt x="192" y="1898"/>
                  </a:lnTo>
                  <a:close/>
                  <a:moveTo>
                    <a:pt x="552" y="650"/>
                  </a:moveTo>
                  <a:lnTo>
                    <a:pt x="418" y="650"/>
                  </a:lnTo>
                  <a:lnTo>
                    <a:pt x="126" y="0"/>
                  </a:lnTo>
                  <a:lnTo>
                    <a:pt x="332" y="0"/>
                  </a:lnTo>
                  <a:lnTo>
                    <a:pt x="552" y="650"/>
                  </a:lnTo>
                  <a:close/>
                  <a:moveTo>
                    <a:pt x="801" y="3157"/>
                  </a:moveTo>
                  <a:lnTo>
                    <a:pt x="713" y="3204"/>
                  </a:lnTo>
                  <a:lnTo>
                    <a:pt x="634" y="3246"/>
                  </a:lnTo>
                  <a:lnTo>
                    <a:pt x="558" y="3262"/>
                  </a:lnTo>
                  <a:lnTo>
                    <a:pt x="492" y="3277"/>
                  </a:lnTo>
                  <a:lnTo>
                    <a:pt x="387" y="3251"/>
                  </a:lnTo>
                  <a:lnTo>
                    <a:pt x="295" y="3193"/>
                  </a:lnTo>
                  <a:lnTo>
                    <a:pt x="211" y="3094"/>
                  </a:lnTo>
                  <a:lnTo>
                    <a:pt x="139" y="2958"/>
                  </a:lnTo>
                  <a:lnTo>
                    <a:pt x="77" y="2779"/>
                  </a:lnTo>
                  <a:lnTo>
                    <a:pt x="34" y="2585"/>
                  </a:lnTo>
                  <a:lnTo>
                    <a:pt x="7" y="2365"/>
                  </a:lnTo>
                  <a:lnTo>
                    <a:pt x="0" y="2124"/>
                  </a:lnTo>
                  <a:lnTo>
                    <a:pt x="7" y="1888"/>
                  </a:lnTo>
                  <a:lnTo>
                    <a:pt x="28" y="1673"/>
                  </a:lnTo>
                  <a:lnTo>
                    <a:pt x="66" y="1479"/>
                  </a:lnTo>
                  <a:lnTo>
                    <a:pt x="121" y="1311"/>
                  </a:lnTo>
                  <a:lnTo>
                    <a:pt x="185" y="1169"/>
                  </a:lnTo>
                  <a:lnTo>
                    <a:pt x="260" y="1075"/>
                  </a:lnTo>
                  <a:lnTo>
                    <a:pt x="341" y="1012"/>
                  </a:lnTo>
                  <a:lnTo>
                    <a:pt x="432" y="996"/>
                  </a:lnTo>
                  <a:lnTo>
                    <a:pt x="515" y="1012"/>
                  </a:lnTo>
                  <a:lnTo>
                    <a:pt x="590" y="1064"/>
                  </a:lnTo>
                  <a:lnTo>
                    <a:pt x="654" y="1148"/>
                  </a:lnTo>
                  <a:lnTo>
                    <a:pt x="709" y="1279"/>
                  </a:lnTo>
                  <a:lnTo>
                    <a:pt x="750" y="1432"/>
                  </a:lnTo>
                  <a:lnTo>
                    <a:pt x="779" y="1620"/>
                  </a:lnTo>
                  <a:lnTo>
                    <a:pt x="799" y="1825"/>
                  </a:lnTo>
                  <a:lnTo>
                    <a:pt x="805" y="2077"/>
                  </a:lnTo>
                  <a:lnTo>
                    <a:pt x="805" y="2197"/>
                  </a:lnTo>
                  <a:lnTo>
                    <a:pt x="183" y="2197"/>
                  </a:lnTo>
                  <a:lnTo>
                    <a:pt x="218" y="2538"/>
                  </a:lnTo>
                  <a:lnTo>
                    <a:pt x="288" y="2779"/>
                  </a:lnTo>
                  <a:lnTo>
                    <a:pt x="390" y="2926"/>
                  </a:lnTo>
                  <a:lnTo>
                    <a:pt x="526" y="2978"/>
                  </a:lnTo>
                  <a:lnTo>
                    <a:pt x="583" y="2973"/>
                  </a:lnTo>
                  <a:lnTo>
                    <a:pt x="649" y="2942"/>
                  </a:lnTo>
                  <a:lnTo>
                    <a:pt x="722" y="2900"/>
                  </a:lnTo>
                  <a:lnTo>
                    <a:pt x="801" y="2842"/>
                  </a:lnTo>
                  <a:lnTo>
                    <a:pt x="801" y="3157"/>
                  </a:lnTo>
                  <a:close/>
                </a:path>
              </a:pathLst>
            </a:custGeom>
            <a:gradFill rotWithShape="0">
              <a:gsLst>
                <a:gs pos="0">
                  <a:srgbClr val="9400ed"/>
                </a:gs>
                <a:gs pos="100000">
                  <a:srgbClr val="0000ff"/>
                </a:gs>
              </a:gsLst>
              <a:lin ang="10800000"/>
            </a:gradFill>
            <a:ln w="12600">
              <a:solidFill>
                <a:srgbClr val="eaeaea"/>
              </a:solidFill>
              <a:round/>
            </a:ln>
            <a:effectLst>
              <a:outerShdw dist="17819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832280" y="1501920"/>
              <a:ext cx="500040" cy="804600"/>
            </a:xfrm>
            <a:custGeom>
              <a:avLst/>
              <a:gdLst/>
              <a:ahLst/>
              <a:rect l="l" t="t" r="r" b="b"/>
              <a:pathLst>
                <a:path w="1389" h="2235">
                  <a:moveTo>
                    <a:pt x="0" y="2234"/>
                  </a:moveTo>
                  <a:lnTo>
                    <a:pt x="0" y="48"/>
                  </a:lnTo>
                  <a:lnTo>
                    <a:pt x="178" y="48"/>
                  </a:lnTo>
                  <a:lnTo>
                    <a:pt x="178" y="457"/>
                  </a:lnTo>
                  <a:lnTo>
                    <a:pt x="246" y="252"/>
                  </a:lnTo>
                  <a:lnTo>
                    <a:pt x="326" y="110"/>
                  </a:lnTo>
                  <a:lnTo>
                    <a:pt x="416" y="21"/>
                  </a:lnTo>
                  <a:lnTo>
                    <a:pt x="514" y="0"/>
                  </a:lnTo>
                  <a:lnTo>
                    <a:pt x="603" y="21"/>
                  </a:lnTo>
                  <a:lnTo>
                    <a:pt x="677" y="110"/>
                  </a:lnTo>
                  <a:lnTo>
                    <a:pt x="737" y="252"/>
                  </a:lnTo>
                  <a:lnTo>
                    <a:pt x="782" y="457"/>
                  </a:lnTo>
                  <a:lnTo>
                    <a:pt x="851" y="252"/>
                  </a:lnTo>
                  <a:lnTo>
                    <a:pt x="928" y="110"/>
                  </a:lnTo>
                  <a:lnTo>
                    <a:pt x="1016" y="21"/>
                  </a:lnTo>
                  <a:lnTo>
                    <a:pt x="1112" y="0"/>
                  </a:lnTo>
                  <a:lnTo>
                    <a:pt x="1172" y="11"/>
                  </a:lnTo>
                  <a:lnTo>
                    <a:pt x="1227" y="37"/>
                  </a:lnTo>
                  <a:lnTo>
                    <a:pt x="1273" y="89"/>
                  </a:lnTo>
                  <a:lnTo>
                    <a:pt x="1315" y="168"/>
                  </a:lnTo>
                  <a:lnTo>
                    <a:pt x="1346" y="263"/>
                  </a:lnTo>
                  <a:lnTo>
                    <a:pt x="1368" y="367"/>
                  </a:lnTo>
                  <a:lnTo>
                    <a:pt x="1381" y="498"/>
                  </a:lnTo>
                  <a:lnTo>
                    <a:pt x="1388" y="645"/>
                  </a:lnTo>
                  <a:lnTo>
                    <a:pt x="1388" y="2234"/>
                  </a:lnTo>
                  <a:lnTo>
                    <a:pt x="1210" y="2234"/>
                  </a:lnTo>
                  <a:lnTo>
                    <a:pt x="1210" y="708"/>
                  </a:lnTo>
                  <a:lnTo>
                    <a:pt x="1201" y="546"/>
                  </a:lnTo>
                  <a:lnTo>
                    <a:pt x="1174" y="425"/>
                  </a:lnTo>
                  <a:lnTo>
                    <a:pt x="1133" y="357"/>
                  </a:lnTo>
                  <a:lnTo>
                    <a:pt x="1076" y="336"/>
                  </a:lnTo>
                  <a:lnTo>
                    <a:pt x="1005" y="357"/>
                  </a:lnTo>
                  <a:lnTo>
                    <a:pt x="933" y="441"/>
                  </a:lnTo>
                  <a:lnTo>
                    <a:pt x="858" y="577"/>
                  </a:lnTo>
                  <a:lnTo>
                    <a:pt x="782" y="771"/>
                  </a:lnTo>
                  <a:lnTo>
                    <a:pt x="782" y="2234"/>
                  </a:lnTo>
                  <a:lnTo>
                    <a:pt x="605" y="2234"/>
                  </a:lnTo>
                  <a:lnTo>
                    <a:pt x="605" y="703"/>
                  </a:lnTo>
                  <a:lnTo>
                    <a:pt x="596" y="540"/>
                  </a:lnTo>
                  <a:lnTo>
                    <a:pt x="569" y="425"/>
                  </a:lnTo>
                  <a:lnTo>
                    <a:pt x="526" y="352"/>
                  </a:lnTo>
                  <a:lnTo>
                    <a:pt x="469" y="331"/>
                  </a:lnTo>
                  <a:lnTo>
                    <a:pt x="398" y="357"/>
                  </a:lnTo>
                  <a:lnTo>
                    <a:pt x="328" y="436"/>
                  </a:lnTo>
                  <a:lnTo>
                    <a:pt x="253" y="572"/>
                  </a:lnTo>
                  <a:lnTo>
                    <a:pt x="178" y="766"/>
                  </a:lnTo>
                  <a:lnTo>
                    <a:pt x="178" y="2234"/>
                  </a:lnTo>
                  <a:lnTo>
                    <a:pt x="0" y="2234"/>
                  </a:lnTo>
                </a:path>
              </a:pathLst>
            </a:custGeom>
            <a:gradFill rotWithShape="0">
              <a:gsLst>
                <a:gs pos="0">
                  <a:srgbClr val="9400ed"/>
                </a:gs>
                <a:gs pos="100000">
                  <a:srgbClr val="0000ff"/>
                </a:gs>
              </a:gsLst>
              <a:lin ang="10800000"/>
            </a:gradFill>
            <a:ln w="12600">
              <a:solidFill>
                <a:srgbClr val="eaeaea"/>
              </a:solidFill>
              <a:round/>
            </a:ln>
            <a:effectLst>
              <a:outerShdw dist="17819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430960" y="1501920"/>
              <a:ext cx="290520" cy="820440"/>
            </a:xfrm>
            <a:custGeom>
              <a:avLst/>
              <a:gdLst/>
              <a:ahLst/>
              <a:rect l="l" t="t" r="r" b="b"/>
              <a:pathLst>
                <a:path w="806" h="2282">
                  <a:moveTo>
                    <a:pt x="190" y="902"/>
                  </a:moveTo>
                  <a:lnTo>
                    <a:pt x="626" y="902"/>
                  </a:lnTo>
                  <a:lnTo>
                    <a:pt x="613" y="635"/>
                  </a:lnTo>
                  <a:lnTo>
                    <a:pt x="573" y="446"/>
                  </a:lnTo>
                  <a:lnTo>
                    <a:pt x="509" y="331"/>
                  </a:lnTo>
                  <a:lnTo>
                    <a:pt x="422" y="294"/>
                  </a:lnTo>
                  <a:lnTo>
                    <a:pt x="330" y="331"/>
                  </a:lnTo>
                  <a:lnTo>
                    <a:pt x="259" y="446"/>
                  </a:lnTo>
                  <a:lnTo>
                    <a:pt x="213" y="635"/>
                  </a:lnTo>
                  <a:lnTo>
                    <a:pt x="190" y="902"/>
                  </a:lnTo>
                  <a:close/>
                  <a:moveTo>
                    <a:pt x="800" y="2161"/>
                  </a:moveTo>
                  <a:lnTo>
                    <a:pt x="712" y="2208"/>
                  </a:lnTo>
                  <a:lnTo>
                    <a:pt x="633" y="2250"/>
                  </a:lnTo>
                  <a:lnTo>
                    <a:pt x="558" y="2266"/>
                  </a:lnTo>
                  <a:lnTo>
                    <a:pt x="492" y="2281"/>
                  </a:lnTo>
                  <a:lnTo>
                    <a:pt x="386" y="2255"/>
                  </a:lnTo>
                  <a:lnTo>
                    <a:pt x="294" y="2197"/>
                  </a:lnTo>
                  <a:lnTo>
                    <a:pt x="211" y="2098"/>
                  </a:lnTo>
                  <a:lnTo>
                    <a:pt x="138" y="1962"/>
                  </a:lnTo>
                  <a:lnTo>
                    <a:pt x="77" y="1783"/>
                  </a:lnTo>
                  <a:lnTo>
                    <a:pt x="32" y="1589"/>
                  </a:lnTo>
                  <a:lnTo>
                    <a:pt x="6" y="1369"/>
                  </a:lnTo>
                  <a:lnTo>
                    <a:pt x="0" y="1128"/>
                  </a:lnTo>
                  <a:lnTo>
                    <a:pt x="6" y="892"/>
                  </a:lnTo>
                  <a:lnTo>
                    <a:pt x="28" y="677"/>
                  </a:lnTo>
                  <a:lnTo>
                    <a:pt x="66" y="483"/>
                  </a:lnTo>
                  <a:lnTo>
                    <a:pt x="120" y="315"/>
                  </a:lnTo>
                  <a:lnTo>
                    <a:pt x="184" y="173"/>
                  </a:lnTo>
                  <a:lnTo>
                    <a:pt x="259" y="79"/>
                  </a:lnTo>
                  <a:lnTo>
                    <a:pt x="341" y="16"/>
                  </a:lnTo>
                  <a:lnTo>
                    <a:pt x="430" y="0"/>
                  </a:lnTo>
                  <a:lnTo>
                    <a:pt x="514" y="16"/>
                  </a:lnTo>
                  <a:lnTo>
                    <a:pt x="588" y="68"/>
                  </a:lnTo>
                  <a:lnTo>
                    <a:pt x="652" y="152"/>
                  </a:lnTo>
                  <a:lnTo>
                    <a:pt x="707" y="283"/>
                  </a:lnTo>
                  <a:lnTo>
                    <a:pt x="749" y="436"/>
                  </a:lnTo>
                  <a:lnTo>
                    <a:pt x="778" y="624"/>
                  </a:lnTo>
                  <a:lnTo>
                    <a:pt x="798" y="829"/>
                  </a:lnTo>
                  <a:lnTo>
                    <a:pt x="805" y="1081"/>
                  </a:lnTo>
                  <a:lnTo>
                    <a:pt x="805" y="1201"/>
                  </a:lnTo>
                  <a:lnTo>
                    <a:pt x="182" y="1201"/>
                  </a:lnTo>
                  <a:lnTo>
                    <a:pt x="217" y="1542"/>
                  </a:lnTo>
                  <a:lnTo>
                    <a:pt x="288" y="1783"/>
                  </a:lnTo>
                  <a:lnTo>
                    <a:pt x="388" y="1930"/>
                  </a:lnTo>
                  <a:lnTo>
                    <a:pt x="524" y="1982"/>
                  </a:lnTo>
                  <a:lnTo>
                    <a:pt x="582" y="1977"/>
                  </a:lnTo>
                  <a:lnTo>
                    <a:pt x="648" y="1946"/>
                  </a:lnTo>
                  <a:lnTo>
                    <a:pt x="720" y="1904"/>
                  </a:lnTo>
                  <a:lnTo>
                    <a:pt x="800" y="1846"/>
                  </a:lnTo>
                  <a:lnTo>
                    <a:pt x="800" y="2161"/>
                  </a:lnTo>
                  <a:close/>
                </a:path>
              </a:pathLst>
            </a:custGeom>
            <a:gradFill rotWithShape="0">
              <a:gsLst>
                <a:gs pos="0">
                  <a:srgbClr val="9400ed"/>
                </a:gs>
                <a:gs pos="100000">
                  <a:srgbClr val="0000ff"/>
                </a:gs>
              </a:gsLst>
              <a:lin ang="10800000"/>
            </a:gradFill>
            <a:ln w="12600">
              <a:solidFill>
                <a:srgbClr val="eaeaea"/>
              </a:solidFill>
              <a:round/>
            </a:ln>
            <a:effectLst>
              <a:outerShdw dist="17819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19760" y="1501920"/>
              <a:ext cx="239760" cy="820440"/>
            </a:xfrm>
            <a:custGeom>
              <a:avLst/>
              <a:gdLst/>
              <a:ahLst/>
              <a:rect l="l" t="t" r="r" b="b"/>
              <a:pathLst>
                <a:path w="665" h="2282">
                  <a:moveTo>
                    <a:pt x="0" y="2156"/>
                  </a:moveTo>
                  <a:lnTo>
                    <a:pt x="0" y="1788"/>
                  </a:lnTo>
                  <a:lnTo>
                    <a:pt x="84" y="1872"/>
                  </a:lnTo>
                  <a:lnTo>
                    <a:pt x="163" y="1935"/>
                  </a:lnTo>
                  <a:lnTo>
                    <a:pt x="237" y="1972"/>
                  </a:lnTo>
                  <a:lnTo>
                    <a:pt x="305" y="1982"/>
                  </a:lnTo>
                  <a:lnTo>
                    <a:pt x="343" y="1977"/>
                  </a:lnTo>
                  <a:lnTo>
                    <a:pt x="376" y="1962"/>
                  </a:lnTo>
                  <a:lnTo>
                    <a:pt x="407" y="1930"/>
                  </a:lnTo>
                  <a:lnTo>
                    <a:pt x="435" y="1893"/>
                  </a:lnTo>
                  <a:lnTo>
                    <a:pt x="456" y="1841"/>
                  </a:lnTo>
                  <a:lnTo>
                    <a:pt x="473" y="1783"/>
                  </a:lnTo>
                  <a:lnTo>
                    <a:pt x="482" y="1720"/>
                  </a:lnTo>
                  <a:lnTo>
                    <a:pt x="486" y="1657"/>
                  </a:lnTo>
                  <a:lnTo>
                    <a:pt x="475" y="1563"/>
                  </a:lnTo>
                  <a:lnTo>
                    <a:pt x="448" y="1474"/>
                  </a:lnTo>
                  <a:lnTo>
                    <a:pt x="405" y="1395"/>
                  </a:lnTo>
                  <a:lnTo>
                    <a:pt x="343" y="1322"/>
                  </a:lnTo>
                  <a:lnTo>
                    <a:pt x="237" y="1227"/>
                  </a:lnTo>
                  <a:lnTo>
                    <a:pt x="134" y="1102"/>
                  </a:lnTo>
                  <a:lnTo>
                    <a:pt x="62" y="965"/>
                  </a:lnTo>
                  <a:lnTo>
                    <a:pt x="18" y="797"/>
                  </a:lnTo>
                  <a:lnTo>
                    <a:pt x="5" y="614"/>
                  </a:lnTo>
                  <a:lnTo>
                    <a:pt x="9" y="478"/>
                  </a:lnTo>
                  <a:lnTo>
                    <a:pt x="26" y="357"/>
                  </a:lnTo>
                  <a:lnTo>
                    <a:pt x="55" y="247"/>
                  </a:lnTo>
                  <a:lnTo>
                    <a:pt x="97" y="158"/>
                  </a:lnTo>
                  <a:lnTo>
                    <a:pt x="145" y="84"/>
                  </a:lnTo>
                  <a:lnTo>
                    <a:pt x="203" y="37"/>
                  </a:lnTo>
                  <a:lnTo>
                    <a:pt x="271" y="11"/>
                  </a:lnTo>
                  <a:lnTo>
                    <a:pt x="347" y="0"/>
                  </a:lnTo>
                  <a:lnTo>
                    <a:pt x="390" y="0"/>
                  </a:lnTo>
                  <a:lnTo>
                    <a:pt x="439" y="11"/>
                  </a:lnTo>
                  <a:lnTo>
                    <a:pt x="492" y="27"/>
                  </a:lnTo>
                  <a:lnTo>
                    <a:pt x="552" y="53"/>
                  </a:lnTo>
                  <a:lnTo>
                    <a:pt x="590" y="68"/>
                  </a:lnTo>
                  <a:lnTo>
                    <a:pt x="590" y="394"/>
                  </a:lnTo>
                  <a:lnTo>
                    <a:pt x="517" y="352"/>
                  </a:lnTo>
                  <a:lnTo>
                    <a:pt x="453" y="320"/>
                  </a:lnTo>
                  <a:lnTo>
                    <a:pt x="398" y="299"/>
                  </a:lnTo>
                  <a:lnTo>
                    <a:pt x="350" y="294"/>
                  </a:lnTo>
                  <a:lnTo>
                    <a:pt x="312" y="294"/>
                  </a:lnTo>
                  <a:lnTo>
                    <a:pt x="279" y="310"/>
                  </a:lnTo>
                  <a:lnTo>
                    <a:pt x="251" y="336"/>
                  </a:lnTo>
                  <a:lnTo>
                    <a:pt x="226" y="367"/>
                  </a:lnTo>
                  <a:lnTo>
                    <a:pt x="205" y="409"/>
                  </a:lnTo>
                  <a:lnTo>
                    <a:pt x="190" y="457"/>
                  </a:lnTo>
                  <a:lnTo>
                    <a:pt x="180" y="509"/>
                  </a:lnTo>
                  <a:lnTo>
                    <a:pt x="178" y="572"/>
                  </a:lnTo>
                  <a:lnTo>
                    <a:pt x="185" y="656"/>
                  </a:lnTo>
                  <a:lnTo>
                    <a:pt x="211" y="740"/>
                  </a:lnTo>
                  <a:lnTo>
                    <a:pt x="251" y="808"/>
                  </a:lnTo>
                  <a:lnTo>
                    <a:pt x="310" y="876"/>
                  </a:lnTo>
                  <a:lnTo>
                    <a:pt x="396" y="960"/>
                  </a:lnTo>
                  <a:lnTo>
                    <a:pt x="464" y="1028"/>
                  </a:lnTo>
                  <a:lnTo>
                    <a:pt x="522" y="1096"/>
                  </a:lnTo>
                  <a:lnTo>
                    <a:pt x="567" y="1170"/>
                  </a:lnTo>
                  <a:lnTo>
                    <a:pt x="605" y="1243"/>
                  </a:lnTo>
                  <a:lnTo>
                    <a:pt x="629" y="1322"/>
                  </a:lnTo>
                  <a:lnTo>
                    <a:pt x="648" y="1416"/>
                  </a:lnTo>
                  <a:lnTo>
                    <a:pt x="660" y="1511"/>
                  </a:lnTo>
                  <a:lnTo>
                    <a:pt x="664" y="1626"/>
                  </a:lnTo>
                  <a:lnTo>
                    <a:pt x="658" y="1762"/>
                  </a:lnTo>
                  <a:lnTo>
                    <a:pt x="637" y="1883"/>
                  </a:lnTo>
                  <a:lnTo>
                    <a:pt x="607" y="1993"/>
                  </a:lnTo>
                  <a:lnTo>
                    <a:pt x="563" y="2098"/>
                  </a:lnTo>
                  <a:lnTo>
                    <a:pt x="508" y="2177"/>
                  </a:lnTo>
                  <a:lnTo>
                    <a:pt x="444" y="2234"/>
                  </a:lnTo>
                  <a:lnTo>
                    <a:pt x="376" y="2266"/>
                  </a:lnTo>
                  <a:lnTo>
                    <a:pt x="299" y="2281"/>
                  </a:lnTo>
                  <a:lnTo>
                    <a:pt x="233" y="2266"/>
                  </a:lnTo>
                  <a:lnTo>
                    <a:pt x="163" y="2245"/>
                  </a:lnTo>
                  <a:lnTo>
                    <a:pt x="84" y="2203"/>
                  </a:lnTo>
                  <a:lnTo>
                    <a:pt x="0" y="2156"/>
                  </a:lnTo>
                </a:path>
              </a:pathLst>
            </a:custGeom>
            <a:gradFill rotWithShape="0">
              <a:gsLst>
                <a:gs pos="0">
                  <a:srgbClr val="9400ed"/>
                </a:gs>
                <a:gs pos="100000">
                  <a:srgbClr val="0000ff"/>
                </a:gs>
              </a:gsLst>
              <a:lin ang="10800000"/>
            </a:gradFill>
            <a:ln w="12600">
              <a:solidFill>
                <a:srgbClr val="eaeaea"/>
              </a:solidFill>
              <a:round/>
            </a:ln>
            <a:effectLst>
              <a:outerShdw dist="17819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357960" y="1501920"/>
              <a:ext cx="339840" cy="820440"/>
            </a:xfrm>
            <a:custGeom>
              <a:avLst/>
              <a:gdLst/>
              <a:ahLst/>
              <a:rect l="l" t="t" r="r" b="b"/>
              <a:pathLst>
                <a:path w="942" h="2282">
                  <a:moveTo>
                    <a:pt x="471" y="1982"/>
                  </a:moveTo>
                  <a:lnTo>
                    <a:pt x="532" y="1972"/>
                  </a:lnTo>
                  <a:lnTo>
                    <a:pt x="587" y="1925"/>
                  </a:lnTo>
                  <a:lnTo>
                    <a:pt x="636" y="1857"/>
                  </a:lnTo>
                  <a:lnTo>
                    <a:pt x="677" y="1762"/>
                  </a:lnTo>
                  <a:lnTo>
                    <a:pt x="709" y="1642"/>
                  </a:lnTo>
                  <a:lnTo>
                    <a:pt x="730" y="1495"/>
                  </a:lnTo>
                  <a:lnTo>
                    <a:pt x="743" y="1322"/>
                  </a:lnTo>
                  <a:lnTo>
                    <a:pt x="750" y="1138"/>
                  </a:lnTo>
                  <a:lnTo>
                    <a:pt x="743" y="949"/>
                  </a:lnTo>
                  <a:lnTo>
                    <a:pt x="730" y="782"/>
                  </a:lnTo>
                  <a:lnTo>
                    <a:pt x="709" y="635"/>
                  </a:lnTo>
                  <a:lnTo>
                    <a:pt x="677" y="514"/>
                  </a:lnTo>
                  <a:lnTo>
                    <a:pt x="636" y="420"/>
                  </a:lnTo>
                  <a:lnTo>
                    <a:pt x="587" y="352"/>
                  </a:lnTo>
                  <a:lnTo>
                    <a:pt x="532" y="304"/>
                  </a:lnTo>
                  <a:lnTo>
                    <a:pt x="471" y="294"/>
                  </a:lnTo>
                  <a:lnTo>
                    <a:pt x="407" y="304"/>
                  </a:lnTo>
                  <a:lnTo>
                    <a:pt x="350" y="352"/>
                  </a:lnTo>
                  <a:lnTo>
                    <a:pt x="304" y="420"/>
                  </a:lnTo>
                  <a:lnTo>
                    <a:pt x="264" y="514"/>
                  </a:lnTo>
                  <a:lnTo>
                    <a:pt x="232" y="635"/>
                  </a:lnTo>
                  <a:lnTo>
                    <a:pt x="209" y="782"/>
                  </a:lnTo>
                  <a:lnTo>
                    <a:pt x="196" y="949"/>
                  </a:lnTo>
                  <a:lnTo>
                    <a:pt x="192" y="1138"/>
                  </a:lnTo>
                  <a:lnTo>
                    <a:pt x="196" y="1322"/>
                  </a:lnTo>
                  <a:lnTo>
                    <a:pt x="209" y="1495"/>
                  </a:lnTo>
                  <a:lnTo>
                    <a:pt x="232" y="1642"/>
                  </a:lnTo>
                  <a:lnTo>
                    <a:pt x="264" y="1762"/>
                  </a:lnTo>
                  <a:lnTo>
                    <a:pt x="304" y="1857"/>
                  </a:lnTo>
                  <a:lnTo>
                    <a:pt x="350" y="1925"/>
                  </a:lnTo>
                  <a:lnTo>
                    <a:pt x="407" y="1972"/>
                  </a:lnTo>
                  <a:lnTo>
                    <a:pt x="471" y="1982"/>
                  </a:lnTo>
                  <a:close/>
                  <a:moveTo>
                    <a:pt x="471" y="2281"/>
                  </a:moveTo>
                  <a:lnTo>
                    <a:pt x="368" y="2255"/>
                  </a:lnTo>
                  <a:lnTo>
                    <a:pt x="275" y="2197"/>
                  </a:lnTo>
                  <a:lnTo>
                    <a:pt x="196" y="2108"/>
                  </a:lnTo>
                  <a:lnTo>
                    <a:pt x="128" y="1977"/>
                  </a:lnTo>
                  <a:lnTo>
                    <a:pt x="71" y="1804"/>
                  </a:lnTo>
                  <a:lnTo>
                    <a:pt x="32" y="1610"/>
                  </a:lnTo>
                  <a:lnTo>
                    <a:pt x="7" y="1385"/>
                  </a:lnTo>
                  <a:lnTo>
                    <a:pt x="0" y="1138"/>
                  </a:lnTo>
                  <a:lnTo>
                    <a:pt x="7" y="887"/>
                  </a:lnTo>
                  <a:lnTo>
                    <a:pt x="32" y="666"/>
                  </a:lnTo>
                  <a:lnTo>
                    <a:pt x="71" y="472"/>
                  </a:lnTo>
                  <a:lnTo>
                    <a:pt x="128" y="304"/>
                  </a:lnTo>
                  <a:lnTo>
                    <a:pt x="196" y="168"/>
                  </a:lnTo>
                  <a:lnTo>
                    <a:pt x="275" y="74"/>
                  </a:lnTo>
                  <a:lnTo>
                    <a:pt x="368" y="16"/>
                  </a:lnTo>
                  <a:lnTo>
                    <a:pt x="471" y="0"/>
                  </a:lnTo>
                  <a:lnTo>
                    <a:pt x="572" y="16"/>
                  </a:lnTo>
                  <a:lnTo>
                    <a:pt x="664" y="74"/>
                  </a:lnTo>
                  <a:lnTo>
                    <a:pt x="745" y="168"/>
                  </a:lnTo>
                  <a:lnTo>
                    <a:pt x="816" y="304"/>
                  </a:lnTo>
                  <a:lnTo>
                    <a:pt x="869" y="472"/>
                  </a:lnTo>
                  <a:lnTo>
                    <a:pt x="909" y="666"/>
                  </a:lnTo>
                  <a:lnTo>
                    <a:pt x="933" y="887"/>
                  </a:lnTo>
                  <a:lnTo>
                    <a:pt x="941" y="1138"/>
                  </a:lnTo>
                  <a:lnTo>
                    <a:pt x="933" y="1385"/>
                  </a:lnTo>
                  <a:lnTo>
                    <a:pt x="909" y="1610"/>
                  </a:lnTo>
                  <a:lnTo>
                    <a:pt x="869" y="1804"/>
                  </a:lnTo>
                  <a:lnTo>
                    <a:pt x="816" y="1977"/>
                  </a:lnTo>
                  <a:lnTo>
                    <a:pt x="745" y="2108"/>
                  </a:lnTo>
                  <a:lnTo>
                    <a:pt x="664" y="2197"/>
                  </a:lnTo>
                  <a:lnTo>
                    <a:pt x="572" y="2255"/>
                  </a:lnTo>
                  <a:lnTo>
                    <a:pt x="471" y="2281"/>
                  </a:lnTo>
                  <a:close/>
                </a:path>
              </a:pathLst>
            </a:custGeom>
            <a:gradFill rotWithShape="0">
              <a:gsLst>
                <a:gs pos="0">
                  <a:srgbClr val="9400ed"/>
                </a:gs>
                <a:gs pos="100000">
                  <a:srgbClr val="0000ff"/>
                </a:gs>
              </a:gsLst>
              <a:lin ang="10800000"/>
            </a:gradFill>
            <a:ln w="12600">
              <a:solidFill>
                <a:srgbClr val="eaeaea"/>
              </a:solidFill>
              <a:round/>
            </a:ln>
            <a:effectLst>
              <a:outerShdw dist="17819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794640" y="1519200"/>
              <a:ext cx="290520" cy="804960"/>
            </a:xfrm>
            <a:custGeom>
              <a:avLst/>
              <a:gdLst/>
              <a:ahLst/>
              <a:rect l="l" t="t" r="r" b="b"/>
              <a:pathLst>
                <a:path w="807" h="2234">
                  <a:moveTo>
                    <a:pt x="629" y="2186"/>
                  </a:moveTo>
                  <a:lnTo>
                    <a:pt x="629" y="1772"/>
                  </a:lnTo>
                  <a:lnTo>
                    <a:pt x="552" y="1971"/>
                  </a:lnTo>
                  <a:lnTo>
                    <a:pt x="470" y="2113"/>
                  </a:lnTo>
                  <a:lnTo>
                    <a:pt x="378" y="2202"/>
                  </a:lnTo>
                  <a:lnTo>
                    <a:pt x="282" y="2233"/>
                  </a:lnTo>
                  <a:lnTo>
                    <a:pt x="220" y="2218"/>
                  </a:lnTo>
                  <a:lnTo>
                    <a:pt x="165" y="2186"/>
                  </a:lnTo>
                  <a:lnTo>
                    <a:pt x="116" y="2134"/>
                  </a:lnTo>
                  <a:lnTo>
                    <a:pt x="76" y="2055"/>
                  </a:lnTo>
                  <a:lnTo>
                    <a:pt x="42" y="1950"/>
                  </a:lnTo>
                  <a:lnTo>
                    <a:pt x="18" y="1840"/>
                  </a:lnTo>
                  <a:lnTo>
                    <a:pt x="4" y="1709"/>
                  </a:lnTo>
                  <a:lnTo>
                    <a:pt x="0" y="1567"/>
                  </a:lnTo>
                  <a:lnTo>
                    <a:pt x="0" y="0"/>
                  </a:lnTo>
                  <a:lnTo>
                    <a:pt x="178" y="0"/>
                  </a:lnTo>
                  <a:lnTo>
                    <a:pt x="178" y="1442"/>
                  </a:lnTo>
                  <a:lnTo>
                    <a:pt x="178" y="1552"/>
                  </a:lnTo>
                  <a:lnTo>
                    <a:pt x="185" y="1646"/>
                  </a:lnTo>
                  <a:lnTo>
                    <a:pt x="195" y="1725"/>
                  </a:lnTo>
                  <a:lnTo>
                    <a:pt x="212" y="1788"/>
                  </a:lnTo>
                  <a:lnTo>
                    <a:pt x="229" y="1830"/>
                  </a:lnTo>
                  <a:lnTo>
                    <a:pt x="253" y="1861"/>
                  </a:lnTo>
                  <a:lnTo>
                    <a:pt x="282" y="1882"/>
                  </a:lnTo>
                  <a:lnTo>
                    <a:pt x="319" y="1893"/>
                  </a:lnTo>
                  <a:lnTo>
                    <a:pt x="398" y="1861"/>
                  </a:lnTo>
                  <a:lnTo>
                    <a:pt x="477" y="1772"/>
                  </a:lnTo>
                  <a:lnTo>
                    <a:pt x="554" y="1620"/>
                  </a:lnTo>
                  <a:lnTo>
                    <a:pt x="629" y="1415"/>
                  </a:lnTo>
                  <a:lnTo>
                    <a:pt x="629" y="0"/>
                  </a:lnTo>
                  <a:lnTo>
                    <a:pt x="806" y="0"/>
                  </a:lnTo>
                  <a:lnTo>
                    <a:pt x="806" y="2186"/>
                  </a:lnTo>
                  <a:lnTo>
                    <a:pt x="629" y="2186"/>
                  </a:lnTo>
                </a:path>
              </a:pathLst>
            </a:custGeom>
            <a:gradFill rotWithShape="0">
              <a:gsLst>
                <a:gs pos="0">
                  <a:srgbClr val="9400ed"/>
                </a:gs>
                <a:gs pos="100000">
                  <a:srgbClr val="0000ff"/>
                </a:gs>
              </a:gsLst>
              <a:lin ang="10800000"/>
            </a:gradFill>
            <a:ln w="12600">
              <a:solidFill>
                <a:srgbClr val="eaeaea"/>
              </a:solidFill>
              <a:round/>
            </a:ln>
            <a:effectLst>
              <a:outerShdw dist="17819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156440" y="1519200"/>
              <a:ext cx="338040" cy="787320"/>
            </a:xfrm>
            <a:custGeom>
              <a:avLst/>
              <a:gdLst/>
              <a:ahLst/>
              <a:rect l="l" t="t" r="r" b="b"/>
              <a:pathLst>
                <a:path w="938" h="2187">
                  <a:moveTo>
                    <a:pt x="368" y="2186"/>
                  </a:moveTo>
                  <a:lnTo>
                    <a:pt x="0" y="0"/>
                  </a:lnTo>
                  <a:lnTo>
                    <a:pt x="181" y="0"/>
                  </a:lnTo>
                  <a:lnTo>
                    <a:pt x="466" y="1688"/>
                  </a:lnTo>
                  <a:lnTo>
                    <a:pt x="768" y="0"/>
                  </a:lnTo>
                  <a:lnTo>
                    <a:pt x="937" y="0"/>
                  </a:lnTo>
                  <a:lnTo>
                    <a:pt x="549" y="2186"/>
                  </a:lnTo>
                  <a:lnTo>
                    <a:pt x="368" y="2186"/>
                  </a:lnTo>
                </a:path>
              </a:pathLst>
            </a:custGeom>
            <a:gradFill rotWithShape="0">
              <a:gsLst>
                <a:gs pos="0">
                  <a:srgbClr val="9400ed"/>
                </a:gs>
                <a:gs pos="100000">
                  <a:srgbClr val="0000ff"/>
                </a:gs>
              </a:gsLst>
              <a:lin ang="10800000"/>
            </a:gradFill>
            <a:ln w="12600">
              <a:solidFill>
                <a:srgbClr val="eaeaea"/>
              </a:solidFill>
              <a:round/>
            </a:ln>
            <a:effectLst>
              <a:outerShdw dist="17819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532640" y="1501920"/>
              <a:ext cx="290520" cy="820440"/>
            </a:xfrm>
            <a:custGeom>
              <a:avLst/>
              <a:gdLst/>
              <a:ahLst/>
              <a:rect l="l" t="t" r="r" b="b"/>
              <a:pathLst>
                <a:path w="806" h="2282">
                  <a:moveTo>
                    <a:pt x="192" y="902"/>
                  </a:moveTo>
                  <a:lnTo>
                    <a:pt x="627" y="902"/>
                  </a:lnTo>
                  <a:lnTo>
                    <a:pt x="614" y="635"/>
                  </a:lnTo>
                  <a:lnTo>
                    <a:pt x="575" y="446"/>
                  </a:lnTo>
                  <a:lnTo>
                    <a:pt x="511" y="331"/>
                  </a:lnTo>
                  <a:lnTo>
                    <a:pt x="422" y="294"/>
                  </a:lnTo>
                  <a:lnTo>
                    <a:pt x="330" y="331"/>
                  </a:lnTo>
                  <a:lnTo>
                    <a:pt x="260" y="446"/>
                  </a:lnTo>
                  <a:lnTo>
                    <a:pt x="213" y="635"/>
                  </a:lnTo>
                  <a:lnTo>
                    <a:pt x="192" y="902"/>
                  </a:lnTo>
                  <a:close/>
                  <a:moveTo>
                    <a:pt x="801" y="2161"/>
                  </a:moveTo>
                  <a:lnTo>
                    <a:pt x="713" y="2208"/>
                  </a:lnTo>
                  <a:lnTo>
                    <a:pt x="634" y="2250"/>
                  </a:lnTo>
                  <a:lnTo>
                    <a:pt x="558" y="2266"/>
                  </a:lnTo>
                  <a:lnTo>
                    <a:pt x="493" y="2281"/>
                  </a:lnTo>
                  <a:lnTo>
                    <a:pt x="388" y="2255"/>
                  </a:lnTo>
                  <a:lnTo>
                    <a:pt x="295" y="2197"/>
                  </a:lnTo>
                  <a:lnTo>
                    <a:pt x="211" y="2098"/>
                  </a:lnTo>
                  <a:lnTo>
                    <a:pt x="139" y="1962"/>
                  </a:lnTo>
                  <a:lnTo>
                    <a:pt x="77" y="1783"/>
                  </a:lnTo>
                  <a:lnTo>
                    <a:pt x="34" y="1589"/>
                  </a:lnTo>
                  <a:lnTo>
                    <a:pt x="7" y="1369"/>
                  </a:lnTo>
                  <a:lnTo>
                    <a:pt x="0" y="1128"/>
                  </a:lnTo>
                  <a:lnTo>
                    <a:pt x="7" y="892"/>
                  </a:lnTo>
                  <a:lnTo>
                    <a:pt x="29" y="677"/>
                  </a:lnTo>
                  <a:lnTo>
                    <a:pt x="66" y="483"/>
                  </a:lnTo>
                  <a:lnTo>
                    <a:pt x="121" y="315"/>
                  </a:lnTo>
                  <a:lnTo>
                    <a:pt x="185" y="173"/>
                  </a:lnTo>
                  <a:lnTo>
                    <a:pt x="260" y="79"/>
                  </a:lnTo>
                  <a:lnTo>
                    <a:pt x="341" y="16"/>
                  </a:lnTo>
                  <a:lnTo>
                    <a:pt x="431" y="0"/>
                  </a:lnTo>
                  <a:lnTo>
                    <a:pt x="515" y="16"/>
                  </a:lnTo>
                  <a:lnTo>
                    <a:pt x="590" y="68"/>
                  </a:lnTo>
                  <a:lnTo>
                    <a:pt x="654" y="152"/>
                  </a:lnTo>
                  <a:lnTo>
                    <a:pt x="709" y="283"/>
                  </a:lnTo>
                  <a:lnTo>
                    <a:pt x="750" y="436"/>
                  </a:lnTo>
                  <a:lnTo>
                    <a:pt x="779" y="624"/>
                  </a:lnTo>
                  <a:lnTo>
                    <a:pt x="799" y="829"/>
                  </a:lnTo>
                  <a:lnTo>
                    <a:pt x="805" y="1081"/>
                  </a:lnTo>
                  <a:lnTo>
                    <a:pt x="805" y="1201"/>
                  </a:lnTo>
                  <a:lnTo>
                    <a:pt x="183" y="1201"/>
                  </a:lnTo>
                  <a:lnTo>
                    <a:pt x="218" y="1542"/>
                  </a:lnTo>
                  <a:lnTo>
                    <a:pt x="288" y="1783"/>
                  </a:lnTo>
                  <a:lnTo>
                    <a:pt x="390" y="1930"/>
                  </a:lnTo>
                  <a:lnTo>
                    <a:pt x="526" y="1982"/>
                  </a:lnTo>
                  <a:lnTo>
                    <a:pt x="583" y="1977"/>
                  </a:lnTo>
                  <a:lnTo>
                    <a:pt x="649" y="1946"/>
                  </a:lnTo>
                  <a:lnTo>
                    <a:pt x="722" y="1904"/>
                  </a:lnTo>
                  <a:lnTo>
                    <a:pt x="801" y="1846"/>
                  </a:lnTo>
                  <a:lnTo>
                    <a:pt x="801" y="2161"/>
                  </a:lnTo>
                  <a:close/>
                </a:path>
              </a:pathLst>
            </a:custGeom>
            <a:gradFill rotWithShape="0">
              <a:gsLst>
                <a:gs pos="0">
                  <a:srgbClr val="9400ed"/>
                </a:gs>
                <a:gs pos="100000">
                  <a:srgbClr val="0000ff"/>
                </a:gs>
              </a:gsLst>
              <a:lin ang="10800000"/>
            </a:gradFill>
            <a:ln w="12600">
              <a:solidFill>
                <a:srgbClr val="eaeaea"/>
              </a:solidFill>
              <a:round/>
            </a:ln>
            <a:effectLst>
              <a:outerShdw dist="17819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934400" y="1501920"/>
              <a:ext cx="196920" cy="804600"/>
            </a:xfrm>
            <a:custGeom>
              <a:avLst/>
              <a:gdLst/>
              <a:ahLst/>
              <a:rect l="l" t="t" r="r" b="b"/>
              <a:pathLst>
                <a:path w="547" h="2235">
                  <a:moveTo>
                    <a:pt x="0" y="2234"/>
                  </a:moveTo>
                  <a:lnTo>
                    <a:pt x="0" y="48"/>
                  </a:lnTo>
                  <a:lnTo>
                    <a:pt x="178" y="48"/>
                  </a:lnTo>
                  <a:lnTo>
                    <a:pt x="178" y="457"/>
                  </a:lnTo>
                  <a:lnTo>
                    <a:pt x="235" y="252"/>
                  </a:lnTo>
                  <a:lnTo>
                    <a:pt x="308" y="110"/>
                  </a:lnTo>
                  <a:lnTo>
                    <a:pt x="392" y="21"/>
                  </a:lnTo>
                  <a:lnTo>
                    <a:pt x="488" y="0"/>
                  </a:lnTo>
                  <a:lnTo>
                    <a:pt x="501" y="0"/>
                  </a:lnTo>
                  <a:lnTo>
                    <a:pt x="514" y="0"/>
                  </a:lnTo>
                  <a:lnTo>
                    <a:pt x="530" y="6"/>
                  </a:lnTo>
                  <a:lnTo>
                    <a:pt x="546" y="11"/>
                  </a:lnTo>
                  <a:lnTo>
                    <a:pt x="546" y="383"/>
                  </a:lnTo>
                  <a:lnTo>
                    <a:pt x="522" y="362"/>
                  </a:lnTo>
                  <a:lnTo>
                    <a:pt x="501" y="357"/>
                  </a:lnTo>
                  <a:lnTo>
                    <a:pt x="482" y="352"/>
                  </a:lnTo>
                  <a:lnTo>
                    <a:pt x="464" y="352"/>
                  </a:lnTo>
                  <a:lnTo>
                    <a:pt x="380" y="373"/>
                  </a:lnTo>
                  <a:lnTo>
                    <a:pt x="306" y="462"/>
                  </a:lnTo>
                  <a:lnTo>
                    <a:pt x="237" y="598"/>
                  </a:lnTo>
                  <a:lnTo>
                    <a:pt x="178" y="797"/>
                  </a:lnTo>
                  <a:lnTo>
                    <a:pt x="178" y="2234"/>
                  </a:lnTo>
                  <a:lnTo>
                    <a:pt x="0" y="2234"/>
                  </a:lnTo>
                </a:path>
              </a:pathLst>
            </a:custGeom>
            <a:gradFill rotWithShape="0">
              <a:gsLst>
                <a:gs pos="0">
                  <a:srgbClr val="9400ed"/>
                </a:gs>
                <a:gs pos="100000">
                  <a:srgbClr val="0000ff"/>
                </a:gs>
              </a:gsLst>
              <a:lin ang="10800000"/>
            </a:gradFill>
            <a:ln w="12600">
              <a:solidFill>
                <a:srgbClr val="eaeaea"/>
              </a:solidFill>
              <a:round/>
            </a:ln>
            <a:effectLst>
              <a:outerShdw dist="17819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167680" y="1362240"/>
              <a:ext cx="203040" cy="960120"/>
            </a:xfrm>
            <a:custGeom>
              <a:avLst/>
              <a:gdLst/>
              <a:ahLst/>
              <a:rect l="l" t="t" r="r" b="b"/>
              <a:pathLst>
                <a:path w="563" h="2670">
                  <a:moveTo>
                    <a:pt x="557" y="2622"/>
                  </a:moveTo>
                  <a:lnTo>
                    <a:pt x="515" y="2638"/>
                  </a:lnTo>
                  <a:lnTo>
                    <a:pt x="478" y="2648"/>
                  </a:lnTo>
                  <a:lnTo>
                    <a:pt x="445" y="2659"/>
                  </a:lnTo>
                  <a:lnTo>
                    <a:pt x="415" y="2669"/>
                  </a:lnTo>
                  <a:lnTo>
                    <a:pt x="349" y="2654"/>
                  </a:lnTo>
                  <a:lnTo>
                    <a:pt x="291" y="2622"/>
                  </a:lnTo>
                  <a:lnTo>
                    <a:pt x="243" y="2570"/>
                  </a:lnTo>
                  <a:lnTo>
                    <a:pt x="200" y="2496"/>
                  </a:lnTo>
                  <a:lnTo>
                    <a:pt x="166" y="2397"/>
                  </a:lnTo>
                  <a:lnTo>
                    <a:pt x="142" y="2292"/>
                  </a:lnTo>
                  <a:lnTo>
                    <a:pt x="128" y="2161"/>
                  </a:lnTo>
                  <a:lnTo>
                    <a:pt x="124" y="2019"/>
                  </a:lnTo>
                  <a:lnTo>
                    <a:pt x="124" y="734"/>
                  </a:lnTo>
                  <a:lnTo>
                    <a:pt x="0" y="734"/>
                  </a:lnTo>
                  <a:lnTo>
                    <a:pt x="0" y="436"/>
                  </a:lnTo>
                  <a:lnTo>
                    <a:pt x="124" y="436"/>
                  </a:lnTo>
                  <a:lnTo>
                    <a:pt x="124" y="42"/>
                  </a:lnTo>
                  <a:lnTo>
                    <a:pt x="302" y="0"/>
                  </a:lnTo>
                  <a:lnTo>
                    <a:pt x="302" y="436"/>
                  </a:lnTo>
                  <a:lnTo>
                    <a:pt x="562" y="436"/>
                  </a:lnTo>
                  <a:lnTo>
                    <a:pt x="562" y="734"/>
                  </a:lnTo>
                  <a:lnTo>
                    <a:pt x="302" y="734"/>
                  </a:lnTo>
                  <a:lnTo>
                    <a:pt x="302" y="1946"/>
                  </a:lnTo>
                  <a:lnTo>
                    <a:pt x="311" y="2129"/>
                  </a:lnTo>
                  <a:lnTo>
                    <a:pt x="344" y="2266"/>
                  </a:lnTo>
                  <a:lnTo>
                    <a:pt x="396" y="2344"/>
                  </a:lnTo>
                  <a:lnTo>
                    <a:pt x="471" y="2370"/>
                  </a:lnTo>
                  <a:lnTo>
                    <a:pt x="489" y="2365"/>
                  </a:lnTo>
                  <a:lnTo>
                    <a:pt x="511" y="2365"/>
                  </a:lnTo>
                  <a:lnTo>
                    <a:pt x="533" y="2360"/>
                  </a:lnTo>
                  <a:lnTo>
                    <a:pt x="557" y="2350"/>
                  </a:lnTo>
                  <a:lnTo>
                    <a:pt x="557" y="2622"/>
                  </a:lnTo>
                </a:path>
              </a:pathLst>
            </a:custGeom>
            <a:gradFill rotWithShape="0">
              <a:gsLst>
                <a:gs pos="0">
                  <a:srgbClr val="9400ed"/>
                </a:gs>
                <a:gs pos="100000">
                  <a:srgbClr val="0000ff"/>
                </a:gs>
              </a:gsLst>
              <a:lin ang="10800000"/>
            </a:gradFill>
            <a:ln w="12600">
              <a:solidFill>
                <a:srgbClr val="eaeaea"/>
              </a:solidFill>
              <a:round/>
            </a:ln>
            <a:effectLst>
              <a:outerShdw dist="17819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447040" y="1501920"/>
              <a:ext cx="239760" cy="820440"/>
            </a:xfrm>
            <a:custGeom>
              <a:avLst/>
              <a:gdLst/>
              <a:ahLst/>
              <a:rect l="l" t="t" r="r" b="b"/>
              <a:pathLst>
                <a:path w="665" h="2282">
                  <a:moveTo>
                    <a:pt x="0" y="2156"/>
                  </a:moveTo>
                  <a:lnTo>
                    <a:pt x="0" y="1788"/>
                  </a:lnTo>
                  <a:lnTo>
                    <a:pt x="83" y="1872"/>
                  </a:lnTo>
                  <a:lnTo>
                    <a:pt x="162" y="1935"/>
                  </a:lnTo>
                  <a:lnTo>
                    <a:pt x="238" y="1972"/>
                  </a:lnTo>
                  <a:lnTo>
                    <a:pt x="306" y="1982"/>
                  </a:lnTo>
                  <a:lnTo>
                    <a:pt x="343" y="1977"/>
                  </a:lnTo>
                  <a:lnTo>
                    <a:pt x="376" y="1962"/>
                  </a:lnTo>
                  <a:lnTo>
                    <a:pt x="407" y="1930"/>
                  </a:lnTo>
                  <a:lnTo>
                    <a:pt x="436" y="1893"/>
                  </a:lnTo>
                  <a:lnTo>
                    <a:pt x="455" y="1841"/>
                  </a:lnTo>
                  <a:lnTo>
                    <a:pt x="473" y="1783"/>
                  </a:lnTo>
                  <a:lnTo>
                    <a:pt x="481" y="1720"/>
                  </a:lnTo>
                  <a:lnTo>
                    <a:pt x="486" y="1657"/>
                  </a:lnTo>
                  <a:lnTo>
                    <a:pt x="475" y="1563"/>
                  </a:lnTo>
                  <a:lnTo>
                    <a:pt x="449" y="1474"/>
                  </a:lnTo>
                  <a:lnTo>
                    <a:pt x="404" y="1395"/>
                  </a:lnTo>
                  <a:lnTo>
                    <a:pt x="343" y="1322"/>
                  </a:lnTo>
                  <a:lnTo>
                    <a:pt x="238" y="1227"/>
                  </a:lnTo>
                  <a:lnTo>
                    <a:pt x="134" y="1102"/>
                  </a:lnTo>
                  <a:lnTo>
                    <a:pt x="62" y="965"/>
                  </a:lnTo>
                  <a:lnTo>
                    <a:pt x="17" y="797"/>
                  </a:lnTo>
                  <a:lnTo>
                    <a:pt x="4" y="614"/>
                  </a:lnTo>
                  <a:lnTo>
                    <a:pt x="9" y="478"/>
                  </a:lnTo>
                  <a:lnTo>
                    <a:pt x="26" y="357"/>
                  </a:lnTo>
                  <a:lnTo>
                    <a:pt x="55" y="247"/>
                  </a:lnTo>
                  <a:lnTo>
                    <a:pt x="97" y="158"/>
                  </a:lnTo>
                  <a:lnTo>
                    <a:pt x="145" y="84"/>
                  </a:lnTo>
                  <a:lnTo>
                    <a:pt x="202" y="37"/>
                  </a:lnTo>
                  <a:lnTo>
                    <a:pt x="270" y="11"/>
                  </a:lnTo>
                  <a:lnTo>
                    <a:pt x="347" y="0"/>
                  </a:lnTo>
                  <a:lnTo>
                    <a:pt x="389" y="0"/>
                  </a:lnTo>
                  <a:lnTo>
                    <a:pt x="440" y="11"/>
                  </a:lnTo>
                  <a:lnTo>
                    <a:pt x="492" y="27"/>
                  </a:lnTo>
                  <a:lnTo>
                    <a:pt x="552" y="53"/>
                  </a:lnTo>
                  <a:lnTo>
                    <a:pt x="589" y="68"/>
                  </a:lnTo>
                  <a:lnTo>
                    <a:pt x="589" y="394"/>
                  </a:lnTo>
                  <a:lnTo>
                    <a:pt x="517" y="352"/>
                  </a:lnTo>
                  <a:lnTo>
                    <a:pt x="453" y="320"/>
                  </a:lnTo>
                  <a:lnTo>
                    <a:pt x="398" y="299"/>
                  </a:lnTo>
                  <a:lnTo>
                    <a:pt x="349" y="294"/>
                  </a:lnTo>
                  <a:lnTo>
                    <a:pt x="313" y="294"/>
                  </a:lnTo>
                  <a:lnTo>
                    <a:pt x="279" y="310"/>
                  </a:lnTo>
                  <a:lnTo>
                    <a:pt x="251" y="336"/>
                  </a:lnTo>
                  <a:lnTo>
                    <a:pt x="226" y="367"/>
                  </a:lnTo>
                  <a:lnTo>
                    <a:pt x="204" y="409"/>
                  </a:lnTo>
                  <a:lnTo>
                    <a:pt x="189" y="457"/>
                  </a:lnTo>
                  <a:lnTo>
                    <a:pt x="181" y="509"/>
                  </a:lnTo>
                  <a:lnTo>
                    <a:pt x="178" y="572"/>
                  </a:lnTo>
                  <a:lnTo>
                    <a:pt x="185" y="656"/>
                  </a:lnTo>
                  <a:lnTo>
                    <a:pt x="211" y="740"/>
                  </a:lnTo>
                  <a:lnTo>
                    <a:pt x="251" y="808"/>
                  </a:lnTo>
                  <a:lnTo>
                    <a:pt x="310" y="876"/>
                  </a:lnTo>
                  <a:lnTo>
                    <a:pt x="396" y="960"/>
                  </a:lnTo>
                  <a:lnTo>
                    <a:pt x="464" y="1028"/>
                  </a:lnTo>
                  <a:lnTo>
                    <a:pt x="521" y="1096"/>
                  </a:lnTo>
                  <a:lnTo>
                    <a:pt x="568" y="1170"/>
                  </a:lnTo>
                  <a:lnTo>
                    <a:pt x="605" y="1243"/>
                  </a:lnTo>
                  <a:lnTo>
                    <a:pt x="628" y="1322"/>
                  </a:lnTo>
                  <a:lnTo>
                    <a:pt x="649" y="1416"/>
                  </a:lnTo>
                  <a:lnTo>
                    <a:pt x="660" y="1511"/>
                  </a:lnTo>
                  <a:lnTo>
                    <a:pt x="664" y="1626"/>
                  </a:lnTo>
                  <a:lnTo>
                    <a:pt x="658" y="1762"/>
                  </a:lnTo>
                  <a:lnTo>
                    <a:pt x="638" y="1883"/>
                  </a:lnTo>
                  <a:lnTo>
                    <a:pt x="607" y="1993"/>
                  </a:lnTo>
                  <a:lnTo>
                    <a:pt x="562" y="2098"/>
                  </a:lnTo>
                  <a:lnTo>
                    <a:pt x="508" y="2177"/>
                  </a:lnTo>
                  <a:lnTo>
                    <a:pt x="444" y="2234"/>
                  </a:lnTo>
                  <a:lnTo>
                    <a:pt x="376" y="2266"/>
                  </a:lnTo>
                  <a:lnTo>
                    <a:pt x="300" y="2281"/>
                  </a:lnTo>
                  <a:lnTo>
                    <a:pt x="234" y="2266"/>
                  </a:lnTo>
                  <a:lnTo>
                    <a:pt x="162" y="2245"/>
                  </a:lnTo>
                  <a:lnTo>
                    <a:pt x="83" y="2203"/>
                  </a:lnTo>
                  <a:lnTo>
                    <a:pt x="0" y="2156"/>
                  </a:lnTo>
                </a:path>
              </a:pathLst>
            </a:custGeom>
            <a:gradFill rotWithShape="0">
              <a:gsLst>
                <a:gs pos="0">
                  <a:srgbClr val="9400ed"/>
                </a:gs>
                <a:gs pos="100000">
                  <a:srgbClr val="0000ff"/>
                </a:gs>
              </a:gsLst>
              <a:lin ang="10800000"/>
            </a:gradFill>
            <a:ln w="12600">
              <a:solidFill>
                <a:srgbClr val="eaeaea"/>
              </a:solidFill>
              <a:round/>
            </a:ln>
            <a:effectLst>
              <a:outerShdw dist="17819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" name=""/>
          <p:cNvSpPr/>
          <p:nvPr/>
        </p:nvSpPr>
        <p:spPr>
          <a:xfrm>
            <a:off x="3200400" y="3886200"/>
            <a:ext cx="304920" cy="457200"/>
          </a:xfrm>
          <a:custGeom>
            <a:avLst/>
            <a:gdLst/>
            <a:ahLst/>
            <a:rect l="l" t="t" r="r" b="b"/>
            <a:pathLst>
              <a:path w="848" h="1271">
                <a:moveTo>
                  <a:pt x="228" y="938"/>
                </a:moveTo>
                <a:lnTo>
                  <a:pt x="228" y="895"/>
                </a:lnTo>
                <a:lnTo>
                  <a:pt x="228" y="849"/>
                </a:lnTo>
                <a:lnTo>
                  <a:pt x="235" y="807"/>
                </a:lnTo>
                <a:lnTo>
                  <a:pt x="246" y="770"/>
                </a:lnTo>
                <a:lnTo>
                  <a:pt x="261" y="738"/>
                </a:lnTo>
                <a:lnTo>
                  <a:pt x="280" y="705"/>
                </a:lnTo>
                <a:lnTo>
                  <a:pt x="308" y="670"/>
                </a:lnTo>
                <a:lnTo>
                  <a:pt x="342" y="631"/>
                </a:lnTo>
                <a:lnTo>
                  <a:pt x="385" y="594"/>
                </a:lnTo>
                <a:lnTo>
                  <a:pt x="453" y="532"/>
                </a:lnTo>
                <a:lnTo>
                  <a:pt x="526" y="460"/>
                </a:lnTo>
                <a:lnTo>
                  <a:pt x="577" y="393"/>
                </a:lnTo>
                <a:lnTo>
                  <a:pt x="609" y="336"/>
                </a:lnTo>
                <a:lnTo>
                  <a:pt x="622" y="286"/>
                </a:lnTo>
                <a:lnTo>
                  <a:pt x="616" y="249"/>
                </a:lnTo>
                <a:lnTo>
                  <a:pt x="601" y="216"/>
                </a:lnTo>
                <a:lnTo>
                  <a:pt x="577" y="190"/>
                </a:lnTo>
                <a:lnTo>
                  <a:pt x="547" y="166"/>
                </a:lnTo>
                <a:lnTo>
                  <a:pt x="505" y="146"/>
                </a:lnTo>
                <a:lnTo>
                  <a:pt x="458" y="133"/>
                </a:lnTo>
                <a:lnTo>
                  <a:pt x="404" y="124"/>
                </a:lnTo>
                <a:lnTo>
                  <a:pt x="347" y="122"/>
                </a:lnTo>
                <a:lnTo>
                  <a:pt x="261" y="124"/>
                </a:lnTo>
                <a:lnTo>
                  <a:pt x="175" y="137"/>
                </a:lnTo>
                <a:lnTo>
                  <a:pt x="88" y="157"/>
                </a:lnTo>
                <a:lnTo>
                  <a:pt x="0" y="185"/>
                </a:lnTo>
                <a:lnTo>
                  <a:pt x="0" y="46"/>
                </a:lnTo>
                <a:lnTo>
                  <a:pt x="96" y="26"/>
                </a:lnTo>
                <a:lnTo>
                  <a:pt x="192" y="11"/>
                </a:lnTo>
                <a:lnTo>
                  <a:pt x="282" y="2"/>
                </a:lnTo>
                <a:lnTo>
                  <a:pt x="372" y="0"/>
                </a:lnTo>
                <a:lnTo>
                  <a:pt x="474" y="4"/>
                </a:lnTo>
                <a:lnTo>
                  <a:pt x="567" y="17"/>
                </a:lnTo>
                <a:lnTo>
                  <a:pt x="650" y="41"/>
                </a:lnTo>
                <a:lnTo>
                  <a:pt x="720" y="76"/>
                </a:lnTo>
                <a:lnTo>
                  <a:pt x="774" y="118"/>
                </a:lnTo>
                <a:lnTo>
                  <a:pt x="813" y="166"/>
                </a:lnTo>
                <a:lnTo>
                  <a:pt x="836" y="220"/>
                </a:lnTo>
                <a:lnTo>
                  <a:pt x="847" y="284"/>
                </a:lnTo>
                <a:lnTo>
                  <a:pt x="844" y="319"/>
                </a:lnTo>
                <a:lnTo>
                  <a:pt x="836" y="349"/>
                </a:lnTo>
                <a:lnTo>
                  <a:pt x="823" y="380"/>
                </a:lnTo>
                <a:lnTo>
                  <a:pt x="810" y="408"/>
                </a:lnTo>
                <a:lnTo>
                  <a:pt x="785" y="436"/>
                </a:lnTo>
                <a:lnTo>
                  <a:pt x="753" y="467"/>
                </a:lnTo>
                <a:lnTo>
                  <a:pt x="714" y="502"/>
                </a:lnTo>
                <a:lnTo>
                  <a:pt x="668" y="541"/>
                </a:lnTo>
                <a:lnTo>
                  <a:pt x="601" y="589"/>
                </a:lnTo>
                <a:lnTo>
                  <a:pt x="554" y="624"/>
                </a:lnTo>
                <a:lnTo>
                  <a:pt x="515" y="657"/>
                </a:lnTo>
                <a:lnTo>
                  <a:pt x="487" y="685"/>
                </a:lnTo>
                <a:lnTo>
                  <a:pt x="468" y="714"/>
                </a:lnTo>
                <a:lnTo>
                  <a:pt x="453" y="740"/>
                </a:lnTo>
                <a:lnTo>
                  <a:pt x="445" y="770"/>
                </a:lnTo>
                <a:lnTo>
                  <a:pt x="438" y="807"/>
                </a:lnTo>
                <a:lnTo>
                  <a:pt x="438" y="849"/>
                </a:lnTo>
                <a:lnTo>
                  <a:pt x="438" y="938"/>
                </a:lnTo>
                <a:lnTo>
                  <a:pt x="228" y="938"/>
                </a:lnTo>
                <a:close/>
                <a:moveTo>
                  <a:pt x="228" y="1270"/>
                </a:moveTo>
                <a:lnTo>
                  <a:pt x="228" y="1106"/>
                </a:lnTo>
                <a:lnTo>
                  <a:pt x="438" y="1106"/>
                </a:lnTo>
                <a:lnTo>
                  <a:pt x="438" y="1270"/>
                </a:lnTo>
                <a:lnTo>
                  <a:pt x="228" y="1270"/>
                </a:lnTo>
                <a:close/>
              </a:path>
            </a:pathLst>
          </a:custGeom>
          <a:gradFill rotWithShape="0">
            <a:gsLst>
              <a:gs pos="0">
                <a:srgbClr val="9400ed"/>
              </a:gs>
              <a:gs pos="100000">
                <a:srgbClr val="0000ff"/>
              </a:gs>
            </a:gsLst>
            <a:lin ang="10800000"/>
          </a:gradFill>
          <a:ln w="12600">
            <a:solidFill>
              <a:srgbClr val="eaeaea"/>
            </a:solidFill>
            <a:round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152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0" y="122400"/>
            <a:ext cx="9144000" cy="702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1219320" y="838080"/>
            <a:ext cx="7467480" cy="168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7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echnical"/>
              </a:rPr>
              <a:t>Lorsqu’il est posé en début de </a:t>
            </a:r>
            <a:r>
              <a:rPr b="0" lang="en-GB" sz="4000" spc="-1" strike="noStrike">
                <a:solidFill>
                  <a:srgbClr val="ff33cc"/>
                </a:solidFill>
                <a:latin typeface="Technical"/>
              </a:rPr>
              <a:t>troisième </a:t>
            </a:r>
            <a:r>
              <a:rPr b="0" lang="en-GB" sz="4000" spc="-1" strike="noStrike">
                <a:solidFill>
                  <a:srgbClr val="000000"/>
                </a:solidFill>
                <a:latin typeface="Technical"/>
              </a:rPr>
              <a:t>, ce petit problème est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1835280" y="2852640"/>
            <a:ext cx="6249960" cy="992160"/>
            <a:chOff x="1835280" y="2852640"/>
            <a:chExt cx="6249960" cy="992160"/>
          </a:xfrm>
        </p:grpSpPr>
        <p:sp>
          <p:nvSpPr>
            <p:cNvPr id="148" name=""/>
            <p:cNvSpPr/>
            <p:nvPr/>
          </p:nvSpPr>
          <p:spPr>
            <a:xfrm>
              <a:off x="1835280" y="2914560"/>
              <a:ext cx="282600" cy="752400"/>
            </a:xfrm>
            <a:custGeom>
              <a:avLst/>
              <a:gdLst/>
              <a:ahLst/>
              <a:rect l="l" t="t" r="r" b="b"/>
              <a:pathLst>
                <a:path w="785" h="2089">
                  <a:moveTo>
                    <a:pt x="0" y="0"/>
                  </a:moveTo>
                  <a:lnTo>
                    <a:pt x="156" y="0"/>
                  </a:lnTo>
                  <a:lnTo>
                    <a:pt x="156" y="1285"/>
                  </a:lnTo>
                  <a:lnTo>
                    <a:pt x="159" y="1425"/>
                  </a:lnTo>
                  <a:lnTo>
                    <a:pt x="170" y="1547"/>
                  </a:lnTo>
                  <a:lnTo>
                    <a:pt x="187" y="1647"/>
                  </a:lnTo>
                  <a:lnTo>
                    <a:pt x="217" y="1730"/>
                  </a:lnTo>
                  <a:lnTo>
                    <a:pt x="250" y="1791"/>
                  </a:lnTo>
                  <a:lnTo>
                    <a:pt x="295" y="1834"/>
                  </a:lnTo>
                  <a:lnTo>
                    <a:pt x="347" y="1862"/>
                  </a:lnTo>
                  <a:lnTo>
                    <a:pt x="409" y="1870"/>
                  </a:lnTo>
                  <a:lnTo>
                    <a:pt x="468" y="1862"/>
                  </a:lnTo>
                  <a:lnTo>
                    <a:pt x="519" y="1837"/>
                  </a:lnTo>
                  <a:lnTo>
                    <a:pt x="559" y="1794"/>
                  </a:lnTo>
                  <a:lnTo>
                    <a:pt x="594" y="1737"/>
                  </a:lnTo>
                  <a:lnTo>
                    <a:pt x="617" y="1661"/>
                  </a:lnTo>
                  <a:lnTo>
                    <a:pt x="632" y="1561"/>
                  </a:lnTo>
                  <a:lnTo>
                    <a:pt x="643" y="1439"/>
                  </a:lnTo>
                  <a:lnTo>
                    <a:pt x="646" y="1295"/>
                  </a:lnTo>
                  <a:lnTo>
                    <a:pt x="646" y="0"/>
                  </a:lnTo>
                  <a:lnTo>
                    <a:pt x="784" y="0"/>
                  </a:lnTo>
                  <a:lnTo>
                    <a:pt x="784" y="1292"/>
                  </a:lnTo>
                  <a:lnTo>
                    <a:pt x="782" y="1414"/>
                  </a:lnTo>
                  <a:lnTo>
                    <a:pt x="777" y="1525"/>
                  </a:lnTo>
                  <a:lnTo>
                    <a:pt x="768" y="1622"/>
                  </a:lnTo>
                  <a:lnTo>
                    <a:pt x="758" y="1701"/>
                  </a:lnTo>
                  <a:lnTo>
                    <a:pt x="740" y="1773"/>
                  </a:lnTo>
                  <a:lnTo>
                    <a:pt x="716" y="1834"/>
                  </a:lnTo>
                  <a:lnTo>
                    <a:pt x="688" y="1895"/>
                  </a:lnTo>
                  <a:lnTo>
                    <a:pt x="656" y="1952"/>
                  </a:lnTo>
                  <a:lnTo>
                    <a:pt x="604" y="2006"/>
                  </a:lnTo>
                  <a:lnTo>
                    <a:pt x="545" y="2049"/>
                  </a:lnTo>
                  <a:lnTo>
                    <a:pt x="479" y="2074"/>
                  </a:lnTo>
                  <a:lnTo>
                    <a:pt x="404" y="2088"/>
                  </a:lnTo>
                  <a:lnTo>
                    <a:pt x="308" y="2071"/>
                  </a:lnTo>
                  <a:lnTo>
                    <a:pt x="224" y="2035"/>
                  </a:lnTo>
                  <a:lnTo>
                    <a:pt x="154" y="1974"/>
                  </a:lnTo>
                  <a:lnTo>
                    <a:pt x="98" y="1891"/>
                  </a:lnTo>
                  <a:lnTo>
                    <a:pt x="54" y="1776"/>
                  </a:lnTo>
                  <a:lnTo>
                    <a:pt x="23" y="1640"/>
                  </a:lnTo>
                  <a:lnTo>
                    <a:pt x="6" y="1475"/>
                  </a:lnTo>
                  <a:lnTo>
                    <a:pt x="0" y="1281"/>
                  </a:lnTo>
                  <a:lnTo>
                    <a:pt x="0" y="0"/>
                  </a:lnTo>
                </a:path>
              </a:pathLst>
            </a:custGeom>
            <a:solidFill>
              <a:srgbClr val="ff33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217600" y="3098880"/>
              <a:ext cx="236520" cy="550800"/>
            </a:xfrm>
            <a:custGeom>
              <a:avLst/>
              <a:gdLst/>
              <a:ahLst/>
              <a:rect l="l" t="t" r="r" b="b"/>
              <a:pathLst>
                <a:path w="656" h="1529">
                  <a:moveTo>
                    <a:pt x="0" y="1528"/>
                  </a:moveTo>
                  <a:lnTo>
                    <a:pt x="0" y="32"/>
                  </a:lnTo>
                  <a:lnTo>
                    <a:pt x="145" y="32"/>
                  </a:lnTo>
                  <a:lnTo>
                    <a:pt x="145" y="312"/>
                  </a:lnTo>
                  <a:lnTo>
                    <a:pt x="206" y="172"/>
                  </a:lnTo>
                  <a:lnTo>
                    <a:pt x="271" y="75"/>
                  </a:lnTo>
                  <a:lnTo>
                    <a:pt x="346" y="14"/>
                  </a:lnTo>
                  <a:lnTo>
                    <a:pt x="427" y="0"/>
                  </a:lnTo>
                  <a:lnTo>
                    <a:pt x="475" y="7"/>
                  </a:lnTo>
                  <a:lnTo>
                    <a:pt x="522" y="28"/>
                  </a:lnTo>
                  <a:lnTo>
                    <a:pt x="561" y="64"/>
                  </a:lnTo>
                  <a:lnTo>
                    <a:pt x="595" y="122"/>
                  </a:lnTo>
                  <a:lnTo>
                    <a:pt x="622" y="190"/>
                  </a:lnTo>
                  <a:lnTo>
                    <a:pt x="639" y="265"/>
                  </a:lnTo>
                  <a:lnTo>
                    <a:pt x="650" y="351"/>
                  </a:lnTo>
                  <a:lnTo>
                    <a:pt x="655" y="452"/>
                  </a:lnTo>
                  <a:lnTo>
                    <a:pt x="655" y="1528"/>
                  </a:lnTo>
                  <a:lnTo>
                    <a:pt x="511" y="1528"/>
                  </a:lnTo>
                  <a:lnTo>
                    <a:pt x="511" y="542"/>
                  </a:lnTo>
                  <a:lnTo>
                    <a:pt x="510" y="463"/>
                  </a:lnTo>
                  <a:lnTo>
                    <a:pt x="503" y="398"/>
                  </a:lnTo>
                  <a:lnTo>
                    <a:pt x="495" y="341"/>
                  </a:lnTo>
                  <a:lnTo>
                    <a:pt x="486" y="301"/>
                  </a:lnTo>
                  <a:lnTo>
                    <a:pt x="470" y="269"/>
                  </a:lnTo>
                  <a:lnTo>
                    <a:pt x="451" y="247"/>
                  </a:lnTo>
                  <a:lnTo>
                    <a:pt x="425" y="237"/>
                  </a:lnTo>
                  <a:lnTo>
                    <a:pt x="398" y="233"/>
                  </a:lnTo>
                  <a:lnTo>
                    <a:pt x="330" y="251"/>
                  </a:lnTo>
                  <a:lnTo>
                    <a:pt x="266" y="312"/>
                  </a:lnTo>
                  <a:lnTo>
                    <a:pt x="204" y="416"/>
                  </a:lnTo>
                  <a:lnTo>
                    <a:pt x="145" y="559"/>
                  </a:lnTo>
                  <a:lnTo>
                    <a:pt x="145" y="1528"/>
                  </a:lnTo>
                  <a:lnTo>
                    <a:pt x="0" y="1528"/>
                  </a:lnTo>
                </a:path>
              </a:pathLst>
            </a:custGeom>
            <a:solidFill>
              <a:srgbClr val="ff33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533680" y="3098880"/>
              <a:ext cx="236520" cy="561960"/>
            </a:xfrm>
            <a:custGeom>
              <a:avLst/>
              <a:gdLst/>
              <a:ahLst/>
              <a:rect l="l" t="t" r="r" b="b"/>
              <a:pathLst>
                <a:path w="655" h="1562">
                  <a:moveTo>
                    <a:pt x="155" y="617"/>
                  </a:moveTo>
                  <a:lnTo>
                    <a:pt x="509" y="617"/>
                  </a:lnTo>
                  <a:lnTo>
                    <a:pt x="499" y="434"/>
                  </a:lnTo>
                  <a:lnTo>
                    <a:pt x="466" y="305"/>
                  </a:lnTo>
                  <a:lnTo>
                    <a:pt x="415" y="226"/>
                  </a:lnTo>
                  <a:lnTo>
                    <a:pt x="343" y="201"/>
                  </a:lnTo>
                  <a:lnTo>
                    <a:pt x="268" y="226"/>
                  </a:lnTo>
                  <a:lnTo>
                    <a:pt x="211" y="305"/>
                  </a:lnTo>
                  <a:lnTo>
                    <a:pt x="174" y="434"/>
                  </a:lnTo>
                  <a:lnTo>
                    <a:pt x="155" y="617"/>
                  </a:lnTo>
                  <a:close/>
                  <a:moveTo>
                    <a:pt x="650" y="1478"/>
                  </a:moveTo>
                  <a:lnTo>
                    <a:pt x="579" y="1510"/>
                  </a:lnTo>
                  <a:lnTo>
                    <a:pt x="514" y="1539"/>
                  </a:lnTo>
                  <a:lnTo>
                    <a:pt x="454" y="1550"/>
                  </a:lnTo>
                  <a:lnTo>
                    <a:pt x="401" y="1561"/>
                  </a:lnTo>
                  <a:lnTo>
                    <a:pt x="314" y="1543"/>
                  </a:lnTo>
                  <a:lnTo>
                    <a:pt x="239" y="1503"/>
                  </a:lnTo>
                  <a:lnTo>
                    <a:pt x="172" y="1435"/>
                  </a:lnTo>
                  <a:lnTo>
                    <a:pt x="113" y="1342"/>
                  </a:lnTo>
                  <a:lnTo>
                    <a:pt x="63" y="1220"/>
                  </a:lnTo>
                  <a:lnTo>
                    <a:pt x="27" y="1087"/>
                  </a:lnTo>
                  <a:lnTo>
                    <a:pt x="5" y="936"/>
                  </a:lnTo>
                  <a:lnTo>
                    <a:pt x="0" y="771"/>
                  </a:lnTo>
                  <a:lnTo>
                    <a:pt x="5" y="610"/>
                  </a:lnTo>
                  <a:lnTo>
                    <a:pt x="24" y="463"/>
                  </a:lnTo>
                  <a:lnTo>
                    <a:pt x="54" y="330"/>
                  </a:lnTo>
                  <a:lnTo>
                    <a:pt x="99" y="215"/>
                  </a:lnTo>
                  <a:lnTo>
                    <a:pt x="150" y="118"/>
                  </a:lnTo>
                  <a:lnTo>
                    <a:pt x="211" y="54"/>
                  </a:lnTo>
                  <a:lnTo>
                    <a:pt x="277" y="10"/>
                  </a:lnTo>
                  <a:lnTo>
                    <a:pt x="350" y="0"/>
                  </a:lnTo>
                  <a:lnTo>
                    <a:pt x="418" y="10"/>
                  </a:lnTo>
                  <a:lnTo>
                    <a:pt x="479" y="46"/>
                  </a:lnTo>
                  <a:lnTo>
                    <a:pt x="530" y="104"/>
                  </a:lnTo>
                  <a:lnTo>
                    <a:pt x="575" y="193"/>
                  </a:lnTo>
                  <a:lnTo>
                    <a:pt x="609" y="298"/>
                  </a:lnTo>
                  <a:lnTo>
                    <a:pt x="633" y="427"/>
                  </a:lnTo>
                  <a:lnTo>
                    <a:pt x="649" y="567"/>
                  </a:lnTo>
                  <a:lnTo>
                    <a:pt x="654" y="739"/>
                  </a:lnTo>
                  <a:lnTo>
                    <a:pt x="654" y="821"/>
                  </a:lnTo>
                  <a:lnTo>
                    <a:pt x="148" y="821"/>
                  </a:lnTo>
                  <a:lnTo>
                    <a:pt x="177" y="1055"/>
                  </a:lnTo>
                  <a:lnTo>
                    <a:pt x="234" y="1220"/>
                  </a:lnTo>
                  <a:lnTo>
                    <a:pt x="316" y="1320"/>
                  </a:lnTo>
                  <a:lnTo>
                    <a:pt x="427" y="1356"/>
                  </a:lnTo>
                  <a:lnTo>
                    <a:pt x="474" y="1352"/>
                  </a:lnTo>
                  <a:lnTo>
                    <a:pt x="527" y="1331"/>
                  </a:lnTo>
                  <a:lnTo>
                    <a:pt x="586" y="1302"/>
                  </a:lnTo>
                  <a:lnTo>
                    <a:pt x="650" y="1263"/>
                  </a:lnTo>
                  <a:lnTo>
                    <a:pt x="650" y="1478"/>
                  </a:lnTo>
                  <a:close/>
                </a:path>
              </a:pathLst>
            </a:custGeom>
            <a:solidFill>
              <a:srgbClr val="ff33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021120" y="3098880"/>
              <a:ext cx="193680" cy="561960"/>
            </a:xfrm>
            <a:custGeom>
              <a:avLst/>
              <a:gdLst/>
              <a:ahLst/>
              <a:rect l="l" t="t" r="r" b="b"/>
              <a:pathLst>
                <a:path w="540" h="1562">
                  <a:moveTo>
                    <a:pt x="0" y="1474"/>
                  </a:moveTo>
                  <a:lnTo>
                    <a:pt x="0" y="1223"/>
                  </a:lnTo>
                  <a:lnTo>
                    <a:pt x="68" y="1281"/>
                  </a:lnTo>
                  <a:lnTo>
                    <a:pt x="132" y="1324"/>
                  </a:lnTo>
                  <a:lnTo>
                    <a:pt x="193" y="1349"/>
                  </a:lnTo>
                  <a:lnTo>
                    <a:pt x="248" y="1356"/>
                  </a:lnTo>
                  <a:lnTo>
                    <a:pt x="279" y="1352"/>
                  </a:lnTo>
                  <a:lnTo>
                    <a:pt x="305" y="1342"/>
                  </a:lnTo>
                  <a:lnTo>
                    <a:pt x="330" y="1320"/>
                  </a:lnTo>
                  <a:lnTo>
                    <a:pt x="354" y="1295"/>
                  </a:lnTo>
                  <a:lnTo>
                    <a:pt x="369" y="1259"/>
                  </a:lnTo>
                  <a:lnTo>
                    <a:pt x="384" y="1220"/>
                  </a:lnTo>
                  <a:lnTo>
                    <a:pt x="391" y="1177"/>
                  </a:lnTo>
                  <a:lnTo>
                    <a:pt x="394" y="1134"/>
                  </a:lnTo>
                  <a:lnTo>
                    <a:pt x="385" y="1069"/>
                  </a:lnTo>
                  <a:lnTo>
                    <a:pt x="364" y="1008"/>
                  </a:lnTo>
                  <a:lnTo>
                    <a:pt x="328" y="954"/>
                  </a:lnTo>
                  <a:lnTo>
                    <a:pt x="279" y="904"/>
                  </a:lnTo>
                  <a:lnTo>
                    <a:pt x="193" y="839"/>
                  </a:lnTo>
                  <a:lnTo>
                    <a:pt x="109" y="753"/>
                  </a:lnTo>
                  <a:lnTo>
                    <a:pt x="50" y="660"/>
                  </a:lnTo>
                  <a:lnTo>
                    <a:pt x="14" y="545"/>
                  </a:lnTo>
                  <a:lnTo>
                    <a:pt x="3" y="420"/>
                  </a:lnTo>
                  <a:lnTo>
                    <a:pt x="7" y="326"/>
                  </a:lnTo>
                  <a:lnTo>
                    <a:pt x="21" y="244"/>
                  </a:lnTo>
                  <a:lnTo>
                    <a:pt x="45" y="168"/>
                  </a:lnTo>
                  <a:lnTo>
                    <a:pt x="78" y="107"/>
                  </a:lnTo>
                  <a:lnTo>
                    <a:pt x="118" y="57"/>
                  </a:lnTo>
                  <a:lnTo>
                    <a:pt x="164" y="25"/>
                  </a:lnTo>
                  <a:lnTo>
                    <a:pt x="219" y="7"/>
                  </a:lnTo>
                  <a:lnTo>
                    <a:pt x="282" y="0"/>
                  </a:lnTo>
                  <a:lnTo>
                    <a:pt x="316" y="0"/>
                  </a:lnTo>
                  <a:lnTo>
                    <a:pt x="357" y="7"/>
                  </a:lnTo>
                  <a:lnTo>
                    <a:pt x="399" y="18"/>
                  </a:lnTo>
                  <a:lnTo>
                    <a:pt x="448" y="36"/>
                  </a:lnTo>
                  <a:lnTo>
                    <a:pt x="478" y="46"/>
                  </a:lnTo>
                  <a:lnTo>
                    <a:pt x="478" y="269"/>
                  </a:lnTo>
                  <a:lnTo>
                    <a:pt x="420" y="240"/>
                  </a:lnTo>
                  <a:lnTo>
                    <a:pt x="368" y="219"/>
                  </a:lnTo>
                  <a:lnTo>
                    <a:pt x="323" y="204"/>
                  </a:lnTo>
                  <a:lnTo>
                    <a:pt x="284" y="201"/>
                  </a:lnTo>
                  <a:lnTo>
                    <a:pt x="253" y="201"/>
                  </a:lnTo>
                  <a:lnTo>
                    <a:pt x="226" y="211"/>
                  </a:lnTo>
                  <a:lnTo>
                    <a:pt x="204" y="229"/>
                  </a:lnTo>
                  <a:lnTo>
                    <a:pt x="183" y="251"/>
                  </a:lnTo>
                  <a:lnTo>
                    <a:pt x="166" y="280"/>
                  </a:lnTo>
                  <a:lnTo>
                    <a:pt x="153" y="312"/>
                  </a:lnTo>
                  <a:lnTo>
                    <a:pt x="146" y="348"/>
                  </a:lnTo>
                  <a:lnTo>
                    <a:pt x="144" y="391"/>
                  </a:lnTo>
                  <a:lnTo>
                    <a:pt x="150" y="448"/>
                  </a:lnTo>
                  <a:lnTo>
                    <a:pt x="171" y="506"/>
                  </a:lnTo>
                  <a:lnTo>
                    <a:pt x="204" y="552"/>
                  </a:lnTo>
                  <a:lnTo>
                    <a:pt x="251" y="599"/>
                  </a:lnTo>
                  <a:lnTo>
                    <a:pt x="321" y="656"/>
                  </a:lnTo>
                  <a:lnTo>
                    <a:pt x="377" y="703"/>
                  </a:lnTo>
                  <a:lnTo>
                    <a:pt x="423" y="750"/>
                  </a:lnTo>
                  <a:lnTo>
                    <a:pt x="460" y="800"/>
                  </a:lnTo>
                  <a:lnTo>
                    <a:pt x="490" y="850"/>
                  </a:lnTo>
                  <a:lnTo>
                    <a:pt x="511" y="904"/>
                  </a:lnTo>
                  <a:lnTo>
                    <a:pt x="527" y="968"/>
                  </a:lnTo>
                  <a:lnTo>
                    <a:pt x="535" y="1033"/>
                  </a:lnTo>
                  <a:lnTo>
                    <a:pt x="539" y="1112"/>
                  </a:lnTo>
                  <a:lnTo>
                    <a:pt x="534" y="1205"/>
                  </a:lnTo>
                  <a:lnTo>
                    <a:pt x="518" y="1288"/>
                  </a:lnTo>
                  <a:lnTo>
                    <a:pt x="493" y="1363"/>
                  </a:lnTo>
                  <a:lnTo>
                    <a:pt x="457" y="1435"/>
                  </a:lnTo>
                  <a:lnTo>
                    <a:pt x="412" y="1489"/>
                  </a:lnTo>
                  <a:lnTo>
                    <a:pt x="361" y="1528"/>
                  </a:lnTo>
                  <a:lnTo>
                    <a:pt x="305" y="1550"/>
                  </a:lnTo>
                  <a:lnTo>
                    <a:pt x="242" y="1561"/>
                  </a:lnTo>
                  <a:lnTo>
                    <a:pt x="189" y="1550"/>
                  </a:lnTo>
                  <a:lnTo>
                    <a:pt x="132" y="1535"/>
                  </a:lnTo>
                  <a:lnTo>
                    <a:pt x="68" y="1507"/>
                  </a:lnTo>
                  <a:lnTo>
                    <a:pt x="0" y="1474"/>
                  </a:lnTo>
                </a:path>
              </a:pathLst>
            </a:custGeom>
            <a:solidFill>
              <a:srgbClr val="ff33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308400" y="2914560"/>
              <a:ext cx="52200" cy="733680"/>
            </a:xfrm>
            <a:custGeom>
              <a:avLst/>
              <a:gdLst/>
              <a:ahLst/>
              <a:rect l="l" t="t" r="r" b="b"/>
              <a:pathLst>
                <a:path w="145" h="2039">
                  <a:moveTo>
                    <a:pt x="0" y="269"/>
                  </a:moveTo>
                  <a:lnTo>
                    <a:pt x="0" y="0"/>
                  </a:lnTo>
                  <a:lnTo>
                    <a:pt x="144" y="0"/>
                  </a:lnTo>
                  <a:lnTo>
                    <a:pt x="144" y="269"/>
                  </a:lnTo>
                  <a:lnTo>
                    <a:pt x="0" y="269"/>
                  </a:lnTo>
                  <a:close/>
                  <a:moveTo>
                    <a:pt x="0" y="2038"/>
                  </a:moveTo>
                  <a:lnTo>
                    <a:pt x="0" y="542"/>
                  </a:lnTo>
                  <a:lnTo>
                    <a:pt x="144" y="542"/>
                  </a:lnTo>
                  <a:lnTo>
                    <a:pt x="144" y="2038"/>
                  </a:lnTo>
                  <a:lnTo>
                    <a:pt x="0" y="2038"/>
                  </a:lnTo>
                  <a:close/>
                </a:path>
              </a:pathLst>
            </a:custGeom>
            <a:solidFill>
              <a:srgbClr val="ff33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432240" y="3002040"/>
              <a:ext cx="164880" cy="658800"/>
            </a:xfrm>
            <a:custGeom>
              <a:avLst/>
              <a:gdLst/>
              <a:ahLst/>
              <a:rect l="l" t="t" r="r" b="b"/>
              <a:pathLst>
                <a:path w="457" h="1828">
                  <a:moveTo>
                    <a:pt x="452" y="1794"/>
                  </a:moveTo>
                  <a:lnTo>
                    <a:pt x="419" y="1805"/>
                  </a:lnTo>
                  <a:lnTo>
                    <a:pt x="388" y="1812"/>
                  </a:lnTo>
                  <a:lnTo>
                    <a:pt x="361" y="1819"/>
                  </a:lnTo>
                  <a:lnTo>
                    <a:pt x="336" y="1827"/>
                  </a:lnTo>
                  <a:lnTo>
                    <a:pt x="283" y="1816"/>
                  </a:lnTo>
                  <a:lnTo>
                    <a:pt x="236" y="1794"/>
                  </a:lnTo>
                  <a:lnTo>
                    <a:pt x="197" y="1758"/>
                  </a:lnTo>
                  <a:lnTo>
                    <a:pt x="163" y="1708"/>
                  </a:lnTo>
                  <a:lnTo>
                    <a:pt x="135" y="1640"/>
                  </a:lnTo>
                  <a:lnTo>
                    <a:pt x="115" y="1568"/>
                  </a:lnTo>
                  <a:lnTo>
                    <a:pt x="104" y="1478"/>
                  </a:lnTo>
                  <a:lnTo>
                    <a:pt x="100" y="1382"/>
                  </a:lnTo>
                  <a:lnTo>
                    <a:pt x="100" y="503"/>
                  </a:lnTo>
                  <a:lnTo>
                    <a:pt x="0" y="503"/>
                  </a:lnTo>
                  <a:lnTo>
                    <a:pt x="0" y="298"/>
                  </a:lnTo>
                  <a:lnTo>
                    <a:pt x="100" y="298"/>
                  </a:lnTo>
                  <a:lnTo>
                    <a:pt x="100" y="29"/>
                  </a:lnTo>
                  <a:lnTo>
                    <a:pt x="245" y="0"/>
                  </a:lnTo>
                  <a:lnTo>
                    <a:pt x="245" y="298"/>
                  </a:lnTo>
                  <a:lnTo>
                    <a:pt x="456" y="298"/>
                  </a:lnTo>
                  <a:lnTo>
                    <a:pt x="456" y="503"/>
                  </a:lnTo>
                  <a:lnTo>
                    <a:pt x="245" y="503"/>
                  </a:lnTo>
                  <a:lnTo>
                    <a:pt x="245" y="1331"/>
                  </a:lnTo>
                  <a:lnTo>
                    <a:pt x="252" y="1457"/>
                  </a:lnTo>
                  <a:lnTo>
                    <a:pt x="279" y="1550"/>
                  </a:lnTo>
                  <a:lnTo>
                    <a:pt x="322" y="1604"/>
                  </a:lnTo>
                  <a:lnTo>
                    <a:pt x="383" y="1622"/>
                  </a:lnTo>
                  <a:lnTo>
                    <a:pt x="397" y="1618"/>
                  </a:lnTo>
                  <a:lnTo>
                    <a:pt x="414" y="1618"/>
                  </a:lnTo>
                  <a:lnTo>
                    <a:pt x="433" y="1615"/>
                  </a:lnTo>
                  <a:lnTo>
                    <a:pt x="452" y="1608"/>
                  </a:lnTo>
                  <a:lnTo>
                    <a:pt x="452" y="1794"/>
                  </a:lnTo>
                </a:path>
              </a:pathLst>
            </a:custGeom>
            <a:solidFill>
              <a:srgbClr val="ff33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668760" y="3110040"/>
              <a:ext cx="236520" cy="550800"/>
            </a:xfrm>
            <a:custGeom>
              <a:avLst/>
              <a:gdLst/>
              <a:ahLst/>
              <a:rect l="l" t="t" r="r" b="b"/>
              <a:pathLst>
                <a:path w="656" h="1530">
                  <a:moveTo>
                    <a:pt x="510" y="1496"/>
                  </a:moveTo>
                  <a:lnTo>
                    <a:pt x="510" y="1213"/>
                  </a:lnTo>
                  <a:lnTo>
                    <a:pt x="447" y="1349"/>
                  </a:lnTo>
                  <a:lnTo>
                    <a:pt x="382" y="1446"/>
                  </a:lnTo>
                  <a:lnTo>
                    <a:pt x="307" y="1507"/>
                  </a:lnTo>
                  <a:lnTo>
                    <a:pt x="228" y="1529"/>
                  </a:lnTo>
                  <a:lnTo>
                    <a:pt x="178" y="1518"/>
                  </a:lnTo>
                  <a:lnTo>
                    <a:pt x="133" y="1496"/>
                  </a:lnTo>
                  <a:lnTo>
                    <a:pt x="94" y="1460"/>
                  </a:lnTo>
                  <a:lnTo>
                    <a:pt x="61" y="1407"/>
                  </a:lnTo>
                  <a:lnTo>
                    <a:pt x="33" y="1335"/>
                  </a:lnTo>
                  <a:lnTo>
                    <a:pt x="14" y="1259"/>
                  </a:lnTo>
                  <a:lnTo>
                    <a:pt x="3" y="1170"/>
                  </a:lnTo>
                  <a:lnTo>
                    <a:pt x="0" y="1073"/>
                  </a:lnTo>
                  <a:lnTo>
                    <a:pt x="0" y="0"/>
                  </a:lnTo>
                  <a:lnTo>
                    <a:pt x="144" y="0"/>
                  </a:lnTo>
                  <a:lnTo>
                    <a:pt x="144" y="987"/>
                  </a:lnTo>
                  <a:lnTo>
                    <a:pt x="144" y="1062"/>
                  </a:lnTo>
                  <a:lnTo>
                    <a:pt x="150" y="1127"/>
                  </a:lnTo>
                  <a:lnTo>
                    <a:pt x="159" y="1180"/>
                  </a:lnTo>
                  <a:lnTo>
                    <a:pt x="171" y="1224"/>
                  </a:lnTo>
                  <a:lnTo>
                    <a:pt x="185" y="1252"/>
                  </a:lnTo>
                  <a:lnTo>
                    <a:pt x="204" y="1274"/>
                  </a:lnTo>
                  <a:lnTo>
                    <a:pt x="228" y="1288"/>
                  </a:lnTo>
                  <a:lnTo>
                    <a:pt x="258" y="1295"/>
                  </a:lnTo>
                  <a:lnTo>
                    <a:pt x="323" y="1274"/>
                  </a:lnTo>
                  <a:lnTo>
                    <a:pt x="387" y="1213"/>
                  </a:lnTo>
                  <a:lnTo>
                    <a:pt x="449" y="1109"/>
                  </a:lnTo>
                  <a:lnTo>
                    <a:pt x="510" y="969"/>
                  </a:lnTo>
                  <a:lnTo>
                    <a:pt x="510" y="0"/>
                  </a:lnTo>
                  <a:lnTo>
                    <a:pt x="655" y="0"/>
                  </a:lnTo>
                  <a:lnTo>
                    <a:pt x="655" y="1496"/>
                  </a:lnTo>
                  <a:lnTo>
                    <a:pt x="510" y="1496"/>
                  </a:lnTo>
                </a:path>
              </a:pathLst>
            </a:custGeom>
            <a:solidFill>
              <a:srgbClr val="ff33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984480" y="3098880"/>
              <a:ext cx="260640" cy="561960"/>
            </a:xfrm>
            <a:custGeom>
              <a:avLst/>
              <a:gdLst/>
              <a:ahLst/>
              <a:rect l="l" t="t" r="r" b="b"/>
              <a:pathLst>
                <a:path w="725" h="1562">
                  <a:moveTo>
                    <a:pt x="462" y="1187"/>
                  </a:moveTo>
                  <a:lnTo>
                    <a:pt x="462" y="800"/>
                  </a:lnTo>
                  <a:lnTo>
                    <a:pt x="417" y="800"/>
                  </a:lnTo>
                  <a:lnTo>
                    <a:pt x="357" y="800"/>
                  </a:lnTo>
                  <a:lnTo>
                    <a:pt x="305" y="818"/>
                  </a:lnTo>
                  <a:lnTo>
                    <a:pt x="259" y="843"/>
                  </a:lnTo>
                  <a:lnTo>
                    <a:pt x="220" y="882"/>
                  </a:lnTo>
                  <a:lnTo>
                    <a:pt x="185" y="925"/>
                  </a:lnTo>
                  <a:lnTo>
                    <a:pt x="162" y="979"/>
                  </a:lnTo>
                  <a:lnTo>
                    <a:pt x="148" y="1037"/>
                  </a:lnTo>
                  <a:lnTo>
                    <a:pt x="145" y="1105"/>
                  </a:lnTo>
                  <a:lnTo>
                    <a:pt x="146" y="1148"/>
                  </a:lnTo>
                  <a:lnTo>
                    <a:pt x="154" y="1191"/>
                  </a:lnTo>
                  <a:lnTo>
                    <a:pt x="164" y="1230"/>
                  </a:lnTo>
                  <a:lnTo>
                    <a:pt x="182" y="1266"/>
                  </a:lnTo>
                  <a:lnTo>
                    <a:pt x="202" y="1299"/>
                  </a:lnTo>
                  <a:lnTo>
                    <a:pt x="223" y="1317"/>
                  </a:lnTo>
                  <a:lnTo>
                    <a:pt x="246" y="1331"/>
                  </a:lnTo>
                  <a:lnTo>
                    <a:pt x="274" y="1338"/>
                  </a:lnTo>
                  <a:lnTo>
                    <a:pt x="318" y="1327"/>
                  </a:lnTo>
                  <a:lnTo>
                    <a:pt x="364" y="1299"/>
                  </a:lnTo>
                  <a:lnTo>
                    <a:pt x="412" y="1252"/>
                  </a:lnTo>
                  <a:lnTo>
                    <a:pt x="462" y="1187"/>
                  </a:lnTo>
                  <a:close/>
                  <a:moveTo>
                    <a:pt x="484" y="1338"/>
                  </a:moveTo>
                  <a:lnTo>
                    <a:pt x="418" y="1435"/>
                  </a:lnTo>
                  <a:lnTo>
                    <a:pt x="356" y="1503"/>
                  </a:lnTo>
                  <a:lnTo>
                    <a:pt x="293" y="1543"/>
                  </a:lnTo>
                  <a:lnTo>
                    <a:pt x="232" y="1561"/>
                  </a:lnTo>
                  <a:lnTo>
                    <a:pt x="183" y="1550"/>
                  </a:lnTo>
                  <a:lnTo>
                    <a:pt x="141" y="1528"/>
                  </a:lnTo>
                  <a:lnTo>
                    <a:pt x="100" y="1492"/>
                  </a:lnTo>
                  <a:lnTo>
                    <a:pt x="66" y="1446"/>
                  </a:lnTo>
                  <a:lnTo>
                    <a:pt x="36" y="1381"/>
                  </a:lnTo>
                  <a:lnTo>
                    <a:pt x="16" y="1309"/>
                  </a:lnTo>
                  <a:lnTo>
                    <a:pt x="3" y="1234"/>
                  </a:lnTo>
                  <a:lnTo>
                    <a:pt x="0" y="1151"/>
                  </a:lnTo>
                  <a:lnTo>
                    <a:pt x="5" y="1033"/>
                  </a:lnTo>
                  <a:lnTo>
                    <a:pt x="26" y="933"/>
                  </a:lnTo>
                  <a:lnTo>
                    <a:pt x="63" y="843"/>
                  </a:lnTo>
                  <a:lnTo>
                    <a:pt x="111" y="771"/>
                  </a:lnTo>
                  <a:lnTo>
                    <a:pt x="171" y="710"/>
                  </a:lnTo>
                  <a:lnTo>
                    <a:pt x="244" y="671"/>
                  </a:lnTo>
                  <a:lnTo>
                    <a:pt x="330" y="649"/>
                  </a:lnTo>
                  <a:lnTo>
                    <a:pt x="429" y="642"/>
                  </a:lnTo>
                  <a:lnTo>
                    <a:pt x="462" y="642"/>
                  </a:lnTo>
                  <a:lnTo>
                    <a:pt x="462" y="463"/>
                  </a:lnTo>
                  <a:lnTo>
                    <a:pt x="452" y="344"/>
                  </a:lnTo>
                  <a:lnTo>
                    <a:pt x="425" y="265"/>
                  </a:lnTo>
                  <a:lnTo>
                    <a:pt x="380" y="215"/>
                  </a:lnTo>
                  <a:lnTo>
                    <a:pt x="316" y="201"/>
                  </a:lnTo>
                  <a:lnTo>
                    <a:pt x="257" y="208"/>
                  </a:lnTo>
                  <a:lnTo>
                    <a:pt x="199" y="233"/>
                  </a:lnTo>
                  <a:lnTo>
                    <a:pt x="134" y="276"/>
                  </a:lnTo>
                  <a:lnTo>
                    <a:pt x="70" y="337"/>
                  </a:lnTo>
                  <a:lnTo>
                    <a:pt x="70" y="111"/>
                  </a:lnTo>
                  <a:lnTo>
                    <a:pt x="141" y="57"/>
                  </a:lnTo>
                  <a:lnTo>
                    <a:pt x="211" y="25"/>
                  </a:lnTo>
                  <a:lnTo>
                    <a:pt x="279" y="7"/>
                  </a:lnTo>
                  <a:lnTo>
                    <a:pt x="347" y="0"/>
                  </a:lnTo>
                  <a:lnTo>
                    <a:pt x="409" y="7"/>
                  </a:lnTo>
                  <a:lnTo>
                    <a:pt x="462" y="25"/>
                  </a:lnTo>
                  <a:lnTo>
                    <a:pt x="507" y="57"/>
                  </a:lnTo>
                  <a:lnTo>
                    <a:pt x="545" y="111"/>
                  </a:lnTo>
                  <a:lnTo>
                    <a:pt x="572" y="176"/>
                  </a:lnTo>
                  <a:lnTo>
                    <a:pt x="591" y="254"/>
                  </a:lnTo>
                  <a:lnTo>
                    <a:pt x="602" y="351"/>
                  </a:lnTo>
                  <a:lnTo>
                    <a:pt x="607" y="463"/>
                  </a:lnTo>
                  <a:lnTo>
                    <a:pt x="607" y="1137"/>
                  </a:lnTo>
                  <a:lnTo>
                    <a:pt x="611" y="1238"/>
                  </a:lnTo>
                  <a:lnTo>
                    <a:pt x="625" y="1309"/>
                  </a:lnTo>
                  <a:lnTo>
                    <a:pt x="651" y="1352"/>
                  </a:lnTo>
                  <a:lnTo>
                    <a:pt x="684" y="1370"/>
                  </a:lnTo>
                  <a:lnTo>
                    <a:pt x="689" y="1367"/>
                  </a:lnTo>
                  <a:lnTo>
                    <a:pt x="695" y="1367"/>
                  </a:lnTo>
                  <a:lnTo>
                    <a:pt x="703" y="1363"/>
                  </a:lnTo>
                  <a:lnTo>
                    <a:pt x="712" y="1363"/>
                  </a:lnTo>
                  <a:lnTo>
                    <a:pt x="724" y="1517"/>
                  </a:lnTo>
                  <a:lnTo>
                    <a:pt x="696" y="1535"/>
                  </a:lnTo>
                  <a:lnTo>
                    <a:pt x="670" y="1546"/>
                  </a:lnTo>
                  <a:lnTo>
                    <a:pt x="642" y="1553"/>
                  </a:lnTo>
                  <a:lnTo>
                    <a:pt x="614" y="1561"/>
                  </a:lnTo>
                  <a:lnTo>
                    <a:pt x="567" y="1543"/>
                  </a:lnTo>
                  <a:lnTo>
                    <a:pt x="530" y="1503"/>
                  </a:lnTo>
                  <a:lnTo>
                    <a:pt x="502" y="1435"/>
                  </a:lnTo>
                  <a:lnTo>
                    <a:pt x="484" y="1338"/>
                  </a:lnTo>
                  <a:close/>
                </a:path>
              </a:pathLst>
            </a:custGeom>
            <a:solidFill>
              <a:srgbClr val="ff33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276800" y="3002040"/>
              <a:ext cx="164880" cy="658800"/>
            </a:xfrm>
            <a:custGeom>
              <a:avLst/>
              <a:gdLst/>
              <a:ahLst/>
              <a:rect l="l" t="t" r="r" b="b"/>
              <a:pathLst>
                <a:path w="457" h="1828">
                  <a:moveTo>
                    <a:pt x="452" y="1794"/>
                  </a:moveTo>
                  <a:lnTo>
                    <a:pt x="418" y="1805"/>
                  </a:lnTo>
                  <a:lnTo>
                    <a:pt x="388" y="1812"/>
                  </a:lnTo>
                  <a:lnTo>
                    <a:pt x="360" y="1819"/>
                  </a:lnTo>
                  <a:lnTo>
                    <a:pt x="335" y="1827"/>
                  </a:lnTo>
                  <a:lnTo>
                    <a:pt x="282" y="1816"/>
                  </a:lnTo>
                  <a:lnTo>
                    <a:pt x="236" y="1794"/>
                  </a:lnTo>
                  <a:lnTo>
                    <a:pt x="196" y="1758"/>
                  </a:lnTo>
                  <a:lnTo>
                    <a:pt x="163" y="1708"/>
                  </a:lnTo>
                  <a:lnTo>
                    <a:pt x="133" y="1640"/>
                  </a:lnTo>
                  <a:lnTo>
                    <a:pt x="114" y="1568"/>
                  </a:lnTo>
                  <a:lnTo>
                    <a:pt x="103" y="1478"/>
                  </a:lnTo>
                  <a:lnTo>
                    <a:pt x="100" y="1382"/>
                  </a:lnTo>
                  <a:lnTo>
                    <a:pt x="100" y="503"/>
                  </a:lnTo>
                  <a:lnTo>
                    <a:pt x="0" y="503"/>
                  </a:lnTo>
                  <a:lnTo>
                    <a:pt x="0" y="298"/>
                  </a:lnTo>
                  <a:lnTo>
                    <a:pt x="100" y="298"/>
                  </a:lnTo>
                  <a:lnTo>
                    <a:pt x="100" y="29"/>
                  </a:lnTo>
                  <a:lnTo>
                    <a:pt x="245" y="0"/>
                  </a:lnTo>
                  <a:lnTo>
                    <a:pt x="245" y="298"/>
                  </a:lnTo>
                  <a:lnTo>
                    <a:pt x="456" y="298"/>
                  </a:lnTo>
                  <a:lnTo>
                    <a:pt x="456" y="503"/>
                  </a:lnTo>
                  <a:lnTo>
                    <a:pt x="245" y="503"/>
                  </a:lnTo>
                  <a:lnTo>
                    <a:pt x="245" y="1331"/>
                  </a:lnTo>
                  <a:lnTo>
                    <a:pt x="252" y="1457"/>
                  </a:lnTo>
                  <a:lnTo>
                    <a:pt x="278" y="1550"/>
                  </a:lnTo>
                  <a:lnTo>
                    <a:pt x="321" y="1604"/>
                  </a:lnTo>
                  <a:lnTo>
                    <a:pt x="382" y="1622"/>
                  </a:lnTo>
                  <a:lnTo>
                    <a:pt x="396" y="1618"/>
                  </a:lnTo>
                  <a:lnTo>
                    <a:pt x="414" y="1618"/>
                  </a:lnTo>
                  <a:lnTo>
                    <a:pt x="432" y="1615"/>
                  </a:lnTo>
                  <a:lnTo>
                    <a:pt x="452" y="1608"/>
                  </a:lnTo>
                  <a:lnTo>
                    <a:pt x="452" y="1794"/>
                  </a:lnTo>
                </a:path>
              </a:pathLst>
            </a:custGeom>
            <a:solidFill>
              <a:srgbClr val="ff33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513320" y="2914560"/>
              <a:ext cx="52200" cy="733680"/>
            </a:xfrm>
            <a:custGeom>
              <a:avLst/>
              <a:gdLst/>
              <a:ahLst/>
              <a:rect l="l" t="t" r="r" b="b"/>
              <a:pathLst>
                <a:path w="145" h="2039">
                  <a:moveTo>
                    <a:pt x="0" y="269"/>
                  </a:moveTo>
                  <a:lnTo>
                    <a:pt x="0" y="0"/>
                  </a:lnTo>
                  <a:lnTo>
                    <a:pt x="144" y="0"/>
                  </a:lnTo>
                  <a:lnTo>
                    <a:pt x="144" y="269"/>
                  </a:lnTo>
                  <a:lnTo>
                    <a:pt x="0" y="269"/>
                  </a:lnTo>
                  <a:close/>
                  <a:moveTo>
                    <a:pt x="0" y="2038"/>
                  </a:moveTo>
                  <a:lnTo>
                    <a:pt x="0" y="542"/>
                  </a:lnTo>
                  <a:lnTo>
                    <a:pt x="144" y="542"/>
                  </a:lnTo>
                  <a:lnTo>
                    <a:pt x="144" y="2038"/>
                  </a:lnTo>
                  <a:lnTo>
                    <a:pt x="0" y="2038"/>
                  </a:lnTo>
                  <a:close/>
                </a:path>
              </a:pathLst>
            </a:custGeom>
            <a:solidFill>
              <a:srgbClr val="ff33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648320" y="3098880"/>
              <a:ext cx="274680" cy="561960"/>
            </a:xfrm>
            <a:custGeom>
              <a:avLst/>
              <a:gdLst/>
              <a:ahLst/>
              <a:rect l="l" t="t" r="r" b="b"/>
              <a:pathLst>
                <a:path w="765" h="1562">
                  <a:moveTo>
                    <a:pt x="382" y="1356"/>
                  </a:moveTo>
                  <a:lnTo>
                    <a:pt x="432" y="1349"/>
                  </a:lnTo>
                  <a:lnTo>
                    <a:pt x="476" y="1317"/>
                  </a:lnTo>
                  <a:lnTo>
                    <a:pt x="516" y="1270"/>
                  </a:lnTo>
                  <a:lnTo>
                    <a:pt x="550" y="1205"/>
                  </a:lnTo>
                  <a:lnTo>
                    <a:pt x="575" y="1123"/>
                  </a:lnTo>
                  <a:lnTo>
                    <a:pt x="593" y="1022"/>
                  </a:lnTo>
                  <a:lnTo>
                    <a:pt x="603" y="904"/>
                  </a:lnTo>
                  <a:lnTo>
                    <a:pt x="609" y="778"/>
                  </a:lnTo>
                  <a:lnTo>
                    <a:pt x="603" y="649"/>
                  </a:lnTo>
                  <a:lnTo>
                    <a:pt x="593" y="534"/>
                  </a:lnTo>
                  <a:lnTo>
                    <a:pt x="575" y="434"/>
                  </a:lnTo>
                  <a:lnTo>
                    <a:pt x="550" y="351"/>
                  </a:lnTo>
                  <a:lnTo>
                    <a:pt x="516" y="287"/>
                  </a:lnTo>
                  <a:lnTo>
                    <a:pt x="476" y="240"/>
                  </a:lnTo>
                  <a:lnTo>
                    <a:pt x="432" y="208"/>
                  </a:lnTo>
                  <a:lnTo>
                    <a:pt x="382" y="201"/>
                  </a:lnTo>
                  <a:lnTo>
                    <a:pt x="331" y="208"/>
                  </a:lnTo>
                  <a:lnTo>
                    <a:pt x="284" y="240"/>
                  </a:lnTo>
                  <a:lnTo>
                    <a:pt x="246" y="287"/>
                  </a:lnTo>
                  <a:lnTo>
                    <a:pt x="214" y="351"/>
                  </a:lnTo>
                  <a:lnTo>
                    <a:pt x="188" y="434"/>
                  </a:lnTo>
                  <a:lnTo>
                    <a:pt x="169" y="534"/>
                  </a:lnTo>
                  <a:lnTo>
                    <a:pt x="159" y="649"/>
                  </a:lnTo>
                  <a:lnTo>
                    <a:pt x="155" y="778"/>
                  </a:lnTo>
                  <a:lnTo>
                    <a:pt x="159" y="904"/>
                  </a:lnTo>
                  <a:lnTo>
                    <a:pt x="169" y="1022"/>
                  </a:lnTo>
                  <a:lnTo>
                    <a:pt x="188" y="1123"/>
                  </a:lnTo>
                  <a:lnTo>
                    <a:pt x="214" y="1205"/>
                  </a:lnTo>
                  <a:lnTo>
                    <a:pt x="246" y="1270"/>
                  </a:lnTo>
                  <a:lnTo>
                    <a:pt x="284" y="1317"/>
                  </a:lnTo>
                  <a:lnTo>
                    <a:pt x="331" y="1349"/>
                  </a:lnTo>
                  <a:lnTo>
                    <a:pt x="382" y="1356"/>
                  </a:lnTo>
                  <a:close/>
                  <a:moveTo>
                    <a:pt x="382" y="1561"/>
                  </a:moveTo>
                  <a:lnTo>
                    <a:pt x="298" y="1543"/>
                  </a:lnTo>
                  <a:lnTo>
                    <a:pt x="223" y="1503"/>
                  </a:lnTo>
                  <a:lnTo>
                    <a:pt x="159" y="1442"/>
                  </a:lnTo>
                  <a:lnTo>
                    <a:pt x="104" y="1352"/>
                  </a:lnTo>
                  <a:lnTo>
                    <a:pt x="57" y="1234"/>
                  </a:lnTo>
                  <a:lnTo>
                    <a:pt x="25" y="1101"/>
                  </a:lnTo>
                  <a:lnTo>
                    <a:pt x="5" y="947"/>
                  </a:lnTo>
                  <a:lnTo>
                    <a:pt x="0" y="778"/>
                  </a:lnTo>
                  <a:lnTo>
                    <a:pt x="5" y="606"/>
                  </a:lnTo>
                  <a:lnTo>
                    <a:pt x="25" y="455"/>
                  </a:lnTo>
                  <a:lnTo>
                    <a:pt x="57" y="323"/>
                  </a:lnTo>
                  <a:lnTo>
                    <a:pt x="104" y="208"/>
                  </a:lnTo>
                  <a:lnTo>
                    <a:pt x="159" y="115"/>
                  </a:lnTo>
                  <a:lnTo>
                    <a:pt x="223" y="50"/>
                  </a:lnTo>
                  <a:lnTo>
                    <a:pt x="298" y="10"/>
                  </a:lnTo>
                  <a:lnTo>
                    <a:pt x="382" y="0"/>
                  </a:lnTo>
                  <a:lnTo>
                    <a:pt x="464" y="10"/>
                  </a:lnTo>
                  <a:lnTo>
                    <a:pt x="539" y="50"/>
                  </a:lnTo>
                  <a:lnTo>
                    <a:pt x="605" y="115"/>
                  </a:lnTo>
                  <a:lnTo>
                    <a:pt x="663" y="208"/>
                  </a:lnTo>
                  <a:lnTo>
                    <a:pt x="705" y="323"/>
                  </a:lnTo>
                  <a:lnTo>
                    <a:pt x="738" y="455"/>
                  </a:lnTo>
                  <a:lnTo>
                    <a:pt x="757" y="606"/>
                  </a:lnTo>
                  <a:lnTo>
                    <a:pt x="764" y="778"/>
                  </a:lnTo>
                  <a:lnTo>
                    <a:pt x="757" y="947"/>
                  </a:lnTo>
                  <a:lnTo>
                    <a:pt x="738" y="1101"/>
                  </a:lnTo>
                  <a:lnTo>
                    <a:pt x="705" y="1234"/>
                  </a:lnTo>
                  <a:lnTo>
                    <a:pt x="663" y="1352"/>
                  </a:lnTo>
                  <a:lnTo>
                    <a:pt x="605" y="1442"/>
                  </a:lnTo>
                  <a:lnTo>
                    <a:pt x="539" y="1503"/>
                  </a:lnTo>
                  <a:lnTo>
                    <a:pt x="464" y="1543"/>
                  </a:lnTo>
                  <a:lnTo>
                    <a:pt x="382" y="1561"/>
                  </a:lnTo>
                  <a:close/>
                </a:path>
              </a:pathLst>
            </a:custGeom>
            <a:solidFill>
              <a:srgbClr val="ff33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005440" y="3098880"/>
              <a:ext cx="236520" cy="550800"/>
            </a:xfrm>
            <a:custGeom>
              <a:avLst/>
              <a:gdLst/>
              <a:ahLst/>
              <a:rect l="l" t="t" r="r" b="b"/>
              <a:pathLst>
                <a:path w="657" h="1529">
                  <a:moveTo>
                    <a:pt x="0" y="1528"/>
                  </a:moveTo>
                  <a:lnTo>
                    <a:pt x="0" y="32"/>
                  </a:lnTo>
                  <a:lnTo>
                    <a:pt x="145" y="32"/>
                  </a:lnTo>
                  <a:lnTo>
                    <a:pt x="145" y="312"/>
                  </a:lnTo>
                  <a:lnTo>
                    <a:pt x="206" y="172"/>
                  </a:lnTo>
                  <a:lnTo>
                    <a:pt x="272" y="75"/>
                  </a:lnTo>
                  <a:lnTo>
                    <a:pt x="347" y="14"/>
                  </a:lnTo>
                  <a:lnTo>
                    <a:pt x="427" y="0"/>
                  </a:lnTo>
                  <a:lnTo>
                    <a:pt x="475" y="7"/>
                  </a:lnTo>
                  <a:lnTo>
                    <a:pt x="522" y="28"/>
                  </a:lnTo>
                  <a:lnTo>
                    <a:pt x="560" y="64"/>
                  </a:lnTo>
                  <a:lnTo>
                    <a:pt x="595" y="122"/>
                  </a:lnTo>
                  <a:lnTo>
                    <a:pt x="621" y="190"/>
                  </a:lnTo>
                  <a:lnTo>
                    <a:pt x="640" y="265"/>
                  </a:lnTo>
                  <a:lnTo>
                    <a:pt x="650" y="351"/>
                  </a:lnTo>
                  <a:lnTo>
                    <a:pt x="656" y="452"/>
                  </a:lnTo>
                  <a:lnTo>
                    <a:pt x="656" y="1528"/>
                  </a:lnTo>
                  <a:lnTo>
                    <a:pt x="511" y="1528"/>
                  </a:lnTo>
                  <a:lnTo>
                    <a:pt x="511" y="542"/>
                  </a:lnTo>
                  <a:lnTo>
                    <a:pt x="509" y="463"/>
                  </a:lnTo>
                  <a:lnTo>
                    <a:pt x="504" y="398"/>
                  </a:lnTo>
                  <a:lnTo>
                    <a:pt x="495" y="341"/>
                  </a:lnTo>
                  <a:lnTo>
                    <a:pt x="486" y="301"/>
                  </a:lnTo>
                  <a:lnTo>
                    <a:pt x="469" y="269"/>
                  </a:lnTo>
                  <a:lnTo>
                    <a:pt x="450" y="247"/>
                  </a:lnTo>
                  <a:lnTo>
                    <a:pt x="425" y="237"/>
                  </a:lnTo>
                  <a:lnTo>
                    <a:pt x="398" y="233"/>
                  </a:lnTo>
                  <a:lnTo>
                    <a:pt x="330" y="251"/>
                  </a:lnTo>
                  <a:lnTo>
                    <a:pt x="267" y="312"/>
                  </a:lnTo>
                  <a:lnTo>
                    <a:pt x="204" y="416"/>
                  </a:lnTo>
                  <a:lnTo>
                    <a:pt x="145" y="559"/>
                  </a:lnTo>
                  <a:lnTo>
                    <a:pt x="145" y="1528"/>
                  </a:lnTo>
                  <a:lnTo>
                    <a:pt x="0" y="1528"/>
                  </a:lnTo>
                </a:path>
              </a:pathLst>
            </a:custGeom>
            <a:solidFill>
              <a:srgbClr val="ff33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330880" y="3319560"/>
              <a:ext cx="236520" cy="60120"/>
            </a:xfrm>
            <a:custGeom>
              <a:avLst/>
              <a:gdLst/>
              <a:ahLst/>
              <a:rect l="l" t="t" r="r" b="b"/>
              <a:pathLst>
                <a:path w="657" h="166">
                  <a:moveTo>
                    <a:pt x="0" y="165"/>
                  </a:moveTo>
                  <a:lnTo>
                    <a:pt x="0" y="0"/>
                  </a:lnTo>
                  <a:lnTo>
                    <a:pt x="656" y="0"/>
                  </a:lnTo>
                  <a:lnTo>
                    <a:pt x="656" y="165"/>
                  </a:lnTo>
                  <a:lnTo>
                    <a:pt x="0" y="165"/>
                  </a:lnTo>
                </a:path>
              </a:pathLst>
            </a:custGeom>
            <a:solidFill>
              <a:srgbClr val="ff33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320" bIns="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657760" y="3098880"/>
              <a:ext cx="260280" cy="745920"/>
            </a:xfrm>
            <a:custGeom>
              <a:avLst/>
              <a:gdLst/>
              <a:ahLst/>
              <a:rect l="l" t="t" r="r" b="b"/>
              <a:pathLst>
                <a:path w="725" h="2071">
                  <a:moveTo>
                    <a:pt x="144" y="1169"/>
                  </a:moveTo>
                  <a:lnTo>
                    <a:pt x="200" y="1252"/>
                  </a:lnTo>
                  <a:lnTo>
                    <a:pt x="253" y="1306"/>
                  </a:lnTo>
                  <a:lnTo>
                    <a:pt x="307" y="1345"/>
                  </a:lnTo>
                  <a:lnTo>
                    <a:pt x="359" y="1356"/>
                  </a:lnTo>
                  <a:lnTo>
                    <a:pt x="405" y="1349"/>
                  </a:lnTo>
                  <a:lnTo>
                    <a:pt x="448" y="1317"/>
                  </a:lnTo>
                  <a:lnTo>
                    <a:pt x="483" y="1266"/>
                  </a:lnTo>
                  <a:lnTo>
                    <a:pt x="516" y="1202"/>
                  </a:lnTo>
                  <a:lnTo>
                    <a:pt x="539" y="1116"/>
                  </a:lnTo>
                  <a:lnTo>
                    <a:pt x="555" y="1012"/>
                  </a:lnTo>
                  <a:lnTo>
                    <a:pt x="565" y="893"/>
                  </a:lnTo>
                  <a:lnTo>
                    <a:pt x="569" y="760"/>
                  </a:lnTo>
                  <a:lnTo>
                    <a:pt x="557" y="531"/>
                  </a:lnTo>
                  <a:lnTo>
                    <a:pt x="521" y="369"/>
                  </a:lnTo>
                  <a:lnTo>
                    <a:pt x="464" y="269"/>
                  </a:lnTo>
                  <a:lnTo>
                    <a:pt x="384" y="240"/>
                  </a:lnTo>
                  <a:lnTo>
                    <a:pt x="321" y="251"/>
                  </a:lnTo>
                  <a:lnTo>
                    <a:pt x="260" y="298"/>
                  </a:lnTo>
                  <a:lnTo>
                    <a:pt x="202" y="376"/>
                  </a:lnTo>
                  <a:lnTo>
                    <a:pt x="144" y="484"/>
                  </a:lnTo>
                  <a:lnTo>
                    <a:pt x="144" y="1169"/>
                  </a:lnTo>
                  <a:close/>
                  <a:moveTo>
                    <a:pt x="0" y="2070"/>
                  </a:moveTo>
                  <a:lnTo>
                    <a:pt x="0" y="32"/>
                  </a:lnTo>
                  <a:lnTo>
                    <a:pt x="144" y="32"/>
                  </a:lnTo>
                  <a:lnTo>
                    <a:pt x="144" y="312"/>
                  </a:lnTo>
                  <a:lnTo>
                    <a:pt x="192" y="172"/>
                  </a:lnTo>
                  <a:lnTo>
                    <a:pt x="255" y="75"/>
                  </a:lnTo>
                  <a:lnTo>
                    <a:pt x="326" y="14"/>
                  </a:lnTo>
                  <a:lnTo>
                    <a:pt x="412" y="0"/>
                  </a:lnTo>
                  <a:lnTo>
                    <a:pt x="482" y="10"/>
                  </a:lnTo>
                  <a:lnTo>
                    <a:pt x="542" y="46"/>
                  </a:lnTo>
                  <a:lnTo>
                    <a:pt x="596" y="107"/>
                  </a:lnTo>
                  <a:lnTo>
                    <a:pt x="642" y="197"/>
                  </a:lnTo>
                  <a:lnTo>
                    <a:pt x="678" y="301"/>
                  </a:lnTo>
                  <a:lnTo>
                    <a:pt x="703" y="427"/>
                  </a:lnTo>
                  <a:lnTo>
                    <a:pt x="719" y="570"/>
                  </a:lnTo>
                  <a:lnTo>
                    <a:pt x="724" y="735"/>
                  </a:lnTo>
                  <a:lnTo>
                    <a:pt x="717" y="907"/>
                  </a:lnTo>
                  <a:lnTo>
                    <a:pt x="700" y="1069"/>
                  </a:lnTo>
                  <a:lnTo>
                    <a:pt x="671" y="1209"/>
                  </a:lnTo>
                  <a:lnTo>
                    <a:pt x="630" y="1331"/>
                  </a:lnTo>
                  <a:lnTo>
                    <a:pt x="578" y="1431"/>
                  </a:lnTo>
                  <a:lnTo>
                    <a:pt x="520" y="1500"/>
                  </a:lnTo>
                  <a:lnTo>
                    <a:pt x="453" y="1543"/>
                  </a:lnTo>
                  <a:lnTo>
                    <a:pt x="382" y="1561"/>
                  </a:lnTo>
                  <a:lnTo>
                    <a:pt x="312" y="1543"/>
                  </a:lnTo>
                  <a:lnTo>
                    <a:pt x="249" y="1507"/>
                  </a:lnTo>
                  <a:lnTo>
                    <a:pt x="194" y="1446"/>
                  </a:lnTo>
                  <a:lnTo>
                    <a:pt x="144" y="1356"/>
                  </a:lnTo>
                  <a:lnTo>
                    <a:pt x="144" y="2070"/>
                  </a:lnTo>
                  <a:lnTo>
                    <a:pt x="0" y="2070"/>
                  </a:lnTo>
                  <a:close/>
                </a:path>
              </a:pathLst>
            </a:custGeom>
            <a:solidFill>
              <a:srgbClr val="ff33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000840" y="3098880"/>
              <a:ext cx="160200" cy="550800"/>
            </a:xfrm>
            <a:custGeom>
              <a:avLst/>
              <a:gdLst/>
              <a:ahLst/>
              <a:rect l="l" t="t" r="r" b="b"/>
              <a:pathLst>
                <a:path w="444" h="1529">
                  <a:moveTo>
                    <a:pt x="0" y="1528"/>
                  </a:moveTo>
                  <a:lnTo>
                    <a:pt x="0" y="32"/>
                  </a:lnTo>
                  <a:lnTo>
                    <a:pt x="145" y="32"/>
                  </a:lnTo>
                  <a:lnTo>
                    <a:pt x="145" y="312"/>
                  </a:lnTo>
                  <a:lnTo>
                    <a:pt x="192" y="172"/>
                  </a:lnTo>
                  <a:lnTo>
                    <a:pt x="251" y="75"/>
                  </a:lnTo>
                  <a:lnTo>
                    <a:pt x="319" y="14"/>
                  </a:lnTo>
                  <a:lnTo>
                    <a:pt x="397" y="0"/>
                  </a:lnTo>
                  <a:lnTo>
                    <a:pt x="408" y="0"/>
                  </a:lnTo>
                  <a:lnTo>
                    <a:pt x="419" y="0"/>
                  </a:lnTo>
                  <a:lnTo>
                    <a:pt x="431" y="3"/>
                  </a:lnTo>
                  <a:lnTo>
                    <a:pt x="443" y="7"/>
                  </a:lnTo>
                  <a:lnTo>
                    <a:pt x="443" y="262"/>
                  </a:lnTo>
                  <a:lnTo>
                    <a:pt x="424" y="247"/>
                  </a:lnTo>
                  <a:lnTo>
                    <a:pt x="408" y="244"/>
                  </a:lnTo>
                  <a:lnTo>
                    <a:pt x="391" y="240"/>
                  </a:lnTo>
                  <a:lnTo>
                    <a:pt x="377" y="240"/>
                  </a:lnTo>
                  <a:lnTo>
                    <a:pt x="309" y="254"/>
                  </a:lnTo>
                  <a:lnTo>
                    <a:pt x="249" y="315"/>
                  </a:lnTo>
                  <a:lnTo>
                    <a:pt x="193" y="409"/>
                  </a:lnTo>
                  <a:lnTo>
                    <a:pt x="145" y="545"/>
                  </a:lnTo>
                  <a:lnTo>
                    <a:pt x="145" y="1528"/>
                  </a:lnTo>
                  <a:lnTo>
                    <a:pt x="0" y="1528"/>
                  </a:lnTo>
                </a:path>
              </a:pathLst>
            </a:custGeom>
            <a:solidFill>
              <a:srgbClr val="ff33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202440" y="3098880"/>
              <a:ext cx="274680" cy="561960"/>
            </a:xfrm>
            <a:custGeom>
              <a:avLst/>
              <a:gdLst/>
              <a:ahLst/>
              <a:rect l="l" t="t" r="r" b="b"/>
              <a:pathLst>
                <a:path w="765" h="1562">
                  <a:moveTo>
                    <a:pt x="382" y="1356"/>
                  </a:moveTo>
                  <a:lnTo>
                    <a:pt x="432" y="1349"/>
                  </a:lnTo>
                  <a:lnTo>
                    <a:pt x="477" y="1317"/>
                  </a:lnTo>
                  <a:lnTo>
                    <a:pt x="515" y="1270"/>
                  </a:lnTo>
                  <a:lnTo>
                    <a:pt x="550" y="1205"/>
                  </a:lnTo>
                  <a:lnTo>
                    <a:pt x="575" y="1123"/>
                  </a:lnTo>
                  <a:lnTo>
                    <a:pt x="592" y="1022"/>
                  </a:lnTo>
                  <a:lnTo>
                    <a:pt x="604" y="904"/>
                  </a:lnTo>
                  <a:lnTo>
                    <a:pt x="609" y="778"/>
                  </a:lnTo>
                  <a:lnTo>
                    <a:pt x="604" y="649"/>
                  </a:lnTo>
                  <a:lnTo>
                    <a:pt x="592" y="534"/>
                  </a:lnTo>
                  <a:lnTo>
                    <a:pt x="575" y="434"/>
                  </a:lnTo>
                  <a:lnTo>
                    <a:pt x="550" y="351"/>
                  </a:lnTo>
                  <a:lnTo>
                    <a:pt x="515" y="287"/>
                  </a:lnTo>
                  <a:lnTo>
                    <a:pt x="477" y="240"/>
                  </a:lnTo>
                  <a:lnTo>
                    <a:pt x="432" y="208"/>
                  </a:lnTo>
                  <a:lnTo>
                    <a:pt x="382" y="201"/>
                  </a:lnTo>
                  <a:lnTo>
                    <a:pt x="330" y="208"/>
                  </a:lnTo>
                  <a:lnTo>
                    <a:pt x="283" y="240"/>
                  </a:lnTo>
                  <a:lnTo>
                    <a:pt x="246" y="287"/>
                  </a:lnTo>
                  <a:lnTo>
                    <a:pt x="214" y="351"/>
                  </a:lnTo>
                  <a:lnTo>
                    <a:pt x="187" y="434"/>
                  </a:lnTo>
                  <a:lnTo>
                    <a:pt x="169" y="534"/>
                  </a:lnTo>
                  <a:lnTo>
                    <a:pt x="159" y="649"/>
                  </a:lnTo>
                  <a:lnTo>
                    <a:pt x="155" y="778"/>
                  </a:lnTo>
                  <a:lnTo>
                    <a:pt x="159" y="904"/>
                  </a:lnTo>
                  <a:lnTo>
                    <a:pt x="169" y="1022"/>
                  </a:lnTo>
                  <a:lnTo>
                    <a:pt x="187" y="1123"/>
                  </a:lnTo>
                  <a:lnTo>
                    <a:pt x="214" y="1205"/>
                  </a:lnTo>
                  <a:lnTo>
                    <a:pt x="246" y="1270"/>
                  </a:lnTo>
                  <a:lnTo>
                    <a:pt x="283" y="1317"/>
                  </a:lnTo>
                  <a:lnTo>
                    <a:pt x="330" y="1349"/>
                  </a:lnTo>
                  <a:lnTo>
                    <a:pt x="382" y="1356"/>
                  </a:lnTo>
                  <a:close/>
                  <a:moveTo>
                    <a:pt x="382" y="1561"/>
                  </a:moveTo>
                  <a:lnTo>
                    <a:pt x="298" y="1543"/>
                  </a:lnTo>
                  <a:lnTo>
                    <a:pt x="223" y="1503"/>
                  </a:lnTo>
                  <a:lnTo>
                    <a:pt x="159" y="1442"/>
                  </a:lnTo>
                  <a:lnTo>
                    <a:pt x="103" y="1352"/>
                  </a:lnTo>
                  <a:lnTo>
                    <a:pt x="56" y="1234"/>
                  </a:lnTo>
                  <a:lnTo>
                    <a:pt x="25" y="1101"/>
                  </a:lnTo>
                  <a:lnTo>
                    <a:pt x="5" y="947"/>
                  </a:lnTo>
                  <a:lnTo>
                    <a:pt x="0" y="778"/>
                  </a:lnTo>
                  <a:lnTo>
                    <a:pt x="5" y="606"/>
                  </a:lnTo>
                  <a:lnTo>
                    <a:pt x="25" y="455"/>
                  </a:lnTo>
                  <a:lnTo>
                    <a:pt x="56" y="323"/>
                  </a:lnTo>
                  <a:lnTo>
                    <a:pt x="103" y="208"/>
                  </a:lnTo>
                  <a:lnTo>
                    <a:pt x="159" y="115"/>
                  </a:lnTo>
                  <a:lnTo>
                    <a:pt x="223" y="50"/>
                  </a:lnTo>
                  <a:lnTo>
                    <a:pt x="298" y="10"/>
                  </a:lnTo>
                  <a:lnTo>
                    <a:pt x="382" y="0"/>
                  </a:lnTo>
                  <a:lnTo>
                    <a:pt x="464" y="10"/>
                  </a:lnTo>
                  <a:lnTo>
                    <a:pt x="539" y="50"/>
                  </a:lnTo>
                  <a:lnTo>
                    <a:pt x="606" y="115"/>
                  </a:lnTo>
                  <a:lnTo>
                    <a:pt x="662" y="208"/>
                  </a:lnTo>
                  <a:lnTo>
                    <a:pt x="705" y="323"/>
                  </a:lnTo>
                  <a:lnTo>
                    <a:pt x="737" y="455"/>
                  </a:lnTo>
                  <a:lnTo>
                    <a:pt x="757" y="606"/>
                  </a:lnTo>
                  <a:lnTo>
                    <a:pt x="764" y="778"/>
                  </a:lnTo>
                  <a:lnTo>
                    <a:pt x="757" y="947"/>
                  </a:lnTo>
                  <a:lnTo>
                    <a:pt x="737" y="1101"/>
                  </a:lnTo>
                  <a:lnTo>
                    <a:pt x="705" y="1234"/>
                  </a:lnTo>
                  <a:lnTo>
                    <a:pt x="662" y="1352"/>
                  </a:lnTo>
                  <a:lnTo>
                    <a:pt x="606" y="1442"/>
                  </a:lnTo>
                  <a:lnTo>
                    <a:pt x="539" y="1503"/>
                  </a:lnTo>
                  <a:lnTo>
                    <a:pt x="464" y="1543"/>
                  </a:lnTo>
                  <a:lnTo>
                    <a:pt x="382" y="1561"/>
                  </a:lnTo>
                  <a:close/>
                </a:path>
              </a:pathLst>
            </a:custGeom>
            <a:solidFill>
              <a:srgbClr val="ff33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558120" y="2865600"/>
              <a:ext cx="261720" cy="795240"/>
            </a:xfrm>
            <a:custGeom>
              <a:avLst/>
              <a:gdLst/>
              <a:ahLst/>
              <a:rect l="l" t="t" r="r" b="b"/>
              <a:pathLst>
                <a:path w="726" h="2208">
                  <a:moveTo>
                    <a:pt x="144" y="1815"/>
                  </a:moveTo>
                  <a:lnTo>
                    <a:pt x="200" y="1898"/>
                  </a:lnTo>
                  <a:lnTo>
                    <a:pt x="254" y="1952"/>
                  </a:lnTo>
                  <a:lnTo>
                    <a:pt x="307" y="1991"/>
                  </a:lnTo>
                  <a:lnTo>
                    <a:pt x="359" y="2002"/>
                  </a:lnTo>
                  <a:lnTo>
                    <a:pt x="405" y="1995"/>
                  </a:lnTo>
                  <a:lnTo>
                    <a:pt x="448" y="1963"/>
                  </a:lnTo>
                  <a:lnTo>
                    <a:pt x="484" y="1912"/>
                  </a:lnTo>
                  <a:lnTo>
                    <a:pt x="516" y="1848"/>
                  </a:lnTo>
                  <a:lnTo>
                    <a:pt x="540" y="1762"/>
                  </a:lnTo>
                  <a:lnTo>
                    <a:pt x="555" y="1658"/>
                  </a:lnTo>
                  <a:lnTo>
                    <a:pt x="566" y="1539"/>
                  </a:lnTo>
                  <a:lnTo>
                    <a:pt x="570" y="1406"/>
                  </a:lnTo>
                  <a:lnTo>
                    <a:pt x="557" y="1177"/>
                  </a:lnTo>
                  <a:lnTo>
                    <a:pt x="521" y="1015"/>
                  </a:lnTo>
                  <a:lnTo>
                    <a:pt x="465" y="915"/>
                  </a:lnTo>
                  <a:lnTo>
                    <a:pt x="384" y="886"/>
                  </a:lnTo>
                  <a:lnTo>
                    <a:pt x="322" y="897"/>
                  </a:lnTo>
                  <a:lnTo>
                    <a:pt x="261" y="944"/>
                  </a:lnTo>
                  <a:lnTo>
                    <a:pt x="201" y="1022"/>
                  </a:lnTo>
                  <a:lnTo>
                    <a:pt x="144" y="1130"/>
                  </a:lnTo>
                  <a:lnTo>
                    <a:pt x="144" y="1815"/>
                  </a:lnTo>
                  <a:close/>
                  <a:moveTo>
                    <a:pt x="0" y="2189"/>
                  </a:moveTo>
                  <a:lnTo>
                    <a:pt x="0" y="0"/>
                  </a:lnTo>
                  <a:lnTo>
                    <a:pt x="144" y="0"/>
                  </a:lnTo>
                  <a:lnTo>
                    <a:pt x="144" y="958"/>
                  </a:lnTo>
                  <a:lnTo>
                    <a:pt x="193" y="818"/>
                  </a:lnTo>
                  <a:lnTo>
                    <a:pt x="255" y="721"/>
                  </a:lnTo>
                  <a:lnTo>
                    <a:pt x="327" y="660"/>
                  </a:lnTo>
                  <a:lnTo>
                    <a:pt x="412" y="646"/>
                  </a:lnTo>
                  <a:lnTo>
                    <a:pt x="482" y="656"/>
                  </a:lnTo>
                  <a:lnTo>
                    <a:pt x="543" y="692"/>
                  </a:lnTo>
                  <a:lnTo>
                    <a:pt x="596" y="753"/>
                  </a:lnTo>
                  <a:lnTo>
                    <a:pt x="643" y="843"/>
                  </a:lnTo>
                  <a:lnTo>
                    <a:pt x="678" y="947"/>
                  </a:lnTo>
                  <a:lnTo>
                    <a:pt x="704" y="1073"/>
                  </a:lnTo>
                  <a:lnTo>
                    <a:pt x="720" y="1216"/>
                  </a:lnTo>
                  <a:lnTo>
                    <a:pt x="725" y="1381"/>
                  </a:lnTo>
                  <a:lnTo>
                    <a:pt x="718" y="1553"/>
                  </a:lnTo>
                  <a:lnTo>
                    <a:pt x="700" y="1715"/>
                  </a:lnTo>
                  <a:lnTo>
                    <a:pt x="671" y="1855"/>
                  </a:lnTo>
                  <a:lnTo>
                    <a:pt x="630" y="1977"/>
                  </a:lnTo>
                  <a:lnTo>
                    <a:pt x="578" y="2077"/>
                  </a:lnTo>
                  <a:lnTo>
                    <a:pt x="519" y="2146"/>
                  </a:lnTo>
                  <a:lnTo>
                    <a:pt x="454" y="2189"/>
                  </a:lnTo>
                  <a:lnTo>
                    <a:pt x="382" y="2207"/>
                  </a:lnTo>
                  <a:lnTo>
                    <a:pt x="313" y="2189"/>
                  </a:lnTo>
                  <a:lnTo>
                    <a:pt x="250" y="2153"/>
                  </a:lnTo>
                  <a:lnTo>
                    <a:pt x="194" y="2092"/>
                  </a:lnTo>
                  <a:lnTo>
                    <a:pt x="144" y="2002"/>
                  </a:lnTo>
                  <a:lnTo>
                    <a:pt x="126" y="2189"/>
                  </a:lnTo>
                  <a:lnTo>
                    <a:pt x="0" y="2189"/>
                  </a:lnTo>
                  <a:close/>
                </a:path>
              </a:pathLst>
            </a:custGeom>
            <a:solidFill>
              <a:srgbClr val="ff33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900840" y="2865600"/>
              <a:ext cx="52560" cy="782640"/>
            </a:xfrm>
            <a:custGeom>
              <a:avLst/>
              <a:gdLst/>
              <a:ahLst/>
              <a:rect l="l" t="t" r="r" b="b"/>
              <a:pathLst>
                <a:path w="145" h="2175">
                  <a:moveTo>
                    <a:pt x="0" y="2174"/>
                  </a:moveTo>
                  <a:lnTo>
                    <a:pt x="0" y="0"/>
                  </a:lnTo>
                  <a:lnTo>
                    <a:pt x="144" y="0"/>
                  </a:lnTo>
                  <a:lnTo>
                    <a:pt x="144" y="2174"/>
                  </a:lnTo>
                  <a:lnTo>
                    <a:pt x="0" y="2174"/>
                  </a:lnTo>
                </a:path>
              </a:pathLst>
            </a:custGeom>
            <a:solidFill>
              <a:srgbClr val="ff33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035840" y="2852640"/>
              <a:ext cx="236520" cy="808200"/>
            </a:xfrm>
            <a:custGeom>
              <a:avLst/>
              <a:gdLst/>
              <a:ahLst/>
              <a:rect l="l" t="t" r="r" b="b"/>
              <a:pathLst>
                <a:path w="655" h="2244">
                  <a:moveTo>
                    <a:pt x="155" y="1299"/>
                  </a:moveTo>
                  <a:lnTo>
                    <a:pt x="509" y="1299"/>
                  </a:lnTo>
                  <a:lnTo>
                    <a:pt x="498" y="1116"/>
                  </a:lnTo>
                  <a:lnTo>
                    <a:pt x="466" y="987"/>
                  </a:lnTo>
                  <a:lnTo>
                    <a:pt x="414" y="908"/>
                  </a:lnTo>
                  <a:lnTo>
                    <a:pt x="342" y="883"/>
                  </a:lnTo>
                  <a:lnTo>
                    <a:pt x="267" y="908"/>
                  </a:lnTo>
                  <a:lnTo>
                    <a:pt x="211" y="987"/>
                  </a:lnTo>
                  <a:lnTo>
                    <a:pt x="173" y="1116"/>
                  </a:lnTo>
                  <a:lnTo>
                    <a:pt x="155" y="1299"/>
                  </a:lnTo>
                  <a:close/>
                  <a:moveTo>
                    <a:pt x="448" y="445"/>
                  </a:moveTo>
                  <a:lnTo>
                    <a:pt x="339" y="445"/>
                  </a:lnTo>
                  <a:lnTo>
                    <a:pt x="101" y="0"/>
                  </a:lnTo>
                  <a:lnTo>
                    <a:pt x="269" y="0"/>
                  </a:lnTo>
                  <a:lnTo>
                    <a:pt x="448" y="445"/>
                  </a:lnTo>
                  <a:close/>
                  <a:moveTo>
                    <a:pt x="649" y="2160"/>
                  </a:moveTo>
                  <a:lnTo>
                    <a:pt x="579" y="2192"/>
                  </a:lnTo>
                  <a:lnTo>
                    <a:pt x="514" y="2221"/>
                  </a:lnTo>
                  <a:lnTo>
                    <a:pt x="454" y="2232"/>
                  </a:lnTo>
                  <a:lnTo>
                    <a:pt x="400" y="2243"/>
                  </a:lnTo>
                  <a:lnTo>
                    <a:pt x="314" y="2225"/>
                  </a:lnTo>
                  <a:lnTo>
                    <a:pt x="239" y="2185"/>
                  </a:lnTo>
                  <a:lnTo>
                    <a:pt x="171" y="2117"/>
                  </a:lnTo>
                  <a:lnTo>
                    <a:pt x="112" y="2024"/>
                  </a:lnTo>
                  <a:lnTo>
                    <a:pt x="63" y="1902"/>
                  </a:lnTo>
                  <a:lnTo>
                    <a:pt x="26" y="1769"/>
                  </a:lnTo>
                  <a:lnTo>
                    <a:pt x="5" y="1618"/>
                  </a:lnTo>
                  <a:lnTo>
                    <a:pt x="0" y="1453"/>
                  </a:lnTo>
                  <a:lnTo>
                    <a:pt x="5" y="1292"/>
                  </a:lnTo>
                  <a:lnTo>
                    <a:pt x="23" y="1145"/>
                  </a:lnTo>
                  <a:lnTo>
                    <a:pt x="54" y="1012"/>
                  </a:lnTo>
                  <a:lnTo>
                    <a:pt x="98" y="897"/>
                  </a:lnTo>
                  <a:lnTo>
                    <a:pt x="150" y="800"/>
                  </a:lnTo>
                  <a:lnTo>
                    <a:pt x="211" y="736"/>
                  </a:lnTo>
                  <a:lnTo>
                    <a:pt x="277" y="692"/>
                  </a:lnTo>
                  <a:lnTo>
                    <a:pt x="350" y="682"/>
                  </a:lnTo>
                  <a:lnTo>
                    <a:pt x="417" y="692"/>
                  </a:lnTo>
                  <a:lnTo>
                    <a:pt x="478" y="728"/>
                  </a:lnTo>
                  <a:lnTo>
                    <a:pt x="530" y="786"/>
                  </a:lnTo>
                  <a:lnTo>
                    <a:pt x="574" y="875"/>
                  </a:lnTo>
                  <a:lnTo>
                    <a:pt x="609" y="980"/>
                  </a:lnTo>
                  <a:lnTo>
                    <a:pt x="632" y="1109"/>
                  </a:lnTo>
                  <a:lnTo>
                    <a:pt x="648" y="1249"/>
                  </a:lnTo>
                  <a:lnTo>
                    <a:pt x="654" y="1421"/>
                  </a:lnTo>
                  <a:lnTo>
                    <a:pt x="654" y="1503"/>
                  </a:lnTo>
                  <a:lnTo>
                    <a:pt x="148" y="1503"/>
                  </a:lnTo>
                  <a:lnTo>
                    <a:pt x="176" y="1737"/>
                  </a:lnTo>
                  <a:lnTo>
                    <a:pt x="234" y="1902"/>
                  </a:lnTo>
                  <a:lnTo>
                    <a:pt x="316" y="2002"/>
                  </a:lnTo>
                  <a:lnTo>
                    <a:pt x="427" y="2038"/>
                  </a:lnTo>
                  <a:lnTo>
                    <a:pt x="473" y="2034"/>
                  </a:lnTo>
                  <a:lnTo>
                    <a:pt x="527" y="2013"/>
                  </a:lnTo>
                  <a:lnTo>
                    <a:pt x="586" y="1984"/>
                  </a:lnTo>
                  <a:lnTo>
                    <a:pt x="649" y="1945"/>
                  </a:lnTo>
                  <a:lnTo>
                    <a:pt x="649" y="2160"/>
                  </a:lnTo>
                  <a:close/>
                </a:path>
              </a:pathLst>
            </a:custGeom>
            <a:solidFill>
              <a:srgbClr val="ff33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361280" y="3098880"/>
              <a:ext cx="406440" cy="550800"/>
            </a:xfrm>
            <a:custGeom>
              <a:avLst/>
              <a:gdLst/>
              <a:ahLst/>
              <a:rect l="l" t="t" r="r" b="b"/>
              <a:pathLst>
                <a:path w="1129" h="1529">
                  <a:moveTo>
                    <a:pt x="0" y="1528"/>
                  </a:moveTo>
                  <a:lnTo>
                    <a:pt x="0" y="32"/>
                  </a:lnTo>
                  <a:lnTo>
                    <a:pt x="145" y="32"/>
                  </a:lnTo>
                  <a:lnTo>
                    <a:pt x="145" y="312"/>
                  </a:lnTo>
                  <a:lnTo>
                    <a:pt x="200" y="172"/>
                  </a:lnTo>
                  <a:lnTo>
                    <a:pt x="264" y="75"/>
                  </a:lnTo>
                  <a:lnTo>
                    <a:pt x="338" y="14"/>
                  </a:lnTo>
                  <a:lnTo>
                    <a:pt x="418" y="0"/>
                  </a:lnTo>
                  <a:lnTo>
                    <a:pt x="489" y="14"/>
                  </a:lnTo>
                  <a:lnTo>
                    <a:pt x="550" y="75"/>
                  </a:lnTo>
                  <a:lnTo>
                    <a:pt x="599" y="172"/>
                  </a:lnTo>
                  <a:lnTo>
                    <a:pt x="636" y="312"/>
                  </a:lnTo>
                  <a:lnTo>
                    <a:pt x="692" y="172"/>
                  </a:lnTo>
                  <a:lnTo>
                    <a:pt x="754" y="75"/>
                  </a:lnTo>
                  <a:lnTo>
                    <a:pt x="826" y="14"/>
                  </a:lnTo>
                  <a:lnTo>
                    <a:pt x="904" y="0"/>
                  </a:lnTo>
                  <a:lnTo>
                    <a:pt x="952" y="7"/>
                  </a:lnTo>
                  <a:lnTo>
                    <a:pt x="997" y="25"/>
                  </a:lnTo>
                  <a:lnTo>
                    <a:pt x="1034" y="61"/>
                  </a:lnTo>
                  <a:lnTo>
                    <a:pt x="1068" y="115"/>
                  </a:lnTo>
                  <a:lnTo>
                    <a:pt x="1093" y="179"/>
                  </a:lnTo>
                  <a:lnTo>
                    <a:pt x="1111" y="251"/>
                  </a:lnTo>
                  <a:lnTo>
                    <a:pt x="1121" y="341"/>
                  </a:lnTo>
                  <a:lnTo>
                    <a:pt x="1128" y="441"/>
                  </a:lnTo>
                  <a:lnTo>
                    <a:pt x="1128" y="1528"/>
                  </a:lnTo>
                  <a:lnTo>
                    <a:pt x="983" y="1528"/>
                  </a:lnTo>
                  <a:lnTo>
                    <a:pt x="983" y="484"/>
                  </a:lnTo>
                  <a:lnTo>
                    <a:pt x="976" y="373"/>
                  </a:lnTo>
                  <a:lnTo>
                    <a:pt x="954" y="290"/>
                  </a:lnTo>
                  <a:lnTo>
                    <a:pt x="920" y="244"/>
                  </a:lnTo>
                  <a:lnTo>
                    <a:pt x="873" y="229"/>
                  </a:lnTo>
                  <a:lnTo>
                    <a:pt x="816" y="244"/>
                  </a:lnTo>
                  <a:lnTo>
                    <a:pt x="758" y="301"/>
                  </a:lnTo>
                  <a:lnTo>
                    <a:pt x="697" y="394"/>
                  </a:lnTo>
                  <a:lnTo>
                    <a:pt x="636" y="527"/>
                  </a:lnTo>
                  <a:lnTo>
                    <a:pt x="636" y="1528"/>
                  </a:lnTo>
                  <a:lnTo>
                    <a:pt x="491" y="1528"/>
                  </a:lnTo>
                  <a:lnTo>
                    <a:pt x="491" y="481"/>
                  </a:lnTo>
                  <a:lnTo>
                    <a:pt x="484" y="369"/>
                  </a:lnTo>
                  <a:lnTo>
                    <a:pt x="463" y="290"/>
                  </a:lnTo>
                  <a:lnTo>
                    <a:pt x="427" y="240"/>
                  </a:lnTo>
                  <a:lnTo>
                    <a:pt x="381" y="226"/>
                  </a:lnTo>
                  <a:lnTo>
                    <a:pt x="323" y="244"/>
                  </a:lnTo>
                  <a:lnTo>
                    <a:pt x="266" y="298"/>
                  </a:lnTo>
                  <a:lnTo>
                    <a:pt x="205" y="391"/>
                  </a:lnTo>
                  <a:lnTo>
                    <a:pt x="145" y="524"/>
                  </a:lnTo>
                  <a:lnTo>
                    <a:pt x="145" y="1528"/>
                  </a:lnTo>
                  <a:lnTo>
                    <a:pt x="0" y="1528"/>
                  </a:lnTo>
                </a:path>
              </a:pathLst>
            </a:custGeom>
            <a:solidFill>
              <a:srgbClr val="ff33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848720" y="3098880"/>
              <a:ext cx="236520" cy="561960"/>
            </a:xfrm>
            <a:custGeom>
              <a:avLst/>
              <a:gdLst/>
              <a:ahLst/>
              <a:rect l="l" t="t" r="r" b="b"/>
              <a:pathLst>
                <a:path w="655" h="1562">
                  <a:moveTo>
                    <a:pt x="155" y="617"/>
                  </a:moveTo>
                  <a:lnTo>
                    <a:pt x="509" y="617"/>
                  </a:lnTo>
                  <a:lnTo>
                    <a:pt x="499" y="434"/>
                  </a:lnTo>
                  <a:lnTo>
                    <a:pt x="467" y="305"/>
                  </a:lnTo>
                  <a:lnTo>
                    <a:pt x="415" y="226"/>
                  </a:lnTo>
                  <a:lnTo>
                    <a:pt x="343" y="201"/>
                  </a:lnTo>
                  <a:lnTo>
                    <a:pt x="268" y="226"/>
                  </a:lnTo>
                  <a:lnTo>
                    <a:pt x="211" y="305"/>
                  </a:lnTo>
                  <a:lnTo>
                    <a:pt x="174" y="434"/>
                  </a:lnTo>
                  <a:lnTo>
                    <a:pt x="155" y="617"/>
                  </a:lnTo>
                  <a:close/>
                  <a:moveTo>
                    <a:pt x="651" y="1478"/>
                  </a:moveTo>
                  <a:lnTo>
                    <a:pt x="579" y="1510"/>
                  </a:lnTo>
                  <a:lnTo>
                    <a:pt x="515" y="1539"/>
                  </a:lnTo>
                  <a:lnTo>
                    <a:pt x="454" y="1550"/>
                  </a:lnTo>
                  <a:lnTo>
                    <a:pt x="401" y="1561"/>
                  </a:lnTo>
                  <a:lnTo>
                    <a:pt x="315" y="1543"/>
                  </a:lnTo>
                  <a:lnTo>
                    <a:pt x="240" y="1503"/>
                  </a:lnTo>
                  <a:lnTo>
                    <a:pt x="172" y="1435"/>
                  </a:lnTo>
                  <a:lnTo>
                    <a:pt x="113" y="1342"/>
                  </a:lnTo>
                  <a:lnTo>
                    <a:pt x="63" y="1220"/>
                  </a:lnTo>
                  <a:lnTo>
                    <a:pt x="27" y="1087"/>
                  </a:lnTo>
                  <a:lnTo>
                    <a:pt x="6" y="936"/>
                  </a:lnTo>
                  <a:lnTo>
                    <a:pt x="0" y="771"/>
                  </a:lnTo>
                  <a:lnTo>
                    <a:pt x="6" y="610"/>
                  </a:lnTo>
                  <a:lnTo>
                    <a:pt x="24" y="463"/>
                  </a:lnTo>
                  <a:lnTo>
                    <a:pt x="54" y="330"/>
                  </a:lnTo>
                  <a:lnTo>
                    <a:pt x="99" y="215"/>
                  </a:lnTo>
                  <a:lnTo>
                    <a:pt x="150" y="118"/>
                  </a:lnTo>
                  <a:lnTo>
                    <a:pt x="211" y="54"/>
                  </a:lnTo>
                  <a:lnTo>
                    <a:pt x="277" y="10"/>
                  </a:lnTo>
                  <a:lnTo>
                    <a:pt x="350" y="0"/>
                  </a:lnTo>
                  <a:lnTo>
                    <a:pt x="418" y="10"/>
                  </a:lnTo>
                  <a:lnTo>
                    <a:pt x="479" y="46"/>
                  </a:lnTo>
                  <a:lnTo>
                    <a:pt x="530" y="104"/>
                  </a:lnTo>
                  <a:lnTo>
                    <a:pt x="576" y="193"/>
                  </a:lnTo>
                  <a:lnTo>
                    <a:pt x="609" y="298"/>
                  </a:lnTo>
                  <a:lnTo>
                    <a:pt x="633" y="427"/>
                  </a:lnTo>
                  <a:lnTo>
                    <a:pt x="649" y="567"/>
                  </a:lnTo>
                  <a:lnTo>
                    <a:pt x="654" y="739"/>
                  </a:lnTo>
                  <a:lnTo>
                    <a:pt x="654" y="821"/>
                  </a:lnTo>
                  <a:lnTo>
                    <a:pt x="148" y="821"/>
                  </a:lnTo>
                  <a:lnTo>
                    <a:pt x="177" y="1055"/>
                  </a:lnTo>
                  <a:lnTo>
                    <a:pt x="235" y="1220"/>
                  </a:lnTo>
                  <a:lnTo>
                    <a:pt x="317" y="1320"/>
                  </a:lnTo>
                  <a:lnTo>
                    <a:pt x="427" y="1356"/>
                  </a:lnTo>
                  <a:lnTo>
                    <a:pt x="474" y="1352"/>
                  </a:lnTo>
                  <a:lnTo>
                    <a:pt x="527" y="1331"/>
                  </a:lnTo>
                  <a:lnTo>
                    <a:pt x="586" y="1302"/>
                  </a:lnTo>
                  <a:lnTo>
                    <a:pt x="651" y="1263"/>
                  </a:lnTo>
                  <a:lnTo>
                    <a:pt x="651" y="1478"/>
                  </a:lnTo>
                  <a:close/>
                </a:path>
              </a:pathLst>
            </a:custGeom>
            <a:solidFill>
              <a:srgbClr val="ff33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3809880" y="3809880"/>
            <a:ext cx="2210040" cy="2079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-11160" y="0"/>
            <a:ext cx="9272520" cy="716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371600" y="838080"/>
            <a:ext cx="7035840" cy="168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echnical"/>
              </a:rPr>
              <a:t>Lorsqu’il est posé en </a:t>
            </a:r>
            <a:r>
              <a:rPr b="0" lang="en-GB" sz="4000" spc="-1" strike="noStrike">
                <a:solidFill>
                  <a:srgbClr val="ff33cc"/>
                </a:solidFill>
                <a:latin typeface="Technical"/>
              </a:rPr>
              <a:t>second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echnical"/>
              </a:rPr>
              <a:t>ce petit problème devient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1523880" y="2590920"/>
            <a:ext cx="6782040" cy="992160"/>
            <a:chOff x="1523880" y="2590920"/>
            <a:chExt cx="6782040" cy="992160"/>
          </a:xfrm>
        </p:grpSpPr>
        <p:sp>
          <p:nvSpPr>
            <p:cNvPr id="173" name=""/>
            <p:cNvSpPr/>
            <p:nvPr/>
          </p:nvSpPr>
          <p:spPr>
            <a:xfrm>
              <a:off x="1523880" y="2847960"/>
              <a:ext cx="184320" cy="550800"/>
            </a:xfrm>
            <a:custGeom>
              <a:avLst/>
              <a:gdLst/>
              <a:ahLst/>
              <a:rect l="l" t="t" r="r" b="b"/>
              <a:pathLst>
                <a:path w="510" h="1529">
                  <a:moveTo>
                    <a:pt x="396" y="1495"/>
                  </a:moveTo>
                  <a:lnTo>
                    <a:pt x="396" y="1212"/>
                  </a:lnTo>
                  <a:lnTo>
                    <a:pt x="347" y="1348"/>
                  </a:lnTo>
                  <a:lnTo>
                    <a:pt x="296" y="1445"/>
                  </a:lnTo>
                  <a:lnTo>
                    <a:pt x="239" y="1506"/>
                  </a:lnTo>
                  <a:lnTo>
                    <a:pt x="177" y="1528"/>
                  </a:lnTo>
                  <a:lnTo>
                    <a:pt x="138" y="1517"/>
                  </a:lnTo>
                  <a:lnTo>
                    <a:pt x="104" y="1495"/>
                  </a:lnTo>
                  <a:lnTo>
                    <a:pt x="74" y="1460"/>
                  </a:lnTo>
                  <a:lnTo>
                    <a:pt x="48" y="1406"/>
                  </a:lnTo>
                  <a:lnTo>
                    <a:pt x="26" y="1334"/>
                  </a:lnTo>
                  <a:lnTo>
                    <a:pt x="11" y="1259"/>
                  </a:lnTo>
                  <a:lnTo>
                    <a:pt x="3" y="1169"/>
                  </a:lnTo>
                  <a:lnTo>
                    <a:pt x="0" y="1072"/>
                  </a:lnTo>
                  <a:lnTo>
                    <a:pt x="0" y="0"/>
                  </a:lnTo>
                  <a:lnTo>
                    <a:pt x="112" y="0"/>
                  </a:lnTo>
                  <a:lnTo>
                    <a:pt x="112" y="986"/>
                  </a:lnTo>
                  <a:lnTo>
                    <a:pt x="112" y="1061"/>
                  </a:lnTo>
                  <a:lnTo>
                    <a:pt x="116" y="1126"/>
                  </a:lnTo>
                  <a:lnTo>
                    <a:pt x="123" y="1180"/>
                  </a:lnTo>
                  <a:lnTo>
                    <a:pt x="133" y="1223"/>
                  </a:lnTo>
                  <a:lnTo>
                    <a:pt x="144" y="1252"/>
                  </a:lnTo>
                  <a:lnTo>
                    <a:pt x="159" y="1273"/>
                  </a:lnTo>
                  <a:lnTo>
                    <a:pt x="177" y="1287"/>
                  </a:lnTo>
                  <a:lnTo>
                    <a:pt x="200" y="1295"/>
                  </a:lnTo>
                  <a:lnTo>
                    <a:pt x="251" y="1273"/>
                  </a:lnTo>
                  <a:lnTo>
                    <a:pt x="300" y="1212"/>
                  </a:lnTo>
                  <a:lnTo>
                    <a:pt x="349" y="1108"/>
                  </a:lnTo>
                  <a:lnTo>
                    <a:pt x="396" y="968"/>
                  </a:lnTo>
                  <a:lnTo>
                    <a:pt x="396" y="0"/>
                  </a:lnTo>
                  <a:lnTo>
                    <a:pt x="509" y="0"/>
                  </a:lnTo>
                  <a:lnTo>
                    <a:pt x="509" y="1495"/>
                  </a:lnTo>
                  <a:lnTo>
                    <a:pt x="396" y="1495"/>
                  </a:lnTo>
                </a:path>
              </a:pathLst>
            </a:custGeom>
            <a:solidFill>
              <a:srgbClr val="ff33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787400" y="2836800"/>
              <a:ext cx="184320" cy="550800"/>
            </a:xfrm>
            <a:custGeom>
              <a:avLst/>
              <a:gdLst/>
              <a:ahLst/>
              <a:rect l="l" t="t" r="r" b="b"/>
              <a:pathLst>
                <a:path w="510" h="1529">
                  <a:moveTo>
                    <a:pt x="0" y="1528"/>
                  </a:moveTo>
                  <a:lnTo>
                    <a:pt x="0" y="33"/>
                  </a:lnTo>
                  <a:lnTo>
                    <a:pt x="112" y="33"/>
                  </a:lnTo>
                  <a:lnTo>
                    <a:pt x="112" y="313"/>
                  </a:lnTo>
                  <a:lnTo>
                    <a:pt x="159" y="173"/>
                  </a:lnTo>
                  <a:lnTo>
                    <a:pt x="211" y="76"/>
                  </a:lnTo>
                  <a:lnTo>
                    <a:pt x="269" y="15"/>
                  </a:lnTo>
                  <a:lnTo>
                    <a:pt x="331" y="0"/>
                  </a:lnTo>
                  <a:lnTo>
                    <a:pt x="369" y="8"/>
                  </a:lnTo>
                  <a:lnTo>
                    <a:pt x="405" y="29"/>
                  </a:lnTo>
                  <a:lnTo>
                    <a:pt x="435" y="65"/>
                  </a:lnTo>
                  <a:lnTo>
                    <a:pt x="461" y="122"/>
                  </a:lnTo>
                  <a:lnTo>
                    <a:pt x="482" y="191"/>
                  </a:lnTo>
                  <a:lnTo>
                    <a:pt x="496" y="266"/>
                  </a:lnTo>
                  <a:lnTo>
                    <a:pt x="505" y="352"/>
                  </a:lnTo>
                  <a:lnTo>
                    <a:pt x="509" y="452"/>
                  </a:lnTo>
                  <a:lnTo>
                    <a:pt x="509" y="1528"/>
                  </a:lnTo>
                  <a:lnTo>
                    <a:pt x="396" y="1528"/>
                  </a:lnTo>
                  <a:lnTo>
                    <a:pt x="396" y="542"/>
                  </a:lnTo>
                  <a:lnTo>
                    <a:pt x="395" y="463"/>
                  </a:lnTo>
                  <a:lnTo>
                    <a:pt x="391" y="399"/>
                  </a:lnTo>
                  <a:lnTo>
                    <a:pt x="384" y="341"/>
                  </a:lnTo>
                  <a:lnTo>
                    <a:pt x="377" y="302"/>
                  </a:lnTo>
                  <a:lnTo>
                    <a:pt x="365" y="269"/>
                  </a:lnTo>
                  <a:lnTo>
                    <a:pt x="350" y="248"/>
                  </a:lnTo>
                  <a:lnTo>
                    <a:pt x="329" y="237"/>
                  </a:lnTo>
                  <a:lnTo>
                    <a:pt x="309" y="234"/>
                  </a:lnTo>
                  <a:lnTo>
                    <a:pt x="256" y="252"/>
                  </a:lnTo>
                  <a:lnTo>
                    <a:pt x="207" y="313"/>
                  </a:lnTo>
                  <a:lnTo>
                    <a:pt x="158" y="417"/>
                  </a:lnTo>
                  <a:lnTo>
                    <a:pt x="112" y="560"/>
                  </a:lnTo>
                  <a:lnTo>
                    <a:pt x="112" y="1528"/>
                  </a:lnTo>
                  <a:lnTo>
                    <a:pt x="0" y="1528"/>
                  </a:lnTo>
                </a:path>
              </a:pathLst>
            </a:custGeom>
            <a:solidFill>
              <a:srgbClr val="ff33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184480" y="2836800"/>
              <a:ext cx="203040" cy="746280"/>
            </a:xfrm>
            <a:custGeom>
              <a:avLst/>
              <a:gdLst/>
              <a:ahLst/>
              <a:rect l="l" t="t" r="r" b="b"/>
              <a:pathLst>
                <a:path w="564" h="2071">
                  <a:moveTo>
                    <a:pt x="113" y="1170"/>
                  </a:moveTo>
                  <a:lnTo>
                    <a:pt x="155" y="1252"/>
                  </a:lnTo>
                  <a:lnTo>
                    <a:pt x="197" y="1306"/>
                  </a:lnTo>
                  <a:lnTo>
                    <a:pt x="238" y="1345"/>
                  </a:lnTo>
                  <a:lnTo>
                    <a:pt x="279" y="1356"/>
                  </a:lnTo>
                  <a:lnTo>
                    <a:pt x="314" y="1349"/>
                  </a:lnTo>
                  <a:lnTo>
                    <a:pt x="348" y="1317"/>
                  </a:lnTo>
                  <a:lnTo>
                    <a:pt x="375" y="1267"/>
                  </a:lnTo>
                  <a:lnTo>
                    <a:pt x="401" y="1202"/>
                  </a:lnTo>
                  <a:lnTo>
                    <a:pt x="419" y="1116"/>
                  </a:lnTo>
                  <a:lnTo>
                    <a:pt x="431" y="1012"/>
                  </a:lnTo>
                  <a:lnTo>
                    <a:pt x="439" y="894"/>
                  </a:lnTo>
                  <a:lnTo>
                    <a:pt x="442" y="761"/>
                  </a:lnTo>
                  <a:lnTo>
                    <a:pt x="432" y="531"/>
                  </a:lnTo>
                  <a:lnTo>
                    <a:pt x="405" y="370"/>
                  </a:lnTo>
                  <a:lnTo>
                    <a:pt x="360" y="269"/>
                  </a:lnTo>
                  <a:lnTo>
                    <a:pt x="298" y="241"/>
                  </a:lnTo>
                  <a:lnTo>
                    <a:pt x="249" y="252"/>
                  </a:lnTo>
                  <a:lnTo>
                    <a:pt x="202" y="298"/>
                  </a:lnTo>
                  <a:lnTo>
                    <a:pt x="157" y="377"/>
                  </a:lnTo>
                  <a:lnTo>
                    <a:pt x="113" y="485"/>
                  </a:lnTo>
                  <a:lnTo>
                    <a:pt x="113" y="1170"/>
                  </a:lnTo>
                  <a:close/>
                  <a:moveTo>
                    <a:pt x="0" y="2070"/>
                  </a:moveTo>
                  <a:lnTo>
                    <a:pt x="0" y="33"/>
                  </a:lnTo>
                  <a:lnTo>
                    <a:pt x="113" y="33"/>
                  </a:lnTo>
                  <a:lnTo>
                    <a:pt x="113" y="313"/>
                  </a:lnTo>
                  <a:lnTo>
                    <a:pt x="150" y="173"/>
                  </a:lnTo>
                  <a:lnTo>
                    <a:pt x="198" y="76"/>
                  </a:lnTo>
                  <a:lnTo>
                    <a:pt x="254" y="15"/>
                  </a:lnTo>
                  <a:lnTo>
                    <a:pt x="320" y="0"/>
                  </a:lnTo>
                  <a:lnTo>
                    <a:pt x="374" y="11"/>
                  </a:lnTo>
                  <a:lnTo>
                    <a:pt x="421" y="47"/>
                  </a:lnTo>
                  <a:lnTo>
                    <a:pt x="463" y="108"/>
                  </a:lnTo>
                  <a:lnTo>
                    <a:pt x="498" y="198"/>
                  </a:lnTo>
                  <a:lnTo>
                    <a:pt x="526" y="302"/>
                  </a:lnTo>
                  <a:lnTo>
                    <a:pt x="546" y="427"/>
                  </a:lnTo>
                  <a:lnTo>
                    <a:pt x="559" y="571"/>
                  </a:lnTo>
                  <a:lnTo>
                    <a:pt x="563" y="736"/>
                  </a:lnTo>
                  <a:lnTo>
                    <a:pt x="557" y="908"/>
                  </a:lnTo>
                  <a:lnTo>
                    <a:pt x="543" y="1069"/>
                  </a:lnTo>
                  <a:lnTo>
                    <a:pt x="520" y="1209"/>
                  </a:lnTo>
                  <a:lnTo>
                    <a:pt x="489" y="1331"/>
                  </a:lnTo>
                  <a:lnTo>
                    <a:pt x="449" y="1432"/>
                  </a:lnTo>
                  <a:lnTo>
                    <a:pt x="404" y="1500"/>
                  </a:lnTo>
                  <a:lnTo>
                    <a:pt x="352" y="1543"/>
                  </a:lnTo>
                  <a:lnTo>
                    <a:pt x="297" y="1561"/>
                  </a:lnTo>
                  <a:lnTo>
                    <a:pt x="242" y="1543"/>
                  </a:lnTo>
                  <a:lnTo>
                    <a:pt x="194" y="1507"/>
                  </a:lnTo>
                  <a:lnTo>
                    <a:pt x="151" y="1446"/>
                  </a:lnTo>
                  <a:lnTo>
                    <a:pt x="113" y="1356"/>
                  </a:lnTo>
                  <a:lnTo>
                    <a:pt x="113" y="2070"/>
                  </a:lnTo>
                  <a:lnTo>
                    <a:pt x="0" y="2070"/>
                  </a:lnTo>
                  <a:close/>
                </a:path>
              </a:pathLst>
            </a:custGeom>
            <a:solidFill>
              <a:srgbClr val="ff33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449440" y="2836800"/>
              <a:ext cx="123840" cy="550800"/>
            </a:xfrm>
            <a:custGeom>
              <a:avLst/>
              <a:gdLst/>
              <a:ahLst/>
              <a:rect l="l" t="t" r="r" b="b"/>
              <a:pathLst>
                <a:path w="345" h="1529">
                  <a:moveTo>
                    <a:pt x="0" y="1528"/>
                  </a:moveTo>
                  <a:lnTo>
                    <a:pt x="0" y="33"/>
                  </a:lnTo>
                  <a:lnTo>
                    <a:pt x="113" y="33"/>
                  </a:lnTo>
                  <a:lnTo>
                    <a:pt x="113" y="313"/>
                  </a:lnTo>
                  <a:lnTo>
                    <a:pt x="149" y="173"/>
                  </a:lnTo>
                  <a:lnTo>
                    <a:pt x="194" y="76"/>
                  </a:lnTo>
                  <a:lnTo>
                    <a:pt x="247" y="15"/>
                  </a:lnTo>
                  <a:lnTo>
                    <a:pt x="308" y="0"/>
                  </a:lnTo>
                  <a:lnTo>
                    <a:pt x="316" y="0"/>
                  </a:lnTo>
                  <a:lnTo>
                    <a:pt x="324" y="0"/>
                  </a:lnTo>
                  <a:lnTo>
                    <a:pt x="334" y="4"/>
                  </a:lnTo>
                  <a:lnTo>
                    <a:pt x="344" y="8"/>
                  </a:lnTo>
                  <a:lnTo>
                    <a:pt x="344" y="262"/>
                  </a:lnTo>
                  <a:lnTo>
                    <a:pt x="328" y="248"/>
                  </a:lnTo>
                  <a:lnTo>
                    <a:pt x="316" y="244"/>
                  </a:lnTo>
                  <a:lnTo>
                    <a:pt x="304" y="241"/>
                  </a:lnTo>
                  <a:lnTo>
                    <a:pt x="293" y="241"/>
                  </a:lnTo>
                  <a:lnTo>
                    <a:pt x="240" y="255"/>
                  </a:lnTo>
                  <a:lnTo>
                    <a:pt x="193" y="316"/>
                  </a:lnTo>
                  <a:lnTo>
                    <a:pt x="150" y="409"/>
                  </a:lnTo>
                  <a:lnTo>
                    <a:pt x="113" y="546"/>
                  </a:lnTo>
                  <a:lnTo>
                    <a:pt x="113" y="1528"/>
                  </a:lnTo>
                  <a:lnTo>
                    <a:pt x="0" y="1528"/>
                  </a:lnTo>
                </a:path>
              </a:pathLst>
            </a:custGeom>
            <a:solidFill>
              <a:srgbClr val="ff33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604960" y="2836800"/>
              <a:ext cx="212760" cy="561960"/>
            </a:xfrm>
            <a:custGeom>
              <a:avLst/>
              <a:gdLst/>
              <a:ahLst/>
              <a:rect l="l" t="t" r="r" b="b"/>
              <a:pathLst>
                <a:path w="593" h="1562">
                  <a:moveTo>
                    <a:pt x="296" y="1356"/>
                  </a:moveTo>
                  <a:lnTo>
                    <a:pt x="335" y="1349"/>
                  </a:lnTo>
                  <a:lnTo>
                    <a:pt x="369" y="1317"/>
                  </a:lnTo>
                  <a:lnTo>
                    <a:pt x="400" y="1270"/>
                  </a:lnTo>
                  <a:lnTo>
                    <a:pt x="426" y="1206"/>
                  </a:lnTo>
                  <a:lnTo>
                    <a:pt x="446" y="1123"/>
                  </a:lnTo>
                  <a:lnTo>
                    <a:pt x="459" y="1023"/>
                  </a:lnTo>
                  <a:lnTo>
                    <a:pt x="468" y="904"/>
                  </a:lnTo>
                  <a:lnTo>
                    <a:pt x="472" y="779"/>
                  </a:lnTo>
                  <a:lnTo>
                    <a:pt x="468" y="650"/>
                  </a:lnTo>
                  <a:lnTo>
                    <a:pt x="459" y="535"/>
                  </a:lnTo>
                  <a:lnTo>
                    <a:pt x="446" y="434"/>
                  </a:lnTo>
                  <a:lnTo>
                    <a:pt x="426" y="352"/>
                  </a:lnTo>
                  <a:lnTo>
                    <a:pt x="400" y="287"/>
                  </a:lnTo>
                  <a:lnTo>
                    <a:pt x="369" y="241"/>
                  </a:lnTo>
                  <a:lnTo>
                    <a:pt x="335" y="209"/>
                  </a:lnTo>
                  <a:lnTo>
                    <a:pt x="296" y="201"/>
                  </a:lnTo>
                  <a:lnTo>
                    <a:pt x="256" y="209"/>
                  </a:lnTo>
                  <a:lnTo>
                    <a:pt x="219" y="241"/>
                  </a:lnTo>
                  <a:lnTo>
                    <a:pt x="190" y="287"/>
                  </a:lnTo>
                  <a:lnTo>
                    <a:pt x="166" y="352"/>
                  </a:lnTo>
                  <a:lnTo>
                    <a:pt x="145" y="434"/>
                  </a:lnTo>
                  <a:lnTo>
                    <a:pt x="131" y="535"/>
                  </a:lnTo>
                  <a:lnTo>
                    <a:pt x="123" y="650"/>
                  </a:lnTo>
                  <a:lnTo>
                    <a:pt x="120" y="779"/>
                  </a:lnTo>
                  <a:lnTo>
                    <a:pt x="123" y="904"/>
                  </a:lnTo>
                  <a:lnTo>
                    <a:pt x="131" y="1023"/>
                  </a:lnTo>
                  <a:lnTo>
                    <a:pt x="145" y="1123"/>
                  </a:lnTo>
                  <a:lnTo>
                    <a:pt x="166" y="1206"/>
                  </a:lnTo>
                  <a:lnTo>
                    <a:pt x="190" y="1270"/>
                  </a:lnTo>
                  <a:lnTo>
                    <a:pt x="219" y="1317"/>
                  </a:lnTo>
                  <a:lnTo>
                    <a:pt x="256" y="1349"/>
                  </a:lnTo>
                  <a:lnTo>
                    <a:pt x="296" y="1356"/>
                  </a:lnTo>
                  <a:close/>
                  <a:moveTo>
                    <a:pt x="296" y="1561"/>
                  </a:moveTo>
                  <a:lnTo>
                    <a:pt x="230" y="1543"/>
                  </a:lnTo>
                  <a:lnTo>
                    <a:pt x="173" y="1503"/>
                  </a:lnTo>
                  <a:lnTo>
                    <a:pt x="123" y="1442"/>
                  </a:lnTo>
                  <a:lnTo>
                    <a:pt x="79" y="1353"/>
                  </a:lnTo>
                  <a:lnTo>
                    <a:pt x="44" y="1234"/>
                  </a:lnTo>
                  <a:lnTo>
                    <a:pt x="19" y="1102"/>
                  </a:lnTo>
                  <a:lnTo>
                    <a:pt x="4" y="947"/>
                  </a:lnTo>
                  <a:lnTo>
                    <a:pt x="0" y="779"/>
                  </a:lnTo>
                  <a:lnTo>
                    <a:pt x="4" y="607"/>
                  </a:lnTo>
                  <a:lnTo>
                    <a:pt x="19" y="456"/>
                  </a:lnTo>
                  <a:lnTo>
                    <a:pt x="44" y="323"/>
                  </a:lnTo>
                  <a:lnTo>
                    <a:pt x="79" y="209"/>
                  </a:lnTo>
                  <a:lnTo>
                    <a:pt x="123" y="115"/>
                  </a:lnTo>
                  <a:lnTo>
                    <a:pt x="173" y="51"/>
                  </a:lnTo>
                  <a:lnTo>
                    <a:pt x="230" y="11"/>
                  </a:lnTo>
                  <a:lnTo>
                    <a:pt x="296" y="0"/>
                  </a:lnTo>
                  <a:lnTo>
                    <a:pt x="359" y="11"/>
                  </a:lnTo>
                  <a:lnTo>
                    <a:pt x="418" y="51"/>
                  </a:lnTo>
                  <a:lnTo>
                    <a:pt x="469" y="115"/>
                  </a:lnTo>
                  <a:lnTo>
                    <a:pt x="513" y="209"/>
                  </a:lnTo>
                  <a:lnTo>
                    <a:pt x="547" y="323"/>
                  </a:lnTo>
                  <a:lnTo>
                    <a:pt x="572" y="456"/>
                  </a:lnTo>
                  <a:lnTo>
                    <a:pt x="587" y="607"/>
                  </a:lnTo>
                  <a:lnTo>
                    <a:pt x="592" y="779"/>
                  </a:lnTo>
                  <a:lnTo>
                    <a:pt x="587" y="947"/>
                  </a:lnTo>
                  <a:lnTo>
                    <a:pt x="572" y="1102"/>
                  </a:lnTo>
                  <a:lnTo>
                    <a:pt x="547" y="1234"/>
                  </a:lnTo>
                  <a:lnTo>
                    <a:pt x="513" y="1353"/>
                  </a:lnTo>
                  <a:lnTo>
                    <a:pt x="469" y="1442"/>
                  </a:lnTo>
                  <a:lnTo>
                    <a:pt x="418" y="1503"/>
                  </a:lnTo>
                  <a:lnTo>
                    <a:pt x="359" y="1543"/>
                  </a:lnTo>
                  <a:lnTo>
                    <a:pt x="296" y="1561"/>
                  </a:lnTo>
                  <a:close/>
                </a:path>
              </a:pathLst>
            </a:custGeom>
            <a:solidFill>
              <a:srgbClr val="ff33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882880" y="2603520"/>
              <a:ext cx="203400" cy="793800"/>
            </a:xfrm>
            <a:custGeom>
              <a:avLst/>
              <a:gdLst/>
              <a:ahLst/>
              <a:rect l="l" t="t" r="r" b="b"/>
              <a:pathLst>
                <a:path w="564" h="2207">
                  <a:moveTo>
                    <a:pt x="113" y="1815"/>
                  </a:moveTo>
                  <a:lnTo>
                    <a:pt x="155" y="1897"/>
                  </a:lnTo>
                  <a:lnTo>
                    <a:pt x="197" y="1951"/>
                  </a:lnTo>
                  <a:lnTo>
                    <a:pt x="239" y="1990"/>
                  </a:lnTo>
                  <a:lnTo>
                    <a:pt x="279" y="2001"/>
                  </a:lnTo>
                  <a:lnTo>
                    <a:pt x="314" y="1994"/>
                  </a:lnTo>
                  <a:lnTo>
                    <a:pt x="348" y="1962"/>
                  </a:lnTo>
                  <a:lnTo>
                    <a:pt x="376" y="1912"/>
                  </a:lnTo>
                  <a:lnTo>
                    <a:pt x="401" y="1847"/>
                  </a:lnTo>
                  <a:lnTo>
                    <a:pt x="419" y="1761"/>
                  </a:lnTo>
                  <a:lnTo>
                    <a:pt x="431" y="1657"/>
                  </a:lnTo>
                  <a:lnTo>
                    <a:pt x="439" y="1539"/>
                  </a:lnTo>
                  <a:lnTo>
                    <a:pt x="442" y="1406"/>
                  </a:lnTo>
                  <a:lnTo>
                    <a:pt x="432" y="1176"/>
                  </a:lnTo>
                  <a:lnTo>
                    <a:pt x="405" y="1015"/>
                  </a:lnTo>
                  <a:lnTo>
                    <a:pt x="361" y="914"/>
                  </a:lnTo>
                  <a:lnTo>
                    <a:pt x="298" y="886"/>
                  </a:lnTo>
                  <a:lnTo>
                    <a:pt x="250" y="897"/>
                  </a:lnTo>
                  <a:lnTo>
                    <a:pt x="203" y="943"/>
                  </a:lnTo>
                  <a:lnTo>
                    <a:pt x="157" y="1022"/>
                  </a:lnTo>
                  <a:lnTo>
                    <a:pt x="113" y="1130"/>
                  </a:lnTo>
                  <a:lnTo>
                    <a:pt x="113" y="1815"/>
                  </a:lnTo>
                  <a:close/>
                  <a:moveTo>
                    <a:pt x="0" y="2188"/>
                  </a:moveTo>
                  <a:lnTo>
                    <a:pt x="0" y="0"/>
                  </a:lnTo>
                  <a:lnTo>
                    <a:pt x="113" y="0"/>
                  </a:lnTo>
                  <a:lnTo>
                    <a:pt x="113" y="958"/>
                  </a:lnTo>
                  <a:lnTo>
                    <a:pt x="150" y="818"/>
                  </a:lnTo>
                  <a:lnTo>
                    <a:pt x="199" y="721"/>
                  </a:lnTo>
                  <a:lnTo>
                    <a:pt x="254" y="660"/>
                  </a:lnTo>
                  <a:lnTo>
                    <a:pt x="320" y="645"/>
                  </a:lnTo>
                  <a:lnTo>
                    <a:pt x="375" y="656"/>
                  </a:lnTo>
                  <a:lnTo>
                    <a:pt x="421" y="692"/>
                  </a:lnTo>
                  <a:lnTo>
                    <a:pt x="463" y="753"/>
                  </a:lnTo>
                  <a:lnTo>
                    <a:pt x="499" y="843"/>
                  </a:lnTo>
                  <a:lnTo>
                    <a:pt x="527" y="947"/>
                  </a:lnTo>
                  <a:lnTo>
                    <a:pt x="546" y="1072"/>
                  </a:lnTo>
                  <a:lnTo>
                    <a:pt x="558" y="1216"/>
                  </a:lnTo>
                  <a:lnTo>
                    <a:pt x="563" y="1381"/>
                  </a:lnTo>
                  <a:lnTo>
                    <a:pt x="557" y="1553"/>
                  </a:lnTo>
                  <a:lnTo>
                    <a:pt x="543" y="1714"/>
                  </a:lnTo>
                  <a:lnTo>
                    <a:pt x="521" y="1854"/>
                  </a:lnTo>
                  <a:lnTo>
                    <a:pt x="490" y="1976"/>
                  </a:lnTo>
                  <a:lnTo>
                    <a:pt x="449" y="2077"/>
                  </a:lnTo>
                  <a:lnTo>
                    <a:pt x="403" y="2145"/>
                  </a:lnTo>
                  <a:lnTo>
                    <a:pt x="352" y="2188"/>
                  </a:lnTo>
                  <a:lnTo>
                    <a:pt x="296" y="2206"/>
                  </a:lnTo>
                  <a:lnTo>
                    <a:pt x="243" y="2188"/>
                  </a:lnTo>
                  <a:lnTo>
                    <a:pt x="195" y="2152"/>
                  </a:lnTo>
                  <a:lnTo>
                    <a:pt x="151" y="2091"/>
                  </a:lnTo>
                  <a:lnTo>
                    <a:pt x="113" y="2001"/>
                  </a:lnTo>
                  <a:lnTo>
                    <a:pt x="99" y="2188"/>
                  </a:lnTo>
                  <a:lnTo>
                    <a:pt x="0" y="2188"/>
                  </a:lnTo>
                  <a:close/>
                </a:path>
              </a:pathLst>
            </a:custGeom>
            <a:solidFill>
              <a:srgbClr val="ff33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2603520"/>
              <a:ext cx="41400" cy="782640"/>
            </a:xfrm>
            <a:custGeom>
              <a:avLst/>
              <a:gdLst/>
              <a:ahLst/>
              <a:rect l="l" t="t" r="r" b="b"/>
              <a:pathLst>
                <a:path w="114" h="2174">
                  <a:moveTo>
                    <a:pt x="0" y="2173"/>
                  </a:moveTo>
                  <a:lnTo>
                    <a:pt x="0" y="0"/>
                  </a:lnTo>
                  <a:lnTo>
                    <a:pt x="113" y="0"/>
                  </a:lnTo>
                  <a:lnTo>
                    <a:pt x="113" y="2173"/>
                  </a:lnTo>
                  <a:lnTo>
                    <a:pt x="0" y="2173"/>
                  </a:lnTo>
                </a:path>
              </a:pathLst>
            </a:custGeom>
            <a:solidFill>
              <a:srgbClr val="ff33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252960" y="2590920"/>
              <a:ext cx="182520" cy="807840"/>
            </a:xfrm>
            <a:custGeom>
              <a:avLst/>
              <a:gdLst/>
              <a:ahLst/>
              <a:rect l="l" t="t" r="r" b="b"/>
              <a:pathLst>
                <a:path w="509" h="2243">
                  <a:moveTo>
                    <a:pt x="121" y="1298"/>
                  </a:moveTo>
                  <a:lnTo>
                    <a:pt x="395" y="1298"/>
                  </a:lnTo>
                  <a:lnTo>
                    <a:pt x="387" y="1115"/>
                  </a:lnTo>
                  <a:lnTo>
                    <a:pt x="362" y="986"/>
                  </a:lnTo>
                  <a:lnTo>
                    <a:pt x="322" y="907"/>
                  </a:lnTo>
                  <a:lnTo>
                    <a:pt x="266" y="882"/>
                  </a:lnTo>
                  <a:lnTo>
                    <a:pt x="209" y="907"/>
                  </a:lnTo>
                  <a:lnTo>
                    <a:pt x="164" y="986"/>
                  </a:lnTo>
                  <a:lnTo>
                    <a:pt x="135" y="1115"/>
                  </a:lnTo>
                  <a:lnTo>
                    <a:pt x="121" y="1298"/>
                  </a:lnTo>
                  <a:close/>
                  <a:moveTo>
                    <a:pt x="348" y="445"/>
                  </a:moveTo>
                  <a:lnTo>
                    <a:pt x="264" y="445"/>
                  </a:lnTo>
                  <a:lnTo>
                    <a:pt x="80" y="0"/>
                  </a:lnTo>
                  <a:lnTo>
                    <a:pt x="210" y="0"/>
                  </a:lnTo>
                  <a:lnTo>
                    <a:pt x="348" y="445"/>
                  </a:lnTo>
                  <a:close/>
                  <a:moveTo>
                    <a:pt x="505" y="2159"/>
                  </a:moveTo>
                  <a:lnTo>
                    <a:pt x="450" y="2191"/>
                  </a:lnTo>
                  <a:lnTo>
                    <a:pt x="399" y="2220"/>
                  </a:lnTo>
                  <a:lnTo>
                    <a:pt x="353" y="2231"/>
                  </a:lnTo>
                  <a:lnTo>
                    <a:pt x="311" y="2242"/>
                  </a:lnTo>
                  <a:lnTo>
                    <a:pt x="244" y="2224"/>
                  </a:lnTo>
                  <a:lnTo>
                    <a:pt x="186" y="2184"/>
                  </a:lnTo>
                  <a:lnTo>
                    <a:pt x="133" y="2116"/>
                  </a:lnTo>
                  <a:lnTo>
                    <a:pt x="88" y="2023"/>
                  </a:lnTo>
                  <a:lnTo>
                    <a:pt x="49" y="1901"/>
                  </a:lnTo>
                  <a:lnTo>
                    <a:pt x="22" y="1768"/>
                  </a:lnTo>
                  <a:lnTo>
                    <a:pt x="4" y="1618"/>
                  </a:lnTo>
                  <a:lnTo>
                    <a:pt x="0" y="1453"/>
                  </a:lnTo>
                  <a:lnTo>
                    <a:pt x="4" y="1291"/>
                  </a:lnTo>
                  <a:lnTo>
                    <a:pt x="19" y="1144"/>
                  </a:lnTo>
                  <a:lnTo>
                    <a:pt x="42" y="1011"/>
                  </a:lnTo>
                  <a:lnTo>
                    <a:pt x="77" y="897"/>
                  </a:lnTo>
                  <a:lnTo>
                    <a:pt x="117" y="800"/>
                  </a:lnTo>
                  <a:lnTo>
                    <a:pt x="164" y="735"/>
                  </a:lnTo>
                  <a:lnTo>
                    <a:pt x="215" y="692"/>
                  </a:lnTo>
                  <a:lnTo>
                    <a:pt x="272" y="681"/>
                  </a:lnTo>
                  <a:lnTo>
                    <a:pt x="325" y="692"/>
                  </a:lnTo>
                  <a:lnTo>
                    <a:pt x="372" y="728"/>
                  </a:lnTo>
                  <a:lnTo>
                    <a:pt x="412" y="785"/>
                  </a:lnTo>
                  <a:lnTo>
                    <a:pt x="446" y="875"/>
                  </a:lnTo>
                  <a:lnTo>
                    <a:pt x="473" y="979"/>
                  </a:lnTo>
                  <a:lnTo>
                    <a:pt x="491" y="1108"/>
                  </a:lnTo>
                  <a:lnTo>
                    <a:pt x="504" y="1248"/>
                  </a:lnTo>
                  <a:lnTo>
                    <a:pt x="508" y="1420"/>
                  </a:lnTo>
                  <a:lnTo>
                    <a:pt x="508" y="1503"/>
                  </a:lnTo>
                  <a:lnTo>
                    <a:pt x="115" y="1503"/>
                  </a:lnTo>
                  <a:lnTo>
                    <a:pt x="137" y="1736"/>
                  </a:lnTo>
                  <a:lnTo>
                    <a:pt x="182" y="1901"/>
                  </a:lnTo>
                  <a:lnTo>
                    <a:pt x="246" y="2001"/>
                  </a:lnTo>
                  <a:lnTo>
                    <a:pt x="332" y="2037"/>
                  </a:lnTo>
                  <a:lnTo>
                    <a:pt x="368" y="2034"/>
                  </a:lnTo>
                  <a:lnTo>
                    <a:pt x="409" y="2012"/>
                  </a:lnTo>
                  <a:lnTo>
                    <a:pt x="455" y="1983"/>
                  </a:lnTo>
                  <a:lnTo>
                    <a:pt x="505" y="1944"/>
                  </a:lnTo>
                  <a:lnTo>
                    <a:pt x="505" y="2159"/>
                  </a:lnTo>
                  <a:close/>
                </a:path>
              </a:pathLst>
            </a:custGeom>
            <a:solidFill>
              <a:srgbClr val="ff33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505320" y="2836800"/>
              <a:ext cx="314280" cy="550800"/>
            </a:xfrm>
            <a:custGeom>
              <a:avLst/>
              <a:gdLst/>
              <a:ahLst/>
              <a:rect l="l" t="t" r="r" b="b"/>
              <a:pathLst>
                <a:path w="875" h="1529">
                  <a:moveTo>
                    <a:pt x="0" y="1528"/>
                  </a:moveTo>
                  <a:lnTo>
                    <a:pt x="0" y="33"/>
                  </a:lnTo>
                  <a:lnTo>
                    <a:pt x="112" y="33"/>
                  </a:lnTo>
                  <a:lnTo>
                    <a:pt x="112" y="313"/>
                  </a:lnTo>
                  <a:lnTo>
                    <a:pt x="155" y="173"/>
                  </a:lnTo>
                  <a:lnTo>
                    <a:pt x="205" y="76"/>
                  </a:lnTo>
                  <a:lnTo>
                    <a:pt x="262" y="15"/>
                  </a:lnTo>
                  <a:lnTo>
                    <a:pt x="324" y="0"/>
                  </a:lnTo>
                  <a:lnTo>
                    <a:pt x="380" y="15"/>
                  </a:lnTo>
                  <a:lnTo>
                    <a:pt x="426" y="76"/>
                  </a:lnTo>
                  <a:lnTo>
                    <a:pt x="464" y="173"/>
                  </a:lnTo>
                  <a:lnTo>
                    <a:pt x="493" y="313"/>
                  </a:lnTo>
                  <a:lnTo>
                    <a:pt x="536" y="173"/>
                  </a:lnTo>
                  <a:lnTo>
                    <a:pt x="584" y="76"/>
                  </a:lnTo>
                  <a:lnTo>
                    <a:pt x="640" y="15"/>
                  </a:lnTo>
                  <a:lnTo>
                    <a:pt x="701" y="0"/>
                  </a:lnTo>
                  <a:lnTo>
                    <a:pt x="738" y="8"/>
                  </a:lnTo>
                  <a:lnTo>
                    <a:pt x="773" y="26"/>
                  </a:lnTo>
                  <a:lnTo>
                    <a:pt x="802" y="61"/>
                  </a:lnTo>
                  <a:lnTo>
                    <a:pt x="828" y="115"/>
                  </a:lnTo>
                  <a:lnTo>
                    <a:pt x="847" y="180"/>
                  </a:lnTo>
                  <a:lnTo>
                    <a:pt x="861" y="252"/>
                  </a:lnTo>
                  <a:lnTo>
                    <a:pt x="869" y="341"/>
                  </a:lnTo>
                  <a:lnTo>
                    <a:pt x="874" y="442"/>
                  </a:lnTo>
                  <a:lnTo>
                    <a:pt x="874" y="1528"/>
                  </a:lnTo>
                  <a:lnTo>
                    <a:pt x="762" y="1528"/>
                  </a:lnTo>
                  <a:lnTo>
                    <a:pt x="762" y="485"/>
                  </a:lnTo>
                  <a:lnTo>
                    <a:pt x="757" y="373"/>
                  </a:lnTo>
                  <a:lnTo>
                    <a:pt x="739" y="291"/>
                  </a:lnTo>
                  <a:lnTo>
                    <a:pt x="713" y="244"/>
                  </a:lnTo>
                  <a:lnTo>
                    <a:pt x="677" y="230"/>
                  </a:lnTo>
                  <a:lnTo>
                    <a:pt x="633" y="244"/>
                  </a:lnTo>
                  <a:lnTo>
                    <a:pt x="587" y="302"/>
                  </a:lnTo>
                  <a:lnTo>
                    <a:pt x="540" y="395"/>
                  </a:lnTo>
                  <a:lnTo>
                    <a:pt x="493" y="528"/>
                  </a:lnTo>
                  <a:lnTo>
                    <a:pt x="493" y="1528"/>
                  </a:lnTo>
                  <a:lnTo>
                    <a:pt x="381" y="1528"/>
                  </a:lnTo>
                  <a:lnTo>
                    <a:pt x="381" y="481"/>
                  </a:lnTo>
                  <a:lnTo>
                    <a:pt x="375" y="370"/>
                  </a:lnTo>
                  <a:lnTo>
                    <a:pt x="359" y="291"/>
                  </a:lnTo>
                  <a:lnTo>
                    <a:pt x="331" y="241"/>
                  </a:lnTo>
                  <a:lnTo>
                    <a:pt x="295" y="226"/>
                  </a:lnTo>
                  <a:lnTo>
                    <a:pt x="251" y="244"/>
                  </a:lnTo>
                  <a:lnTo>
                    <a:pt x="207" y="298"/>
                  </a:lnTo>
                  <a:lnTo>
                    <a:pt x="159" y="391"/>
                  </a:lnTo>
                  <a:lnTo>
                    <a:pt x="112" y="524"/>
                  </a:lnTo>
                  <a:lnTo>
                    <a:pt x="112" y="1528"/>
                  </a:lnTo>
                  <a:lnTo>
                    <a:pt x="0" y="1528"/>
                  </a:lnTo>
                </a:path>
              </a:pathLst>
            </a:custGeom>
            <a:solidFill>
              <a:srgbClr val="ff33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882960" y="2836800"/>
              <a:ext cx="182520" cy="561960"/>
            </a:xfrm>
            <a:custGeom>
              <a:avLst/>
              <a:gdLst/>
              <a:ahLst/>
              <a:rect l="l" t="t" r="r" b="b"/>
              <a:pathLst>
                <a:path w="507" h="1562">
                  <a:moveTo>
                    <a:pt x="119" y="617"/>
                  </a:moveTo>
                  <a:lnTo>
                    <a:pt x="394" y="617"/>
                  </a:lnTo>
                  <a:lnTo>
                    <a:pt x="385" y="434"/>
                  </a:lnTo>
                  <a:lnTo>
                    <a:pt x="361" y="305"/>
                  </a:lnTo>
                  <a:lnTo>
                    <a:pt x="321" y="226"/>
                  </a:lnTo>
                  <a:lnTo>
                    <a:pt x="265" y="201"/>
                  </a:lnTo>
                  <a:lnTo>
                    <a:pt x="207" y="226"/>
                  </a:lnTo>
                  <a:lnTo>
                    <a:pt x="163" y="305"/>
                  </a:lnTo>
                  <a:lnTo>
                    <a:pt x="133" y="434"/>
                  </a:lnTo>
                  <a:lnTo>
                    <a:pt x="119" y="617"/>
                  </a:lnTo>
                  <a:close/>
                  <a:moveTo>
                    <a:pt x="503" y="1478"/>
                  </a:moveTo>
                  <a:lnTo>
                    <a:pt x="448" y="1510"/>
                  </a:lnTo>
                  <a:lnTo>
                    <a:pt x="398" y="1539"/>
                  </a:lnTo>
                  <a:lnTo>
                    <a:pt x="351" y="1550"/>
                  </a:lnTo>
                  <a:lnTo>
                    <a:pt x="310" y="1561"/>
                  </a:lnTo>
                  <a:lnTo>
                    <a:pt x="243" y="1543"/>
                  </a:lnTo>
                  <a:lnTo>
                    <a:pt x="185" y="1503"/>
                  </a:lnTo>
                  <a:lnTo>
                    <a:pt x="132" y="1435"/>
                  </a:lnTo>
                  <a:lnTo>
                    <a:pt x="86" y="1342"/>
                  </a:lnTo>
                  <a:lnTo>
                    <a:pt x="48" y="1220"/>
                  </a:lnTo>
                  <a:lnTo>
                    <a:pt x="20" y="1087"/>
                  </a:lnTo>
                  <a:lnTo>
                    <a:pt x="4" y="937"/>
                  </a:lnTo>
                  <a:lnTo>
                    <a:pt x="0" y="772"/>
                  </a:lnTo>
                  <a:lnTo>
                    <a:pt x="4" y="610"/>
                  </a:lnTo>
                  <a:lnTo>
                    <a:pt x="17" y="463"/>
                  </a:lnTo>
                  <a:lnTo>
                    <a:pt x="41" y="330"/>
                  </a:lnTo>
                  <a:lnTo>
                    <a:pt x="75" y="216"/>
                  </a:lnTo>
                  <a:lnTo>
                    <a:pt x="115" y="119"/>
                  </a:lnTo>
                  <a:lnTo>
                    <a:pt x="163" y="54"/>
                  </a:lnTo>
                  <a:lnTo>
                    <a:pt x="214" y="11"/>
                  </a:lnTo>
                  <a:lnTo>
                    <a:pt x="270" y="0"/>
                  </a:lnTo>
                  <a:lnTo>
                    <a:pt x="323" y="11"/>
                  </a:lnTo>
                  <a:lnTo>
                    <a:pt x="370" y="47"/>
                  </a:lnTo>
                  <a:lnTo>
                    <a:pt x="410" y="104"/>
                  </a:lnTo>
                  <a:lnTo>
                    <a:pt x="446" y="194"/>
                  </a:lnTo>
                  <a:lnTo>
                    <a:pt x="472" y="298"/>
                  </a:lnTo>
                  <a:lnTo>
                    <a:pt x="490" y="427"/>
                  </a:lnTo>
                  <a:lnTo>
                    <a:pt x="502" y="567"/>
                  </a:lnTo>
                  <a:lnTo>
                    <a:pt x="506" y="739"/>
                  </a:lnTo>
                  <a:lnTo>
                    <a:pt x="506" y="822"/>
                  </a:lnTo>
                  <a:lnTo>
                    <a:pt x="114" y="822"/>
                  </a:lnTo>
                  <a:lnTo>
                    <a:pt x="137" y="1055"/>
                  </a:lnTo>
                  <a:lnTo>
                    <a:pt x="181" y="1220"/>
                  </a:lnTo>
                  <a:lnTo>
                    <a:pt x="244" y="1320"/>
                  </a:lnTo>
                  <a:lnTo>
                    <a:pt x="330" y="1356"/>
                  </a:lnTo>
                  <a:lnTo>
                    <a:pt x="366" y="1353"/>
                  </a:lnTo>
                  <a:lnTo>
                    <a:pt x="407" y="1331"/>
                  </a:lnTo>
                  <a:lnTo>
                    <a:pt x="454" y="1302"/>
                  </a:lnTo>
                  <a:lnTo>
                    <a:pt x="503" y="1263"/>
                  </a:lnTo>
                  <a:lnTo>
                    <a:pt x="503" y="1478"/>
                  </a:lnTo>
                  <a:close/>
                </a:path>
              </a:pathLst>
            </a:custGeom>
            <a:solidFill>
              <a:srgbClr val="ff33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251240" y="2603520"/>
              <a:ext cx="203400" cy="793800"/>
            </a:xfrm>
            <a:custGeom>
              <a:avLst/>
              <a:gdLst/>
              <a:ahLst/>
              <a:rect l="l" t="t" r="r" b="b"/>
              <a:pathLst>
                <a:path w="563" h="2207">
                  <a:moveTo>
                    <a:pt x="450" y="1033"/>
                  </a:moveTo>
                  <a:lnTo>
                    <a:pt x="406" y="950"/>
                  </a:lnTo>
                  <a:lnTo>
                    <a:pt x="362" y="893"/>
                  </a:lnTo>
                  <a:lnTo>
                    <a:pt x="322" y="857"/>
                  </a:lnTo>
                  <a:lnTo>
                    <a:pt x="284" y="846"/>
                  </a:lnTo>
                  <a:lnTo>
                    <a:pt x="245" y="854"/>
                  </a:lnTo>
                  <a:lnTo>
                    <a:pt x="212" y="886"/>
                  </a:lnTo>
                  <a:lnTo>
                    <a:pt x="185" y="932"/>
                  </a:lnTo>
                  <a:lnTo>
                    <a:pt x="163" y="1001"/>
                  </a:lnTo>
                  <a:lnTo>
                    <a:pt x="144" y="1083"/>
                  </a:lnTo>
                  <a:lnTo>
                    <a:pt x="130" y="1187"/>
                  </a:lnTo>
                  <a:lnTo>
                    <a:pt x="122" y="1305"/>
                  </a:lnTo>
                  <a:lnTo>
                    <a:pt x="120" y="1445"/>
                  </a:lnTo>
                  <a:lnTo>
                    <a:pt x="128" y="1671"/>
                  </a:lnTo>
                  <a:lnTo>
                    <a:pt x="156" y="1833"/>
                  </a:lnTo>
                  <a:lnTo>
                    <a:pt x="201" y="1933"/>
                  </a:lnTo>
                  <a:lnTo>
                    <a:pt x="266" y="1965"/>
                  </a:lnTo>
                  <a:lnTo>
                    <a:pt x="311" y="1951"/>
                  </a:lnTo>
                  <a:lnTo>
                    <a:pt x="358" y="1904"/>
                  </a:lnTo>
                  <a:lnTo>
                    <a:pt x="404" y="1825"/>
                  </a:lnTo>
                  <a:lnTo>
                    <a:pt x="450" y="1721"/>
                  </a:lnTo>
                  <a:lnTo>
                    <a:pt x="450" y="1033"/>
                  </a:lnTo>
                  <a:close/>
                  <a:moveTo>
                    <a:pt x="450" y="2173"/>
                  </a:moveTo>
                  <a:lnTo>
                    <a:pt x="450" y="1890"/>
                  </a:lnTo>
                  <a:lnTo>
                    <a:pt x="411" y="2026"/>
                  </a:lnTo>
                  <a:lnTo>
                    <a:pt x="362" y="2123"/>
                  </a:lnTo>
                  <a:lnTo>
                    <a:pt x="307" y="2184"/>
                  </a:lnTo>
                  <a:lnTo>
                    <a:pt x="241" y="2206"/>
                  </a:lnTo>
                  <a:lnTo>
                    <a:pt x="188" y="2188"/>
                  </a:lnTo>
                  <a:lnTo>
                    <a:pt x="141" y="2152"/>
                  </a:lnTo>
                  <a:lnTo>
                    <a:pt x="99" y="2091"/>
                  </a:lnTo>
                  <a:lnTo>
                    <a:pt x="64" y="2008"/>
                  </a:lnTo>
                  <a:lnTo>
                    <a:pt x="35" y="1901"/>
                  </a:lnTo>
                  <a:lnTo>
                    <a:pt x="15" y="1775"/>
                  </a:lnTo>
                  <a:lnTo>
                    <a:pt x="2" y="1628"/>
                  </a:lnTo>
                  <a:lnTo>
                    <a:pt x="0" y="1470"/>
                  </a:lnTo>
                  <a:lnTo>
                    <a:pt x="4" y="1291"/>
                  </a:lnTo>
                  <a:lnTo>
                    <a:pt x="17" y="1130"/>
                  </a:lnTo>
                  <a:lnTo>
                    <a:pt x="39" y="990"/>
                  </a:lnTo>
                  <a:lnTo>
                    <a:pt x="72" y="871"/>
                  </a:lnTo>
                  <a:lnTo>
                    <a:pt x="111" y="771"/>
                  </a:lnTo>
                  <a:lnTo>
                    <a:pt x="157" y="703"/>
                  </a:lnTo>
                  <a:lnTo>
                    <a:pt x="208" y="656"/>
                  </a:lnTo>
                  <a:lnTo>
                    <a:pt x="266" y="645"/>
                  </a:lnTo>
                  <a:lnTo>
                    <a:pt x="318" y="656"/>
                  </a:lnTo>
                  <a:lnTo>
                    <a:pt x="366" y="696"/>
                  </a:lnTo>
                  <a:lnTo>
                    <a:pt x="410" y="757"/>
                  </a:lnTo>
                  <a:lnTo>
                    <a:pt x="450" y="846"/>
                  </a:lnTo>
                  <a:lnTo>
                    <a:pt x="450" y="0"/>
                  </a:lnTo>
                  <a:lnTo>
                    <a:pt x="562" y="0"/>
                  </a:lnTo>
                  <a:lnTo>
                    <a:pt x="562" y="2173"/>
                  </a:lnTo>
                  <a:lnTo>
                    <a:pt x="450" y="2173"/>
                  </a:lnTo>
                  <a:close/>
                </a:path>
              </a:pathLst>
            </a:custGeom>
            <a:solidFill>
              <a:srgbClr val="ff33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518000" y="2836800"/>
              <a:ext cx="182520" cy="561960"/>
            </a:xfrm>
            <a:custGeom>
              <a:avLst/>
              <a:gdLst/>
              <a:ahLst/>
              <a:rect l="l" t="t" r="r" b="b"/>
              <a:pathLst>
                <a:path w="507" h="1562">
                  <a:moveTo>
                    <a:pt x="120" y="617"/>
                  </a:moveTo>
                  <a:lnTo>
                    <a:pt x="395" y="617"/>
                  </a:lnTo>
                  <a:lnTo>
                    <a:pt x="387" y="434"/>
                  </a:lnTo>
                  <a:lnTo>
                    <a:pt x="361" y="305"/>
                  </a:lnTo>
                  <a:lnTo>
                    <a:pt x="321" y="226"/>
                  </a:lnTo>
                  <a:lnTo>
                    <a:pt x="266" y="201"/>
                  </a:lnTo>
                  <a:lnTo>
                    <a:pt x="207" y="226"/>
                  </a:lnTo>
                  <a:lnTo>
                    <a:pt x="163" y="305"/>
                  </a:lnTo>
                  <a:lnTo>
                    <a:pt x="134" y="434"/>
                  </a:lnTo>
                  <a:lnTo>
                    <a:pt x="120" y="617"/>
                  </a:lnTo>
                  <a:close/>
                  <a:moveTo>
                    <a:pt x="503" y="1478"/>
                  </a:moveTo>
                  <a:lnTo>
                    <a:pt x="448" y="1510"/>
                  </a:lnTo>
                  <a:lnTo>
                    <a:pt x="399" y="1539"/>
                  </a:lnTo>
                  <a:lnTo>
                    <a:pt x="351" y="1550"/>
                  </a:lnTo>
                  <a:lnTo>
                    <a:pt x="310" y="1561"/>
                  </a:lnTo>
                  <a:lnTo>
                    <a:pt x="244" y="1543"/>
                  </a:lnTo>
                  <a:lnTo>
                    <a:pt x="185" y="1503"/>
                  </a:lnTo>
                  <a:lnTo>
                    <a:pt x="133" y="1435"/>
                  </a:lnTo>
                  <a:lnTo>
                    <a:pt x="86" y="1342"/>
                  </a:lnTo>
                  <a:lnTo>
                    <a:pt x="48" y="1220"/>
                  </a:lnTo>
                  <a:lnTo>
                    <a:pt x="20" y="1087"/>
                  </a:lnTo>
                  <a:lnTo>
                    <a:pt x="4" y="937"/>
                  </a:lnTo>
                  <a:lnTo>
                    <a:pt x="0" y="772"/>
                  </a:lnTo>
                  <a:lnTo>
                    <a:pt x="4" y="610"/>
                  </a:lnTo>
                  <a:lnTo>
                    <a:pt x="18" y="463"/>
                  </a:lnTo>
                  <a:lnTo>
                    <a:pt x="41" y="330"/>
                  </a:lnTo>
                  <a:lnTo>
                    <a:pt x="75" y="216"/>
                  </a:lnTo>
                  <a:lnTo>
                    <a:pt x="116" y="119"/>
                  </a:lnTo>
                  <a:lnTo>
                    <a:pt x="163" y="54"/>
                  </a:lnTo>
                  <a:lnTo>
                    <a:pt x="214" y="11"/>
                  </a:lnTo>
                  <a:lnTo>
                    <a:pt x="271" y="0"/>
                  </a:lnTo>
                  <a:lnTo>
                    <a:pt x="324" y="11"/>
                  </a:lnTo>
                  <a:lnTo>
                    <a:pt x="370" y="47"/>
                  </a:lnTo>
                  <a:lnTo>
                    <a:pt x="411" y="104"/>
                  </a:lnTo>
                  <a:lnTo>
                    <a:pt x="446" y="194"/>
                  </a:lnTo>
                  <a:lnTo>
                    <a:pt x="472" y="298"/>
                  </a:lnTo>
                  <a:lnTo>
                    <a:pt x="490" y="427"/>
                  </a:lnTo>
                  <a:lnTo>
                    <a:pt x="502" y="567"/>
                  </a:lnTo>
                  <a:lnTo>
                    <a:pt x="506" y="739"/>
                  </a:lnTo>
                  <a:lnTo>
                    <a:pt x="506" y="822"/>
                  </a:lnTo>
                  <a:lnTo>
                    <a:pt x="115" y="822"/>
                  </a:lnTo>
                  <a:lnTo>
                    <a:pt x="137" y="1055"/>
                  </a:lnTo>
                  <a:lnTo>
                    <a:pt x="181" y="1220"/>
                  </a:lnTo>
                  <a:lnTo>
                    <a:pt x="245" y="1320"/>
                  </a:lnTo>
                  <a:lnTo>
                    <a:pt x="330" y="1356"/>
                  </a:lnTo>
                  <a:lnTo>
                    <a:pt x="366" y="1353"/>
                  </a:lnTo>
                  <a:lnTo>
                    <a:pt x="409" y="1331"/>
                  </a:lnTo>
                  <a:lnTo>
                    <a:pt x="454" y="1302"/>
                  </a:lnTo>
                  <a:lnTo>
                    <a:pt x="503" y="1263"/>
                  </a:lnTo>
                  <a:lnTo>
                    <a:pt x="503" y="1478"/>
                  </a:lnTo>
                  <a:close/>
                </a:path>
              </a:pathLst>
            </a:custGeom>
            <a:solidFill>
              <a:srgbClr val="ff33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903920" y="2836800"/>
              <a:ext cx="123840" cy="550800"/>
            </a:xfrm>
            <a:custGeom>
              <a:avLst/>
              <a:gdLst/>
              <a:ahLst/>
              <a:rect l="l" t="t" r="r" b="b"/>
              <a:pathLst>
                <a:path w="345" h="1529">
                  <a:moveTo>
                    <a:pt x="0" y="1528"/>
                  </a:moveTo>
                  <a:lnTo>
                    <a:pt x="0" y="33"/>
                  </a:lnTo>
                  <a:lnTo>
                    <a:pt x="112" y="33"/>
                  </a:lnTo>
                  <a:lnTo>
                    <a:pt x="112" y="313"/>
                  </a:lnTo>
                  <a:lnTo>
                    <a:pt x="148" y="173"/>
                  </a:lnTo>
                  <a:lnTo>
                    <a:pt x="194" y="76"/>
                  </a:lnTo>
                  <a:lnTo>
                    <a:pt x="247" y="15"/>
                  </a:lnTo>
                  <a:lnTo>
                    <a:pt x="307" y="0"/>
                  </a:lnTo>
                  <a:lnTo>
                    <a:pt x="315" y="0"/>
                  </a:lnTo>
                  <a:lnTo>
                    <a:pt x="325" y="0"/>
                  </a:lnTo>
                  <a:lnTo>
                    <a:pt x="334" y="4"/>
                  </a:lnTo>
                  <a:lnTo>
                    <a:pt x="344" y="8"/>
                  </a:lnTo>
                  <a:lnTo>
                    <a:pt x="344" y="262"/>
                  </a:lnTo>
                  <a:lnTo>
                    <a:pt x="329" y="248"/>
                  </a:lnTo>
                  <a:lnTo>
                    <a:pt x="315" y="244"/>
                  </a:lnTo>
                  <a:lnTo>
                    <a:pt x="303" y="241"/>
                  </a:lnTo>
                  <a:lnTo>
                    <a:pt x="292" y="241"/>
                  </a:lnTo>
                  <a:lnTo>
                    <a:pt x="240" y="255"/>
                  </a:lnTo>
                  <a:lnTo>
                    <a:pt x="193" y="316"/>
                  </a:lnTo>
                  <a:lnTo>
                    <a:pt x="149" y="409"/>
                  </a:lnTo>
                  <a:lnTo>
                    <a:pt x="112" y="546"/>
                  </a:lnTo>
                  <a:lnTo>
                    <a:pt x="112" y="1528"/>
                  </a:lnTo>
                  <a:lnTo>
                    <a:pt x="0" y="1528"/>
                  </a:lnTo>
                </a:path>
              </a:pathLst>
            </a:custGeom>
            <a:solidFill>
              <a:srgbClr val="ff33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059440" y="2590920"/>
              <a:ext cx="182520" cy="807840"/>
            </a:xfrm>
            <a:custGeom>
              <a:avLst/>
              <a:gdLst/>
              <a:ahLst/>
              <a:rect l="l" t="t" r="r" b="b"/>
              <a:pathLst>
                <a:path w="508" h="2243">
                  <a:moveTo>
                    <a:pt x="121" y="1298"/>
                  </a:moveTo>
                  <a:lnTo>
                    <a:pt x="395" y="1298"/>
                  </a:lnTo>
                  <a:lnTo>
                    <a:pt x="387" y="1115"/>
                  </a:lnTo>
                  <a:lnTo>
                    <a:pt x="362" y="986"/>
                  </a:lnTo>
                  <a:lnTo>
                    <a:pt x="322" y="907"/>
                  </a:lnTo>
                  <a:lnTo>
                    <a:pt x="266" y="882"/>
                  </a:lnTo>
                  <a:lnTo>
                    <a:pt x="208" y="907"/>
                  </a:lnTo>
                  <a:lnTo>
                    <a:pt x="163" y="986"/>
                  </a:lnTo>
                  <a:lnTo>
                    <a:pt x="134" y="1115"/>
                  </a:lnTo>
                  <a:lnTo>
                    <a:pt x="121" y="1298"/>
                  </a:lnTo>
                  <a:close/>
                  <a:moveTo>
                    <a:pt x="179" y="445"/>
                  </a:moveTo>
                  <a:lnTo>
                    <a:pt x="317" y="0"/>
                  </a:lnTo>
                  <a:lnTo>
                    <a:pt x="447" y="0"/>
                  </a:lnTo>
                  <a:lnTo>
                    <a:pt x="263" y="445"/>
                  </a:lnTo>
                  <a:lnTo>
                    <a:pt x="179" y="445"/>
                  </a:lnTo>
                  <a:close/>
                  <a:moveTo>
                    <a:pt x="505" y="2159"/>
                  </a:moveTo>
                  <a:lnTo>
                    <a:pt x="449" y="2191"/>
                  </a:lnTo>
                  <a:lnTo>
                    <a:pt x="399" y="2220"/>
                  </a:lnTo>
                  <a:lnTo>
                    <a:pt x="352" y="2231"/>
                  </a:lnTo>
                  <a:lnTo>
                    <a:pt x="310" y="2242"/>
                  </a:lnTo>
                  <a:lnTo>
                    <a:pt x="244" y="2224"/>
                  </a:lnTo>
                  <a:lnTo>
                    <a:pt x="186" y="2184"/>
                  </a:lnTo>
                  <a:lnTo>
                    <a:pt x="133" y="2116"/>
                  </a:lnTo>
                  <a:lnTo>
                    <a:pt x="88" y="2023"/>
                  </a:lnTo>
                  <a:lnTo>
                    <a:pt x="49" y="1901"/>
                  </a:lnTo>
                  <a:lnTo>
                    <a:pt x="21" y="1768"/>
                  </a:lnTo>
                  <a:lnTo>
                    <a:pt x="4" y="1618"/>
                  </a:lnTo>
                  <a:lnTo>
                    <a:pt x="0" y="1453"/>
                  </a:lnTo>
                  <a:lnTo>
                    <a:pt x="4" y="1291"/>
                  </a:lnTo>
                  <a:lnTo>
                    <a:pt x="18" y="1144"/>
                  </a:lnTo>
                  <a:lnTo>
                    <a:pt x="42" y="1011"/>
                  </a:lnTo>
                  <a:lnTo>
                    <a:pt x="77" y="897"/>
                  </a:lnTo>
                  <a:lnTo>
                    <a:pt x="117" y="800"/>
                  </a:lnTo>
                  <a:lnTo>
                    <a:pt x="163" y="735"/>
                  </a:lnTo>
                  <a:lnTo>
                    <a:pt x="215" y="692"/>
                  </a:lnTo>
                  <a:lnTo>
                    <a:pt x="272" y="681"/>
                  </a:lnTo>
                  <a:lnTo>
                    <a:pt x="325" y="692"/>
                  </a:lnTo>
                  <a:lnTo>
                    <a:pt x="372" y="728"/>
                  </a:lnTo>
                  <a:lnTo>
                    <a:pt x="412" y="785"/>
                  </a:lnTo>
                  <a:lnTo>
                    <a:pt x="446" y="875"/>
                  </a:lnTo>
                  <a:lnTo>
                    <a:pt x="473" y="979"/>
                  </a:lnTo>
                  <a:lnTo>
                    <a:pt x="491" y="1108"/>
                  </a:lnTo>
                  <a:lnTo>
                    <a:pt x="503" y="1248"/>
                  </a:lnTo>
                  <a:lnTo>
                    <a:pt x="507" y="1420"/>
                  </a:lnTo>
                  <a:lnTo>
                    <a:pt x="507" y="1503"/>
                  </a:lnTo>
                  <a:lnTo>
                    <a:pt x="115" y="1503"/>
                  </a:lnTo>
                  <a:lnTo>
                    <a:pt x="137" y="1736"/>
                  </a:lnTo>
                  <a:lnTo>
                    <a:pt x="182" y="1901"/>
                  </a:lnTo>
                  <a:lnTo>
                    <a:pt x="245" y="2001"/>
                  </a:lnTo>
                  <a:lnTo>
                    <a:pt x="332" y="2037"/>
                  </a:lnTo>
                  <a:lnTo>
                    <a:pt x="368" y="2034"/>
                  </a:lnTo>
                  <a:lnTo>
                    <a:pt x="409" y="2012"/>
                  </a:lnTo>
                  <a:lnTo>
                    <a:pt x="454" y="1983"/>
                  </a:lnTo>
                  <a:lnTo>
                    <a:pt x="505" y="1944"/>
                  </a:lnTo>
                  <a:lnTo>
                    <a:pt x="505" y="2159"/>
                  </a:lnTo>
                  <a:close/>
                </a:path>
              </a:pathLst>
            </a:custGeom>
            <a:solidFill>
              <a:srgbClr val="ff33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311800" y="2652840"/>
              <a:ext cx="41400" cy="733320"/>
            </a:xfrm>
            <a:custGeom>
              <a:avLst/>
              <a:gdLst/>
              <a:ahLst/>
              <a:rect l="l" t="t" r="r" b="b"/>
              <a:pathLst>
                <a:path w="114" h="2038">
                  <a:moveTo>
                    <a:pt x="0" y="269"/>
                  </a:moveTo>
                  <a:lnTo>
                    <a:pt x="0" y="0"/>
                  </a:lnTo>
                  <a:lnTo>
                    <a:pt x="113" y="0"/>
                  </a:lnTo>
                  <a:lnTo>
                    <a:pt x="113" y="269"/>
                  </a:lnTo>
                  <a:lnTo>
                    <a:pt x="0" y="269"/>
                  </a:lnTo>
                  <a:close/>
                  <a:moveTo>
                    <a:pt x="0" y="2037"/>
                  </a:moveTo>
                  <a:lnTo>
                    <a:pt x="0" y="542"/>
                  </a:lnTo>
                  <a:lnTo>
                    <a:pt x="113" y="542"/>
                  </a:lnTo>
                  <a:lnTo>
                    <a:pt x="113" y="2037"/>
                  </a:lnTo>
                  <a:lnTo>
                    <a:pt x="0" y="2037"/>
                  </a:lnTo>
                  <a:close/>
                </a:path>
              </a:pathLst>
            </a:custGeom>
            <a:solidFill>
              <a:srgbClr val="ff33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433840" y="2836800"/>
              <a:ext cx="182880" cy="550800"/>
            </a:xfrm>
            <a:custGeom>
              <a:avLst/>
              <a:gdLst/>
              <a:ahLst/>
              <a:rect l="l" t="t" r="r" b="b"/>
              <a:pathLst>
                <a:path w="509" h="1529">
                  <a:moveTo>
                    <a:pt x="0" y="1528"/>
                  </a:moveTo>
                  <a:lnTo>
                    <a:pt x="0" y="33"/>
                  </a:lnTo>
                  <a:lnTo>
                    <a:pt x="112" y="33"/>
                  </a:lnTo>
                  <a:lnTo>
                    <a:pt x="112" y="313"/>
                  </a:lnTo>
                  <a:lnTo>
                    <a:pt x="160" y="173"/>
                  </a:lnTo>
                  <a:lnTo>
                    <a:pt x="211" y="76"/>
                  </a:lnTo>
                  <a:lnTo>
                    <a:pt x="268" y="15"/>
                  </a:lnTo>
                  <a:lnTo>
                    <a:pt x="331" y="0"/>
                  </a:lnTo>
                  <a:lnTo>
                    <a:pt x="368" y="8"/>
                  </a:lnTo>
                  <a:lnTo>
                    <a:pt x="404" y="29"/>
                  </a:lnTo>
                  <a:lnTo>
                    <a:pt x="435" y="65"/>
                  </a:lnTo>
                  <a:lnTo>
                    <a:pt x="462" y="122"/>
                  </a:lnTo>
                  <a:lnTo>
                    <a:pt x="482" y="191"/>
                  </a:lnTo>
                  <a:lnTo>
                    <a:pt x="496" y="266"/>
                  </a:lnTo>
                  <a:lnTo>
                    <a:pt x="504" y="352"/>
                  </a:lnTo>
                  <a:lnTo>
                    <a:pt x="508" y="452"/>
                  </a:lnTo>
                  <a:lnTo>
                    <a:pt x="508" y="1528"/>
                  </a:lnTo>
                  <a:lnTo>
                    <a:pt x="396" y="1528"/>
                  </a:lnTo>
                  <a:lnTo>
                    <a:pt x="396" y="542"/>
                  </a:lnTo>
                  <a:lnTo>
                    <a:pt x="395" y="463"/>
                  </a:lnTo>
                  <a:lnTo>
                    <a:pt x="390" y="399"/>
                  </a:lnTo>
                  <a:lnTo>
                    <a:pt x="384" y="341"/>
                  </a:lnTo>
                  <a:lnTo>
                    <a:pt x="377" y="302"/>
                  </a:lnTo>
                  <a:lnTo>
                    <a:pt x="364" y="269"/>
                  </a:lnTo>
                  <a:lnTo>
                    <a:pt x="349" y="248"/>
                  </a:lnTo>
                  <a:lnTo>
                    <a:pt x="330" y="237"/>
                  </a:lnTo>
                  <a:lnTo>
                    <a:pt x="309" y="234"/>
                  </a:lnTo>
                  <a:lnTo>
                    <a:pt x="256" y="252"/>
                  </a:lnTo>
                  <a:lnTo>
                    <a:pt x="206" y="313"/>
                  </a:lnTo>
                  <a:lnTo>
                    <a:pt x="158" y="417"/>
                  </a:lnTo>
                  <a:lnTo>
                    <a:pt x="112" y="560"/>
                  </a:lnTo>
                  <a:lnTo>
                    <a:pt x="112" y="1528"/>
                  </a:lnTo>
                  <a:lnTo>
                    <a:pt x="0" y="1528"/>
                  </a:lnTo>
                </a:path>
              </a:pathLst>
            </a:custGeom>
            <a:solidFill>
              <a:srgbClr val="ff33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659560" y="2847960"/>
              <a:ext cx="212760" cy="538200"/>
            </a:xfrm>
            <a:custGeom>
              <a:avLst/>
              <a:gdLst/>
              <a:ahLst/>
              <a:rect l="l" t="t" r="r" b="b"/>
              <a:pathLst>
                <a:path w="591" h="1496">
                  <a:moveTo>
                    <a:pt x="232" y="1495"/>
                  </a:moveTo>
                  <a:lnTo>
                    <a:pt x="0" y="0"/>
                  </a:lnTo>
                  <a:lnTo>
                    <a:pt x="114" y="0"/>
                  </a:lnTo>
                  <a:lnTo>
                    <a:pt x="294" y="1155"/>
                  </a:lnTo>
                  <a:lnTo>
                    <a:pt x="483" y="0"/>
                  </a:lnTo>
                  <a:lnTo>
                    <a:pt x="590" y="0"/>
                  </a:lnTo>
                  <a:lnTo>
                    <a:pt x="345" y="1495"/>
                  </a:lnTo>
                  <a:lnTo>
                    <a:pt x="232" y="1495"/>
                  </a:lnTo>
                </a:path>
              </a:pathLst>
            </a:custGeom>
            <a:solidFill>
              <a:srgbClr val="ff33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897520" y="2836800"/>
              <a:ext cx="182520" cy="561960"/>
            </a:xfrm>
            <a:custGeom>
              <a:avLst/>
              <a:gdLst/>
              <a:ahLst/>
              <a:rect l="l" t="t" r="r" b="b"/>
              <a:pathLst>
                <a:path w="509" h="1562">
                  <a:moveTo>
                    <a:pt x="121" y="617"/>
                  </a:moveTo>
                  <a:lnTo>
                    <a:pt x="395" y="617"/>
                  </a:lnTo>
                  <a:lnTo>
                    <a:pt x="387" y="434"/>
                  </a:lnTo>
                  <a:lnTo>
                    <a:pt x="362" y="305"/>
                  </a:lnTo>
                  <a:lnTo>
                    <a:pt x="323" y="226"/>
                  </a:lnTo>
                  <a:lnTo>
                    <a:pt x="267" y="201"/>
                  </a:lnTo>
                  <a:lnTo>
                    <a:pt x="209" y="226"/>
                  </a:lnTo>
                  <a:lnTo>
                    <a:pt x="165" y="305"/>
                  </a:lnTo>
                  <a:lnTo>
                    <a:pt x="135" y="434"/>
                  </a:lnTo>
                  <a:lnTo>
                    <a:pt x="121" y="617"/>
                  </a:lnTo>
                  <a:close/>
                  <a:moveTo>
                    <a:pt x="505" y="1478"/>
                  </a:moveTo>
                  <a:lnTo>
                    <a:pt x="450" y="1510"/>
                  </a:lnTo>
                  <a:lnTo>
                    <a:pt x="400" y="1539"/>
                  </a:lnTo>
                  <a:lnTo>
                    <a:pt x="353" y="1550"/>
                  </a:lnTo>
                  <a:lnTo>
                    <a:pt x="312" y="1561"/>
                  </a:lnTo>
                  <a:lnTo>
                    <a:pt x="245" y="1543"/>
                  </a:lnTo>
                  <a:lnTo>
                    <a:pt x="187" y="1503"/>
                  </a:lnTo>
                  <a:lnTo>
                    <a:pt x="133" y="1435"/>
                  </a:lnTo>
                  <a:lnTo>
                    <a:pt x="88" y="1342"/>
                  </a:lnTo>
                  <a:lnTo>
                    <a:pt x="50" y="1220"/>
                  </a:lnTo>
                  <a:lnTo>
                    <a:pt x="22" y="1087"/>
                  </a:lnTo>
                  <a:lnTo>
                    <a:pt x="6" y="937"/>
                  </a:lnTo>
                  <a:lnTo>
                    <a:pt x="0" y="772"/>
                  </a:lnTo>
                  <a:lnTo>
                    <a:pt x="6" y="610"/>
                  </a:lnTo>
                  <a:lnTo>
                    <a:pt x="19" y="463"/>
                  </a:lnTo>
                  <a:lnTo>
                    <a:pt x="43" y="330"/>
                  </a:lnTo>
                  <a:lnTo>
                    <a:pt x="77" y="216"/>
                  </a:lnTo>
                  <a:lnTo>
                    <a:pt x="117" y="119"/>
                  </a:lnTo>
                  <a:lnTo>
                    <a:pt x="165" y="54"/>
                  </a:lnTo>
                  <a:lnTo>
                    <a:pt x="216" y="11"/>
                  </a:lnTo>
                  <a:lnTo>
                    <a:pt x="272" y="0"/>
                  </a:lnTo>
                  <a:lnTo>
                    <a:pt x="325" y="11"/>
                  </a:lnTo>
                  <a:lnTo>
                    <a:pt x="372" y="47"/>
                  </a:lnTo>
                  <a:lnTo>
                    <a:pt x="412" y="104"/>
                  </a:lnTo>
                  <a:lnTo>
                    <a:pt x="447" y="194"/>
                  </a:lnTo>
                  <a:lnTo>
                    <a:pt x="473" y="298"/>
                  </a:lnTo>
                  <a:lnTo>
                    <a:pt x="491" y="427"/>
                  </a:lnTo>
                  <a:lnTo>
                    <a:pt x="504" y="567"/>
                  </a:lnTo>
                  <a:lnTo>
                    <a:pt x="508" y="739"/>
                  </a:lnTo>
                  <a:lnTo>
                    <a:pt x="508" y="822"/>
                  </a:lnTo>
                  <a:lnTo>
                    <a:pt x="116" y="822"/>
                  </a:lnTo>
                  <a:lnTo>
                    <a:pt x="138" y="1055"/>
                  </a:lnTo>
                  <a:lnTo>
                    <a:pt x="183" y="1220"/>
                  </a:lnTo>
                  <a:lnTo>
                    <a:pt x="246" y="1320"/>
                  </a:lnTo>
                  <a:lnTo>
                    <a:pt x="332" y="1356"/>
                  </a:lnTo>
                  <a:lnTo>
                    <a:pt x="368" y="1353"/>
                  </a:lnTo>
                  <a:lnTo>
                    <a:pt x="409" y="1331"/>
                  </a:lnTo>
                  <a:lnTo>
                    <a:pt x="456" y="1302"/>
                  </a:lnTo>
                  <a:lnTo>
                    <a:pt x="505" y="1263"/>
                  </a:lnTo>
                  <a:lnTo>
                    <a:pt x="505" y="1478"/>
                  </a:lnTo>
                  <a:close/>
                </a:path>
              </a:pathLst>
            </a:custGeom>
            <a:solidFill>
              <a:srgbClr val="ff33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141960" y="2836800"/>
              <a:ext cx="150840" cy="561960"/>
            </a:xfrm>
            <a:custGeom>
              <a:avLst/>
              <a:gdLst/>
              <a:ahLst/>
              <a:rect l="l" t="t" r="r" b="b"/>
              <a:pathLst>
                <a:path w="419" h="1562">
                  <a:moveTo>
                    <a:pt x="0" y="1475"/>
                  </a:moveTo>
                  <a:lnTo>
                    <a:pt x="0" y="1224"/>
                  </a:lnTo>
                  <a:lnTo>
                    <a:pt x="53" y="1281"/>
                  </a:lnTo>
                  <a:lnTo>
                    <a:pt x="103" y="1324"/>
                  </a:lnTo>
                  <a:lnTo>
                    <a:pt x="149" y="1349"/>
                  </a:lnTo>
                  <a:lnTo>
                    <a:pt x="193" y="1356"/>
                  </a:lnTo>
                  <a:lnTo>
                    <a:pt x="216" y="1353"/>
                  </a:lnTo>
                  <a:lnTo>
                    <a:pt x="237" y="1342"/>
                  </a:lnTo>
                  <a:lnTo>
                    <a:pt x="256" y="1320"/>
                  </a:lnTo>
                  <a:lnTo>
                    <a:pt x="274" y="1295"/>
                  </a:lnTo>
                  <a:lnTo>
                    <a:pt x="287" y="1259"/>
                  </a:lnTo>
                  <a:lnTo>
                    <a:pt x="298" y="1220"/>
                  </a:lnTo>
                  <a:lnTo>
                    <a:pt x="303" y="1177"/>
                  </a:lnTo>
                  <a:lnTo>
                    <a:pt x="306" y="1134"/>
                  </a:lnTo>
                  <a:lnTo>
                    <a:pt x="299" y="1069"/>
                  </a:lnTo>
                  <a:lnTo>
                    <a:pt x="282" y="1008"/>
                  </a:lnTo>
                  <a:lnTo>
                    <a:pt x="255" y="955"/>
                  </a:lnTo>
                  <a:lnTo>
                    <a:pt x="216" y="904"/>
                  </a:lnTo>
                  <a:lnTo>
                    <a:pt x="149" y="840"/>
                  </a:lnTo>
                  <a:lnTo>
                    <a:pt x="85" y="754"/>
                  </a:lnTo>
                  <a:lnTo>
                    <a:pt x="38" y="660"/>
                  </a:lnTo>
                  <a:lnTo>
                    <a:pt x="11" y="546"/>
                  </a:lnTo>
                  <a:lnTo>
                    <a:pt x="3" y="420"/>
                  </a:lnTo>
                  <a:lnTo>
                    <a:pt x="5" y="327"/>
                  </a:lnTo>
                  <a:lnTo>
                    <a:pt x="16" y="244"/>
                  </a:lnTo>
                  <a:lnTo>
                    <a:pt x="34" y="169"/>
                  </a:lnTo>
                  <a:lnTo>
                    <a:pt x="61" y="108"/>
                  </a:lnTo>
                  <a:lnTo>
                    <a:pt x="92" y="58"/>
                  </a:lnTo>
                  <a:lnTo>
                    <a:pt x="127" y="26"/>
                  </a:lnTo>
                  <a:lnTo>
                    <a:pt x="170" y="8"/>
                  </a:lnTo>
                  <a:lnTo>
                    <a:pt x="219" y="0"/>
                  </a:lnTo>
                  <a:lnTo>
                    <a:pt x="245" y="0"/>
                  </a:lnTo>
                  <a:lnTo>
                    <a:pt x="277" y="8"/>
                  </a:lnTo>
                  <a:lnTo>
                    <a:pt x="310" y="18"/>
                  </a:lnTo>
                  <a:lnTo>
                    <a:pt x="348" y="36"/>
                  </a:lnTo>
                  <a:lnTo>
                    <a:pt x="372" y="47"/>
                  </a:lnTo>
                  <a:lnTo>
                    <a:pt x="372" y="269"/>
                  </a:lnTo>
                  <a:lnTo>
                    <a:pt x="325" y="241"/>
                  </a:lnTo>
                  <a:lnTo>
                    <a:pt x="285" y="219"/>
                  </a:lnTo>
                  <a:lnTo>
                    <a:pt x="251" y="205"/>
                  </a:lnTo>
                  <a:lnTo>
                    <a:pt x="221" y="201"/>
                  </a:lnTo>
                  <a:lnTo>
                    <a:pt x="197" y="201"/>
                  </a:lnTo>
                  <a:lnTo>
                    <a:pt x="176" y="212"/>
                  </a:lnTo>
                  <a:lnTo>
                    <a:pt x="158" y="230"/>
                  </a:lnTo>
                  <a:lnTo>
                    <a:pt x="143" y="252"/>
                  </a:lnTo>
                  <a:lnTo>
                    <a:pt x="129" y="280"/>
                  </a:lnTo>
                  <a:lnTo>
                    <a:pt x="119" y="313"/>
                  </a:lnTo>
                  <a:lnTo>
                    <a:pt x="114" y="348"/>
                  </a:lnTo>
                  <a:lnTo>
                    <a:pt x="112" y="391"/>
                  </a:lnTo>
                  <a:lnTo>
                    <a:pt x="116" y="449"/>
                  </a:lnTo>
                  <a:lnTo>
                    <a:pt x="133" y="506"/>
                  </a:lnTo>
                  <a:lnTo>
                    <a:pt x="158" y="553"/>
                  </a:lnTo>
                  <a:lnTo>
                    <a:pt x="196" y="599"/>
                  </a:lnTo>
                  <a:lnTo>
                    <a:pt x="249" y="657"/>
                  </a:lnTo>
                  <a:lnTo>
                    <a:pt x="292" y="703"/>
                  </a:lnTo>
                  <a:lnTo>
                    <a:pt x="328" y="750"/>
                  </a:lnTo>
                  <a:lnTo>
                    <a:pt x="358" y="800"/>
                  </a:lnTo>
                  <a:lnTo>
                    <a:pt x="381" y="851"/>
                  </a:lnTo>
                  <a:lnTo>
                    <a:pt x="396" y="904"/>
                  </a:lnTo>
                  <a:lnTo>
                    <a:pt x="409" y="969"/>
                  </a:lnTo>
                  <a:lnTo>
                    <a:pt x="416" y="1033"/>
                  </a:lnTo>
                  <a:lnTo>
                    <a:pt x="418" y="1112"/>
                  </a:lnTo>
                  <a:lnTo>
                    <a:pt x="414" y="1206"/>
                  </a:lnTo>
                  <a:lnTo>
                    <a:pt x="402" y="1288"/>
                  </a:lnTo>
                  <a:lnTo>
                    <a:pt x="383" y="1363"/>
                  </a:lnTo>
                  <a:lnTo>
                    <a:pt x="355" y="1435"/>
                  </a:lnTo>
                  <a:lnTo>
                    <a:pt x="320" y="1489"/>
                  </a:lnTo>
                  <a:lnTo>
                    <a:pt x="280" y="1528"/>
                  </a:lnTo>
                  <a:lnTo>
                    <a:pt x="237" y="1550"/>
                  </a:lnTo>
                  <a:lnTo>
                    <a:pt x="189" y="1561"/>
                  </a:lnTo>
                  <a:lnTo>
                    <a:pt x="147" y="1550"/>
                  </a:lnTo>
                  <a:lnTo>
                    <a:pt x="103" y="1536"/>
                  </a:lnTo>
                  <a:lnTo>
                    <a:pt x="53" y="1507"/>
                  </a:lnTo>
                  <a:lnTo>
                    <a:pt x="0" y="1475"/>
                  </a:lnTo>
                </a:path>
              </a:pathLst>
            </a:custGeom>
            <a:solidFill>
              <a:srgbClr val="ff33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340320" y="2739960"/>
              <a:ext cx="127080" cy="657360"/>
            </a:xfrm>
            <a:custGeom>
              <a:avLst/>
              <a:gdLst/>
              <a:ahLst/>
              <a:rect l="l" t="t" r="r" b="b"/>
              <a:pathLst>
                <a:path w="353" h="1827">
                  <a:moveTo>
                    <a:pt x="350" y="1793"/>
                  </a:moveTo>
                  <a:lnTo>
                    <a:pt x="323" y="1804"/>
                  </a:lnTo>
                  <a:lnTo>
                    <a:pt x="300" y="1811"/>
                  </a:lnTo>
                  <a:lnTo>
                    <a:pt x="279" y="1819"/>
                  </a:lnTo>
                  <a:lnTo>
                    <a:pt x="260" y="1826"/>
                  </a:lnTo>
                  <a:lnTo>
                    <a:pt x="219" y="1815"/>
                  </a:lnTo>
                  <a:lnTo>
                    <a:pt x="182" y="1793"/>
                  </a:lnTo>
                  <a:lnTo>
                    <a:pt x="152" y="1758"/>
                  </a:lnTo>
                  <a:lnTo>
                    <a:pt x="126" y="1707"/>
                  </a:lnTo>
                  <a:lnTo>
                    <a:pt x="104" y="1639"/>
                  </a:lnTo>
                  <a:lnTo>
                    <a:pt x="89" y="1567"/>
                  </a:lnTo>
                  <a:lnTo>
                    <a:pt x="80" y="1478"/>
                  </a:lnTo>
                  <a:lnTo>
                    <a:pt x="78" y="1381"/>
                  </a:lnTo>
                  <a:lnTo>
                    <a:pt x="78" y="502"/>
                  </a:lnTo>
                  <a:lnTo>
                    <a:pt x="0" y="502"/>
                  </a:lnTo>
                  <a:lnTo>
                    <a:pt x="0" y="298"/>
                  </a:lnTo>
                  <a:lnTo>
                    <a:pt x="78" y="298"/>
                  </a:lnTo>
                  <a:lnTo>
                    <a:pt x="78" y="29"/>
                  </a:lnTo>
                  <a:lnTo>
                    <a:pt x="189" y="0"/>
                  </a:lnTo>
                  <a:lnTo>
                    <a:pt x="189" y="298"/>
                  </a:lnTo>
                  <a:lnTo>
                    <a:pt x="352" y="298"/>
                  </a:lnTo>
                  <a:lnTo>
                    <a:pt x="352" y="502"/>
                  </a:lnTo>
                  <a:lnTo>
                    <a:pt x="189" y="502"/>
                  </a:lnTo>
                  <a:lnTo>
                    <a:pt x="189" y="1331"/>
                  </a:lnTo>
                  <a:lnTo>
                    <a:pt x="195" y="1456"/>
                  </a:lnTo>
                  <a:lnTo>
                    <a:pt x="216" y="1550"/>
                  </a:lnTo>
                  <a:lnTo>
                    <a:pt x="249" y="1603"/>
                  </a:lnTo>
                  <a:lnTo>
                    <a:pt x="296" y="1621"/>
                  </a:lnTo>
                  <a:lnTo>
                    <a:pt x="307" y="1618"/>
                  </a:lnTo>
                  <a:lnTo>
                    <a:pt x="321" y="1618"/>
                  </a:lnTo>
                  <a:lnTo>
                    <a:pt x="334" y="1614"/>
                  </a:lnTo>
                  <a:lnTo>
                    <a:pt x="350" y="1607"/>
                  </a:lnTo>
                  <a:lnTo>
                    <a:pt x="350" y="1793"/>
                  </a:lnTo>
                </a:path>
              </a:pathLst>
            </a:custGeom>
            <a:solidFill>
              <a:srgbClr val="ff33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524640" y="2652840"/>
              <a:ext cx="41400" cy="733320"/>
            </a:xfrm>
            <a:custGeom>
              <a:avLst/>
              <a:gdLst/>
              <a:ahLst/>
              <a:rect l="l" t="t" r="r" b="b"/>
              <a:pathLst>
                <a:path w="113" h="2038">
                  <a:moveTo>
                    <a:pt x="0" y="269"/>
                  </a:moveTo>
                  <a:lnTo>
                    <a:pt x="0" y="0"/>
                  </a:lnTo>
                  <a:lnTo>
                    <a:pt x="112" y="0"/>
                  </a:lnTo>
                  <a:lnTo>
                    <a:pt x="112" y="269"/>
                  </a:lnTo>
                  <a:lnTo>
                    <a:pt x="0" y="269"/>
                  </a:lnTo>
                  <a:close/>
                  <a:moveTo>
                    <a:pt x="0" y="2037"/>
                  </a:moveTo>
                  <a:lnTo>
                    <a:pt x="0" y="542"/>
                  </a:lnTo>
                  <a:lnTo>
                    <a:pt x="112" y="542"/>
                  </a:lnTo>
                  <a:lnTo>
                    <a:pt x="112" y="2037"/>
                  </a:lnTo>
                  <a:lnTo>
                    <a:pt x="0" y="2037"/>
                  </a:lnTo>
                  <a:close/>
                </a:path>
              </a:pathLst>
            </a:custGeom>
            <a:solidFill>
              <a:srgbClr val="ff33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638760" y="2836800"/>
              <a:ext cx="150840" cy="561960"/>
            </a:xfrm>
            <a:custGeom>
              <a:avLst/>
              <a:gdLst/>
              <a:ahLst/>
              <a:rect l="l" t="t" r="r" b="b"/>
              <a:pathLst>
                <a:path w="420" h="1562">
                  <a:moveTo>
                    <a:pt x="0" y="1475"/>
                  </a:moveTo>
                  <a:lnTo>
                    <a:pt x="0" y="1224"/>
                  </a:lnTo>
                  <a:lnTo>
                    <a:pt x="52" y="1281"/>
                  </a:lnTo>
                  <a:lnTo>
                    <a:pt x="103" y="1324"/>
                  </a:lnTo>
                  <a:lnTo>
                    <a:pt x="150" y="1349"/>
                  </a:lnTo>
                  <a:lnTo>
                    <a:pt x="192" y="1356"/>
                  </a:lnTo>
                  <a:lnTo>
                    <a:pt x="216" y="1353"/>
                  </a:lnTo>
                  <a:lnTo>
                    <a:pt x="236" y="1342"/>
                  </a:lnTo>
                  <a:lnTo>
                    <a:pt x="257" y="1320"/>
                  </a:lnTo>
                  <a:lnTo>
                    <a:pt x="275" y="1295"/>
                  </a:lnTo>
                  <a:lnTo>
                    <a:pt x="287" y="1259"/>
                  </a:lnTo>
                  <a:lnTo>
                    <a:pt x="298" y="1220"/>
                  </a:lnTo>
                  <a:lnTo>
                    <a:pt x="303" y="1177"/>
                  </a:lnTo>
                  <a:lnTo>
                    <a:pt x="306" y="1134"/>
                  </a:lnTo>
                  <a:lnTo>
                    <a:pt x="299" y="1069"/>
                  </a:lnTo>
                  <a:lnTo>
                    <a:pt x="283" y="1008"/>
                  </a:lnTo>
                  <a:lnTo>
                    <a:pt x="255" y="955"/>
                  </a:lnTo>
                  <a:lnTo>
                    <a:pt x="216" y="904"/>
                  </a:lnTo>
                  <a:lnTo>
                    <a:pt x="150" y="840"/>
                  </a:lnTo>
                  <a:lnTo>
                    <a:pt x="84" y="754"/>
                  </a:lnTo>
                  <a:lnTo>
                    <a:pt x="39" y="660"/>
                  </a:lnTo>
                  <a:lnTo>
                    <a:pt x="11" y="546"/>
                  </a:lnTo>
                  <a:lnTo>
                    <a:pt x="3" y="420"/>
                  </a:lnTo>
                  <a:lnTo>
                    <a:pt x="6" y="327"/>
                  </a:lnTo>
                  <a:lnTo>
                    <a:pt x="17" y="244"/>
                  </a:lnTo>
                  <a:lnTo>
                    <a:pt x="35" y="169"/>
                  </a:lnTo>
                  <a:lnTo>
                    <a:pt x="61" y="108"/>
                  </a:lnTo>
                  <a:lnTo>
                    <a:pt x="91" y="58"/>
                  </a:lnTo>
                  <a:lnTo>
                    <a:pt x="128" y="26"/>
                  </a:lnTo>
                  <a:lnTo>
                    <a:pt x="170" y="8"/>
                  </a:lnTo>
                  <a:lnTo>
                    <a:pt x="219" y="0"/>
                  </a:lnTo>
                  <a:lnTo>
                    <a:pt x="245" y="0"/>
                  </a:lnTo>
                  <a:lnTo>
                    <a:pt x="277" y="8"/>
                  </a:lnTo>
                  <a:lnTo>
                    <a:pt x="310" y="18"/>
                  </a:lnTo>
                  <a:lnTo>
                    <a:pt x="347" y="36"/>
                  </a:lnTo>
                  <a:lnTo>
                    <a:pt x="371" y="47"/>
                  </a:lnTo>
                  <a:lnTo>
                    <a:pt x="371" y="269"/>
                  </a:lnTo>
                  <a:lnTo>
                    <a:pt x="325" y="241"/>
                  </a:lnTo>
                  <a:lnTo>
                    <a:pt x="286" y="219"/>
                  </a:lnTo>
                  <a:lnTo>
                    <a:pt x="251" y="205"/>
                  </a:lnTo>
                  <a:lnTo>
                    <a:pt x="220" y="201"/>
                  </a:lnTo>
                  <a:lnTo>
                    <a:pt x="197" y="201"/>
                  </a:lnTo>
                  <a:lnTo>
                    <a:pt x="176" y="212"/>
                  </a:lnTo>
                  <a:lnTo>
                    <a:pt x="158" y="230"/>
                  </a:lnTo>
                  <a:lnTo>
                    <a:pt x="143" y="252"/>
                  </a:lnTo>
                  <a:lnTo>
                    <a:pt x="129" y="280"/>
                  </a:lnTo>
                  <a:lnTo>
                    <a:pt x="119" y="313"/>
                  </a:lnTo>
                  <a:lnTo>
                    <a:pt x="114" y="348"/>
                  </a:lnTo>
                  <a:lnTo>
                    <a:pt x="113" y="391"/>
                  </a:lnTo>
                  <a:lnTo>
                    <a:pt x="117" y="449"/>
                  </a:lnTo>
                  <a:lnTo>
                    <a:pt x="133" y="506"/>
                  </a:lnTo>
                  <a:lnTo>
                    <a:pt x="158" y="553"/>
                  </a:lnTo>
                  <a:lnTo>
                    <a:pt x="195" y="599"/>
                  </a:lnTo>
                  <a:lnTo>
                    <a:pt x="250" y="657"/>
                  </a:lnTo>
                  <a:lnTo>
                    <a:pt x="292" y="703"/>
                  </a:lnTo>
                  <a:lnTo>
                    <a:pt x="328" y="750"/>
                  </a:lnTo>
                  <a:lnTo>
                    <a:pt x="357" y="800"/>
                  </a:lnTo>
                  <a:lnTo>
                    <a:pt x="380" y="851"/>
                  </a:lnTo>
                  <a:lnTo>
                    <a:pt x="397" y="904"/>
                  </a:lnTo>
                  <a:lnTo>
                    <a:pt x="409" y="969"/>
                  </a:lnTo>
                  <a:lnTo>
                    <a:pt x="416" y="1033"/>
                  </a:lnTo>
                  <a:lnTo>
                    <a:pt x="419" y="1112"/>
                  </a:lnTo>
                  <a:lnTo>
                    <a:pt x="415" y="1206"/>
                  </a:lnTo>
                  <a:lnTo>
                    <a:pt x="402" y="1288"/>
                  </a:lnTo>
                  <a:lnTo>
                    <a:pt x="382" y="1363"/>
                  </a:lnTo>
                  <a:lnTo>
                    <a:pt x="354" y="1435"/>
                  </a:lnTo>
                  <a:lnTo>
                    <a:pt x="320" y="1489"/>
                  </a:lnTo>
                  <a:lnTo>
                    <a:pt x="280" y="1528"/>
                  </a:lnTo>
                  <a:lnTo>
                    <a:pt x="236" y="1550"/>
                  </a:lnTo>
                  <a:lnTo>
                    <a:pt x="188" y="1561"/>
                  </a:lnTo>
                  <a:lnTo>
                    <a:pt x="147" y="1550"/>
                  </a:lnTo>
                  <a:lnTo>
                    <a:pt x="103" y="1536"/>
                  </a:lnTo>
                  <a:lnTo>
                    <a:pt x="52" y="1507"/>
                  </a:lnTo>
                  <a:lnTo>
                    <a:pt x="0" y="1475"/>
                  </a:lnTo>
                </a:path>
              </a:pathLst>
            </a:custGeom>
            <a:solidFill>
              <a:srgbClr val="ff33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853320" y="2836800"/>
              <a:ext cx="150840" cy="561960"/>
            </a:xfrm>
            <a:custGeom>
              <a:avLst/>
              <a:gdLst/>
              <a:ahLst/>
              <a:rect l="l" t="t" r="r" b="b"/>
              <a:pathLst>
                <a:path w="420" h="1562">
                  <a:moveTo>
                    <a:pt x="0" y="1475"/>
                  </a:moveTo>
                  <a:lnTo>
                    <a:pt x="0" y="1224"/>
                  </a:lnTo>
                  <a:lnTo>
                    <a:pt x="53" y="1281"/>
                  </a:lnTo>
                  <a:lnTo>
                    <a:pt x="103" y="1324"/>
                  </a:lnTo>
                  <a:lnTo>
                    <a:pt x="150" y="1349"/>
                  </a:lnTo>
                  <a:lnTo>
                    <a:pt x="193" y="1356"/>
                  </a:lnTo>
                  <a:lnTo>
                    <a:pt x="216" y="1353"/>
                  </a:lnTo>
                  <a:lnTo>
                    <a:pt x="238" y="1342"/>
                  </a:lnTo>
                  <a:lnTo>
                    <a:pt x="257" y="1320"/>
                  </a:lnTo>
                  <a:lnTo>
                    <a:pt x="275" y="1295"/>
                  </a:lnTo>
                  <a:lnTo>
                    <a:pt x="287" y="1259"/>
                  </a:lnTo>
                  <a:lnTo>
                    <a:pt x="298" y="1220"/>
                  </a:lnTo>
                  <a:lnTo>
                    <a:pt x="304" y="1177"/>
                  </a:lnTo>
                  <a:lnTo>
                    <a:pt x="306" y="1134"/>
                  </a:lnTo>
                  <a:lnTo>
                    <a:pt x="300" y="1069"/>
                  </a:lnTo>
                  <a:lnTo>
                    <a:pt x="283" y="1008"/>
                  </a:lnTo>
                  <a:lnTo>
                    <a:pt x="256" y="955"/>
                  </a:lnTo>
                  <a:lnTo>
                    <a:pt x="216" y="904"/>
                  </a:lnTo>
                  <a:lnTo>
                    <a:pt x="150" y="840"/>
                  </a:lnTo>
                  <a:lnTo>
                    <a:pt x="85" y="754"/>
                  </a:lnTo>
                  <a:lnTo>
                    <a:pt x="39" y="660"/>
                  </a:lnTo>
                  <a:lnTo>
                    <a:pt x="11" y="546"/>
                  </a:lnTo>
                  <a:lnTo>
                    <a:pt x="3" y="420"/>
                  </a:lnTo>
                  <a:lnTo>
                    <a:pt x="6" y="327"/>
                  </a:lnTo>
                  <a:lnTo>
                    <a:pt x="17" y="244"/>
                  </a:lnTo>
                  <a:lnTo>
                    <a:pt x="35" y="169"/>
                  </a:lnTo>
                  <a:lnTo>
                    <a:pt x="61" y="108"/>
                  </a:lnTo>
                  <a:lnTo>
                    <a:pt x="92" y="58"/>
                  </a:lnTo>
                  <a:lnTo>
                    <a:pt x="128" y="26"/>
                  </a:lnTo>
                  <a:lnTo>
                    <a:pt x="171" y="8"/>
                  </a:lnTo>
                  <a:lnTo>
                    <a:pt x="219" y="0"/>
                  </a:lnTo>
                  <a:lnTo>
                    <a:pt x="246" y="0"/>
                  </a:lnTo>
                  <a:lnTo>
                    <a:pt x="278" y="8"/>
                  </a:lnTo>
                  <a:lnTo>
                    <a:pt x="311" y="18"/>
                  </a:lnTo>
                  <a:lnTo>
                    <a:pt x="348" y="36"/>
                  </a:lnTo>
                  <a:lnTo>
                    <a:pt x="372" y="47"/>
                  </a:lnTo>
                  <a:lnTo>
                    <a:pt x="372" y="269"/>
                  </a:lnTo>
                  <a:lnTo>
                    <a:pt x="326" y="241"/>
                  </a:lnTo>
                  <a:lnTo>
                    <a:pt x="286" y="219"/>
                  </a:lnTo>
                  <a:lnTo>
                    <a:pt x="251" y="205"/>
                  </a:lnTo>
                  <a:lnTo>
                    <a:pt x="220" y="201"/>
                  </a:lnTo>
                  <a:lnTo>
                    <a:pt x="197" y="201"/>
                  </a:lnTo>
                  <a:lnTo>
                    <a:pt x="176" y="212"/>
                  </a:lnTo>
                  <a:lnTo>
                    <a:pt x="158" y="230"/>
                  </a:lnTo>
                  <a:lnTo>
                    <a:pt x="143" y="252"/>
                  </a:lnTo>
                  <a:lnTo>
                    <a:pt x="129" y="280"/>
                  </a:lnTo>
                  <a:lnTo>
                    <a:pt x="120" y="313"/>
                  </a:lnTo>
                  <a:lnTo>
                    <a:pt x="114" y="348"/>
                  </a:lnTo>
                  <a:lnTo>
                    <a:pt x="113" y="391"/>
                  </a:lnTo>
                  <a:lnTo>
                    <a:pt x="117" y="449"/>
                  </a:lnTo>
                  <a:lnTo>
                    <a:pt x="134" y="506"/>
                  </a:lnTo>
                  <a:lnTo>
                    <a:pt x="158" y="553"/>
                  </a:lnTo>
                  <a:lnTo>
                    <a:pt x="195" y="599"/>
                  </a:lnTo>
                  <a:lnTo>
                    <a:pt x="250" y="657"/>
                  </a:lnTo>
                  <a:lnTo>
                    <a:pt x="293" y="703"/>
                  </a:lnTo>
                  <a:lnTo>
                    <a:pt x="328" y="750"/>
                  </a:lnTo>
                  <a:lnTo>
                    <a:pt x="357" y="800"/>
                  </a:lnTo>
                  <a:lnTo>
                    <a:pt x="382" y="851"/>
                  </a:lnTo>
                  <a:lnTo>
                    <a:pt x="397" y="904"/>
                  </a:lnTo>
                  <a:lnTo>
                    <a:pt x="409" y="969"/>
                  </a:lnTo>
                  <a:lnTo>
                    <a:pt x="416" y="1033"/>
                  </a:lnTo>
                  <a:lnTo>
                    <a:pt x="419" y="1112"/>
                  </a:lnTo>
                  <a:lnTo>
                    <a:pt x="415" y="1206"/>
                  </a:lnTo>
                  <a:lnTo>
                    <a:pt x="402" y="1288"/>
                  </a:lnTo>
                  <a:lnTo>
                    <a:pt x="383" y="1363"/>
                  </a:lnTo>
                  <a:lnTo>
                    <a:pt x="355" y="1435"/>
                  </a:lnTo>
                  <a:lnTo>
                    <a:pt x="320" y="1489"/>
                  </a:lnTo>
                  <a:lnTo>
                    <a:pt x="280" y="1528"/>
                  </a:lnTo>
                  <a:lnTo>
                    <a:pt x="238" y="1550"/>
                  </a:lnTo>
                  <a:lnTo>
                    <a:pt x="189" y="1561"/>
                  </a:lnTo>
                  <a:lnTo>
                    <a:pt x="147" y="1550"/>
                  </a:lnTo>
                  <a:lnTo>
                    <a:pt x="103" y="1536"/>
                  </a:lnTo>
                  <a:lnTo>
                    <a:pt x="53" y="1507"/>
                  </a:lnTo>
                  <a:lnTo>
                    <a:pt x="0" y="1475"/>
                  </a:lnTo>
                </a:path>
              </a:pathLst>
            </a:custGeom>
            <a:solidFill>
              <a:srgbClr val="ff33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059600" y="2836800"/>
              <a:ext cx="182520" cy="561960"/>
            </a:xfrm>
            <a:custGeom>
              <a:avLst/>
              <a:gdLst/>
              <a:ahLst/>
              <a:rect l="l" t="t" r="r" b="b"/>
              <a:pathLst>
                <a:path w="507" h="1562">
                  <a:moveTo>
                    <a:pt x="120" y="617"/>
                  </a:moveTo>
                  <a:lnTo>
                    <a:pt x="395" y="617"/>
                  </a:lnTo>
                  <a:lnTo>
                    <a:pt x="386" y="434"/>
                  </a:lnTo>
                  <a:lnTo>
                    <a:pt x="361" y="305"/>
                  </a:lnTo>
                  <a:lnTo>
                    <a:pt x="321" y="226"/>
                  </a:lnTo>
                  <a:lnTo>
                    <a:pt x="266" y="201"/>
                  </a:lnTo>
                  <a:lnTo>
                    <a:pt x="207" y="226"/>
                  </a:lnTo>
                  <a:lnTo>
                    <a:pt x="163" y="305"/>
                  </a:lnTo>
                  <a:lnTo>
                    <a:pt x="134" y="434"/>
                  </a:lnTo>
                  <a:lnTo>
                    <a:pt x="120" y="617"/>
                  </a:lnTo>
                  <a:close/>
                  <a:moveTo>
                    <a:pt x="503" y="1478"/>
                  </a:moveTo>
                  <a:lnTo>
                    <a:pt x="448" y="1510"/>
                  </a:lnTo>
                  <a:lnTo>
                    <a:pt x="399" y="1539"/>
                  </a:lnTo>
                  <a:lnTo>
                    <a:pt x="351" y="1550"/>
                  </a:lnTo>
                  <a:lnTo>
                    <a:pt x="310" y="1561"/>
                  </a:lnTo>
                  <a:lnTo>
                    <a:pt x="244" y="1543"/>
                  </a:lnTo>
                  <a:lnTo>
                    <a:pt x="185" y="1503"/>
                  </a:lnTo>
                  <a:lnTo>
                    <a:pt x="133" y="1435"/>
                  </a:lnTo>
                  <a:lnTo>
                    <a:pt x="87" y="1342"/>
                  </a:lnTo>
                  <a:lnTo>
                    <a:pt x="48" y="1220"/>
                  </a:lnTo>
                  <a:lnTo>
                    <a:pt x="20" y="1087"/>
                  </a:lnTo>
                  <a:lnTo>
                    <a:pt x="4" y="937"/>
                  </a:lnTo>
                  <a:lnTo>
                    <a:pt x="0" y="772"/>
                  </a:lnTo>
                  <a:lnTo>
                    <a:pt x="4" y="610"/>
                  </a:lnTo>
                  <a:lnTo>
                    <a:pt x="17" y="463"/>
                  </a:lnTo>
                  <a:lnTo>
                    <a:pt x="41" y="330"/>
                  </a:lnTo>
                  <a:lnTo>
                    <a:pt x="75" y="216"/>
                  </a:lnTo>
                  <a:lnTo>
                    <a:pt x="116" y="119"/>
                  </a:lnTo>
                  <a:lnTo>
                    <a:pt x="163" y="54"/>
                  </a:lnTo>
                  <a:lnTo>
                    <a:pt x="214" y="11"/>
                  </a:lnTo>
                  <a:lnTo>
                    <a:pt x="271" y="0"/>
                  </a:lnTo>
                  <a:lnTo>
                    <a:pt x="323" y="11"/>
                  </a:lnTo>
                  <a:lnTo>
                    <a:pt x="371" y="47"/>
                  </a:lnTo>
                  <a:lnTo>
                    <a:pt x="411" y="104"/>
                  </a:lnTo>
                  <a:lnTo>
                    <a:pt x="446" y="194"/>
                  </a:lnTo>
                  <a:lnTo>
                    <a:pt x="472" y="298"/>
                  </a:lnTo>
                  <a:lnTo>
                    <a:pt x="490" y="427"/>
                  </a:lnTo>
                  <a:lnTo>
                    <a:pt x="502" y="567"/>
                  </a:lnTo>
                  <a:lnTo>
                    <a:pt x="506" y="739"/>
                  </a:lnTo>
                  <a:lnTo>
                    <a:pt x="506" y="822"/>
                  </a:lnTo>
                  <a:lnTo>
                    <a:pt x="115" y="822"/>
                  </a:lnTo>
                  <a:lnTo>
                    <a:pt x="137" y="1055"/>
                  </a:lnTo>
                  <a:lnTo>
                    <a:pt x="181" y="1220"/>
                  </a:lnTo>
                  <a:lnTo>
                    <a:pt x="245" y="1320"/>
                  </a:lnTo>
                  <a:lnTo>
                    <a:pt x="330" y="1356"/>
                  </a:lnTo>
                  <a:lnTo>
                    <a:pt x="366" y="1353"/>
                  </a:lnTo>
                  <a:lnTo>
                    <a:pt x="408" y="1331"/>
                  </a:lnTo>
                  <a:lnTo>
                    <a:pt x="454" y="1302"/>
                  </a:lnTo>
                  <a:lnTo>
                    <a:pt x="503" y="1263"/>
                  </a:lnTo>
                  <a:lnTo>
                    <a:pt x="503" y="1478"/>
                  </a:lnTo>
                  <a:close/>
                </a:path>
              </a:pathLst>
            </a:custGeom>
            <a:solidFill>
              <a:srgbClr val="ff33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311960" y="2836800"/>
              <a:ext cx="314280" cy="550800"/>
            </a:xfrm>
            <a:custGeom>
              <a:avLst/>
              <a:gdLst/>
              <a:ahLst/>
              <a:rect l="l" t="t" r="r" b="b"/>
              <a:pathLst>
                <a:path w="875" h="1529">
                  <a:moveTo>
                    <a:pt x="0" y="1528"/>
                  </a:moveTo>
                  <a:lnTo>
                    <a:pt x="0" y="33"/>
                  </a:lnTo>
                  <a:lnTo>
                    <a:pt x="112" y="33"/>
                  </a:lnTo>
                  <a:lnTo>
                    <a:pt x="112" y="313"/>
                  </a:lnTo>
                  <a:lnTo>
                    <a:pt x="155" y="173"/>
                  </a:lnTo>
                  <a:lnTo>
                    <a:pt x="205" y="76"/>
                  </a:lnTo>
                  <a:lnTo>
                    <a:pt x="262" y="15"/>
                  </a:lnTo>
                  <a:lnTo>
                    <a:pt x="324" y="0"/>
                  </a:lnTo>
                  <a:lnTo>
                    <a:pt x="379" y="15"/>
                  </a:lnTo>
                  <a:lnTo>
                    <a:pt x="427" y="76"/>
                  </a:lnTo>
                  <a:lnTo>
                    <a:pt x="464" y="173"/>
                  </a:lnTo>
                  <a:lnTo>
                    <a:pt x="493" y="313"/>
                  </a:lnTo>
                  <a:lnTo>
                    <a:pt x="536" y="173"/>
                  </a:lnTo>
                  <a:lnTo>
                    <a:pt x="585" y="76"/>
                  </a:lnTo>
                  <a:lnTo>
                    <a:pt x="640" y="15"/>
                  </a:lnTo>
                  <a:lnTo>
                    <a:pt x="701" y="0"/>
                  </a:lnTo>
                  <a:lnTo>
                    <a:pt x="738" y="8"/>
                  </a:lnTo>
                  <a:lnTo>
                    <a:pt x="773" y="26"/>
                  </a:lnTo>
                  <a:lnTo>
                    <a:pt x="801" y="61"/>
                  </a:lnTo>
                  <a:lnTo>
                    <a:pt x="829" y="115"/>
                  </a:lnTo>
                  <a:lnTo>
                    <a:pt x="848" y="180"/>
                  </a:lnTo>
                  <a:lnTo>
                    <a:pt x="862" y="252"/>
                  </a:lnTo>
                  <a:lnTo>
                    <a:pt x="870" y="341"/>
                  </a:lnTo>
                  <a:lnTo>
                    <a:pt x="874" y="442"/>
                  </a:lnTo>
                  <a:lnTo>
                    <a:pt x="874" y="1528"/>
                  </a:lnTo>
                  <a:lnTo>
                    <a:pt x="762" y="1528"/>
                  </a:lnTo>
                  <a:lnTo>
                    <a:pt x="762" y="485"/>
                  </a:lnTo>
                  <a:lnTo>
                    <a:pt x="756" y="373"/>
                  </a:lnTo>
                  <a:lnTo>
                    <a:pt x="740" y="291"/>
                  </a:lnTo>
                  <a:lnTo>
                    <a:pt x="713" y="244"/>
                  </a:lnTo>
                  <a:lnTo>
                    <a:pt x="678" y="230"/>
                  </a:lnTo>
                  <a:lnTo>
                    <a:pt x="633" y="244"/>
                  </a:lnTo>
                  <a:lnTo>
                    <a:pt x="587" y="302"/>
                  </a:lnTo>
                  <a:lnTo>
                    <a:pt x="541" y="395"/>
                  </a:lnTo>
                  <a:lnTo>
                    <a:pt x="493" y="528"/>
                  </a:lnTo>
                  <a:lnTo>
                    <a:pt x="493" y="1528"/>
                  </a:lnTo>
                  <a:lnTo>
                    <a:pt x="380" y="1528"/>
                  </a:lnTo>
                  <a:lnTo>
                    <a:pt x="380" y="481"/>
                  </a:lnTo>
                  <a:lnTo>
                    <a:pt x="375" y="370"/>
                  </a:lnTo>
                  <a:lnTo>
                    <a:pt x="358" y="291"/>
                  </a:lnTo>
                  <a:lnTo>
                    <a:pt x="331" y="241"/>
                  </a:lnTo>
                  <a:lnTo>
                    <a:pt x="295" y="226"/>
                  </a:lnTo>
                  <a:lnTo>
                    <a:pt x="251" y="244"/>
                  </a:lnTo>
                  <a:lnTo>
                    <a:pt x="206" y="298"/>
                  </a:lnTo>
                  <a:lnTo>
                    <a:pt x="159" y="391"/>
                  </a:lnTo>
                  <a:lnTo>
                    <a:pt x="112" y="524"/>
                  </a:lnTo>
                  <a:lnTo>
                    <a:pt x="112" y="1528"/>
                  </a:lnTo>
                  <a:lnTo>
                    <a:pt x="0" y="1528"/>
                  </a:lnTo>
                </a:path>
              </a:pathLst>
            </a:custGeom>
            <a:solidFill>
              <a:srgbClr val="ff33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689960" y="2836800"/>
              <a:ext cx="182520" cy="561960"/>
            </a:xfrm>
            <a:custGeom>
              <a:avLst/>
              <a:gdLst/>
              <a:ahLst/>
              <a:rect l="l" t="t" r="r" b="b"/>
              <a:pathLst>
                <a:path w="508" h="1562">
                  <a:moveTo>
                    <a:pt x="121" y="617"/>
                  </a:moveTo>
                  <a:lnTo>
                    <a:pt x="395" y="617"/>
                  </a:lnTo>
                  <a:lnTo>
                    <a:pt x="387" y="434"/>
                  </a:lnTo>
                  <a:lnTo>
                    <a:pt x="362" y="305"/>
                  </a:lnTo>
                  <a:lnTo>
                    <a:pt x="321" y="226"/>
                  </a:lnTo>
                  <a:lnTo>
                    <a:pt x="266" y="201"/>
                  </a:lnTo>
                  <a:lnTo>
                    <a:pt x="208" y="226"/>
                  </a:lnTo>
                  <a:lnTo>
                    <a:pt x="163" y="305"/>
                  </a:lnTo>
                  <a:lnTo>
                    <a:pt x="134" y="434"/>
                  </a:lnTo>
                  <a:lnTo>
                    <a:pt x="121" y="617"/>
                  </a:lnTo>
                  <a:close/>
                  <a:moveTo>
                    <a:pt x="505" y="1478"/>
                  </a:moveTo>
                  <a:lnTo>
                    <a:pt x="449" y="1510"/>
                  </a:lnTo>
                  <a:lnTo>
                    <a:pt x="399" y="1539"/>
                  </a:lnTo>
                  <a:lnTo>
                    <a:pt x="352" y="1550"/>
                  </a:lnTo>
                  <a:lnTo>
                    <a:pt x="310" y="1561"/>
                  </a:lnTo>
                  <a:lnTo>
                    <a:pt x="244" y="1543"/>
                  </a:lnTo>
                  <a:lnTo>
                    <a:pt x="185" y="1503"/>
                  </a:lnTo>
                  <a:lnTo>
                    <a:pt x="133" y="1435"/>
                  </a:lnTo>
                  <a:lnTo>
                    <a:pt x="88" y="1342"/>
                  </a:lnTo>
                  <a:lnTo>
                    <a:pt x="48" y="1220"/>
                  </a:lnTo>
                  <a:lnTo>
                    <a:pt x="21" y="1087"/>
                  </a:lnTo>
                  <a:lnTo>
                    <a:pt x="4" y="937"/>
                  </a:lnTo>
                  <a:lnTo>
                    <a:pt x="0" y="772"/>
                  </a:lnTo>
                  <a:lnTo>
                    <a:pt x="4" y="610"/>
                  </a:lnTo>
                  <a:lnTo>
                    <a:pt x="18" y="463"/>
                  </a:lnTo>
                  <a:lnTo>
                    <a:pt x="41" y="330"/>
                  </a:lnTo>
                  <a:lnTo>
                    <a:pt x="77" y="216"/>
                  </a:lnTo>
                  <a:lnTo>
                    <a:pt x="117" y="119"/>
                  </a:lnTo>
                  <a:lnTo>
                    <a:pt x="163" y="54"/>
                  </a:lnTo>
                  <a:lnTo>
                    <a:pt x="215" y="11"/>
                  </a:lnTo>
                  <a:lnTo>
                    <a:pt x="272" y="0"/>
                  </a:lnTo>
                  <a:lnTo>
                    <a:pt x="324" y="11"/>
                  </a:lnTo>
                  <a:lnTo>
                    <a:pt x="372" y="47"/>
                  </a:lnTo>
                  <a:lnTo>
                    <a:pt x="412" y="104"/>
                  </a:lnTo>
                  <a:lnTo>
                    <a:pt x="446" y="194"/>
                  </a:lnTo>
                  <a:lnTo>
                    <a:pt x="472" y="298"/>
                  </a:lnTo>
                  <a:lnTo>
                    <a:pt x="491" y="427"/>
                  </a:lnTo>
                  <a:lnTo>
                    <a:pt x="503" y="567"/>
                  </a:lnTo>
                  <a:lnTo>
                    <a:pt x="507" y="739"/>
                  </a:lnTo>
                  <a:lnTo>
                    <a:pt x="507" y="822"/>
                  </a:lnTo>
                  <a:lnTo>
                    <a:pt x="115" y="822"/>
                  </a:lnTo>
                  <a:lnTo>
                    <a:pt x="137" y="1055"/>
                  </a:lnTo>
                  <a:lnTo>
                    <a:pt x="181" y="1220"/>
                  </a:lnTo>
                  <a:lnTo>
                    <a:pt x="245" y="1320"/>
                  </a:lnTo>
                  <a:lnTo>
                    <a:pt x="331" y="1356"/>
                  </a:lnTo>
                  <a:lnTo>
                    <a:pt x="368" y="1353"/>
                  </a:lnTo>
                  <a:lnTo>
                    <a:pt x="409" y="1331"/>
                  </a:lnTo>
                  <a:lnTo>
                    <a:pt x="454" y="1302"/>
                  </a:lnTo>
                  <a:lnTo>
                    <a:pt x="505" y="1263"/>
                  </a:lnTo>
                  <a:lnTo>
                    <a:pt x="505" y="1478"/>
                  </a:lnTo>
                  <a:close/>
                </a:path>
              </a:pathLst>
            </a:custGeom>
            <a:solidFill>
              <a:srgbClr val="ff33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942320" y="2836800"/>
              <a:ext cx="183960" cy="550800"/>
            </a:xfrm>
            <a:custGeom>
              <a:avLst/>
              <a:gdLst/>
              <a:ahLst/>
              <a:rect l="l" t="t" r="r" b="b"/>
              <a:pathLst>
                <a:path w="510" h="1529">
                  <a:moveTo>
                    <a:pt x="0" y="1528"/>
                  </a:moveTo>
                  <a:lnTo>
                    <a:pt x="0" y="33"/>
                  </a:lnTo>
                  <a:lnTo>
                    <a:pt x="113" y="33"/>
                  </a:lnTo>
                  <a:lnTo>
                    <a:pt x="113" y="313"/>
                  </a:lnTo>
                  <a:lnTo>
                    <a:pt x="160" y="173"/>
                  </a:lnTo>
                  <a:lnTo>
                    <a:pt x="211" y="76"/>
                  </a:lnTo>
                  <a:lnTo>
                    <a:pt x="269" y="15"/>
                  </a:lnTo>
                  <a:lnTo>
                    <a:pt x="331" y="0"/>
                  </a:lnTo>
                  <a:lnTo>
                    <a:pt x="369" y="8"/>
                  </a:lnTo>
                  <a:lnTo>
                    <a:pt x="405" y="29"/>
                  </a:lnTo>
                  <a:lnTo>
                    <a:pt x="435" y="65"/>
                  </a:lnTo>
                  <a:lnTo>
                    <a:pt x="461" y="122"/>
                  </a:lnTo>
                  <a:lnTo>
                    <a:pt x="482" y="191"/>
                  </a:lnTo>
                  <a:lnTo>
                    <a:pt x="496" y="266"/>
                  </a:lnTo>
                  <a:lnTo>
                    <a:pt x="504" y="352"/>
                  </a:lnTo>
                  <a:lnTo>
                    <a:pt x="509" y="452"/>
                  </a:lnTo>
                  <a:lnTo>
                    <a:pt x="509" y="1528"/>
                  </a:lnTo>
                  <a:lnTo>
                    <a:pt x="397" y="1528"/>
                  </a:lnTo>
                  <a:lnTo>
                    <a:pt x="397" y="542"/>
                  </a:lnTo>
                  <a:lnTo>
                    <a:pt x="395" y="463"/>
                  </a:lnTo>
                  <a:lnTo>
                    <a:pt x="391" y="399"/>
                  </a:lnTo>
                  <a:lnTo>
                    <a:pt x="384" y="341"/>
                  </a:lnTo>
                  <a:lnTo>
                    <a:pt x="378" y="302"/>
                  </a:lnTo>
                  <a:lnTo>
                    <a:pt x="365" y="269"/>
                  </a:lnTo>
                  <a:lnTo>
                    <a:pt x="349" y="248"/>
                  </a:lnTo>
                  <a:lnTo>
                    <a:pt x="330" y="237"/>
                  </a:lnTo>
                  <a:lnTo>
                    <a:pt x="309" y="234"/>
                  </a:lnTo>
                  <a:lnTo>
                    <a:pt x="257" y="252"/>
                  </a:lnTo>
                  <a:lnTo>
                    <a:pt x="206" y="313"/>
                  </a:lnTo>
                  <a:lnTo>
                    <a:pt x="158" y="417"/>
                  </a:lnTo>
                  <a:lnTo>
                    <a:pt x="113" y="560"/>
                  </a:lnTo>
                  <a:lnTo>
                    <a:pt x="113" y="1528"/>
                  </a:lnTo>
                  <a:lnTo>
                    <a:pt x="0" y="1528"/>
                  </a:lnTo>
                </a:path>
              </a:pathLst>
            </a:custGeom>
            <a:solidFill>
              <a:srgbClr val="ff33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178840" y="2739960"/>
              <a:ext cx="127080" cy="657360"/>
            </a:xfrm>
            <a:custGeom>
              <a:avLst/>
              <a:gdLst/>
              <a:ahLst/>
              <a:rect l="l" t="t" r="r" b="b"/>
              <a:pathLst>
                <a:path w="354" h="1827">
                  <a:moveTo>
                    <a:pt x="350" y="1793"/>
                  </a:moveTo>
                  <a:lnTo>
                    <a:pt x="324" y="1804"/>
                  </a:lnTo>
                  <a:lnTo>
                    <a:pt x="301" y="1811"/>
                  </a:lnTo>
                  <a:lnTo>
                    <a:pt x="279" y="1819"/>
                  </a:lnTo>
                  <a:lnTo>
                    <a:pt x="260" y="1826"/>
                  </a:lnTo>
                  <a:lnTo>
                    <a:pt x="219" y="1815"/>
                  </a:lnTo>
                  <a:lnTo>
                    <a:pt x="183" y="1793"/>
                  </a:lnTo>
                  <a:lnTo>
                    <a:pt x="153" y="1758"/>
                  </a:lnTo>
                  <a:lnTo>
                    <a:pt x="126" y="1707"/>
                  </a:lnTo>
                  <a:lnTo>
                    <a:pt x="104" y="1639"/>
                  </a:lnTo>
                  <a:lnTo>
                    <a:pt x="88" y="1567"/>
                  </a:lnTo>
                  <a:lnTo>
                    <a:pt x="80" y="1478"/>
                  </a:lnTo>
                  <a:lnTo>
                    <a:pt x="77" y="1381"/>
                  </a:lnTo>
                  <a:lnTo>
                    <a:pt x="77" y="502"/>
                  </a:lnTo>
                  <a:lnTo>
                    <a:pt x="0" y="502"/>
                  </a:lnTo>
                  <a:lnTo>
                    <a:pt x="0" y="298"/>
                  </a:lnTo>
                  <a:lnTo>
                    <a:pt x="77" y="298"/>
                  </a:lnTo>
                  <a:lnTo>
                    <a:pt x="77" y="29"/>
                  </a:lnTo>
                  <a:lnTo>
                    <a:pt x="190" y="0"/>
                  </a:lnTo>
                  <a:lnTo>
                    <a:pt x="190" y="298"/>
                  </a:lnTo>
                  <a:lnTo>
                    <a:pt x="353" y="298"/>
                  </a:lnTo>
                  <a:lnTo>
                    <a:pt x="353" y="502"/>
                  </a:lnTo>
                  <a:lnTo>
                    <a:pt x="190" y="502"/>
                  </a:lnTo>
                  <a:lnTo>
                    <a:pt x="190" y="1331"/>
                  </a:lnTo>
                  <a:lnTo>
                    <a:pt x="195" y="1456"/>
                  </a:lnTo>
                  <a:lnTo>
                    <a:pt x="216" y="1550"/>
                  </a:lnTo>
                  <a:lnTo>
                    <a:pt x="249" y="1603"/>
                  </a:lnTo>
                  <a:lnTo>
                    <a:pt x="297" y="1621"/>
                  </a:lnTo>
                  <a:lnTo>
                    <a:pt x="308" y="1618"/>
                  </a:lnTo>
                  <a:lnTo>
                    <a:pt x="322" y="1618"/>
                  </a:lnTo>
                  <a:lnTo>
                    <a:pt x="335" y="1614"/>
                  </a:lnTo>
                  <a:lnTo>
                    <a:pt x="350" y="1607"/>
                  </a:lnTo>
                  <a:lnTo>
                    <a:pt x="350" y="1793"/>
                  </a:lnTo>
                </a:path>
              </a:pathLst>
            </a:custGeom>
            <a:solidFill>
              <a:srgbClr val="ff33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3200400" y="3886200"/>
            <a:ext cx="3048120" cy="1752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1003320" y="-7920"/>
            <a:ext cx="8142120" cy="686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Times New Roman"/>
              </a:rPr>
              <a:t>3. Le problème ouvert, pourquoi?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5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Times New Roman"/>
              </a:rPr>
              <a:t>Une activité comparable à celle du chercheur mathématicien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Times New Roman"/>
              </a:rPr>
              <a:t>Pour le problème ouvert: chercher une solution personnelle avec les moyens du bord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Times New Roman"/>
              </a:rPr>
              <a:t>Pour la situation-problème: élaborer une connaissance destinée à être institutionnalisé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Times New Roman"/>
              </a:rPr>
              <a:t>Un objectif d’ordre méthodologiqu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Times New Roman"/>
              </a:rPr>
              <a:t>Des solutions diverses et varié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Times New Roman"/>
              </a:rPr>
              <a:t>Une large place laissée à l’initiativ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Times New Roman"/>
              </a:rPr>
              <a:t>Un intérêt pour les outils nouveaux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6934320" y="4267080"/>
            <a:ext cx="1904760" cy="1136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Times New Roman"/>
              </a:rPr>
              <a:t>4. Le problème ouvert, comment?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5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Times New Roman"/>
              </a:rPr>
              <a:t>Un énoncé facile à comprendr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Times New Roman"/>
              </a:rPr>
              <a:t>Le moyen de validation de la réponse est disponibl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Times New Roman"/>
              </a:rPr>
              <a:t>Une phase de recherche en groupe sans l’intervention de l’enseignan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Times New Roman"/>
              </a:rPr>
              <a:t>Une mise en commun et des échang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Times New Roman"/>
              </a:rPr>
              <a:t>Test des différentes techniques sur d’autres chiffr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6781680" y="1447920"/>
            <a:ext cx="1874880" cy="761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Times New Roman"/>
              </a:rPr>
              <a:t>4. Quelques exempl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ctr">
              <a:lnSpc>
                <a:spcPct val="87000"/>
              </a:lnSpc>
              <a:spcBef>
                <a:spcPts val="876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aeaea"/>
                </a:solidFill>
                <a:latin typeface="Kids"/>
              </a:rPr>
              <a:t>« Avec une ficelle de 26 cm de longueur, on veut construire un rectangle dont l’aire soit la plus grande possible. »</a:t>
            </a:r>
            <a:endParaRPr b="0" lang="en-US" sz="35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2971800" y="4114800"/>
            <a:ext cx="4583160" cy="1832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1143000" y="609120"/>
            <a:ext cx="7848720" cy="37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 algn="ctr">
              <a:lnSpc>
                <a:spcPct val="95000"/>
              </a:lnSpc>
              <a:spcBef>
                <a:spcPts val="13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5400" spc="-1" strike="noStrike">
                <a:solidFill>
                  <a:srgbClr val="eaeaea"/>
                </a:solidFill>
                <a:latin typeface="Times New Roman"/>
              </a:rPr>
              <a:t>Que reste t-il 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  <a:p>
            <a:pPr marL="3412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5400" spc="-1" strike="noStrike">
                <a:solidFill>
                  <a:srgbClr val="eaeaea"/>
                </a:solidFill>
                <a:latin typeface="Times New Roman"/>
              </a:rPr>
              <a:t>de notre enseignement 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  <a:p>
            <a:pPr marL="3412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5400" spc="-1" strike="noStrike">
                <a:solidFill>
                  <a:srgbClr val="eaeaea"/>
                </a:solidFill>
                <a:latin typeface="Times New Roman"/>
              </a:rPr>
              <a:t>à l’issue de la troisième?!?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  <a:p>
            <a:pPr marL="3412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048120" y="3962520"/>
            <a:ext cx="3581280" cy="2050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1143000" y="457200"/>
            <a:ext cx="3505320" cy="36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7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Kids"/>
              </a:rPr>
              <a:t>«Où peut-on placer le point I pour que les triangles TOI et MOI aient le même périmètre?»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3754440" y="762120"/>
            <a:ext cx="5383080" cy="541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1219320" y="914400"/>
            <a:ext cx="7696080" cy="37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7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Kids"/>
              </a:rPr>
              <a:t>«Quel est le plus grand produit de deux nombres que l’on peut faire en utilisant une fois et une seule les chiffres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7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Kids"/>
              </a:rPr>
              <a:t>1, 2, 3, 4, 5, 6, 7, 8, 9 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7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Kids"/>
              </a:rPr>
              <a:t>pour former ces nombres? »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Times New Roman"/>
              </a:rPr>
              <a:t>5. Bibliographi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7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45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eaeaea"/>
                </a:solidFill>
                <a:latin typeface="Arial Unicode MS"/>
                <a:ea typeface="Arial Unicode MS"/>
              </a:rPr>
              <a:t>APMEP (1987). </a:t>
            </a:r>
            <a:r>
              <a:rPr b="0" i="1" lang="en-GB" sz="1800" spc="-1" strike="noStrike">
                <a:solidFill>
                  <a:srgbClr val="eaeaea"/>
                </a:solidFill>
                <a:latin typeface="Arial Unicode MS"/>
                <a:ea typeface="Arial Unicode MS"/>
              </a:rPr>
              <a:t>Elem-math IX, Situations problèmes. Brochure n° 64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eaeaea"/>
                </a:solidFill>
                <a:latin typeface="Arial Unicode MS"/>
                <a:ea typeface="Arial Unicode MS"/>
              </a:rPr>
              <a:t>ARSAC G., GERMAIN G., MANTE M. (1988). </a:t>
            </a:r>
            <a:r>
              <a:rPr b="0" i="1" lang="en-GB" sz="1800" spc="-1" strike="noStrike">
                <a:solidFill>
                  <a:srgbClr val="eaeaea"/>
                </a:solidFill>
                <a:latin typeface="Arial Unicode MS"/>
                <a:ea typeface="Arial Unicode MS"/>
              </a:rPr>
              <a:t>Problème ouvert et situation-problème.</a:t>
            </a:r>
            <a:r>
              <a:rPr b="0" lang="en-GB" sz="1800" spc="-1" strike="noStrike">
                <a:solidFill>
                  <a:srgbClr val="eaeaea"/>
                </a:solidFill>
                <a:latin typeface="Arial Unicode MS"/>
                <a:ea typeface="Arial Unicode MS"/>
              </a:rPr>
              <a:t> IREM de Lyon.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eaeaea"/>
                </a:solidFill>
                <a:latin typeface="Arial Unicode MS"/>
                <a:ea typeface="Arial Unicode MS"/>
              </a:rPr>
              <a:t>BOUVIER A. (1986). </a:t>
            </a:r>
            <a:r>
              <a:rPr b="0" i="1" lang="en-GB" sz="1800" spc="-1" strike="noStrike">
                <a:solidFill>
                  <a:srgbClr val="eaeaea"/>
                </a:solidFill>
                <a:latin typeface="Arial Unicode MS"/>
                <a:ea typeface="Arial Unicode MS"/>
              </a:rPr>
              <a:t>30 problèmes glanés pour les élèves de 6ème et de 5ème. </a:t>
            </a:r>
            <a:r>
              <a:rPr b="0" lang="en-GB" sz="1800" spc="-1" strike="noStrike">
                <a:solidFill>
                  <a:srgbClr val="eaeaea"/>
                </a:solidFill>
                <a:latin typeface="Arial Unicode MS"/>
                <a:ea typeface="Arial Unicode MS"/>
              </a:rPr>
              <a:t>IREM de Lyon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eaeaea"/>
                </a:solidFill>
                <a:latin typeface="Arial Unicode MS"/>
                <a:ea typeface="Arial Unicode MS"/>
              </a:rPr>
              <a:t>CHARNAY R. (1987). </a:t>
            </a:r>
            <a:r>
              <a:rPr b="0" i="1" lang="en-GB" sz="1800" spc="-1" strike="noStrike">
                <a:solidFill>
                  <a:srgbClr val="eaeaea"/>
                </a:solidFill>
                <a:latin typeface="Arial Unicode MS"/>
                <a:ea typeface="Arial Unicode MS"/>
              </a:rPr>
              <a:t>"Apprendre par la résolution de problèmes".</a:t>
            </a:r>
            <a:r>
              <a:rPr b="0" lang="en-GB" sz="1800" spc="-1" strike="noStrike">
                <a:solidFill>
                  <a:srgbClr val="eaeaea"/>
                </a:solidFill>
                <a:latin typeface="Arial Unicode MS"/>
                <a:ea typeface="Arial Unicode MS"/>
              </a:rPr>
              <a:t> Grand N, </a:t>
            </a:r>
            <a:br>
              <a:rPr sz="1800"/>
            </a:br>
            <a:r>
              <a:rPr b="0" lang="en-GB" sz="1800" spc="-1" strike="noStrike">
                <a:solidFill>
                  <a:srgbClr val="eaeaea"/>
                </a:solidFill>
                <a:latin typeface="Arial Unicode MS"/>
                <a:ea typeface="Arial Unicode MS"/>
              </a:rPr>
              <a:t>n° 42, IREM de Grenoble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eaeaea"/>
                </a:solidFill>
                <a:latin typeface="Arial Unicode MS"/>
                <a:ea typeface="Arial Unicode MS"/>
              </a:rPr>
              <a:t>CHARNAY R. (1987). </a:t>
            </a:r>
            <a:r>
              <a:rPr b="0" i="1" lang="en-GB" sz="1800" spc="-1" strike="noStrike">
                <a:solidFill>
                  <a:srgbClr val="eaeaea"/>
                </a:solidFill>
                <a:latin typeface="Arial Unicode MS"/>
                <a:ea typeface="Arial Unicode MS"/>
              </a:rPr>
              <a:t>Des problèmes pour apprendre en CM</a:t>
            </a:r>
            <a:r>
              <a:rPr b="0" i="1" lang="en-GB" sz="1800" spc="-1" strike="noStrike" baseline="-30000">
                <a:solidFill>
                  <a:srgbClr val="eaeaea"/>
                </a:solidFill>
                <a:latin typeface="Arial Unicode MS"/>
                <a:ea typeface="Arial Unicode MS"/>
              </a:rPr>
              <a:t>2</a:t>
            </a:r>
            <a:r>
              <a:rPr b="0" i="1" lang="en-GB" sz="1800" spc="-1" strike="noStrike">
                <a:solidFill>
                  <a:srgbClr val="eaeaea"/>
                </a:solidFill>
                <a:latin typeface="Arial Unicode MS"/>
                <a:ea typeface="Arial Unicode MS"/>
              </a:rPr>
              <a:t> et en 6ème.</a:t>
            </a:r>
            <a:r>
              <a:rPr b="0" lang="en-GB" sz="1800" spc="-1" strike="noStrike">
                <a:solidFill>
                  <a:srgbClr val="eaeaea"/>
                </a:solidFill>
                <a:latin typeface="Arial Unicode MS"/>
                <a:ea typeface="Arial Unicode MS"/>
              </a:rPr>
              <a:t> IREM de Lyon.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eaeaea"/>
                </a:solidFill>
                <a:latin typeface="Arial Unicode MS"/>
                <a:ea typeface="Arial Unicode MS"/>
              </a:rPr>
              <a:t>Equipe de didactique des mathématiques (1984). "</a:t>
            </a:r>
            <a:r>
              <a:rPr b="0" i="1" lang="en-GB" sz="1800" spc="-1" strike="noStrike">
                <a:solidFill>
                  <a:srgbClr val="eaeaea"/>
                </a:solidFill>
                <a:latin typeface="Arial Unicode MS"/>
                <a:ea typeface="Arial Unicode MS"/>
              </a:rPr>
              <a:t>Comment font-ils ? L'écolier et le problème de mathématiques".</a:t>
            </a:r>
            <a:r>
              <a:rPr b="0" lang="en-GB" sz="1800" spc="-1" strike="noStrike">
                <a:solidFill>
                  <a:srgbClr val="eaeaea"/>
                </a:solidFill>
                <a:latin typeface="Arial Unicode MS"/>
                <a:ea typeface="Arial Unicode MS"/>
              </a:rPr>
              <a:t> Rencontres Pédagogiques, n° 4, INRP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eaeaea"/>
                </a:solidFill>
                <a:latin typeface="Arial Unicode MS"/>
                <a:ea typeface="Arial Unicode MS"/>
              </a:rPr>
              <a:t>Equipe de didactique des mathématiques (1987). </a:t>
            </a:r>
            <a:r>
              <a:rPr b="0" i="1" lang="en-GB" sz="1800" spc="-1" strike="noStrike">
                <a:solidFill>
                  <a:srgbClr val="eaeaea"/>
                </a:solidFill>
                <a:latin typeface="Arial Unicode MS"/>
                <a:ea typeface="Arial Unicode MS"/>
              </a:rPr>
              <a:t>Apprentissage à la résolution de problèmes au CE. </a:t>
            </a:r>
            <a:r>
              <a:rPr b="0" lang="en-GB" sz="1800" spc="-1" strike="noStrike">
                <a:solidFill>
                  <a:srgbClr val="eaeaea"/>
                </a:solidFill>
                <a:latin typeface="Arial Unicode MS"/>
                <a:ea typeface="Arial Unicode MS"/>
              </a:rPr>
              <a:t>INRP (diffusé par le CRDP de Grenoble)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1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733560" y="304560"/>
            <a:ext cx="52578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Times New Roman"/>
              </a:rPr>
              <a:t>Pub !!!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7000"/>
              </a:lnSpc>
              <a:spcBef>
                <a:spcPts val="1375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5500" spc="-1" strike="noStrike">
                <a:solidFill>
                  <a:srgbClr val="eaeaea"/>
                </a:solidFill>
                <a:latin typeface="Kids"/>
              </a:rPr>
              <a:t>Inscrivez-vous à la formation du PAF !!!</a:t>
            </a:r>
            <a:endParaRPr b="0" lang="en-US" sz="55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3962520" y="3886200"/>
            <a:ext cx="1755720" cy="198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295280" y="2666880"/>
            <a:ext cx="7848720" cy="8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spcBef>
                <a:spcPts val="3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5500" spc="-1" strike="noStrike">
                <a:solidFill>
                  <a:srgbClr val="000000"/>
                </a:solidFill>
                <a:latin typeface="Times New Roman"/>
              </a:rPr>
              <a:t>La démarche scientifique ?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762200" y="304560"/>
            <a:ext cx="722952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Times New Roman"/>
              </a:rPr>
              <a:t>PROBLEMES OUVERT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43000" y="1904760"/>
            <a:ext cx="54100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eaeaea"/>
                </a:solidFill>
                <a:latin typeface="Times New Roman"/>
              </a:rPr>
              <a:t>1. Que dit le programme?</a:t>
            </a:r>
            <a:endParaRPr b="0" lang="en-US" sz="3000" spc="-1" strike="noStrike">
              <a:solidFill>
                <a:srgbClr val="eaeaea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eaeaea"/>
                </a:solidFill>
                <a:latin typeface="Times New Roman"/>
              </a:rPr>
              <a:t>2. Plusieurs types de problèmes</a:t>
            </a:r>
            <a:endParaRPr b="0" lang="en-US" sz="3000" spc="-1" strike="noStrike">
              <a:solidFill>
                <a:srgbClr val="eaeaea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eaeaea"/>
                </a:solidFill>
                <a:latin typeface="Times New Roman"/>
              </a:rPr>
              <a:t>3. Le problème ouvert, pourquoi?</a:t>
            </a:r>
            <a:endParaRPr b="0" lang="en-US" sz="3000" spc="-1" strike="noStrike">
              <a:solidFill>
                <a:srgbClr val="eaeaea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eaeaea"/>
                </a:solidFill>
                <a:latin typeface="Times New Roman"/>
              </a:rPr>
              <a:t>4. Le problème ouvert, comment?</a:t>
            </a:r>
            <a:endParaRPr b="0" lang="en-US" sz="3000" spc="-1" strike="noStrike">
              <a:solidFill>
                <a:srgbClr val="eaeaea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eaeaea"/>
                </a:solidFill>
                <a:latin typeface="Times New Roman"/>
              </a:rPr>
              <a:t>5. Quelques exemples</a:t>
            </a:r>
            <a:endParaRPr b="0" lang="en-US" sz="3000" spc="-1" strike="noStrike">
              <a:solidFill>
                <a:srgbClr val="eaeaea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eaeaea"/>
                </a:solidFill>
                <a:latin typeface="Times New Roman"/>
              </a:rPr>
              <a:t>6. Bibliographie</a:t>
            </a:r>
            <a:endParaRPr b="0" lang="en-US" sz="3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4419720" y="4419720"/>
            <a:ext cx="3402000" cy="155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09320" y="304560"/>
            <a:ext cx="678204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Times New Roman"/>
              </a:rPr>
              <a:t>1. Que dit le programme?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371600" y="1828800"/>
            <a:ext cx="7315200" cy="38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5000"/>
              </a:lnSpc>
              <a:spcBef>
                <a:spcPts val="1562"/>
              </a:spcBef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</a:tabLst>
            </a:pPr>
            <a:r>
              <a:rPr b="0" lang="en-GB" sz="3000" spc="-1" strike="noStrike">
                <a:solidFill>
                  <a:srgbClr val="ffcc66"/>
                </a:solidFill>
                <a:latin typeface="Times New Roman"/>
              </a:rPr>
              <a:t>La véritable activité mathématique consiste à:</a:t>
            </a: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eaeaea"/>
              </a:buClr>
              <a:buFont typeface="Times New Roman"/>
              <a:buChar char="•"/>
              <a:tabLst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dentifier et formuler un problè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eaeaea"/>
              </a:buClr>
              <a:buFont typeface="Times New Roman"/>
              <a:buChar char="•"/>
              <a:tabLst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njecturer un résultat en l’expériment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eaeaea"/>
              </a:buClr>
              <a:buFont typeface="Times New Roman"/>
              <a:buChar char="•"/>
              <a:tabLst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âtir une argu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eaeaea"/>
              </a:buClr>
              <a:buFont typeface="Times New Roman"/>
              <a:buChar char="•"/>
              <a:tabLst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ntrôler les résultats obten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eaeaea"/>
              </a:buClr>
              <a:buFont typeface="Times New Roman"/>
              <a:buChar char="•"/>
              <a:tabLst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muniquer une recher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eaeaea"/>
              </a:buClr>
              <a:buFont typeface="Times New Roman"/>
              <a:buChar char="•"/>
              <a:tabLst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ettre en forme une 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7010280" y="2590920"/>
            <a:ext cx="1762200" cy="342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Times New Roman"/>
              </a:rPr>
              <a:t>2. Plusieurs types de problèm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676520" y="2057400"/>
            <a:ext cx="73152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5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Times New Roman"/>
              </a:rPr>
              <a:t>Les  situations-problèmes 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Times New Roman"/>
              </a:rPr>
              <a:t>Les problèmes de réinvestissement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Times New Roman"/>
              </a:rPr>
              <a:t>Les problèmes de synthès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Times New Roman"/>
              </a:rPr>
              <a:t>Les problèmes d’évaluatio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Times New Roman"/>
              </a:rPr>
              <a:t>Les problèmes ouverts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6781680" y="4343400"/>
            <a:ext cx="887400" cy="1219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447920" y="380880"/>
            <a:ext cx="7315200" cy="56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7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echnical"/>
              </a:rPr>
              <a:t>Le problème ouvert est destiné à développer un comportement de recherche et des capacités d’ordre méthodologiques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7000"/>
              </a:lnSpc>
              <a:spcBef>
                <a:spcPts val="1874"/>
              </a:spcBef>
              <a:buClr>
                <a:srgbClr val="eaeaea"/>
              </a:buClr>
              <a:buFont typeface="Technic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echnical"/>
              </a:rPr>
              <a:t>Faire et gérer des essai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7000"/>
              </a:lnSpc>
              <a:spcBef>
                <a:spcPts val="1874"/>
              </a:spcBef>
              <a:buClr>
                <a:srgbClr val="eaeaea"/>
              </a:buClr>
              <a:buFont typeface="Technic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echnical"/>
              </a:rPr>
              <a:t>Faire des hypothèses, imaginer des solution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7000"/>
              </a:lnSpc>
              <a:spcBef>
                <a:spcPts val="1874"/>
              </a:spcBef>
              <a:buClr>
                <a:srgbClr val="eaeaea"/>
              </a:buClr>
              <a:buFont typeface="Technic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echnical"/>
              </a:rPr>
              <a:t>Éprouver leur validité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7000"/>
              </a:lnSpc>
              <a:spcBef>
                <a:spcPts val="1874"/>
              </a:spcBef>
              <a:buClr>
                <a:srgbClr val="eaeaea"/>
              </a:buClr>
              <a:buFont typeface="Technic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echnical"/>
              </a:rPr>
              <a:t>argumente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2286000" y="914400"/>
            <a:ext cx="5791320" cy="34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7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Kids"/>
              </a:rPr>
              <a:t>Dans ma ferme, il y a des poules et des lapins.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7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Kids"/>
              </a:rPr>
              <a:t>J’ai compté ce mati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7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Kids"/>
              </a:rPr>
              <a:t>15 têtes et 38 pattes.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7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Kids"/>
              </a:rPr>
              <a:t>Combien y a t-il de lapins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7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Kids"/>
              </a:rPr>
              <a:t>Combien y a t-il de poules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33520" y="3809880"/>
            <a:ext cx="2286000" cy="179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523880" y="609480"/>
            <a:ext cx="63248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7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echnical"/>
              </a:rPr>
              <a:t>Lorsqu’il est posé en </a:t>
            </a:r>
            <a:r>
              <a:rPr b="0" lang="en-GB" sz="4000" spc="-1" strike="noStrike">
                <a:solidFill>
                  <a:srgbClr val="ff33cc"/>
                </a:solidFill>
                <a:latin typeface="Technical"/>
              </a:rPr>
              <a:t>sixième</a:t>
            </a:r>
            <a:r>
              <a:rPr b="0" lang="en-GB" sz="4000" spc="-1" strike="noStrike">
                <a:solidFill>
                  <a:srgbClr val="000000"/>
                </a:solidFill>
                <a:latin typeface="Technical"/>
              </a:rPr>
              <a:t>,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7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echnical"/>
              </a:rPr>
              <a:t>ce petit problème est ce qu’on appelle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1908000" y="3573360"/>
            <a:ext cx="6248520" cy="992160"/>
            <a:chOff x="1908000" y="3573360"/>
            <a:chExt cx="6248520" cy="992160"/>
          </a:xfrm>
        </p:grpSpPr>
        <p:sp>
          <p:nvSpPr>
            <p:cNvPr id="126" name=""/>
            <p:cNvSpPr/>
            <p:nvPr/>
          </p:nvSpPr>
          <p:spPr>
            <a:xfrm>
              <a:off x="1908000" y="3635280"/>
              <a:ext cx="339840" cy="752400"/>
            </a:xfrm>
            <a:custGeom>
              <a:avLst/>
              <a:gdLst/>
              <a:ahLst/>
              <a:rect l="l" t="t" r="r" b="b"/>
              <a:pathLst>
                <a:path w="945" h="2089">
                  <a:moveTo>
                    <a:pt x="0" y="0"/>
                  </a:moveTo>
                  <a:lnTo>
                    <a:pt x="187" y="0"/>
                  </a:lnTo>
                  <a:lnTo>
                    <a:pt x="187" y="1285"/>
                  </a:lnTo>
                  <a:lnTo>
                    <a:pt x="191" y="1425"/>
                  </a:lnTo>
                  <a:lnTo>
                    <a:pt x="205" y="1547"/>
                  </a:lnTo>
                  <a:lnTo>
                    <a:pt x="226" y="1647"/>
                  </a:lnTo>
                  <a:lnTo>
                    <a:pt x="260" y="1730"/>
                  </a:lnTo>
                  <a:lnTo>
                    <a:pt x="301" y="1791"/>
                  </a:lnTo>
                  <a:lnTo>
                    <a:pt x="355" y="1834"/>
                  </a:lnTo>
                  <a:lnTo>
                    <a:pt x="417" y="1862"/>
                  </a:lnTo>
                  <a:lnTo>
                    <a:pt x="492" y="1870"/>
                  </a:lnTo>
                  <a:lnTo>
                    <a:pt x="563" y="1862"/>
                  </a:lnTo>
                  <a:lnTo>
                    <a:pt x="623" y="1837"/>
                  </a:lnTo>
                  <a:lnTo>
                    <a:pt x="673" y="1794"/>
                  </a:lnTo>
                  <a:lnTo>
                    <a:pt x="714" y="1737"/>
                  </a:lnTo>
                  <a:lnTo>
                    <a:pt x="741" y="1661"/>
                  </a:lnTo>
                  <a:lnTo>
                    <a:pt x="761" y="1561"/>
                  </a:lnTo>
                  <a:lnTo>
                    <a:pt x="774" y="1439"/>
                  </a:lnTo>
                  <a:lnTo>
                    <a:pt x="778" y="1295"/>
                  </a:lnTo>
                  <a:lnTo>
                    <a:pt x="778" y="0"/>
                  </a:lnTo>
                  <a:lnTo>
                    <a:pt x="944" y="0"/>
                  </a:lnTo>
                  <a:lnTo>
                    <a:pt x="944" y="1292"/>
                  </a:lnTo>
                  <a:lnTo>
                    <a:pt x="942" y="1414"/>
                  </a:lnTo>
                  <a:lnTo>
                    <a:pt x="935" y="1525"/>
                  </a:lnTo>
                  <a:lnTo>
                    <a:pt x="925" y="1622"/>
                  </a:lnTo>
                  <a:lnTo>
                    <a:pt x="912" y="1701"/>
                  </a:lnTo>
                  <a:lnTo>
                    <a:pt x="890" y="1773"/>
                  </a:lnTo>
                  <a:lnTo>
                    <a:pt x="862" y="1834"/>
                  </a:lnTo>
                  <a:lnTo>
                    <a:pt x="828" y="1895"/>
                  </a:lnTo>
                  <a:lnTo>
                    <a:pt x="789" y="1952"/>
                  </a:lnTo>
                  <a:lnTo>
                    <a:pt x="726" y="2006"/>
                  </a:lnTo>
                  <a:lnTo>
                    <a:pt x="655" y="2049"/>
                  </a:lnTo>
                  <a:lnTo>
                    <a:pt x="576" y="2074"/>
                  </a:lnTo>
                  <a:lnTo>
                    <a:pt x="486" y="2088"/>
                  </a:lnTo>
                  <a:lnTo>
                    <a:pt x="370" y="2071"/>
                  </a:lnTo>
                  <a:lnTo>
                    <a:pt x="268" y="2035"/>
                  </a:lnTo>
                  <a:lnTo>
                    <a:pt x="185" y="1974"/>
                  </a:lnTo>
                  <a:lnTo>
                    <a:pt x="119" y="1891"/>
                  </a:lnTo>
                  <a:lnTo>
                    <a:pt x="65" y="1776"/>
                  </a:lnTo>
                  <a:lnTo>
                    <a:pt x="28" y="1640"/>
                  </a:lnTo>
                  <a:lnTo>
                    <a:pt x="6" y="1475"/>
                  </a:lnTo>
                  <a:lnTo>
                    <a:pt x="0" y="1281"/>
                  </a:lnTo>
                  <a:lnTo>
                    <a:pt x="0" y="0"/>
                  </a:lnTo>
                </a:path>
              </a:pathLst>
            </a:custGeom>
            <a:solidFill>
              <a:srgbClr val="ff33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367000" y="3819600"/>
              <a:ext cx="284040" cy="550800"/>
            </a:xfrm>
            <a:custGeom>
              <a:avLst/>
              <a:gdLst/>
              <a:ahLst/>
              <a:rect l="l" t="t" r="r" b="b"/>
              <a:pathLst>
                <a:path w="789" h="1529">
                  <a:moveTo>
                    <a:pt x="0" y="1528"/>
                  </a:moveTo>
                  <a:lnTo>
                    <a:pt x="0" y="32"/>
                  </a:lnTo>
                  <a:lnTo>
                    <a:pt x="173" y="32"/>
                  </a:lnTo>
                  <a:lnTo>
                    <a:pt x="173" y="312"/>
                  </a:lnTo>
                  <a:lnTo>
                    <a:pt x="247" y="172"/>
                  </a:lnTo>
                  <a:lnTo>
                    <a:pt x="326" y="75"/>
                  </a:lnTo>
                  <a:lnTo>
                    <a:pt x="417" y="14"/>
                  </a:lnTo>
                  <a:lnTo>
                    <a:pt x="514" y="0"/>
                  </a:lnTo>
                  <a:lnTo>
                    <a:pt x="572" y="7"/>
                  </a:lnTo>
                  <a:lnTo>
                    <a:pt x="627" y="28"/>
                  </a:lnTo>
                  <a:lnTo>
                    <a:pt x="675" y="64"/>
                  </a:lnTo>
                  <a:lnTo>
                    <a:pt x="715" y="122"/>
                  </a:lnTo>
                  <a:lnTo>
                    <a:pt x="748" y="190"/>
                  </a:lnTo>
                  <a:lnTo>
                    <a:pt x="769" y="265"/>
                  </a:lnTo>
                  <a:lnTo>
                    <a:pt x="782" y="351"/>
                  </a:lnTo>
                  <a:lnTo>
                    <a:pt x="788" y="452"/>
                  </a:lnTo>
                  <a:lnTo>
                    <a:pt x="788" y="1528"/>
                  </a:lnTo>
                  <a:lnTo>
                    <a:pt x="615" y="1528"/>
                  </a:lnTo>
                  <a:lnTo>
                    <a:pt x="615" y="542"/>
                  </a:lnTo>
                  <a:lnTo>
                    <a:pt x="612" y="463"/>
                  </a:lnTo>
                  <a:lnTo>
                    <a:pt x="606" y="398"/>
                  </a:lnTo>
                  <a:lnTo>
                    <a:pt x="595" y="341"/>
                  </a:lnTo>
                  <a:lnTo>
                    <a:pt x="585" y="301"/>
                  </a:lnTo>
                  <a:lnTo>
                    <a:pt x="565" y="269"/>
                  </a:lnTo>
                  <a:lnTo>
                    <a:pt x="541" y="247"/>
                  </a:lnTo>
                  <a:lnTo>
                    <a:pt x="512" y="237"/>
                  </a:lnTo>
                  <a:lnTo>
                    <a:pt x="479" y="233"/>
                  </a:lnTo>
                  <a:lnTo>
                    <a:pt x="397" y="251"/>
                  </a:lnTo>
                  <a:lnTo>
                    <a:pt x="320" y="312"/>
                  </a:lnTo>
                  <a:lnTo>
                    <a:pt x="245" y="416"/>
                  </a:lnTo>
                  <a:lnTo>
                    <a:pt x="173" y="559"/>
                  </a:lnTo>
                  <a:lnTo>
                    <a:pt x="173" y="1528"/>
                  </a:lnTo>
                  <a:lnTo>
                    <a:pt x="0" y="1528"/>
                  </a:lnTo>
                </a:path>
              </a:pathLst>
            </a:custGeom>
            <a:solidFill>
              <a:srgbClr val="ff33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982960" y="3819600"/>
              <a:ext cx="314280" cy="745920"/>
            </a:xfrm>
            <a:custGeom>
              <a:avLst/>
              <a:gdLst/>
              <a:ahLst/>
              <a:rect l="l" t="t" r="r" b="b"/>
              <a:pathLst>
                <a:path w="873" h="2071">
                  <a:moveTo>
                    <a:pt x="173" y="1169"/>
                  </a:moveTo>
                  <a:lnTo>
                    <a:pt x="240" y="1252"/>
                  </a:lnTo>
                  <a:lnTo>
                    <a:pt x="305" y="1306"/>
                  </a:lnTo>
                  <a:lnTo>
                    <a:pt x="370" y="1345"/>
                  </a:lnTo>
                  <a:lnTo>
                    <a:pt x="431" y="1356"/>
                  </a:lnTo>
                  <a:lnTo>
                    <a:pt x="487" y="1349"/>
                  </a:lnTo>
                  <a:lnTo>
                    <a:pt x="539" y="1317"/>
                  </a:lnTo>
                  <a:lnTo>
                    <a:pt x="582" y="1266"/>
                  </a:lnTo>
                  <a:lnTo>
                    <a:pt x="621" y="1202"/>
                  </a:lnTo>
                  <a:lnTo>
                    <a:pt x="648" y="1116"/>
                  </a:lnTo>
                  <a:lnTo>
                    <a:pt x="669" y="1012"/>
                  </a:lnTo>
                  <a:lnTo>
                    <a:pt x="681" y="893"/>
                  </a:lnTo>
                  <a:lnTo>
                    <a:pt x="686" y="760"/>
                  </a:lnTo>
                  <a:lnTo>
                    <a:pt x="671" y="531"/>
                  </a:lnTo>
                  <a:lnTo>
                    <a:pt x="627" y="369"/>
                  </a:lnTo>
                  <a:lnTo>
                    <a:pt x="558" y="269"/>
                  </a:lnTo>
                  <a:lnTo>
                    <a:pt x="462" y="240"/>
                  </a:lnTo>
                  <a:lnTo>
                    <a:pt x="387" y="251"/>
                  </a:lnTo>
                  <a:lnTo>
                    <a:pt x="313" y="298"/>
                  </a:lnTo>
                  <a:lnTo>
                    <a:pt x="242" y="376"/>
                  </a:lnTo>
                  <a:lnTo>
                    <a:pt x="173" y="484"/>
                  </a:lnTo>
                  <a:lnTo>
                    <a:pt x="173" y="1169"/>
                  </a:lnTo>
                  <a:close/>
                  <a:moveTo>
                    <a:pt x="0" y="2070"/>
                  </a:moveTo>
                  <a:lnTo>
                    <a:pt x="0" y="32"/>
                  </a:lnTo>
                  <a:lnTo>
                    <a:pt x="173" y="32"/>
                  </a:lnTo>
                  <a:lnTo>
                    <a:pt x="173" y="312"/>
                  </a:lnTo>
                  <a:lnTo>
                    <a:pt x="232" y="172"/>
                  </a:lnTo>
                  <a:lnTo>
                    <a:pt x="307" y="75"/>
                  </a:lnTo>
                  <a:lnTo>
                    <a:pt x="393" y="14"/>
                  </a:lnTo>
                  <a:lnTo>
                    <a:pt x="496" y="0"/>
                  </a:lnTo>
                  <a:lnTo>
                    <a:pt x="580" y="10"/>
                  </a:lnTo>
                  <a:lnTo>
                    <a:pt x="653" y="46"/>
                  </a:lnTo>
                  <a:lnTo>
                    <a:pt x="717" y="107"/>
                  </a:lnTo>
                  <a:lnTo>
                    <a:pt x="774" y="197"/>
                  </a:lnTo>
                  <a:lnTo>
                    <a:pt x="816" y="301"/>
                  </a:lnTo>
                  <a:lnTo>
                    <a:pt x="847" y="427"/>
                  </a:lnTo>
                  <a:lnTo>
                    <a:pt x="866" y="570"/>
                  </a:lnTo>
                  <a:lnTo>
                    <a:pt x="872" y="735"/>
                  </a:lnTo>
                  <a:lnTo>
                    <a:pt x="864" y="907"/>
                  </a:lnTo>
                  <a:lnTo>
                    <a:pt x="842" y="1069"/>
                  </a:lnTo>
                  <a:lnTo>
                    <a:pt x="807" y="1209"/>
                  </a:lnTo>
                  <a:lnTo>
                    <a:pt x="759" y="1331"/>
                  </a:lnTo>
                  <a:lnTo>
                    <a:pt x="696" y="1431"/>
                  </a:lnTo>
                  <a:lnTo>
                    <a:pt x="625" y="1500"/>
                  </a:lnTo>
                  <a:lnTo>
                    <a:pt x="546" y="1543"/>
                  </a:lnTo>
                  <a:lnTo>
                    <a:pt x="460" y="1561"/>
                  </a:lnTo>
                  <a:lnTo>
                    <a:pt x="376" y="1543"/>
                  </a:lnTo>
                  <a:lnTo>
                    <a:pt x="301" y="1507"/>
                  </a:lnTo>
                  <a:lnTo>
                    <a:pt x="234" y="1446"/>
                  </a:lnTo>
                  <a:lnTo>
                    <a:pt x="173" y="1356"/>
                  </a:lnTo>
                  <a:lnTo>
                    <a:pt x="173" y="2070"/>
                  </a:lnTo>
                  <a:lnTo>
                    <a:pt x="0" y="2070"/>
                  </a:lnTo>
                  <a:close/>
                </a:path>
              </a:pathLst>
            </a:custGeom>
            <a:solidFill>
              <a:srgbClr val="ff33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394080" y="3819600"/>
              <a:ext cx="192240" cy="550800"/>
            </a:xfrm>
            <a:custGeom>
              <a:avLst/>
              <a:gdLst/>
              <a:ahLst/>
              <a:rect l="l" t="t" r="r" b="b"/>
              <a:pathLst>
                <a:path w="533" h="1529">
                  <a:moveTo>
                    <a:pt x="0" y="1528"/>
                  </a:moveTo>
                  <a:lnTo>
                    <a:pt x="0" y="32"/>
                  </a:lnTo>
                  <a:lnTo>
                    <a:pt x="174" y="32"/>
                  </a:lnTo>
                  <a:lnTo>
                    <a:pt x="174" y="312"/>
                  </a:lnTo>
                  <a:lnTo>
                    <a:pt x="230" y="172"/>
                  </a:lnTo>
                  <a:lnTo>
                    <a:pt x="300" y="75"/>
                  </a:lnTo>
                  <a:lnTo>
                    <a:pt x="381" y="14"/>
                  </a:lnTo>
                  <a:lnTo>
                    <a:pt x="477" y="0"/>
                  </a:lnTo>
                  <a:lnTo>
                    <a:pt x="490" y="0"/>
                  </a:lnTo>
                  <a:lnTo>
                    <a:pt x="502" y="0"/>
                  </a:lnTo>
                  <a:lnTo>
                    <a:pt x="517" y="3"/>
                  </a:lnTo>
                  <a:lnTo>
                    <a:pt x="532" y="7"/>
                  </a:lnTo>
                  <a:lnTo>
                    <a:pt x="532" y="262"/>
                  </a:lnTo>
                  <a:lnTo>
                    <a:pt x="509" y="247"/>
                  </a:lnTo>
                  <a:lnTo>
                    <a:pt x="490" y="244"/>
                  </a:lnTo>
                  <a:lnTo>
                    <a:pt x="470" y="240"/>
                  </a:lnTo>
                  <a:lnTo>
                    <a:pt x="452" y="240"/>
                  </a:lnTo>
                  <a:lnTo>
                    <a:pt x="371" y="254"/>
                  </a:lnTo>
                  <a:lnTo>
                    <a:pt x="298" y="315"/>
                  </a:lnTo>
                  <a:lnTo>
                    <a:pt x="232" y="409"/>
                  </a:lnTo>
                  <a:lnTo>
                    <a:pt x="174" y="545"/>
                  </a:lnTo>
                  <a:lnTo>
                    <a:pt x="174" y="1528"/>
                  </a:lnTo>
                  <a:lnTo>
                    <a:pt x="0" y="1528"/>
                  </a:lnTo>
                </a:path>
              </a:pathLst>
            </a:custGeom>
            <a:solidFill>
              <a:srgbClr val="ff33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635280" y="3819600"/>
              <a:ext cx="331920" cy="561960"/>
            </a:xfrm>
            <a:custGeom>
              <a:avLst/>
              <a:gdLst/>
              <a:ahLst/>
              <a:rect l="l" t="t" r="r" b="b"/>
              <a:pathLst>
                <a:path w="921" h="1562">
                  <a:moveTo>
                    <a:pt x="460" y="1356"/>
                  </a:moveTo>
                  <a:lnTo>
                    <a:pt x="520" y="1349"/>
                  </a:lnTo>
                  <a:lnTo>
                    <a:pt x="573" y="1317"/>
                  </a:lnTo>
                  <a:lnTo>
                    <a:pt x="621" y="1270"/>
                  </a:lnTo>
                  <a:lnTo>
                    <a:pt x="662" y="1205"/>
                  </a:lnTo>
                  <a:lnTo>
                    <a:pt x="692" y="1123"/>
                  </a:lnTo>
                  <a:lnTo>
                    <a:pt x="713" y="1022"/>
                  </a:lnTo>
                  <a:lnTo>
                    <a:pt x="726" y="904"/>
                  </a:lnTo>
                  <a:lnTo>
                    <a:pt x="732" y="778"/>
                  </a:lnTo>
                  <a:lnTo>
                    <a:pt x="726" y="649"/>
                  </a:lnTo>
                  <a:lnTo>
                    <a:pt x="713" y="534"/>
                  </a:lnTo>
                  <a:lnTo>
                    <a:pt x="692" y="434"/>
                  </a:lnTo>
                  <a:lnTo>
                    <a:pt x="662" y="351"/>
                  </a:lnTo>
                  <a:lnTo>
                    <a:pt x="621" y="287"/>
                  </a:lnTo>
                  <a:lnTo>
                    <a:pt x="573" y="240"/>
                  </a:lnTo>
                  <a:lnTo>
                    <a:pt x="520" y="208"/>
                  </a:lnTo>
                  <a:lnTo>
                    <a:pt x="460" y="201"/>
                  </a:lnTo>
                  <a:lnTo>
                    <a:pt x="397" y="208"/>
                  </a:lnTo>
                  <a:lnTo>
                    <a:pt x="341" y="240"/>
                  </a:lnTo>
                  <a:lnTo>
                    <a:pt x="297" y="287"/>
                  </a:lnTo>
                  <a:lnTo>
                    <a:pt x="257" y="351"/>
                  </a:lnTo>
                  <a:lnTo>
                    <a:pt x="226" y="434"/>
                  </a:lnTo>
                  <a:lnTo>
                    <a:pt x="204" y="534"/>
                  </a:lnTo>
                  <a:lnTo>
                    <a:pt x="192" y="649"/>
                  </a:lnTo>
                  <a:lnTo>
                    <a:pt x="186" y="778"/>
                  </a:lnTo>
                  <a:lnTo>
                    <a:pt x="192" y="904"/>
                  </a:lnTo>
                  <a:lnTo>
                    <a:pt x="204" y="1022"/>
                  </a:lnTo>
                  <a:lnTo>
                    <a:pt x="226" y="1123"/>
                  </a:lnTo>
                  <a:lnTo>
                    <a:pt x="257" y="1205"/>
                  </a:lnTo>
                  <a:lnTo>
                    <a:pt x="297" y="1270"/>
                  </a:lnTo>
                  <a:lnTo>
                    <a:pt x="341" y="1317"/>
                  </a:lnTo>
                  <a:lnTo>
                    <a:pt x="397" y="1349"/>
                  </a:lnTo>
                  <a:lnTo>
                    <a:pt x="460" y="1356"/>
                  </a:lnTo>
                  <a:close/>
                  <a:moveTo>
                    <a:pt x="460" y="1561"/>
                  </a:moveTo>
                  <a:lnTo>
                    <a:pt x="359" y="1543"/>
                  </a:lnTo>
                  <a:lnTo>
                    <a:pt x="269" y="1503"/>
                  </a:lnTo>
                  <a:lnTo>
                    <a:pt x="192" y="1442"/>
                  </a:lnTo>
                  <a:lnTo>
                    <a:pt x="125" y="1352"/>
                  </a:lnTo>
                  <a:lnTo>
                    <a:pt x="69" y="1234"/>
                  </a:lnTo>
                  <a:lnTo>
                    <a:pt x="29" y="1101"/>
                  </a:lnTo>
                  <a:lnTo>
                    <a:pt x="6" y="947"/>
                  </a:lnTo>
                  <a:lnTo>
                    <a:pt x="0" y="778"/>
                  </a:lnTo>
                  <a:lnTo>
                    <a:pt x="6" y="606"/>
                  </a:lnTo>
                  <a:lnTo>
                    <a:pt x="29" y="455"/>
                  </a:lnTo>
                  <a:lnTo>
                    <a:pt x="69" y="323"/>
                  </a:lnTo>
                  <a:lnTo>
                    <a:pt x="125" y="208"/>
                  </a:lnTo>
                  <a:lnTo>
                    <a:pt x="192" y="115"/>
                  </a:lnTo>
                  <a:lnTo>
                    <a:pt x="269" y="50"/>
                  </a:lnTo>
                  <a:lnTo>
                    <a:pt x="359" y="10"/>
                  </a:lnTo>
                  <a:lnTo>
                    <a:pt x="460" y="0"/>
                  </a:lnTo>
                  <a:lnTo>
                    <a:pt x="559" y="10"/>
                  </a:lnTo>
                  <a:lnTo>
                    <a:pt x="649" y="50"/>
                  </a:lnTo>
                  <a:lnTo>
                    <a:pt x="728" y="115"/>
                  </a:lnTo>
                  <a:lnTo>
                    <a:pt x="797" y="208"/>
                  </a:lnTo>
                  <a:lnTo>
                    <a:pt x="849" y="323"/>
                  </a:lnTo>
                  <a:lnTo>
                    <a:pt x="887" y="455"/>
                  </a:lnTo>
                  <a:lnTo>
                    <a:pt x="912" y="606"/>
                  </a:lnTo>
                  <a:lnTo>
                    <a:pt x="920" y="778"/>
                  </a:lnTo>
                  <a:lnTo>
                    <a:pt x="912" y="947"/>
                  </a:lnTo>
                  <a:lnTo>
                    <a:pt x="887" y="1101"/>
                  </a:lnTo>
                  <a:lnTo>
                    <a:pt x="849" y="1234"/>
                  </a:lnTo>
                  <a:lnTo>
                    <a:pt x="797" y="1352"/>
                  </a:lnTo>
                  <a:lnTo>
                    <a:pt x="728" y="1442"/>
                  </a:lnTo>
                  <a:lnTo>
                    <a:pt x="649" y="1503"/>
                  </a:lnTo>
                  <a:lnTo>
                    <a:pt x="559" y="1543"/>
                  </a:lnTo>
                  <a:lnTo>
                    <a:pt x="460" y="1561"/>
                  </a:lnTo>
                  <a:close/>
                </a:path>
              </a:pathLst>
            </a:custGeom>
            <a:solidFill>
              <a:srgbClr val="ff33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065480" y="3586320"/>
              <a:ext cx="314280" cy="795240"/>
            </a:xfrm>
            <a:custGeom>
              <a:avLst/>
              <a:gdLst/>
              <a:ahLst/>
              <a:rect l="l" t="t" r="r" b="b"/>
              <a:pathLst>
                <a:path w="873" h="2208">
                  <a:moveTo>
                    <a:pt x="174" y="1815"/>
                  </a:moveTo>
                  <a:lnTo>
                    <a:pt x="240" y="1898"/>
                  </a:lnTo>
                  <a:lnTo>
                    <a:pt x="305" y="1952"/>
                  </a:lnTo>
                  <a:lnTo>
                    <a:pt x="370" y="1991"/>
                  </a:lnTo>
                  <a:lnTo>
                    <a:pt x="432" y="2002"/>
                  </a:lnTo>
                  <a:lnTo>
                    <a:pt x="488" y="1995"/>
                  </a:lnTo>
                  <a:lnTo>
                    <a:pt x="539" y="1963"/>
                  </a:lnTo>
                  <a:lnTo>
                    <a:pt x="583" y="1912"/>
                  </a:lnTo>
                  <a:lnTo>
                    <a:pt x="621" y="1848"/>
                  </a:lnTo>
                  <a:lnTo>
                    <a:pt x="649" y="1762"/>
                  </a:lnTo>
                  <a:lnTo>
                    <a:pt x="669" y="1658"/>
                  </a:lnTo>
                  <a:lnTo>
                    <a:pt x="681" y="1539"/>
                  </a:lnTo>
                  <a:lnTo>
                    <a:pt x="686" y="1406"/>
                  </a:lnTo>
                  <a:lnTo>
                    <a:pt x="671" y="1177"/>
                  </a:lnTo>
                  <a:lnTo>
                    <a:pt x="627" y="1015"/>
                  </a:lnTo>
                  <a:lnTo>
                    <a:pt x="558" y="915"/>
                  </a:lnTo>
                  <a:lnTo>
                    <a:pt x="462" y="886"/>
                  </a:lnTo>
                  <a:lnTo>
                    <a:pt x="387" y="897"/>
                  </a:lnTo>
                  <a:lnTo>
                    <a:pt x="313" y="944"/>
                  </a:lnTo>
                  <a:lnTo>
                    <a:pt x="242" y="1022"/>
                  </a:lnTo>
                  <a:lnTo>
                    <a:pt x="174" y="1130"/>
                  </a:lnTo>
                  <a:lnTo>
                    <a:pt x="174" y="1815"/>
                  </a:lnTo>
                  <a:close/>
                  <a:moveTo>
                    <a:pt x="0" y="2189"/>
                  </a:moveTo>
                  <a:lnTo>
                    <a:pt x="0" y="0"/>
                  </a:lnTo>
                  <a:lnTo>
                    <a:pt x="174" y="0"/>
                  </a:lnTo>
                  <a:lnTo>
                    <a:pt x="174" y="958"/>
                  </a:lnTo>
                  <a:lnTo>
                    <a:pt x="232" y="818"/>
                  </a:lnTo>
                  <a:lnTo>
                    <a:pt x="307" y="721"/>
                  </a:lnTo>
                  <a:lnTo>
                    <a:pt x="393" y="660"/>
                  </a:lnTo>
                  <a:lnTo>
                    <a:pt x="497" y="646"/>
                  </a:lnTo>
                  <a:lnTo>
                    <a:pt x="581" y="656"/>
                  </a:lnTo>
                  <a:lnTo>
                    <a:pt x="654" y="692"/>
                  </a:lnTo>
                  <a:lnTo>
                    <a:pt x="717" y="753"/>
                  </a:lnTo>
                  <a:lnTo>
                    <a:pt x="774" y="843"/>
                  </a:lnTo>
                  <a:lnTo>
                    <a:pt x="817" y="947"/>
                  </a:lnTo>
                  <a:lnTo>
                    <a:pt x="847" y="1073"/>
                  </a:lnTo>
                  <a:lnTo>
                    <a:pt x="866" y="1216"/>
                  </a:lnTo>
                  <a:lnTo>
                    <a:pt x="872" y="1381"/>
                  </a:lnTo>
                  <a:lnTo>
                    <a:pt x="864" y="1553"/>
                  </a:lnTo>
                  <a:lnTo>
                    <a:pt x="842" y="1715"/>
                  </a:lnTo>
                  <a:lnTo>
                    <a:pt x="808" y="1855"/>
                  </a:lnTo>
                  <a:lnTo>
                    <a:pt x="759" y="1977"/>
                  </a:lnTo>
                  <a:lnTo>
                    <a:pt x="696" y="2077"/>
                  </a:lnTo>
                  <a:lnTo>
                    <a:pt x="625" y="2146"/>
                  </a:lnTo>
                  <a:lnTo>
                    <a:pt x="546" y="2189"/>
                  </a:lnTo>
                  <a:lnTo>
                    <a:pt x="460" y="2207"/>
                  </a:lnTo>
                  <a:lnTo>
                    <a:pt x="376" y="2189"/>
                  </a:lnTo>
                  <a:lnTo>
                    <a:pt x="301" y="2153"/>
                  </a:lnTo>
                  <a:lnTo>
                    <a:pt x="234" y="2092"/>
                  </a:lnTo>
                  <a:lnTo>
                    <a:pt x="174" y="2002"/>
                  </a:lnTo>
                  <a:lnTo>
                    <a:pt x="152" y="2189"/>
                  </a:lnTo>
                  <a:lnTo>
                    <a:pt x="0" y="2189"/>
                  </a:lnTo>
                  <a:close/>
                </a:path>
              </a:pathLst>
            </a:custGeom>
            <a:solidFill>
              <a:srgbClr val="ff33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478400" y="3586320"/>
              <a:ext cx="63360" cy="782640"/>
            </a:xfrm>
            <a:custGeom>
              <a:avLst/>
              <a:gdLst/>
              <a:ahLst/>
              <a:rect l="l" t="t" r="r" b="b"/>
              <a:pathLst>
                <a:path w="175" h="2175">
                  <a:moveTo>
                    <a:pt x="0" y="2174"/>
                  </a:moveTo>
                  <a:lnTo>
                    <a:pt x="0" y="0"/>
                  </a:lnTo>
                  <a:lnTo>
                    <a:pt x="174" y="0"/>
                  </a:lnTo>
                  <a:lnTo>
                    <a:pt x="174" y="2174"/>
                  </a:lnTo>
                  <a:lnTo>
                    <a:pt x="0" y="2174"/>
                  </a:lnTo>
                </a:path>
              </a:pathLst>
            </a:custGeom>
            <a:solidFill>
              <a:srgbClr val="ff33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640400" y="3573360"/>
              <a:ext cx="284040" cy="808200"/>
            </a:xfrm>
            <a:custGeom>
              <a:avLst/>
              <a:gdLst/>
              <a:ahLst/>
              <a:rect l="l" t="t" r="r" b="b"/>
              <a:pathLst>
                <a:path w="788" h="2244">
                  <a:moveTo>
                    <a:pt x="187" y="1299"/>
                  </a:moveTo>
                  <a:lnTo>
                    <a:pt x="612" y="1299"/>
                  </a:lnTo>
                  <a:lnTo>
                    <a:pt x="599" y="1116"/>
                  </a:lnTo>
                  <a:lnTo>
                    <a:pt x="561" y="987"/>
                  </a:lnTo>
                  <a:lnTo>
                    <a:pt x="499" y="908"/>
                  </a:lnTo>
                  <a:lnTo>
                    <a:pt x="413" y="883"/>
                  </a:lnTo>
                  <a:lnTo>
                    <a:pt x="323" y="908"/>
                  </a:lnTo>
                  <a:lnTo>
                    <a:pt x="254" y="987"/>
                  </a:lnTo>
                  <a:lnTo>
                    <a:pt x="208" y="1116"/>
                  </a:lnTo>
                  <a:lnTo>
                    <a:pt x="187" y="1299"/>
                  </a:lnTo>
                  <a:close/>
                  <a:moveTo>
                    <a:pt x="540" y="445"/>
                  </a:moveTo>
                  <a:lnTo>
                    <a:pt x="409" y="445"/>
                  </a:lnTo>
                  <a:lnTo>
                    <a:pt x="122" y="0"/>
                  </a:lnTo>
                  <a:lnTo>
                    <a:pt x="325" y="0"/>
                  </a:lnTo>
                  <a:lnTo>
                    <a:pt x="540" y="445"/>
                  </a:lnTo>
                  <a:close/>
                  <a:moveTo>
                    <a:pt x="783" y="2160"/>
                  </a:moveTo>
                  <a:lnTo>
                    <a:pt x="697" y="2192"/>
                  </a:lnTo>
                  <a:lnTo>
                    <a:pt x="619" y="2221"/>
                  </a:lnTo>
                  <a:lnTo>
                    <a:pt x="546" y="2232"/>
                  </a:lnTo>
                  <a:lnTo>
                    <a:pt x="482" y="2243"/>
                  </a:lnTo>
                  <a:lnTo>
                    <a:pt x="378" y="2225"/>
                  </a:lnTo>
                  <a:lnTo>
                    <a:pt x="288" y="2185"/>
                  </a:lnTo>
                  <a:lnTo>
                    <a:pt x="206" y="2117"/>
                  </a:lnTo>
                  <a:lnTo>
                    <a:pt x="135" y="2024"/>
                  </a:lnTo>
                  <a:lnTo>
                    <a:pt x="76" y="1902"/>
                  </a:lnTo>
                  <a:lnTo>
                    <a:pt x="32" y="1769"/>
                  </a:lnTo>
                  <a:lnTo>
                    <a:pt x="7" y="1618"/>
                  </a:lnTo>
                  <a:lnTo>
                    <a:pt x="0" y="1453"/>
                  </a:lnTo>
                  <a:lnTo>
                    <a:pt x="7" y="1292"/>
                  </a:lnTo>
                  <a:lnTo>
                    <a:pt x="28" y="1145"/>
                  </a:lnTo>
                  <a:lnTo>
                    <a:pt x="64" y="1012"/>
                  </a:lnTo>
                  <a:lnTo>
                    <a:pt x="118" y="897"/>
                  </a:lnTo>
                  <a:lnTo>
                    <a:pt x="181" y="800"/>
                  </a:lnTo>
                  <a:lnTo>
                    <a:pt x="254" y="736"/>
                  </a:lnTo>
                  <a:lnTo>
                    <a:pt x="333" y="692"/>
                  </a:lnTo>
                  <a:lnTo>
                    <a:pt x="421" y="682"/>
                  </a:lnTo>
                  <a:lnTo>
                    <a:pt x="503" y="692"/>
                  </a:lnTo>
                  <a:lnTo>
                    <a:pt x="576" y="728"/>
                  </a:lnTo>
                  <a:lnTo>
                    <a:pt x="639" y="786"/>
                  </a:lnTo>
                  <a:lnTo>
                    <a:pt x="692" y="875"/>
                  </a:lnTo>
                  <a:lnTo>
                    <a:pt x="733" y="980"/>
                  </a:lnTo>
                  <a:lnTo>
                    <a:pt x="761" y="1109"/>
                  </a:lnTo>
                  <a:lnTo>
                    <a:pt x="781" y="1249"/>
                  </a:lnTo>
                  <a:lnTo>
                    <a:pt x="787" y="1421"/>
                  </a:lnTo>
                  <a:lnTo>
                    <a:pt x="787" y="1503"/>
                  </a:lnTo>
                  <a:lnTo>
                    <a:pt x="178" y="1503"/>
                  </a:lnTo>
                  <a:lnTo>
                    <a:pt x="212" y="1737"/>
                  </a:lnTo>
                  <a:lnTo>
                    <a:pt x="281" y="1902"/>
                  </a:lnTo>
                  <a:lnTo>
                    <a:pt x="380" y="2002"/>
                  </a:lnTo>
                  <a:lnTo>
                    <a:pt x="514" y="2038"/>
                  </a:lnTo>
                  <a:lnTo>
                    <a:pt x="570" y="2034"/>
                  </a:lnTo>
                  <a:lnTo>
                    <a:pt x="634" y="2013"/>
                  </a:lnTo>
                  <a:lnTo>
                    <a:pt x="705" y="1984"/>
                  </a:lnTo>
                  <a:lnTo>
                    <a:pt x="783" y="1945"/>
                  </a:lnTo>
                  <a:lnTo>
                    <a:pt x="783" y="2160"/>
                  </a:lnTo>
                  <a:close/>
                </a:path>
              </a:pathLst>
            </a:custGeom>
            <a:solidFill>
              <a:srgbClr val="ff33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032440" y="3819600"/>
              <a:ext cx="488880" cy="550800"/>
            </a:xfrm>
            <a:custGeom>
              <a:avLst/>
              <a:gdLst/>
              <a:ahLst/>
              <a:rect l="l" t="t" r="r" b="b"/>
              <a:pathLst>
                <a:path w="1357" h="1529">
                  <a:moveTo>
                    <a:pt x="0" y="1528"/>
                  </a:moveTo>
                  <a:lnTo>
                    <a:pt x="0" y="32"/>
                  </a:lnTo>
                  <a:lnTo>
                    <a:pt x="174" y="32"/>
                  </a:lnTo>
                  <a:lnTo>
                    <a:pt x="174" y="312"/>
                  </a:lnTo>
                  <a:lnTo>
                    <a:pt x="241" y="172"/>
                  </a:lnTo>
                  <a:lnTo>
                    <a:pt x="318" y="75"/>
                  </a:lnTo>
                  <a:lnTo>
                    <a:pt x="406" y="14"/>
                  </a:lnTo>
                  <a:lnTo>
                    <a:pt x="503" y="0"/>
                  </a:lnTo>
                  <a:lnTo>
                    <a:pt x="589" y="14"/>
                  </a:lnTo>
                  <a:lnTo>
                    <a:pt x="662" y="75"/>
                  </a:lnTo>
                  <a:lnTo>
                    <a:pt x="720" y="172"/>
                  </a:lnTo>
                  <a:lnTo>
                    <a:pt x="765" y="312"/>
                  </a:lnTo>
                  <a:lnTo>
                    <a:pt x="832" y="172"/>
                  </a:lnTo>
                  <a:lnTo>
                    <a:pt x="907" y="75"/>
                  </a:lnTo>
                  <a:lnTo>
                    <a:pt x="993" y="14"/>
                  </a:lnTo>
                  <a:lnTo>
                    <a:pt x="1087" y="0"/>
                  </a:lnTo>
                  <a:lnTo>
                    <a:pt x="1145" y="7"/>
                  </a:lnTo>
                  <a:lnTo>
                    <a:pt x="1199" y="25"/>
                  </a:lnTo>
                  <a:lnTo>
                    <a:pt x="1244" y="61"/>
                  </a:lnTo>
                  <a:lnTo>
                    <a:pt x="1285" y="115"/>
                  </a:lnTo>
                  <a:lnTo>
                    <a:pt x="1315" y="179"/>
                  </a:lnTo>
                  <a:lnTo>
                    <a:pt x="1337" y="251"/>
                  </a:lnTo>
                  <a:lnTo>
                    <a:pt x="1350" y="341"/>
                  </a:lnTo>
                  <a:lnTo>
                    <a:pt x="1356" y="441"/>
                  </a:lnTo>
                  <a:lnTo>
                    <a:pt x="1356" y="1528"/>
                  </a:lnTo>
                  <a:lnTo>
                    <a:pt x="1182" y="1528"/>
                  </a:lnTo>
                  <a:lnTo>
                    <a:pt x="1182" y="484"/>
                  </a:lnTo>
                  <a:lnTo>
                    <a:pt x="1173" y="373"/>
                  </a:lnTo>
                  <a:lnTo>
                    <a:pt x="1147" y="290"/>
                  </a:lnTo>
                  <a:lnTo>
                    <a:pt x="1107" y="244"/>
                  </a:lnTo>
                  <a:lnTo>
                    <a:pt x="1051" y="229"/>
                  </a:lnTo>
                  <a:lnTo>
                    <a:pt x="982" y="244"/>
                  </a:lnTo>
                  <a:lnTo>
                    <a:pt x="911" y="301"/>
                  </a:lnTo>
                  <a:lnTo>
                    <a:pt x="838" y="394"/>
                  </a:lnTo>
                  <a:lnTo>
                    <a:pt x="765" y="527"/>
                  </a:lnTo>
                  <a:lnTo>
                    <a:pt x="765" y="1528"/>
                  </a:lnTo>
                  <a:lnTo>
                    <a:pt x="591" y="1528"/>
                  </a:lnTo>
                  <a:lnTo>
                    <a:pt x="591" y="481"/>
                  </a:lnTo>
                  <a:lnTo>
                    <a:pt x="582" y="369"/>
                  </a:lnTo>
                  <a:lnTo>
                    <a:pt x="557" y="290"/>
                  </a:lnTo>
                  <a:lnTo>
                    <a:pt x="513" y="240"/>
                  </a:lnTo>
                  <a:lnTo>
                    <a:pt x="457" y="226"/>
                  </a:lnTo>
                  <a:lnTo>
                    <a:pt x="388" y="244"/>
                  </a:lnTo>
                  <a:lnTo>
                    <a:pt x="320" y="298"/>
                  </a:lnTo>
                  <a:lnTo>
                    <a:pt x="247" y="391"/>
                  </a:lnTo>
                  <a:lnTo>
                    <a:pt x="174" y="524"/>
                  </a:lnTo>
                  <a:lnTo>
                    <a:pt x="174" y="1528"/>
                  </a:lnTo>
                  <a:lnTo>
                    <a:pt x="0" y="1528"/>
                  </a:lnTo>
                </a:path>
              </a:pathLst>
            </a:custGeom>
            <a:solidFill>
              <a:srgbClr val="ff33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618160" y="3819600"/>
              <a:ext cx="282600" cy="561960"/>
            </a:xfrm>
            <a:custGeom>
              <a:avLst/>
              <a:gdLst/>
              <a:ahLst/>
              <a:rect l="l" t="t" r="r" b="b"/>
              <a:pathLst>
                <a:path w="787" h="1562">
                  <a:moveTo>
                    <a:pt x="187" y="617"/>
                  </a:moveTo>
                  <a:lnTo>
                    <a:pt x="612" y="617"/>
                  </a:lnTo>
                  <a:lnTo>
                    <a:pt x="600" y="434"/>
                  </a:lnTo>
                  <a:lnTo>
                    <a:pt x="560" y="305"/>
                  </a:lnTo>
                  <a:lnTo>
                    <a:pt x="499" y="226"/>
                  </a:lnTo>
                  <a:lnTo>
                    <a:pt x="412" y="201"/>
                  </a:lnTo>
                  <a:lnTo>
                    <a:pt x="322" y="226"/>
                  </a:lnTo>
                  <a:lnTo>
                    <a:pt x="253" y="305"/>
                  </a:lnTo>
                  <a:lnTo>
                    <a:pt x="208" y="434"/>
                  </a:lnTo>
                  <a:lnTo>
                    <a:pt x="187" y="617"/>
                  </a:lnTo>
                  <a:close/>
                  <a:moveTo>
                    <a:pt x="782" y="1478"/>
                  </a:moveTo>
                  <a:lnTo>
                    <a:pt x="696" y="1510"/>
                  </a:lnTo>
                  <a:lnTo>
                    <a:pt x="619" y="1539"/>
                  </a:lnTo>
                  <a:lnTo>
                    <a:pt x="546" y="1550"/>
                  </a:lnTo>
                  <a:lnTo>
                    <a:pt x="481" y="1561"/>
                  </a:lnTo>
                  <a:lnTo>
                    <a:pt x="378" y="1543"/>
                  </a:lnTo>
                  <a:lnTo>
                    <a:pt x="288" y="1503"/>
                  </a:lnTo>
                  <a:lnTo>
                    <a:pt x="206" y="1435"/>
                  </a:lnTo>
                  <a:lnTo>
                    <a:pt x="135" y="1342"/>
                  </a:lnTo>
                  <a:lnTo>
                    <a:pt x="75" y="1220"/>
                  </a:lnTo>
                  <a:lnTo>
                    <a:pt x="32" y="1087"/>
                  </a:lnTo>
                  <a:lnTo>
                    <a:pt x="6" y="936"/>
                  </a:lnTo>
                  <a:lnTo>
                    <a:pt x="0" y="771"/>
                  </a:lnTo>
                  <a:lnTo>
                    <a:pt x="6" y="610"/>
                  </a:lnTo>
                  <a:lnTo>
                    <a:pt x="28" y="463"/>
                  </a:lnTo>
                  <a:lnTo>
                    <a:pt x="64" y="330"/>
                  </a:lnTo>
                  <a:lnTo>
                    <a:pt x="118" y="215"/>
                  </a:lnTo>
                  <a:lnTo>
                    <a:pt x="181" y="118"/>
                  </a:lnTo>
                  <a:lnTo>
                    <a:pt x="253" y="54"/>
                  </a:lnTo>
                  <a:lnTo>
                    <a:pt x="333" y="10"/>
                  </a:lnTo>
                  <a:lnTo>
                    <a:pt x="422" y="0"/>
                  </a:lnTo>
                  <a:lnTo>
                    <a:pt x="503" y="10"/>
                  </a:lnTo>
                  <a:lnTo>
                    <a:pt x="576" y="46"/>
                  </a:lnTo>
                  <a:lnTo>
                    <a:pt x="638" y="104"/>
                  </a:lnTo>
                  <a:lnTo>
                    <a:pt x="692" y="193"/>
                  </a:lnTo>
                  <a:lnTo>
                    <a:pt x="733" y="298"/>
                  </a:lnTo>
                  <a:lnTo>
                    <a:pt x="761" y="427"/>
                  </a:lnTo>
                  <a:lnTo>
                    <a:pt x="780" y="567"/>
                  </a:lnTo>
                  <a:lnTo>
                    <a:pt x="786" y="739"/>
                  </a:lnTo>
                  <a:lnTo>
                    <a:pt x="786" y="821"/>
                  </a:lnTo>
                  <a:lnTo>
                    <a:pt x="178" y="821"/>
                  </a:lnTo>
                  <a:lnTo>
                    <a:pt x="213" y="1055"/>
                  </a:lnTo>
                  <a:lnTo>
                    <a:pt x="282" y="1220"/>
                  </a:lnTo>
                  <a:lnTo>
                    <a:pt x="380" y="1320"/>
                  </a:lnTo>
                  <a:lnTo>
                    <a:pt x="514" y="1356"/>
                  </a:lnTo>
                  <a:lnTo>
                    <a:pt x="569" y="1352"/>
                  </a:lnTo>
                  <a:lnTo>
                    <a:pt x="634" y="1331"/>
                  </a:lnTo>
                  <a:lnTo>
                    <a:pt x="705" y="1302"/>
                  </a:lnTo>
                  <a:lnTo>
                    <a:pt x="782" y="1263"/>
                  </a:lnTo>
                  <a:lnTo>
                    <a:pt x="782" y="1478"/>
                  </a:lnTo>
                  <a:close/>
                </a:path>
              </a:pathLst>
            </a:custGeom>
            <a:solidFill>
              <a:srgbClr val="ff33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189840" y="3819600"/>
              <a:ext cx="331560" cy="561960"/>
            </a:xfrm>
            <a:custGeom>
              <a:avLst/>
              <a:gdLst/>
              <a:ahLst/>
              <a:rect l="l" t="t" r="r" b="b"/>
              <a:pathLst>
                <a:path w="921" h="1562">
                  <a:moveTo>
                    <a:pt x="460" y="1356"/>
                  </a:moveTo>
                  <a:lnTo>
                    <a:pt x="521" y="1349"/>
                  </a:lnTo>
                  <a:lnTo>
                    <a:pt x="575" y="1317"/>
                  </a:lnTo>
                  <a:lnTo>
                    <a:pt x="621" y="1270"/>
                  </a:lnTo>
                  <a:lnTo>
                    <a:pt x="663" y="1205"/>
                  </a:lnTo>
                  <a:lnTo>
                    <a:pt x="692" y="1123"/>
                  </a:lnTo>
                  <a:lnTo>
                    <a:pt x="715" y="1022"/>
                  </a:lnTo>
                  <a:lnTo>
                    <a:pt x="727" y="904"/>
                  </a:lnTo>
                  <a:lnTo>
                    <a:pt x="734" y="778"/>
                  </a:lnTo>
                  <a:lnTo>
                    <a:pt x="727" y="649"/>
                  </a:lnTo>
                  <a:lnTo>
                    <a:pt x="715" y="534"/>
                  </a:lnTo>
                  <a:lnTo>
                    <a:pt x="692" y="434"/>
                  </a:lnTo>
                  <a:lnTo>
                    <a:pt x="663" y="351"/>
                  </a:lnTo>
                  <a:lnTo>
                    <a:pt x="621" y="287"/>
                  </a:lnTo>
                  <a:lnTo>
                    <a:pt x="575" y="240"/>
                  </a:lnTo>
                  <a:lnTo>
                    <a:pt x="521" y="208"/>
                  </a:lnTo>
                  <a:lnTo>
                    <a:pt x="460" y="201"/>
                  </a:lnTo>
                  <a:lnTo>
                    <a:pt x="399" y="208"/>
                  </a:lnTo>
                  <a:lnTo>
                    <a:pt x="342" y="240"/>
                  </a:lnTo>
                  <a:lnTo>
                    <a:pt x="297" y="287"/>
                  </a:lnTo>
                  <a:lnTo>
                    <a:pt x="259" y="351"/>
                  </a:lnTo>
                  <a:lnTo>
                    <a:pt x="226" y="434"/>
                  </a:lnTo>
                  <a:lnTo>
                    <a:pt x="205" y="534"/>
                  </a:lnTo>
                  <a:lnTo>
                    <a:pt x="192" y="649"/>
                  </a:lnTo>
                  <a:lnTo>
                    <a:pt x="188" y="778"/>
                  </a:lnTo>
                  <a:lnTo>
                    <a:pt x="192" y="904"/>
                  </a:lnTo>
                  <a:lnTo>
                    <a:pt x="205" y="1022"/>
                  </a:lnTo>
                  <a:lnTo>
                    <a:pt x="226" y="1123"/>
                  </a:lnTo>
                  <a:lnTo>
                    <a:pt x="259" y="1205"/>
                  </a:lnTo>
                  <a:lnTo>
                    <a:pt x="297" y="1270"/>
                  </a:lnTo>
                  <a:lnTo>
                    <a:pt x="342" y="1317"/>
                  </a:lnTo>
                  <a:lnTo>
                    <a:pt x="399" y="1349"/>
                  </a:lnTo>
                  <a:lnTo>
                    <a:pt x="460" y="1356"/>
                  </a:lnTo>
                  <a:close/>
                  <a:moveTo>
                    <a:pt x="460" y="1561"/>
                  </a:moveTo>
                  <a:lnTo>
                    <a:pt x="359" y="1543"/>
                  </a:lnTo>
                  <a:lnTo>
                    <a:pt x="269" y="1503"/>
                  </a:lnTo>
                  <a:lnTo>
                    <a:pt x="192" y="1442"/>
                  </a:lnTo>
                  <a:lnTo>
                    <a:pt x="125" y="1352"/>
                  </a:lnTo>
                  <a:lnTo>
                    <a:pt x="69" y="1234"/>
                  </a:lnTo>
                  <a:lnTo>
                    <a:pt x="31" y="1101"/>
                  </a:lnTo>
                  <a:lnTo>
                    <a:pt x="7" y="947"/>
                  </a:lnTo>
                  <a:lnTo>
                    <a:pt x="0" y="778"/>
                  </a:lnTo>
                  <a:lnTo>
                    <a:pt x="7" y="606"/>
                  </a:lnTo>
                  <a:lnTo>
                    <a:pt x="31" y="455"/>
                  </a:lnTo>
                  <a:lnTo>
                    <a:pt x="69" y="323"/>
                  </a:lnTo>
                  <a:lnTo>
                    <a:pt x="125" y="208"/>
                  </a:lnTo>
                  <a:lnTo>
                    <a:pt x="192" y="115"/>
                  </a:lnTo>
                  <a:lnTo>
                    <a:pt x="269" y="50"/>
                  </a:lnTo>
                  <a:lnTo>
                    <a:pt x="359" y="10"/>
                  </a:lnTo>
                  <a:lnTo>
                    <a:pt x="460" y="0"/>
                  </a:lnTo>
                  <a:lnTo>
                    <a:pt x="560" y="10"/>
                  </a:lnTo>
                  <a:lnTo>
                    <a:pt x="650" y="50"/>
                  </a:lnTo>
                  <a:lnTo>
                    <a:pt x="729" y="115"/>
                  </a:lnTo>
                  <a:lnTo>
                    <a:pt x="798" y="208"/>
                  </a:lnTo>
                  <a:lnTo>
                    <a:pt x="849" y="323"/>
                  </a:lnTo>
                  <a:lnTo>
                    <a:pt x="888" y="455"/>
                  </a:lnTo>
                  <a:lnTo>
                    <a:pt x="912" y="606"/>
                  </a:lnTo>
                  <a:lnTo>
                    <a:pt x="920" y="778"/>
                  </a:lnTo>
                  <a:lnTo>
                    <a:pt x="912" y="947"/>
                  </a:lnTo>
                  <a:lnTo>
                    <a:pt x="888" y="1101"/>
                  </a:lnTo>
                  <a:lnTo>
                    <a:pt x="849" y="1234"/>
                  </a:lnTo>
                  <a:lnTo>
                    <a:pt x="798" y="1352"/>
                  </a:lnTo>
                  <a:lnTo>
                    <a:pt x="729" y="1442"/>
                  </a:lnTo>
                  <a:lnTo>
                    <a:pt x="650" y="1503"/>
                  </a:lnTo>
                  <a:lnTo>
                    <a:pt x="560" y="1543"/>
                  </a:lnTo>
                  <a:lnTo>
                    <a:pt x="460" y="1561"/>
                  </a:lnTo>
                  <a:close/>
                </a:path>
              </a:pathLst>
            </a:custGeom>
            <a:solidFill>
              <a:srgbClr val="ff33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616800" y="3830760"/>
              <a:ext cx="284040" cy="550800"/>
            </a:xfrm>
            <a:custGeom>
              <a:avLst/>
              <a:gdLst/>
              <a:ahLst/>
              <a:rect l="l" t="t" r="r" b="b"/>
              <a:pathLst>
                <a:path w="790" h="1530">
                  <a:moveTo>
                    <a:pt x="614" y="1496"/>
                  </a:moveTo>
                  <a:lnTo>
                    <a:pt x="614" y="1213"/>
                  </a:lnTo>
                  <a:lnTo>
                    <a:pt x="539" y="1349"/>
                  </a:lnTo>
                  <a:lnTo>
                    <a:pt x="459" y="1446"/>
                  </a:lnTo>
                  <a:lnTo>
                    <a:pt x="369" y="1507"/>
                  </a:lnTo>
                  <a:lnTo>
                    <a:pt x="275" y="1529"/>
                  </a:lnTo>
                  <a:lnTo>
                    <a:pt x="214" y="1518"/>
                  </a:lnTo>
                  <a:lnTo>
                    <a:pt x="161" y="1496"/>
                  </a:lnTo>
                  <a:lnTo>
                    <a:pt x="114" y="1460"/>
                  </a:lnTo>
                  <a:lnTo>
                    <a:pt x="76" y="1407"/>
                  </a:lnTo>
                  <a:lnTo>
                    <a:pt x="41" y="1335"/>
                  </a:lnTo>
                  <a:lnTo>
                    <a:pt x="17" y="1259"/>
                  </a:lnTo>
                  <a:lnTo>
                    <a:pt x="5" y="1170"/>
                  </a:lnTo>
                  <a:lnTo>
                    <a:pt x="0" y="1073"/>
                  </a:lnTo>
                  <a:lnTo>
                    <a:pt x="0" y="0"/>
                  </a:lnTo>
                  <a:lnTo>
                    <a:pt x="174" y="0"/>
                  </a:lnTo>
                  <a:lnTo>
                    <a:pt x="174" y="987"/>
                  </a:lnTo>
                  <a:lnTo>
                    <a:pt x="174" y="1062"/>
                  </a:lnTo>
                  <a:lnTo>
                    <a:pt x="181" y="1127"/>
                  </a:lnTo>
                  <a:lnTo>
                    <a:pt x="191" y="1180"/>
                  </a:lnTo>
                  <a:lnTo>
                    <a:pt x="206" y="1224"/>
                  </a:lnTo>
                  <a:lnTo>
                    <a:pt x="223" y="1252"/>
                  </a:lnTo>
                  <a:lnTo>
                    <a:pt x="247" y="1274"/>
                  </a:lnTo>
                  <a:lnTo>
                    <a:pt x="275" y="1288"/>
                  </a:lnTo>
                  <a:lnTo>
                    <a:pt x="312" y="1295"/>
                  </a:lnTo>
                  <a:lnTo>
                    <a:pt x="388" y="1274"/>
                  </a:lnTo>
                  <a:lnTo>
                    <a:pt x="466" y="1213"/>
                  </a:lnTo>
                  <a:lnTo>
                    <a:pt x="541" y="1109"/>
                  </a:lnTo>
                  <a:lnTo>
                    <a:pt x="614" y="969"/>
                  </a:lnTo>
                  <a:lnTo>
                    <a:pt x="614" y="0"/>
                  </a:lnTo>
                  <a:lnTo>
                    <a:pt x="789" y="0"/>
                  </a:lnTo>
                  <a:lnTo>
                    <a:pt x="789" y="1496"/>
                  </a:lnTo>
                  <a:lnTo>
                    <a:pt x="614" y="1496"/>
                  </a:lnTo>
                </a:path>
              </a:pathLst>
            </a:custGeom>
            <a:solidFill>
              <a:srgbClr val="ff33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969240" y="3830760"/>
              <a:ext cx="330120" cy="538200"/>
            </a:xfrm>
            <a:custGeom>
              <a:avLst/>
              <a:gdLst/>
              <a:ahLst/>
              <a:rect l="l" t="t" r="r" b="b"/>
              <a:pathLst>
                <a:path w="917" h="1497">
                  <a:moveTo>
                    <a:pt x="359" y="1496"/>
                  </a:moveTo>
                  <a:lnTo>
                    <a:pt x="0" y="0"/>
                  </a:lnTo>
                  <a:lnTo>
                    <a:pt x="176" y="0"/>
                  </a:lnTo>
                  <a:lnTo>
                    <a:pt x="456" y="1155"/>
                  </a:lnTo>
                  <a:lnTo>
                    <a:pt x="751" y="0"/>
                  </a:lnTo>
                  <a:lnTo>
                    <a:pt x="916" y="0"/>
                  </a:lnTo>
                  <a:lnTo>
                    <a:pt x="535" y="1496"/>
                  </a:lnTo>
                  <a:lnTo>
                    <a:pt x="359" y="1496"/>
                  </a:lnTo>
                </a:path>
              </a:pathLst>
            </a:custGeom>
            <a:solidFill>
              <a:srgbClr val="ff33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338960" y="3819600"/>
              <a:ext cx="284040" cy="561960"/>
            </a:xfrm>
            <a:custGeom>
              <a:avLst/>
              <a:gdLst/>
              <a:ahLst/>
              <a:rect l="l" t="t" r="r" b="b"/>
              <a:pathLst>
                <a:path w="788" h="1562">
                  <a:moveTo>
                    <a:pt x="187" y="617"/>
                  </a:moveTo>
                  <a:lnTo>
                    <a:pt x="613" y="617"/>
                  </a:lnTo>
                  <a:lnTo>
                    <a:pt x="600" y="434"/>
                  </a:lnTo>
                  <a:lnTo>
                    <a:pt x="561" y="305"/>
                  </a:lnTo>
                  <a:lnTo>
                    <a:pt x="499" y="226"/>
                  </a:lnTo>
                  <a:lnTo>
                    <a:pt x="413" y="201"/>
                  </a:lnTo>
                  <a:lnTo>
                    <a:pt x="323" y="226"/>
                  </a:lnTo>
                  <a:lnTo>
                    <a:pt x="254" y="305"/>
                  </a:lnTo>
                  <a:lnTo>
                    <a:pt x="209" y="434"/>
                  </a:lnTo>
                  <a:lnTo>
                    <a:pt x="187" y="617"/>
                  </a:lnTo>
                  <a:close/>
                  <a:moveTo>
                    <a:pt x="783" y="1478"/>
                  </a:moveTo>
                  <a:lnTo>
                    <a:pt x="697" y="1510"/>
                  </a:lnTo>
                  <a:lnTo>
                    <a:pt x="619" y="1539"/>
                  </a:lnTo>
                  <a:lnTo>
                    <a:pt x="546" y="1550"/>
                  </a:lnTo>
                  <a:lnTo>
                    <a:pt x="482" y="1561"/>
                  </a:lnTo>
                  <a:lnTo>
                    <a:pt x="379" y="1543"/>
                  </a:lnTo>
                  <a:lnTo>
                    <a:pt x="289" y="1503"/>
                  </a:lnTo>
                  <a:lnTo>
                    <a:pt x="207" y="1435"/>
                  </a:lnTo>
                  <a:lnTo>
                    <a:pt x="136" y="1342"/>
                  </a:lnTo>
                  <a:lnTo>
                    <a:pt x="76" y="1220"/>
                  </a:lnTo>
                  <a:lnTo>
                    <a:pt x="32" y="1087"/>
                  </a:lnTo>
                  <a:lnTo>
                    <a:pt x="7" y="936"/>
                  </a:lnTo>
                  <a:lnTo>
                    <a:pt x="0" y="771"/>
                  </a:lnTo>
                  <a:lnTo>
                    <a:pt x="7" y="610"/>
                  </a:lnTo>
                  <a:lnTo>
                    <a:pt x="28" y="463"/>
                  </a:lnTo>
                  <a:lnTo>
                    <a:pt x="65" y="330"/>
                  </a:lnTo>
                  <a:lnTo>
                    <a:pt x="119" y="215"/>
                  </a:lnTo>
                  <a:lnTo>
                    <a:pt x="180" y="118"/>
                  </a:lnTo>
                  <a:lnTo>
                    <a:pt x="254" y="54"/>
                  </a:lnTo>
                  <a:lnTo>
                    <a:pt x="333" y="10"/>
                  </a:lnTo>
                  <a:lnTo>
                    <a:pt x="421" y="0"/>
                  </a:lnTo>
                  <a:lnTo>
                    <a:pt x="503" y="10"/>
                  </a:lnTo>
                  <a:lnTo>
                    <a:pt x="576" y="46"/>
                  </a:lnTo>
                  <a:lnTo>
                    <a:pt x="639" y="104"/>
                  </a:lnTo>
                  <a:lnTo>
                    <a:pt x="693" y="193"/>
                  </a:lnTo>
                  <a:lnTo>
                    <a:pt x="733" y="298"/>
                  </a:lnTo>
                  <a:lnTo>
                    <a:pt x="761" y="427"/>
                  </a:lnTo>
                  <a:lnTo>
                    <a:pt x="781" y="567"/>
                  </a:lnTo>
                  <a:lnTo>
                    <a:pt x="787" y="739"/>
                  </a:lnTo>
                  <a:lnTo>
                    <a:pt x="787" y="821"/>
                  </a:lnTo>
                  <a:lnTo>
                    <a:pt x="178" y="821"/>
                  </a:lnTo>
                  <a:lnTo>
                    <a:pt x="213" y="1055"/>
                  </a:lnTo>
                  <a:lnTo>
                    <a:pt x="282" y="1220"/>
                  </a:lnTo>
                  <a:lnTo>
                    <a:pt x="381" y="1320"/>
                  </a:lnTo>
                  <a:lnTo>
                    <a:pt x="514" y="1356"/>
                  </a:lnTo>
                  <a:lnTo>
                    <a:pt x="570" y="1352"/>
                  </a:lnTo>
                  <a:lnTo>
                    <a:pt x="634" y="1331"/>
                  </a:lnTo>
                  <a:lnTo>
                    <a:pt x="705" y="1302"/>
                  </a:lnTo>
                  <a:lnTo>
                    <a:pt x="783" y="1263"/>
                  </a:lnTo>
                  <a:lnTo>
                    <a:pt x="783" y="1478"/>
                  </a:lnTo>
                  <a:close/>
                </a:path>
              </a:pathLst>
            </a:custGeom>
            <a:solidFill>
              <a:srgbClr val="ff33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731000" y="3819600"/>
              <a:ext cx="192240" cy="550800"/>
            </a:xfrm>
            <a:custGeom>
              <a:avLst/>
              <a:gdLst/>
              <a:ahLst/>
              <a:rect l="l" t="t" r="r" b="b"/>
              <a:pathLst>
                <a:path w="534" h="1529">
                  <a:moveTo>
                    <a:pt x="0" y="1528"/>
                  </a:moveTo>
                  <a:lnTo>
                    <a:pt x="0" y="32"/>
                  </a:lnTo>
                  <a:lnTo>
                    <a:pt x="174" y="32"/>
                  </a:lnTo>
                  <a:lnTo>
                    <a:pt x="174" y="312"/>
                  </a:lnTo>
                  <a:lnTo>
                    <a:pt x="230" y="172"/>
                  </a:lnTo>
                  <a:lnTo>
                    <a:pt x="301" y="75"/>
                  </a:lnTo>
                  <a:lnTo>
                    <a:pt x="383" y="14"/>
                  </a:lnTo>
                  <a:lnTo>
                    <a:pt x="477" y="0"/>
                  </a:lnTo>
                  <a:lnTo>
                    <a:pt x="490" y="0"/>
                  </a:lnTo>
                  <a:lnTo>
                    <a:pt x="503" y="0"/>
                  </a:lnTo>
                  <a:lnTo>
                    <a:pt x="519" y="3"/>
                  </a:lnTo>
                  <a:lnTo>
                    <a:pt x="533" y="7"/>
                  </a:lnTo>
                  <a:lnTo>
                    <a:pt x="533" y="262"/>
                  </a:lnTo>
                  <a:lnTo>
                    <a:pt x="509" y="247"/>
                  </a:lnTo>
                  <a:lnTo>
                    <a:pt x="490" y="244"/>
                  </a:lnTo>
                  <a:lnTo>
                    <a:pt x="471" y="240"/>
                  </a:lnTo>
                  <a:lnTo>
                    <a:pt x="454" y="240"/>
                  </a:lnTo>
                  <a:lnTo>
                    <a:pt x="372" y="254"/>
                  </a:lnTo>
                  <a:lnTo>
                    <a:pt x="299" y="315"/>
                  </a:lnTo>
                  <a:lnTo>
                    <a:pt x="232" y="409"/>
                  </a:lnTo>
                  <a:lnTo>
                    <a:pt x="174" y="545"/>
                  </a:lnTo>
                  <a:lnTo>
                    <a:pt x="174" y="1528"/>
                  </a:lnTo>
                  <a:lnTo>
                    <a:pt x="0" y="1528"/>
                  </a:lnTo>
                </a:path>
              </a:pathLst>
            </a:custGeom>
            <a:solidFill>
              <a:srgbClr val="ff33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59600" y="3722760"/>
              <a:ext cx="196920" cy="658800"/>
            </a:xfrm>
            <a:custGeom>
              <a:avLst/>
              <a:gdLst/>
              <a:ahLst/>
              <a:rect l="l" t="t" r="r" b="b"/>
              <a:pathLst>
                <a:path w="549" h="1828">
                  <a:moveTo>
                    <a:pt x="544" y="1794"/>
                  </a:moveTo>
                  <a:lnTo>
                    <a:pt x="503" y="1805"/>
                  </a:lnTo>
                  <a:lnTo>
                    <a:pt x="467" y="1812"/>
                  </a:lnTo>
                  <a:lnTo>
                    <a:pt x="435" y="1819"/>
                  </a:lnTo>
                  <a:lnTo>
                    <a:pt x="404" y="1827"/>
                  </a:lnTo>
                  <a:lnTo>
                    <a:pt x="339" y="1816"/>
                  </a:lnTo>
                  <a:lnTo>
                    <a:pt x="284" y="1794"/>
                  </a:lnTo>
                  <a:lnTo>
                    <a:pt x="237" y="1758"/>
                  </a:lnTo>
                  <a:lnTo>
                    <a:pt x="196" y="1708"/>
                  </a:lnTo>
                  <a:lnTo>
                    <a:pt x="161" y="1640"/>
                  </a:lnTo>
                  <a:lnTo>
                    <a:pt x="138" y="1568"/>
                  </a:lnTo>
                  <a:lnTo>
                    <a:pt x="125" y="1478"/>
                  </a:lnTo>
                  <a:lnTo>
                    <a:pt x="121" y="1382"/>
                  </a:lnTo>
                  <a:lnTo>
                    <a:pt x="121" y="503"/>
                  </a:lnTo>
                  <a:lnTo>
                    <a:pt x="0" y="503"/>
                  </a:lnTo>
                  <a:lnTo>
                    <a:pt x="0" y="298"/>
                  </a:lnTo>
                  <a:lnTo>
                    <a:pt x="121" y="298"/>
                  </a:lnTo>
                  <a:lnTo>
                    <a:pt x="121" y="29"/>
                  </a:lnTo>
                  <a:lnTo>
                    <a:pt x="295" y="0"/>
                  </a:lnTo>
                  <a:lnTo>
                    <a:pt x="295" y="298"/>
                  </a:lnTo>
                  <a:lnTo>
                    <a:pt x="548" y="298"/>
                  </a:lnTo>
                  <a:lnTo>
                    <a:pt x="548" y="503"/>
                  </a:lnTo>
                  <a:lnTo>
                    <a:pt x="295" y="503"/>
                  </a:lnTo>
                  <a:lnTo>
                    <a:pt x="295" y="1331"/>
                  </a:lnTo>
                  <a:lnTo>
                    <a:pt x="303" y="1457"/>
                  </a:lnTo>
                  <a:lnTo>
                    <a:pt x="335" y="1550"/>
                  </a:lnTo>
                  <a:lnTo>
                    <a:pt x="387" y="1604"/>
                  </a:lnTo>
                  <a:lnTo>
                    <a:pt x="460" y="1622"/>
                  </a:lnTo>
                  <a:lnTo>
                    <a:pt x="477" y="1618"/>
                  </a:lnTo>
                  <a:lnTo>
                    <a:pt x="499" y="1618"/>
                  </a:lnTo>
                  <a:lnTo>
                    <a:pt x="521" y="1615"/>
                  </a:lnTo>
                  <a:lnTo>
                    <a:pt x="544" y="1608"/>
                  </a:lnTo>
                  <a:lnTo>
                    <a:pt x="544" y="1794"/>
                  </a:lnTo>
                </a:path>
              </a:pathLst>
            </a:custGeom>
            <a:solidFill>
              <a:srgbClr val="ff33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809880" y="3733920"/>
            <a:ext cx="3124440" cy="2430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