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BE9C-ABA2-454E-8125-F664EB575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C7F1-369C-4E4A-BBE2-A065DF47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253B-B0DE-413D-AE39-17731CA86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4D01-5440-4407-8077-E7D4C7B1E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51C3-78FB-4FA4-9A65-BC0FF1414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088C-C7C5-4427-A32A-27BF0AA2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607E-EAAB-4951-8D20-3C4C1C26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BB50-3FE8-4A1F-BD40-B030F1EC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2938-9FAD-467F-A8F7-C21327DD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4C64-BB98-4500-B5CA-1AF6393D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009F-6DF5-4DB3-864F-08C8A053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6379-FA9C-4BF8-A655-722FC4A8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9739-D9A7-4A58-9371-53758CFD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1ABE-51C6-4F7D-8344-9804EA5A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4B7A-4C64-45ED-8575-943139DE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3668-1EE1-42A2-8E7F-B7BCDAF8C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B2B7-F647-4296-808B-40AD62A2B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6629-B120-4A60-A54E-53F3454F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B761-1160-4774-87FD-AAF8D8A7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922F-9BEF-4ED9-B7D7-88F6416D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448E-8EBD-4F74-9947-5CCC8E7F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ECD0-C3C0-4F20-8CB4-D9CB26B4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15B4-5AB9-4DB6-85D3-1EF27779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5AA7-0F97-42DC-B334-DD064D53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868E-0C2F-43F1-B839-6F2CC5BD23F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DFD8-AF9D-40B4-A3EA-F69DC0966CC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3840" cy="1946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arler, lire, écrire en mathématique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800"/>
                </a:solidFill>
                <a:latin typeface="Comic Sans MS"/>
              </a:rPr>
              <a:t>Conséquen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érification régulière des cahi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ligation pour l’élève interrogé de parler suffisamment fort pour se faire entendre de to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 côté ludique qui a lassé car un seul élève actif pour 24 passif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Comic Sans MS"/>
              </a:rPr>
              <a:t>2ème ver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696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 élève pointe son doigt au hasard sur 2 élèves de la liste de la class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 élève interroge en posant 4 questions l’autre répo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l’interrogé a des difficultés sur une question il a droit a un joker: « le vote du public » ou « le coup de fil à un ami » (il m’arrive d’aider si l’élève a bien démarré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l’interrogé ne trouve pas la réponse, la question est renvoyée à l’interrogate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 travail d’évaluation concerne alors l’interrogateur et l’interrog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b2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Pertinence des questions / justesse des répon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b2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Précision du vocabulaire utilisé et clarté des questions / répon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b2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Volume sonore des orateu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800"/>
                </a:solidFill>
                <a:latin typeface="Comic Sans MS"/>
              </a:rPr>
              <a:t>Conséquen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696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ligation pour les élèves interrogés de parler suffisamment fort pour se faire entendre de to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 moins 2 élèves impliqués mais n’importe quel autre peut être appelé à l’aide d’où une attention accrue et des cahiers ouver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gumentation sur la difficulté des questions au moment de la notatio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gumentation sur l’expression de chacun au moment de la not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 côté ludique qui les accroch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0408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 exercice où il est facile d’obtenir une bonne no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Comic Sans MS"/>
              </a:rPr>
              <a:t>3ème ver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suivre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Récapitulatif des programmes du primaire </a:t>
            </a:r>
            <a:r>
              <a:rPr b="0" lang="en-US" sz="3200" spc="-1" strike="noStrike" u="sng">
                <a:solidFill>
                  <a:srgbClr val="6600ff"/>
                </a:solidFill>
                <a:uFillTx/>
                <a:latin typeface="Comic Sans MS"/>
              </a:rPr>
              <a:t>et de ceux du collè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s nouveaux programmes du primaire insistent sur l’importance de l’oral dans toutes les matières. Les mathématiques ont recours à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ngue usuel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 langage spécifiq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 notations et des symbo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 graphiques (figures, schémas, diagrammes…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3399"/>
                </a:solidFill>
                <a:latin typeface="Comic Sans MS"/>
              </a:rPr>
              <a:t>Par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483920"/>
            <a:ext cx="8062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lidation de la preuve travaillée d’abord à l’or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stral"/>
              </a:rPr>
              <a:t>Etapes de raisonn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stral"/>
              </a:rPr>
              <a:t>Communiquer, échang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stral"/>
              </a:rPr>
              <a:t>Argumen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pation du maximum d’élèves </a:t>
            </a:r>
            <a:r>
              <a:rPr b="0" lang="en-US" sz="2400" spc="-1" strike="noStrike">
                <a:solidFill>
                  <a:srgbClr val="000000"/>
                </a:solidFill>
                <a:latin typeface="Mistral"/>
              </a:rPr>
              <a:t>(notamment ceux qui ont des difficultés de lectur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Différence de signification dans le langage usuel et le langage mathématiques précis en faisant passer l’élève de « faire » à « faire faire ». C’est en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écrivant pour autrui que l’obligation d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précision apparaît comme une nécessit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3399"/>
                </a:solidFill>
                <a:latin typeface="Comic Sans MS"/>
              </a:rPr>
              <a:t>Li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Compréhension nécessaire du langage usuel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Comic Sans MS"/>
              </a:rPr>
              <a:t>et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des symboles mathématiques ainsi que des notions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évoquées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Au primaire, les situations sont la plupart du temps concrètes et exprimées dans un langage courant tandis qu’au collège la syntaxe et la formulation seront la source de difficultés supplémentaires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Savoir prendre des informations sur différents supports </a:t>
            </a:r>
            <a:r>
              <a:rPr b="0" lang="en-US" sz="2300" spc="-1" strike="noStrike">
                <a:solidFill>
                  <a:srgbClr val="000000"/>
                </a:solidFill>
                <a:latin typeface="Mistral"/>
              </a:rPr>
              <a:t>(textes tableaux, graphiques, schémas…)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3" marL="1568160" indent="-2239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Certains écrits de référence, souvent difficiles à décoder, demandent, pour être lus et compris un travail spécifique réalisé en classe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3399"/>
                </a:solidFill>
                <a:latin typeface="Comic Sans MS"/>
              </a:rPr>
              <a:t>Ecri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696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00cc"/>
                </a:solidFill>
                <a:uFillTx/>
                <a:latin typeface="Comic Sans MS"/>
              </a:rPr>
              <a:t>Ecrits de recherche: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ivés, brouillon, l’enseignant peut intervenir pour fair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vancer la recherche de l’élève mais ne doit en aucun ca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i les corriger ni les critiqu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00cc"/>
                </a:solidFill>
                <a:uFillTx/>
                <a:latin typeface="Comic Sans MS"/>
              </a:rPr>
              <a:t>Ecrits d’échange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ise en forme minimum pour être lisible et servir d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upport à un déba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00cc"/>
                </a:solidFill>
                <a:uFillTx/>
                <a:latin typeface="Comic Sans MS"/>
              </a:rPr>
              <a:t>Ecrits de référence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stral"/>
              </a:rPr>
              <a:t>Ecrits à conserv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stral"/>
              </a:rPr>
              <a:t>Institutionnalisation des éléments du savoir sous la responsabilité de l’enseignan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stral"/>
              </a:rPr>
              <a:t>Constitution d’une mémoire du travai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3399"/>
                </a:solidFill>
                <a:latin typeface="Comic Sans MS"/>
              </a:rPr>
              <a:t>En conclu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ce soit au primaire ou au collège, la place de l’oral est primordia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s lectures des énoncés, des notations et des symboles doivent se faire aussi souvent que possible en classe pour que les difficultés de lecture ne supplantent pas les difficultés mathématiqu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ant de passer aux écrits individuels la nécessité de développer, d’expliquer et argumenter son raisonnement reste indispensab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6960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55640" y="981000"/>
            <a:ext cx="712944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Kristen ITC"/>
              </a:rPr>
              <a:t>La main innocen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Kristen ITC"/>
              <a:ea typeface="Kristen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Comic Sans MS"/>
              </a:rPr>
              <a:t>1ère vers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 élève pointe son doigt au hasard sur la liste de la classe (d’où le nom du jeu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ndre le cahier d’un élève et interroger l’élève désigné en lui posant 4 questions de cou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mander aux autres élèves de la classe de l’évaluer en tenant compt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b2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de la justesse de ses répon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b2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de la précision du vocabulaire utilisé et de la clarté des explic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b2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du volume sonore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1T06:49:25Z</dcterms:created>
  <dc:creator>anne </dc:creator>
  <dc:description/>
  <dc:language>en-US</dc:language>
  <cp:lastModifiedBy>anne </cp:lastModifiedBy>
  <dcterms:modified xsi:type="dcterms:W3CDTF">2005-11-22T10:54:09Z</dcterms:modified>
  <cp:revision>22</cp:revision>
  <dc:subject/>
  <dc:title>Parler, lire, écrire en mathématiques</dc:title>
</cp:coreProperties>
</file>