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FD4-01F4-44FD-8B83-0819BB33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58A-D64A-41E0-87CF-51188C8E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2A4-CD77-42F4-9E15-8D49AF90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2FA-6CB7-42EA-AC99-084F32A0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F9A-5E4C-445C-9F84-7978756F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CDF5-D8AB-4F1F-B09C-B6D0FCE3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EBDB-03BA-4F50-B757-EA5DAA3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330-5D7B-4570-95EC-E440CD1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CE02-F974-45B5-B82D-37516884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5C05-FAE0-48C5-96DF-E3D4B709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9A10-878A-4D65-BFCB-9AAC186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4D7-9C0B-421D-B05E-BD8FEA2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F0BC-41A8-44FE-B244-0B9EA71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789C-57B8-4B21-9228-CA90B86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1D6E-44B3-4809-87BC-DC398368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62D4-70F6-4AFE-9299-D909DC64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8768-1BE9-4019-84FC-FAE65DE8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7A3-31C7-4DD9-A5B8-EEC7894A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51E-DD8F-411E-A673-011BCC0C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074-478A-42C8-A3D6-48835EC6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621-53A6-4AAD-81CD-8BE94B02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205-EF20-4BE9-A47F-59D4B57B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295-AE82-459B-A567-FE3C8D1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A50-99CE-4DD6-AB19-95AF4DA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9952-49DD-469A-82DA-02CF973FC9F7}" type="datetime">
              <a:rPr b="0" lang="fr-FR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313C-B05C-4B6A-9707-FC68AB0C17D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3B30-A262-4210-85DD-C7AF90676817}" type="datetime">
              <a:rPr b="0" lang="fr-FR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AD75-4D4E-441B-B77C-4BD9B7CAE61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5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Thèmes de convergence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36D5-2BE9-466D-9124-66B2CFCB06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6873E6C-FC47-4E54-A4C5-1E6752C117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Mais aussi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 histoire et géographie, l’élaboration de croquis simples à partir de données statistiques permet un lien direct entre deux discip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 éducation physique et sportive, le recueil de données peut avoir lieu au cours d‘activités (prise de pouls, vitesse moyenn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5DB-B033-4DD5-8866-2DE1DB32D8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F5ECF-4730-46D1-A7F7-58F448CF02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En conclusion,</a:t>
            </a:r>
            <a:br>
              <a:rPr sz="4000"/>
            </a:b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les programmes fourmillent de supports indiscutables pour l’apprentissage de la pensée statistique au collège.</a:t>
            </a:r>
            <a:br>
              <a:rPr sz="4000"/>
            </a:b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Un effort envers les autres disciplines est indispensable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               Soyons curieux 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951-D3CB-40F0-BAD9-7DE57248CD7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129D9-E9D0-4082-A908-9B21406954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Présentation généra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mathématiques existent à la fois comme discipline à part entière mais aussi comme discipline de service dans tout le domaine scientif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thèmes de convergence sont donc obligatoires mais ne font pas l’objet d’un enseignement spécifique et ne nécessitent pas un horaire supplémenta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9FA-1D54-414E-A567-423DB79CF8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F2C42-13BD-49DA-871C-8832755EBABF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7760" y="380880"/>
            <a:ext cx="6095880" cy="13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Les Thèm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77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 nombre limité de thèmes ont été retenus en tentant d’associer des domaines relevant de la culture scientifique et d’autres ayant une portée d’application direc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8C0-E7C2-43E9-9D5B-DDBE553DC1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ACA08-3E3F-4741-BAF9-A3A5BD3234D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ne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vironnement et développement d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étéorologie et climat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de de pensée statistique dans le regard scientifique sur le mon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an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écurit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8FA-4D7E-41F8-9700-D0FCE4381C3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2A0FF-132D-435A-9952-DA08BE2ABD30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ED3-FD81-4F37-9DFB-B355201190DF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7801-A5F1-4E64-AC82-B6F372B57D8D}" type="datetime">
              <a:rPr b="0" lang="fr-FR" sz="1400" spc="-1" strike="noStrike">
                <a:solidFill>
                  <a:srgbClr val="0099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Convergence entre les disciplin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our chaque enseignement, il s’agit de contribuer à l’appropriation par les élèves de savoirs relatifs à ces thè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ans certains cas, la discipline traite d’un thème dans ses objectifs propres; dans d’autres cas, le thème n’est qu’un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’après les textes officiels, les thèmes de convergence se prêtent particulièrement bien à une évaluation soit disciplinaire soit dans un cadre pluridisciplin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aléatoire est présent dans de très nombreux domaines de la vie courante: analyses médicales, prévisions météorologiques, sondage d’opinion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statistique a pour but essentiel de construire des modèles  pour expliquer ou prévo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Importance du mode de pensée statistique dans le regard scientifique sur le monde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520-F0F5-49F9-93DA-E4F27E4727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04277-6A1E-4AA2-8FC1-E37E2313D45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77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Au collèg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ule la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tie exploratoir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st mise en relief. Elle consiste à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bserver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cueill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naly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ésumer des donn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ED5-B3A6-4C3E-BBBC-96CCC39840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AB9AA-FF60-4470-AE31-DDA8EF178713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77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Trois types d’outil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Synthèse des observations: tableaux, effectifs, regroupements en classe, pourcentage, etc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Représentation: diagramme à barres, diagramme circulaire, histogramm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Caractérisation numérique d’une série statistique : médiane, moyenne, quart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D67-B0F1-4337-8C66-B21F2C043D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394C2-9F55-48F1-8480-CC38E7788BA7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Quelques points des programmes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523880"/>
          <a:ext cx="8686800" cy="40579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366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è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è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hémat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ctures et interprétations de diagrammes, tableaux, graphiq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rganisation de données en tableau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xes gradué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ctures et interprétations de diagrammes,  tableaux, graphiq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présentation d’une série statistique sous forme d’un tableau, d’ un diagramme, d’un graphiqu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alcul d’effectif, de fréquenc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groupement en class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ces de la vie et de la ter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épartition des êtres vivants et caractérisation des milieux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roissanc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imentation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fluence de l’alcool sur le comportement du conducteu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ollution et maladies respiratoir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ssources géologiq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63B-4775-41CB-9904-BF1ADC883CC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A4548-ED5F-4397-9C11-3E7D07CE9CE5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prMath</cp:lastModifiedBy>
  <dcterms:modified xsi:type="dcterms:W3CDTF">2005-11-20T21:10:46Z</dcterms:modified>
  <cp:revision>7</cp:revision>
  <dc:subject/>
  <dc:title>Présentation PowerPoint</dc:title>
</cp:coreProperties>
</file>