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4FFF-9AC3-4531-9F5C-F03E0FB43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2E88-F569-404B-8BDC-DEF4D2F43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194A-ABD3-4D7F-A139-97E8BE08C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4048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0480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167652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84048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00480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7951-ACAC-447E-8F26-0E44B87B7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FE6DC-18E4-48FB-BE43-BA20BF0D4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61BB2-3212-49F9-8E99-8A55B3062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8664F-3383-4A89-9513-2A21A72AA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AAAB2-0BA6-4EE0-A5EF-DC011A38E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60478-97C8-4CEC-A62C-5CD3739A8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676520" y="1904760"/>
            <a:ext cx="7238880" cy="88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3C054-8FCA-4A1C-BB51-313763C18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EC3E9-3397-450F-B007-315EDAB2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50CD-1342-4196-BFCB-427F06B58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B5A71-F009-4D95-9A5D-24CAEC17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79D20-9968-40FB-ACAC-A3671DAC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6D5F1-D78C-4AAD-9D28-23F9A9E12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73D93-336C-464F-995A-10B9C7409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84048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0480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67652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84048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0480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041B9-9DA6-49FF-802D-788D35156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4245-874F-47EE-825D-855D63443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9F22-919B-4866-86FC-DD475136E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EE3A-3656-4C29-B732-D84845D3D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676520" y="1904760"/>
            <a:ext cx="7238880" cy="88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5087-8243-4F52-A74C-A02C5FB17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1FEE-42B6-4CC6-81EB-6EF37DAE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79FB-0006-4EE1-9499-8B2CDEC5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2A67-0DA8-4F41-95E0-08FD7782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AF544-4BF5-4E60-898F-4B586074CC8A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56561-8A32-4B2D-9C62-B357D453DF2A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224640"/>
            <a:ext cx="91440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ffcc00"/>
                </a:solidFill>
                <a:latin typeface="Arial"/>
              </a:rPr>
              <a:t>Quelle place pour le calcul mental</a:t>
            </a:r>
            <a:br>
              <a:rPr sz="4000"/>
            </a:br>
            <a:br>
              <a:rPr sz="4000"/>
            </a:br>
            <a:r>
              <a:rPr b="1" i="1" lang="fr-FR" sz="4000" spc="-1" strike="noStrike">
                <a:solidFill>
                  <a:srgbClr val="ffcc00"/>
                </a:solidFill>
                <a:latin typeface="Arial"/>
              </a:rPr>
              <a:t>dans nos pratiques en classe ?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2590920"/>
            <a:ext cx="91440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ffff"/>
                </a:solidFill>
                <a:latin typeface="Arial"/>
              </a:rPr>
              <a:t>Les Program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ffff"/>
                </a:solidFill>
                <a:latin typeface="Arial"/>
              </a:rPr>
              <a:t>« …le calcul mental sous toutes ses formes (résultats mémorisés, calcul réfléchi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ffff"/>
                </a:solidFill>
                <a:latin typeface="Arial"/>
              </a:rPr>
              <a:t>occupe la place principale et accompagne l’us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fr-FR" sz="3200" spc="-1" strike="noStrike">
                <a:solidFill>
                  <a:srgbClr val="ffffff"/>
                </a:solidFill>
                <a:latin typeface="Arial"/>
              </a:rPr>
              <a:t>intelligent d’une calculatrice ordinaire… 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cc00"/>
                </a:solidFill>
                <a:latin typeface="Arial Black"/>
              </a:rPr>
              <a:t>LES REPONS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676160" y="23623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ORAL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ÉCR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Possibilité d’un </a:t>
            </a:r>
            <a:r>
              <a:rPr b="0" lang="fr-FR" sz="3200" spc="-1" strike="noStrike">
                <a:solidFill>
                  <a:srgbClr val="ffcc00"/>
                </a:solidFill>
                <a:latin typeface="Arial"/>
              </a:rPr>
              <a:t>écrit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ffcc00"/>
                </a:solidFill>
                <a:latin typeface="Arial"/>
              </a:rPr>
              <a:t>intermédiaire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pour soulager la mémoi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1240" y="1447920"/>
            <a:ext cx="365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Elles peuvent être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09880" y="6095880"/>
            <a:ext cx="533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cc00"/>
                </a:solidFill>
                <a:latin typeface="Arial"/>
              </a:rPr>
              <a:t>EN TEMPS LIMI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cc00"/>
                </a:solidFill>
                <a:latin typeface="Arial Black"/>
              </a:rPr>
              <a:t>CORREC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IMMEDI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A l’issue de chaque répon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ecadrage rapide pour les élèves hésitan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ajustement pédagogique immédia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A LA FIN de la sér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91120" y="6095880"/>
            <a:ext cx="5333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cc00"/>
                </a:solidFill>
                <a:latin typeface="Arial"/>
              </a:rPr>
              <a:t>EN TEMPS LIMI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cc00"/>
                </a:solidFill>
                <a:latin typeface="Arial Black"/>
              </a:rPr>
              <a:t>MATERIEL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Ardo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Feuil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Cahier avec autocorr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ou échange entre élèves et corr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Ordinateur (salle multimédi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troprojecteur ou Vidéo projecte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2271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cc00"/>
                </a:solidFill>
                <a:latin typeface="Arial Black"/>
              </a:rPr>
              <a:t>DEROULEMEN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10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c00"/>
                </a:solidFill>
                <a:latin typeface="Arial"/>
              </a:rPr>
              <a:t>PHASE D’ ECHAUFFEMENT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Très brève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Met les élèves en condition d’écoute et de concentr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c00"/>
                </a:solidFill>
                <a:latin typeface="Arial"/>
              </a:rPr>
              <a:t>PHASE D’ AUTOMAT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Avec des calculs simples en jouant sur les différentes variables en jeu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Fait appel à des connaissances ou des procédures qui doivent être directement disponibles et rappelées éventuellement à la corr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c00"/>
                </a:solidFill>
                <a:latin typeface="Arial"/>
              </a:rPr>
              <a:t>PHASE DE CALCUL REFLECHI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Plus complexe. Toutes les procédures sont possib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a correction permettra de les confronter et fera apparaître éventuellement la plus adapté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5328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800" spc="-1" strike="noStrike">
                <a:solidFill>
                  <a:srgbClr val="ffcc00"/>
                </a:solidFill>
                <a:latin typeface="Arial"/>
              </a:rPr>
              <a:t>Quelle(s) progression(s) au collège ?</a:t>
            </a:r>
            <a:r>
              <a:rPr b="0" lang="fr-FR" sz="4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2743200"/>
            <a:ext cx="91440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Nécessité d’avoir à chaque niveau ( de chaque classe ? )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Une </a:t>
            </a:r>
            <a:r>
              <a:rPr b="0" lang="fr-FR" sz="3200" spc="-1" strike="noStrike">
                <a:solidFill>
                  <a:srgbClr val="ffcc00"/>
                </a:solidFill>
                <a:latin typeface="Arial"/>
              </a:rPr>
              <a:t>progression annuel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Un </a:t>
            </a:r>
            <a:r>
              <a:rPr b="0" lang="fr-FR" sz="3200" spc="-1" strike="noStrike">
                <a:solidFill>
                  <a:srgbClr val="ffcc00"/>
                </a:solidFill>
                <a:latin typeface="Arial"/>
              </a:rPr>
              <a:t>répertoire des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ffcc00"/>
                </a:solidFill>
                <a:latin typeface="Arial"/>
              </a:rPr>
              <a:t>contenus incontourn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Nécessité d’établir des progressions communes entre collèg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59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5400" spc="-1" strike="noStrike">
                <a:solidFill>
                  <a:srgbClr val="ffcc00"/>
                </a:solidFill>
                <a:latin typeface="Arial"/>
              </a:rPr>
              <a:t>EN CONCLUSION</a:t>
            </a:r>
            <a:br>
              <a:rPr sz="4000"/>
            </a:br>
            <a:br>
              <a:rPr sz="4000"/>
            </a:br>
            <a:r>
              <a:rPr b="1" i="1" lang="fr-FR" sz="4800" spc="-1" strike="noStrike">
                <a:solidFill>
                  <a:srgbClr val="ffcc00"/>
                </a:solidFill>
                <a:latin typeface="Arial"/>
              </a:rPr>
              <a:t>Rendre cet outil pédagogique dynamique en lui donnant une place reconnue par les élèves (évaluation et notation)</a:t>
            </a:r>
            <a:br>
              <a:rPr sz="4800"/>
            </a:b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cc00"/>
                </a:solidFill>
                <a:latin typeface="Arial Black"/>
              </a:rPr>
              <a:t>La pratique </a:t>
            </a:r>
            <a:br>
              <a:rPr sz="4400"/>
            </a:br>
            <a:r>
              <a:rPr b="0" lang="fr-FR" sz="4400" spc="-1" strike="noStrike">
                <a:solidFill>
                  <a:srgbClr val="ffcc00"/>
                </a:solidFill>
                <a:latin typeface="Arial Black"/>
              </a:rPr>
              <a:t>du calcul mental</a:t>
            </a:r>
            <a:br>
              <a:rPr sz="4400"/>
            </a:br>
            <a:r>
              <a:rPr b="0" lang="fr-FR" sz="4400" spc="-1" strike="noStrike">
                <a:solidFill>
                  <a:srgbClr val="ffcc00"/>
                </a:solidFill>
                <a:latin typeface="Arial Black"/>
              </a:rPr>
              <a:t>est complémentaire</a:t>
            </a:r>
            <a:br>
              <a:rPr sz="4400"/>
            </a:br>
            <a:r>
              <a:rPr b="0" lang="fr-FR" sz="4400" spc="-1" strike="noStrike">
                <a:solidFill>
                  <a:srgbClr val="ffcc00"/>
                </a:solidFill>
                <a:latin typeface="Arial Black"/>
              </a:rPr>
              <a:t> des pratiques habituelles. </a:t>
            </a:r>
            <a:br>
              <a:rPr sz="4400"/>
            </a:br>
            <a:br>
              <a:rPr sz="4400"/>
            </a:br>
            <a:r>
              <a:rPr b="0" lang="fr-FR" sz="4400" spc="-1" strike="noStrike">
                <a:solidFill>
                  <a:srgbClr val="ffcc00"/>
                </a:solidFill>
                <a:latin typeface="Arial Black"/>
              </a:rPr>
              <a:t>Elle occupe</a:t>
            </a:r>
            <a:br>
              <a:rPr sz="4400"/>
            </a:br>
            <a:r>
              <a:rPr b="0" lang="fr-FR" sz="4400" spc="-1" strike="noStrike">
                <a:solidFill>
                  <a:srgbClr val="ffcc00"/>
                </a:solidFill>
                <a:latin typeface="Arial Black"/>
              </a:rPr>
              <a:t> une place spécifique </a:t>
            </a:r>
            <a:br>
              <a:rPr sz="4400"/>
            </a:br>
            <a:r>
              <a:rPr b="0" lang="fr-FR" sz="4400" spc="-1" strike="noStrike">
                <a:solidFill>
                  <a:srgbClr val="ffcc00"/>
                </a:solidFill>
                <a:latin typeface="Arial Black"/>
              </a:rPr>
              <a:t>comme d’autres dispositifs</a:t>
            </a:r>
            <a:br>
              <a:rPr sz="4400"/>
            </a:br>
            <a:r>
              <a:rPr b="0" lang="fr-FR" sz="4400" spc="-1" strike="noStrike">
                <a:solidFill>
                  <a:srgbClr val="ffcc00"/>
                </a:solidFill>
                <a:latin typeface="Arial Black"/>
              </a:rPr>
              <a:t> dans la classe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7160"/>
            <a:ext cx="7772400" cy="10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cc00"/>
                </a:solidFill>
                <a:latin typeface="Arial Black"/>
              </a:rPr>
              <a:t>CALCUL MENTAL</a:t>
            </a:r>
            <a:br>
              <a:rPr sz="4400"/>
            </a:br>
            <a:r>
              <a:rPr b="0" lang="fr-FR" sz="2000" spc="-1" strike="noStrike">
                <a:solidFill>
                  <a:srgbClr val="ffcc00"/>
                </a:solidFill>
                <a:latin typeface="Arial Black"/>
              </a:rPr>
              <a:t>Priorité des priorité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7617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Évaluations officielles nation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Le calcul mental apparaît clairement dans les évaluations CE2 et sixiè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Nouveaux programm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Le calcul mental est une priorité des nouveaux programmes de primaire et de collège d’où la nécessité d’un travail d’articulation CM2- sixiè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Liaison CM2 - 6è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525780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Consulter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ce157"/>
                </a:solidFill>
                <a:latin typeface="Bradley Hand ITC"/>
              </a:rPr>
              <a:t>LES NOUVEAUX PROGRAMMES DE L’ÉCOLE PRIMA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ce157"/>
                </a:solidFill>
                <a:latin typeface="Bradley Hand ITC"/>
              </a:rPr>
              <a:t> </a:t>
            </a:r>
            <a:r>
              <a:rPr b="1" lang="fr-FR" sz="2400" spc="-1" strike="noStrike">
                <a:solidFill>
                  <a:srgbClr val="9ce157"/>
                </a:solidFill>
                <a:latin typeface="Bradley Hand ITC"/>
              </a:rPr>
              <a:t>Mathématiques  document d’accompagn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-1440"/>
            <a:ext cx="7772400" cy="10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cc00"/>
                </a:solidFill>
                <a:latin typeface="Arial Black"/>
              </a:rPr>
              <a:t>CALCUL MENTAL</a:t>
            </a:r>
            <a:br>
              <a:rPr sz="4400"/>
            </a:br>
            <a:r>
              <a:rPr b="0" lang="fr-FR" sz="2000" spc="-1" strike="noStrike">
                <a:solidFill>
                  <a:srgbClr val="ffcc00"/>
                </a:solidFill>
                <a:latin typeface="Arial Black"/>
              </a:rPr>
              <a:t>développement de l’attention et de la mémoire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Arial"/>
              </a:rPr>
              <a:t>Acquisition de mécanismes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util indispensable à la connaissance des nombr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x : 15 = 10 + 5 et inversement 10 + 5 = 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15 = 6 + 9 et inversement 6 + 9 = 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56 = 7 </a:t>
            </a:r>
            <a:r>
              <a:rPr b="0" lang="fr-FR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8 et inversement 7 </a:t>
            </a:r>
            <a:r>
              <a:rPr b="0" lang="fr-FR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8 = 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Arial"/>
              </a:rPr>
              <a:t>Procédures multip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Préparer l’élève à des tâches de calcul raisonné plus complexes </a:t>
            </a:r>
            <a:r>
              <a:rPr b="0" lang="fr-FR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Calcul algébrique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x :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–7</a:t>
            </a:r>
            <a:r>
              <a:rPr b="0" lang="fr-FR" sz="2000" spc="-1" strike="noStrike">
                <a:solidFill>
                  <a:srgbClr val="ffffff"/>
                </a:solidFill>
                <a:latin typeface="CommercialScriptTwo"/>
              </a:rPr>
              <a:t>x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+ 2</a:t>
            </a:r>
            <a:r>
              <a:rPr b="0" lang="fr-FR" sz="2000" spc="-1" strike="noStrike">
                <a:solidFill>
                  <a:srgbClr val="ffffff"/>
                </a:solidFill>
                <a:latin typeface="CommercialScriptTwo"/>
              </a:rPr>
              <a:t>x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= (-7+2)</a:t>
            </a:r>
            <a:r>
              <a:rPr b="0" lang="fr-FR" sz="2000" spc="-1" strike="noStrike">
                <a:solidFill>
                  <a:srgbClr val="ffffff"/>
                </a:solidFill>
                <a:latin typeface="CommercialScriptTwo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Préparer l’élève aux propriétés des opé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asser d’une utilisation implicite à une utilisation plus formelle (distributivité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Moyen de contrôle et d’anticipation, aide à la résolution de problèmes (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Ordre de grandeur dans la vie courant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itiation au raisonnement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(mise en œuvre de stratégi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cc00"/>
                </a:solidFill>
                <a:latin typeface="Arial Black"/>
              </a:rPr>
              <a:t>CALCUL MENTAL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80880" y="990720"/>
          <a:ext cx="8458200" cy="4797360"/>
        </p:xfrm>
        <a:graphic>
          <a:graphicData uri="http://schemas.openxmlformats.org/drawingml/2006/table">
            <a:tbl>
              <a:tblPr/>
              <a:tblGrid>
                <a:gridCol w="2592360"/>
                <a:gridCol w="2667240"/>
                <a:gridCol w="31986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MORI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TOMATI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FLECH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9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l nécessite des connaissances directement disponibl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cédures immédiatement disponibl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l s’agit d’élaborer une stratégie dans un type de calcul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’élève choisit la plus adaptée de son point de vue, ses connaissances disponibles ou aux contenus mis en jeu…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 table de multiplication par 5 </a:t>
                      </a:r>
                      <a:r>
                        <a:rPr b="0" i="1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u du furet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 quart de cent, moitié, double……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 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4 , 25 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5 …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Écrire 32 comme un produit de deux nombr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 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12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 25 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4 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 25 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10 + 25 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 12 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100 / 2 / 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360" y="227880"/>
            <a:ext cx="8534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c00"/>
                </a:solidFill>
                <a:latin typeface="Arial Black"/>
              </a:rPr>
              <a:t>EXEMPLE de fiche </a:t>
            </a:r>
            <a:r>
              <a:rPr b="0" lang="fr-FR" sz="2000" spc="-1" strike="noStrike">
                <a:solidFill>
                  <a:srgbClr val="ffcc00"/>
                </a:solidFill>
                <a:latin typeface="Arial Black"/>
              </a:rPr>
              <a:t>pour calculs automatisé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80880" y="792000"/>
          <a:ext cx="7775640" cy="6066000"/>
        </p:xfrm>
        <a:graphic>
          <a:graphicData uri="http://schemas.openxmlformats.org/drawingml/2006/table">
            <a:tbl>
              <a:tblPr/>
              <a:tblGrid>
                <a:gridCol w="2441520"/>
                <a:gridCol w="2740320"/>
                <a:gridCol w="2593800"/>
              </a:tblGrid>
              <a:tr h="180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ME:</a:t>
                      </a:r>
                      <a:r>
                        <a:rPr b="0" lang="fr-FR" sz="1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Nombres entier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IGNES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(Le contrôle en classe est calqué sur les trois séries d’entraînemen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Tables: multiplication,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)  Replier le bas de la pa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)  Réviser le cour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) Préparer une feuille en l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)    Répondre en 5, 10 mi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)     Compter 1 point par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Addition, soustrac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 utiliser un cach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érotant de 1 à 10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i calculatrice ni pos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nne répon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7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RIE n°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)25+19 =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)104 - 39=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)8 x 7 =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)9 x 5 =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) (6 x 8) + (4 x 5) =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)128 - 36 =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)279 + 23 =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)12500 + 600 =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)5600 – 700 =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) 12 x 7 =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RIE n°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)104+59 =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)532 - 79=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) (5 x 7) + (3x 9) =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)11 x 8 =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) 6 x 13 =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)128 - 19 =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)435 + 39 =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) 623 – 24 =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) 47000 + 8000 =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) 5600 – 700 =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RIE n°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) 421 x 3=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) 279+23 =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) 128 -19 =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) 21 + 276 =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) 111 x 8 =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) (6 x 7) + (5 x 3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) 39 + 436=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)732 x 0 =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)626 – 27 =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) 59 + 162 =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RECTION SERI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GLES à reteni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ertissement: C’est super d’avoir les réponses, mai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ême le prof peut faire des erreurs!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>
            <a:off x="8381880" y="0"/>
            <a:ext cx="762120" cy="69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ce157"/>
                </a:solidFill>
                <a:latin typeface="Bradley Hand ITC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ce157"/>
                </a:solidFill>
                <a:latin typeface="Bradley Hand ITC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ce157"/>
                </a:solidFill>
                <a:latin typeface="Bradley Hand ITC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ce157"/>
                </a:solidFill>
                <a:latin typeface="Bradley Hand ITC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ce157"/>
                </a:solidFill>
                <a:latin typeface="Bradley Hand ITC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ce157"/>
                </a:solidFill>
                <a:latin typeface="Bradley Hand ITC"/>
              </a:rPr>
              <a:t>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ce157"/>
                </a:solidFill>
                <a:latin typeface="Bradley Hand ITC"/>
              </a:rPr>
              <a:t>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ce157"/>
                </a:solidFill>
                <a:latin typeface="Bradley Hand ITC"/>
              </a:rPr>
              <a:t>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ce157"/>
                </a:solidFill>
                <a:latin typeface="Bradley Hand ITC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ce157"/>
                </a:solidFill>
                <a:latin typeface="Bradley Hand ITC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ce157"/>
                </a:solidFill>
                <a:latin typeface="Bradley Hand ITC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ce157"/>
                </a:solidFill>
                <a:latin typeface="Bradley Hand ITC"/>
              </a:rPr>
              <a:t>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ce157"/>
                </a:solidFill>
                <a:latin typeface="Bradley Hand ITC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ce157"/>
                </a:solidFill>
                <a:latin typeface="Bradley Hand ITC"/>
              </a:rPr>
              <a:t>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ce157"/>
                </a:solidFill>
                <a:latin typeface="Bradley Hand ITC"/>
              </a:rPr>
              <a:t>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ce157"/>
                </a:solidFill>
                <a:latin typeface="Bradley Hand ITC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58320"/>
            <a:ext cx="8610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cc00"/>
                </a:solidFill>
                <a:latin typeface="Arial Black"/>
              </a:rPr>
              <a:t>EXEMPLE : </a:t>
            </a:r>
            <a:r>
              <a:rPr b="0" lang="fr-FR" sz="3200" spc="-1" strike="noStrike">
                <a:solidFill>
                  <a:srgbClr val="ffcc00"/>
                </a:solidFill>
                <a:latin typeface="Arial Black"/>
              </a:rPr>
              <a:t>LE COMPTE EST BON 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304920" y="3429000"/>
          <a:ext cx="8153280" cy="3228840"/>
        </p:xfrm>
        <a:graphic>
          <a:graphicData uri="http://schemas.openxmlformats.org/drawingml/2006/table">
            <a:tbl>
              <a:tblPr/>
              <a:tblGrid>
                <a:gridCol w="1412640"/>
                <a:gridCol w="2397240"/>
                <a:gridCol w="1981080"/>
                <a:gridCol w="23623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br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à trouv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bres à utilis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lcu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rec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; 4 ; 3 ; 20 ; 5 ; 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; 10 ; 2 ; 1 ; 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; 5 ; 25 ; 45 ; 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; 6 ; 2 ; 10 ; 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; 2 ; 5 ; 40 ; 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; 10 ; 25 ; 2 ; 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"/>
          <p:cNvSpPr/>
          <p:nvPr/>
        </p:nvSpPr>
        <p:spPr>
          <a:xfrm>
            <a:off x="228600" y="762120"/>
            <a:ext cx="632448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Voici une série de petits déf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A l’aide des nombres que tu as à ta dispositio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tu dois trouver un calcul pour arriver au nombre écrit dans la case gri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Attention, tu ne peux utiliser qu’une seule fois chaque nombre, mais tu n’es pas obligé de les utiliser tous 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msotw9_temp0" descr=""/>
          <p:cNvPicPr/>
          <p:nvPr/>
        </p:nvPicPr>
        <p:blipFill>
          <a:blip r:embed="rId1"/>
          <a:srcRect l="0" t="9095" r="0" b="6058"/>
          <a:stretch/>
        </p:blipFill>
        <p:spPr>
          <a:xfrm>
            <a:off x="6400800" y="762120"/>
            <a:ext cx="22986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cc00"/>
                </a:solidFill>
                <a:latin typeface="Arial Black"/>
              </a:rPr>
              <a:t>EXEMPLE</a:t>
            </a:r>
            <a:r>
              <a:rPr b="0" lang="fr-FR" sz="4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fr-FR" sz="2800" spc="-1" strike="noStrike">
                <a:solidFill>
                  <a:srgbClr val="ffcc00"/>
                </a:solidFill>
                <a:latin typeface="Arial Black"/>
              </a:rPr>
              <a:t>pour CALCUL REFLECHI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48320" y="129492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Activité de l’élè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Recherc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Argu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Donner du sens aux apprentiss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Contrôle des résultats (Ordre de grandeur, calculatrice …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msotw9_temp0" descr=""/>
          <p:cNvPicPr/>
          <p:nvPr/>
        </p:nvPicPr>
        <p:blipFill>
          <a:blip r:embed="rId6"/>
          <a:srcRect l="0" t="6351" r="0" b="0"/>
          <a:stretch/>
        </p:blipFill>
        <p:spPr>
          <a:xfrm>
            <a:off x="685800" y="1143000"/>
            <a:ext cx="3657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cc00"/>
                </a:solidFill>
                <a:latin typeface="Arial Black"/>
              </a:rPr>
              <a:t>L’ ENONC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6933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OR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ECR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Persist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cff"/>
                </a:solidFill>
                <a:latin typeface="Arial"/>
              </a:rPr>
              <a:t>Ex: Calculer l’expression 2</a:t>
            </a:r>
            <a:r>
              <a:rPr b="0" lang="fr-FR" sz="2800" spc="-1" strike="noStrike">
                <a:solidFill>
                  <a:srgbClr val="ffccff"/>
                </a:solidFill>
                <a:latin typeface="CommercialScriptTwo"/>
              </a:rPr>
              <a:t>x </a:t>
            </a:r>
            <a:r>
              <a:rPr b="0" lang="fr-FR" sz="2400" spc="-1" strike="noStrike">
                <a:solidFill>
                  <a:srgbClr val="ffccff"/>
                </a:solidFill>
                <a:latin typeface="Arial"/>
              </a:rPr>
              <a:t>+ 5 quand </a:t>
            </a:r>
            <a:r>
              <a:rPr b="0" lang="fr-FR" sz="2800" spc="-1" strike="noStrike">
                <a:solidFill>
                  <a:srgbClr val="ffccff"/>
                </a:solidFill>
                <a:latin typeface="CommercialScriptTwo"/>
              </a:rPr>
              <a:t>x</a:t>
            </a:r>
            <a:r>
              <a:rPr b="0" lang="fr-FR" sz="2400" spc="-1" strike="noStrike">
                <a:solidFill>
                  <a:srgbClr val="ffccff"/>
                </a:solidFill>
                <a:latin typeface="CommercialScriptTwo"/>
              </a:rPr>
              <a:t> </a:t>
            </a:r>
            <a:r>
              <a:rPr b="0" lang="fr-FR" sz="2400" spc="-1" strike="noStrike">
                <a:solidFill>
                  <a:srgbClr val="ffccff"/>
                </a:solidFill>
                <a:latin typeface="Arial"/>
              </a:rPr>
              <a:t>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’objectif étant le calcul de l’expression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n soulage l’élève de l’effort de mémoriser </a:t>
            </a:r>
            <a:r>
              <a:rPr b="0" lang="fr-FR" sz="2400" spc="-1" strike="noStrike">
                <a:solidFill>
                  <a:srgbClr val="ffcc00"/>
                </a:solidFill>
                <a:latin typeface="Arial"/>
              </a:rPr>
              <a:t>l’expression qui reste écrite au tableau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Tempora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’enseignant décide </a:t>
            </a:r>
            <a:r>
              <a:rPr b="0" lang="fr-FR" sz="2400" spc="-1" strike="noStrike">
                <a:solidFill>
                  <a:srgbClr val="ffcc00"/>
                </a:solidFill>
                <a:latin typeface="Arial"/>
              </a:rPr>
              <a:t>d’effacer l’expression au bout d’un temps déterminé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par l’objectif vis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8280" y="1066680"/>
            <a:ext cx="232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Il peut être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5400000">
            <a:off x="6094440" y="2970720"/>
            <a:ext cx="533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cc00"/>
                </a:solidFill>
                <a:latin typeface="Arial"/>
              </a:rPr>
              <a:t>EN TEMPS LIMI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cc00"/>
                </a:solidFill>
                <a:latin typeface="Arial Black"/>
              </a:rPr>
              <a:t>TYPE DE TACH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Travail sur la technique 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questions fermées sur le calcul numériqu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une seule réponse attendue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cff"/>
                </a:solidFill>
                <a:latin typeface="Arial"/>
              </a:rPr>
              <a:t>Ex : le double de 5, le tiers de 9 …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Q.C.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Vrai-Faux en calcul réfléchi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fr-FR" sz="2400" spc="-1" strike="noStrike">
                <a:solidFill>
                  <a:srgbClr val="ffccff"/>
                </a:solidFill>
                <a:latin typeface="Arial"/>
              </a:rPr>
              <a:t>Ex : le double de 3 est 9 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c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cc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ccff"/>
                </a:solidFill>
                <a:latin typeface="Arial"/>
              </a:rPr>
              <a:t>Faux car le double c’est </a:t>
            </a:r>
            <a:r>
              <a:rPr b="0" lang="fr-FR" sz="2400" spc="-1" strike="noStrike">
                <a:solidFill>
                  <a:srgbClr val="ffcc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ccff"/>
                </a:solidFill>
                <a:latin typeface="Arial"/>
              </a:rPr>
              <a:t>2 x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c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cc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cc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cc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ccff"/>
                </a:solidFill>
                <a:latin typeface="Arial"/>
              </a:rPr>
              <a:t>ou     c’est </a:t>
            </a:r>
            <a:r>
              <a:rPr b="0" lang="fr-FR" sz="2400" spc="-1" strike="noStrike">
                <a:solidFill>
                  <a:srgbClr val="ffcc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ccff"/>
                </a:solidFill>
                <a:latin typeface="Arial"/>
              </a:rPr>
              <a:t>multiplier par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c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cc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cc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cc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ccff"/>
                </a:solidFill>
                <a:latin typeface="Arial"/>
              </a:rPr>
              <a:t>ou     c’est </a:t>
            </a:r>
            <a:r>
              <a:rPr b="0" lang="fr-FR" sz="2400" spc="-1" strike="noStrike">
                <a:solidFill>
                  <a:srgbClr val="ffcc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cc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6095880"/>
            <a:ext cx="533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cc00"/>
                </a:solidFill>
                <a:latin typeface="Arial"/>
              </a:rPr>
              <a:t>EN TEMPS LIMI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20:02:34Z</dcterms:created>
  <dc:creator>EUGENIE</dc:creator>
  <dc:description/>
  <dc:language>en-US</dc:language>
  <cp:lastModifiedBy>IprMath</cp:lastModifiedBy>
  <dcterms:modified xsi:type="dcterms:W3CDTF">2005-11-20T20:40:19Z</dcterms:modified>
  <cp:revision>34</cp:revision>
  <dc:subject/>
  <dc:title>CALCUL MENTAL</dc:title>
</cp:coreProperties>
</file>